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D49-DE27-49A0-840E-427EC3CC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8AA-14F2-4345-A0B6-8A294C81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AF5-29D1-4ACD-9A14-AF679D7B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E07-1F74-4E48-8ACC-79D5DE9D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29C-7FAD-4264-BFC0-31354A45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E33-C7BE-4E1D-A01D-00B707E0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55E-2660-4516-B4FF-56ABABAE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4F3-9244-49E8-B2E7-CF20A495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B0A-DDD8-49D5-BACF-C54FCD0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2A5-6961-4092-8EBE-BDE27FD0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6EF-F3FE-4832-80FC-ECBF9AE2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4A1-3BCB-4D85-880D-4A18B6BC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B7901-8AEA-470B-A036-4AE6E43B8ECE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C:/Users/dechko/AppData/Roaming/OpenOffice/4/user/gallery/j0214098.wav" TargetMode="External"/><Relationship Id="rId2" Type="http://schemas.microsoft.com/office/2007/relationships/media" Target="file:///C:/Users/dechko/AppData/Roaming/OpenOffice/4/user/gallery/j0214098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7480" y="1035000"/>
            <a:ext cx="79232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Trebuchet MS"/>
              </a:rPr>
              <a:t>Neden çoğrafyaya önem verel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Çoğrafya ve tarih Allahın sözüne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Trebuchet MS"/>
              </a:rPr>
              <a:t>dünyanın içindeki yerin</a:t>
            </a: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i gösteri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2.Petrus 1: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b2b2b2"/>
                </a:solidFill>
                <a:latin typeface="Trebuchet MS"/>
              </a:rPr>
              <a:t>“</a:t>
            </a:r>
            <a:r>
              <a:rPr b="1" lang="bg-BG" sz="2000" spc="-1" strike="noStrike">
                <a:solidFill>
                  <a:srgbClr val="b2b2b2"/>
                </a:solidFill>
                <a:latin typeface="Trebuchet MS"/>
              </a:rPr>
              <a:t>S</a:t>
            </a:r>
            <a:r>
              <a:rPr b="1" lang="tr-TR" sz="2000" spc="-1" strike="noStrike">
                <a:solidFill>
                  <a:srgbClr val="b2b2b2"/>
                </a:solidFill>
                <a:latin typeface="Trebuchet MS"/>
              </a:rPr>
              <a:t>ize Rabbimiz İsa Mesihin kuvvetini ve gelişini bildirmiştik. O vakıt kurnazca uydurulmuş </a:t>
            </a:r>
            <a:r>
              <a:rPr b="1" lang="tr-TR" sz="2000" spc="-1" strike="noStrike" u="sng">
                <a:solidFill>
                  <a:srgbClr val="b2b2b2"/>
                </a:solidFill>
                <a:uFillTx/>
                <a:latin typeface="Trebuchet MS"/>
              </a:rPr>
              <a:t>masalların peşine taklaşmadık</a:t>
            </a:r>
            <a:r>
              <a:rPr b="1" lang="tr-TR" sz="2000" spc="-1" strike="noStrike">
                <a:solidFill>
                  <a:srgbClr val="b2b2b2"/>
                </a:solidFill>
                <a:latin typeface="Trebuchet MS"/>
              </a:rPr>
              <a:t>. Hayır, biz Onun büyüklüğünün göz şahitleri olduk.</a:t>
            </a:r>
            <a:r>
              <a:rPr b="0" lang="en-US" sz="2000" spc="-1" strike="noStrike">
                <a:solidFill>
                  <a:srgbClr val="b2b2b2"/>
                </a:solidFill>
                <a:latin typeface="Trebuchet MS"/>
              </a:rPr>
              <a:t> </a:t>
            </a:r>
            <a:r>
              <a:rPr b="0" lang="bg-BG" sz="2000" spc="-1" strike="noStrike">
                <a:solidFill>
                  <a:srgbClr val="b2b2b2"/>
                </a:solidFill>
                <a:latin typeface="Trebuchet MS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önce belki sıkıcıdır – ama sonra Allahın sözü senin için çok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Trebuchet MS"/>
              </a:rPr>
              <a:t>daha canlı ve gerçek</a:t>
            </a: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 olu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Kuran masallarla dolu, kişileri masalla uyutturmaya bakıyorlar. Ama biz olmuş bitmiş olaylar anlatıyoruz,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Trebuchet MS"/>
              </a:rPr>
              <a:t>kişiler uyansın diye</a:t>
            </a:r>
            <a:r>
              <a:rPr b="1" lang="bg-BG" sz="2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HARİTALAR (karta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401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11202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2200" y="109692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Trebuchet MS"/>
              </a:rPr>
              <a:t>En önemlisi:  sağımızı solumuzu bilel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6600" y="2324160"/>
            <a:ext cx="42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Trebuchet MS"/>
              </a:rPr>
              <a:t>Yukarıda: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  K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UZEY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bg-BG" sz="2400" spc="-1" strike="noStrike">
                <a:solidFill>
                  <a:srgbClr val="808080"/>
                </a:solidFill>
                <a:latin typeface="Trebuchet MS"/>
              </a:rPr>
              <a:t>(bg: se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Trebuchet MS"/>
              </a:rPr>
              <a:t>Sağda: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DOĞU  </a:t>
            </a:r>
            <a:r>
              <a:rPr b="0" lang="bg-BG" sz="2400" spc="-1" strike="noStrike">
                <a:solidFill>
                  <a:srgbClr val="808080"/>
                </a:solidFill>
                <a:latin typeface="Trebuchet MS"/>
              </a:rPr>
              <a:t>(bg: izt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Trebuchet MS"/>
              </a:rPr>
              <a:t>Aşağıda: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GÜNEY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bg-BG" sz="2400" spc="-1" strike="noStrike">
                <a:solidFill>
                  <a:srgbClr val="808080"/>
                </a:solidFill>
                <a:latin typeface="Trebuchet MS"/>
              </a:rPr>
              <a:t>(bg: y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bg-BG" sz="2400" spc="-1" strike="noStrike">
                <a:solidFill>
                  <a:srgbClr val="ffff00"/>
                </a:solidFill>
                <a:latin typeface="Trebuchet MS"/>
              </a:rPr>
              <a:t>Solda: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BATI</a:t>
            </a: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bg-BG" sz="2400" spc="-1" strike="noStrike">
                <a:solidFill>
                  <a:srgbClr val="808080"/>
                </a:solidFill>
                <a:latin typeface="Trebuchet MS"/>
              </a:rPr>
              <a:t>(bg: zap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HARİTALAR (karta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5377" t="11246" r="10209" b="9024"/>
          <a:stretch/>
        </p:blipFill>
        <p:spPr>
          <a:xfrm>
            <a:off x="5578560" y="3292560"/>
            <a:ext cx="256068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040" y="1593720"/>
            <a:ext cx="8121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rebuchet MS"/>
              </a:rPr>
              <a:t>Her haritada dünyanın 4 noktası aynı yerde, bu stand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2651040"/>
            <a:ext cx="822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56240" y="5975280"/>
            <a:ext cx="822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16440" y="4343400"/>
            <a:ext cx="822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47080" y="4329000"/>
            <a:ext cx="822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03880" y="3139920"/>
            <a:ext cx="822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999999"/>
                </a:solidFill>
                <a:latin typeface="Arial"/>
              </a:rPr>
              <a:t>k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78400" y="5518080"/>
            <a:ext cx="822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999999"/>
                </a:solidFill>
                <a:latin typeface="Arial"/>
              </a:rPr>
              <a:t>g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02400" y="5518080"/>
            <a:ext cx="822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999999"/>
                </a:solidFill>
                <a:latin typeface="Arial"/>
              </a:rPr>
              <a:t>g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29680" y="3108240"/>
            <a:ext cx="822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999999"/>
                </a:solidFill>
                <a:latin typeface="Arial"/>
              </a:rPr>
              <a:t>k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27600" y="4179240"/>
            <a:ext cx="2809080" cy="2840760"/>
            <a:chOff x="327600" y="4179240"/>
            <a:chExt cx="2809080" cy="2840760"/>
          </a:xfrm>
        </p:grpSpPr>
        <p:sp>
          <p:nvSpPr>
            <p:cNvPr id="57" name=""/>
            <p:cNvSpPr/>
            <p:nvPr/>
          </p:nvSpPr>
          <p:spPr>
            <a:xfrm>
              <a:off x="1235520" y="4341960"/>
              <a:ext cx="1901160" cy="22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7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bg-BG" sz="2400" spc="-1" strike="noStrike">
                  <a:solidFill>
                    <a:srgbClr val="999999"/>
                  </a:solidFill>
                  <a:latin typeface="Trebuchet MS"/>
                </a:rPr>
                <a:t>kuzeybat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7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bg-BG" sz="2400" spc="-1" strike="noStrike">
                  <a:solidFill>
                    <a:srgbClr val="999999"/>
                  </a:solidFill>
                  <a:latin typeface="Trebuchet MS"/>
                </a:rPr>
                <a:t>kuzeydoğu</a:t>
              </a:r>
              <a:r>
                <a:rPr b="1" lang="bg-BG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7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bg-BG" sz="2400" spc="-1" strike="noStrike">
                  <a:solidFill>
                    <a:srgbClr val="999999"/>
                  </a:solidFill>
                  <a:latin typeface="Trebuchet MS"/>
                </a:rPr>
                <a:t>güneydoğu</a:t>
              </a:r>
              <a:r>
                <a:rPr b="0" lang="bg-BG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7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bg-BG" sz="2400" spc="-1" strike="noStrike">
                  <a:solidFill>
                    <a:srgbClr val="999999"/>
                  </a:solidFill>
                  <a:latin typeface="Trebuchet MS"/>
                </a:rPr>
                <a:t>güneybatı</a:t>
              </a:r>
              <a:r>
                <a:rPr b="0" lang="bg-BG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27600" y="4179240"/>
              <a:ext cx="950400" cy="2840760"/>
              <a:chOff x="327600" y="4179240"/>
              <a:chExt cx="950400" cy="2840760"/>
            </a:xfrm>
          </p:grpSpPr>
          <p:sp>
            <p:nvSpPr>
              <p:cNvPr id="59" name=""/>
              <p:cNvSpPr/>
              <p:nvPr/>
            </p:nvSpPr>
            <p:spPr>
              <a:xfrm rot="2700000">
                <a:off x="673560" y="4820040"/>
                <a:ext cx="370800" cy="813960"/>
              </a:xfrm>
              <a:prstGeom prst="upArrow">
                <a:avLst>
                  <a:gd name="adj1" fmla="val 34713"/>
                  <a:gd name="adj2" fmla="val 93151"/>
                </a:avLst>
              </a:prstGeom>
              <a:solidFill>
                <a:srgbClr val="cfe7f5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8100000">
                <a:off x="632520" y="5625720"/>
                <a:ext cx="461520" cy="655920"/>
              </a:xfrm>
              <a:prstGeom prst="upArrow">
                <a:avLst>
                  <a:gd name="adj1" fmla="val 34713"/>
                  <a:gd name="adj2" fmla="val 60309"/>
                </a:avLst>
              </a:prstGeom>
              <a:solidFill>
                <a:srgbClr val="cfe7f5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3500000">
                <a:off x="662760" y="6193440"/>
                <a:ext cx="370800" cy="814680"/>
              </a:xfrm>
              <a:prstGeom prst="upArrow">
                <a:avLst>
                  <a:gd name="adj1" fmla="val 34713"/>
                  <a:gd name="adj2" fmla="val 93233"/>
                </a:avLst>
              </a:prstGeom>
              <a:solidFill>
                <a:srgbClr val="cfe7f5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8900000">
                <a:off x="491760" y="4246560"/>
                <a:ext cx="461520" cy="655560"/>
              </a:xfrm>
              <a:prstGeom prst="upArrow">
                <a:avLst>
                  <a:gd name="adj1" fmla="val 34713"/>
                  <a:gd name="adj2" fmla="val 60276"/>
                </a:avLst>
              </a:prstGeom>
              <a:solidFill>
                <a:srgbClr val="cfe7f5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.003999999607913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0666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Trebuchet MS"/>
              </a:rPr>
              <a:t>Prati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Trebuchet MS"/>
              </a:rPr>
              <a:t>Bu kasabalar Bulgaristan’ın neresi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6705720" cy="474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35040" y="3505320"/>
            <a:ext cx="132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rebuchet MS"/>
              </a:rPr>
              <a:t>V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rebuchet MS"/>
              </a:rPr>
              <a:t>P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rebuchet MS"/>
              </a:rPr>
              <a:t>KIRCAL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rebuchet MS"/>
              </a:rPr>
              <a:t>PERNİ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rebuchet MS"/>
              </a:rPr>
              <a:t>SİLİ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rebuchet MS"/>
              </a:rPr>
              <a:t>SMOL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rebuchet MS"/>
              </a:rPr>
              <a:t>BUR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rebuchet MS"/>
              </a:rPr>
              <a:t>VİD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HARİTALAR (karta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801"/>
                            </p:stCondLst>
                            <p:childTnLst>
                              <p:par>
                                <p:cTn id="97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324480" y="137016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Trebuchet MS"/>
              </a:rPr>
              <a:t>Bu kasabalar İran’ın neresin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46960" y="3352680"/>
            <a:ext cx="216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Trebuchet MS"/>
              </a:rPr>
              <a:t>T</a:t>
            </a:r>
            <a:r>
              <a:rPr b="1" lang="de-DE" sz="1800" spc="-1" strike="noStrike">
                <a:solidFill>
                  <a:srgbClr val="ffff00"/>
                </a:solidFill>
                <a:latin typeface="Trebuchet MS"/>
              </a:rPr>
              <a:t>AB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rebuchet MS"/>
              </a:rPr>
              <a:t>SHI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rebuchet MS"/>
              </a:rPr>
              <a:t>RAS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rebuchet MS"/>
              </a:rPr>
              <a:t>ZAHE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rebuchet MS"/>
              </a:rPr>
              <a:t>MASHH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rebuchet MS"/>
              </a:rPr>
              <a:t>BANDAR-E AB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rebuchet MS"/>
              </a:rPr>
              <a:t>KERMANSH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rebuchet MS"/>
              </a:rPr>
              <a:t>QAZ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1236" t="0" r="0" b="0"/>
          <a:stretch/>
        </p:blipFill>
        <p:spPr>
          <a:xfrm>
            <a:off x="0" y="900000"/>
            <a:ext cx="6324480" cy="59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HARİTALAR (karta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17480" y="1035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Trebuchet MS"/>
              </a:rPr>
              <a:t>Haritalarda neler gösteriliy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6960" y="2057400"/>
            <a:ext cx="61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Sular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  (denizler, göller, ırmaklar) – m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Balkanlar</a:t>
            </a: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– kahvere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Düzlükler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 – yeş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Kasabalar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 – kara nokt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Sınırlar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 – tam ya da kesik çiz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Yollar 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– çizg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HARİTALAR (karta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080" y="4865760"/>
            <a:ext cx="663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Kasaba – sancak (oblast) – dev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-  bunların arasındaki farkına dikkat ede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bg-BG" sz="2400" spc="-1" strike="noStrike">
                <a:solidFill>
                  <a:srgbClr val="ffffff"/>
                </a:solidFill>
                <a:latin typeface="Trebuchet MS"/>
              </a:rPr>
              <a:t>-  mese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400" spc="-1" strike="noStrike">
                <a:solidFill>
                  <a:srgbClr val="999999"/>
                </a:solidFill>
                <a:latin typeface="Trebuchet MS"/>
              </a:rPr>
              <a:t>      </a:t>
            </a:r>
            <a:r>
              <a:rPr b="1" i="1" lang="bg-BG" sz="2400" spc="-1" strike="noStrike">
                <a:solidFill>
                  <a:srgbClr val="999999"/>
                </a:solidFill>
                <a:latin typeface="Trebuchet MS"/>
              </a:rPr>
              <a:t>München (Münih)  -  Bavyera  -  Alm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15507"/>
          <a:stretch/>
        </p:blipFill>
        <p:spPr>
          <a:xfrm>
            <a:off x="22320" y="831960"/>
            <a:ext cx="9121680" cy="6026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6920" y="4432320"/>
            <a:ext cx="1920960" cy="3020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S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Trebuchet MS"/>
              </a:rPr>
              <a:t>B</a:t>
            </a: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alkanlar</a:t>
            </a:r>
            <a:r>
              <a:rPr b="1" lang="tr-TR" sz="2400" spc="-1" strike="noStrike">
                <a:solidFill>
                  <a:srgbClr val="ffff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Trebuchet MS"/>
              </a:rPr>
              <a:t>Düz</a:t>
            </a: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lükler</a:t>
            </a:r>
            <a:r>
              <a:rPr b="1" lang="tr-TR" sz="2400" spc="-1" strike="noStrike">
                <a:solidFill>
                  <a:srgbClr val="ffff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Trebuchet MS"/>
              </a:rPr>
              <a:t>K</a:t>
            </a: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asab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Sın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Trebuchet MS"/>
              </a:rPr>
              <a:t>Yo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8000" y="5557680"/>
            <a:ext cx="11890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35360" y="876240"/>
            <a:ext cx="17366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LAND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265104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A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HARİTALAR (karta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17480" y="1035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800" spc="-1" strike="noStrike">
                <a:solidFill>
                  <a:srgbClr val="ff7c80"/>
                </a:solidFill>
                <a:latin typeface="Trebuchet MS"/>
              </a:rPr>
              <a:t>İSRAİL’in çoğrafyasını öğrenel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752480"/>
            <a:ext cx="3733920" cy="48769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22680" y="1789200"/>
            <a:ext cx="462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rebuchet MS"/>
              </a:rPr>
              <a:t>Bir çerçeve ç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rebuchet MS"/>
              </a:rPr>
              <a:t>Yukarıdan sol aşağına bir çiz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rebuchet MS"/>
              </a:rPr>
              <a:t>Uzun toparlak sağ taraf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rebuchet MS"/>
              </a:rPr>
              <a:t>Aynısını daha küçük yukarı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rebuchet MS"/>
              </a:rPr>
              <a:t>İkisini bir çizgi ile birleş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rebuchet MS"/>
              </a:rPr>
              <a:t>Üç tane çember üstüst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rebuchet MS"/>
              </a:rPr>
              <a:t>Yukarıda bir top, aşağıda bir top bir yıldı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Trebuchet MS"/>
              </a:rPr>
              <a:t>Adları k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752480"/>
            <a:ext cx="962280" cy="3886200"/>
          </a:xfrm>
          <a:custGeom>
            <a:avLst/>
            <a:gdLst/>
            <a:ahLst/>
            <a:rect l="l" t="t" r="r" b="b"/>
            <a:pathLst>
              <a:path w="606" h="2448">
                <a:moveTo>
                  <a:pt x="6" y="0"/>
                </a:moveTo>
                <a:lnTo>
                  <a:pt x="606" y="0"/>
                </a:lnTo>
                <a:lnTo>
                  <a:pt x="606" y="90"/>
                </a:lnTo>
                <a:lnTo>
                  <a:pt x="600" y="180"/>
                </a:lnTo>
                <a:lnTo>
                  <a:pt x="588" y="330"/>
                </a:lnTo>
                <a:lnTo>
                  <a:pt x="570" y="474"/>
                </a:lnTo>
                <a:lnTo>
                  <a:pt x="522" y="750"/>
                </a:lnTo>
                <a:lnTo>
                  <a:pt x="474" y="1074"/>
                </a:lnTo>
                <a:lnTo>
                  <a:pt x="426" y="1278"/>
                </a:lnTo>
                <a:lnTo>
                  <a:pt x="372" y="1560"/>
                </a:lnTo>
                <a:lnTo>
                  <a:pt x="342" y="1824"/>
                </a:lnTo>
                <a:lnTo>
                  <a:pt x="318" y="2076"/>
                </a:lnTo>
                <a:lnTo>
                  <a:pt x="288" y="2286"/>
                </a:lnTo>
                <a:lnTo>
                  <a:pt x="258" y="2394"/>
                </a:lnTo>
                <a:lnTo>
                  <a:pt x="204" y="2418"/>
                </a:lnTo>
                <a:lnTo>
                  <a:pt x="114" y="2442"/>
                </a:lnTo>
                <a:lnTo>
                  <a:pt x="42" y="2448"/>
                </a:lnTo>
                <a:lnTo>
                  <a:pt x="0" y="2448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5010120"/>
            <a:ext cx="438120" cy="942840"/>
          </a:xfrm>
          <a:prstGeom prst="ellipse">
            <a:avLst/>
          </a:prstGeom>
          <a:solidFill>
            <a:srgbClr val="0000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24280" y="2419200"/>
            <a:ext cx="247680" cy="352440"/>
          </a:xfrm>
          <a:prstGeom prst="ellipse">
            <a:avLst/>
          </a:prstGeom>
          <a:solidFill>
            <a:srgbClr val="0000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2790720"/>
            <a:ext cx="147600" cy="2266920"/>
          </a:xfrm>
          <a:custGeom>
            <a:avLst/>
            <a:gdLst/>
            <a:ahLst/>
            <a:rect l="l" t="t" r="r" b="b"/>
            <a:pathLst>
              <a:path w="93" h="1428">
                <a:moveTo>
                  <a:pt x="26" y="0"/>
                </a:moveTo>
                <a:cubicBezTo>
                  <a:pt x="32" y="2"/>
                  <a:pt x="39" y="2"/>
                  <a:pt x="44" y="6"/>
                </a:cubicBezTo>
                <a:cubicBezTo>
                  <a:pt x="93" y="39"/>
                  <a:pt x="25" y="67"/>
                  <a:pt x="2" y="90"/>
                </a:cubicBezTo>
                <a:cubicBezTo>
                  <a:pt x="15" y="140"/>
                  <a:pt x="0" y="196"/>
                  <a:pt x="38" y="234"/>
                </a:cubicBezTo>
                <a:cubicBezTo>
                  <a:pt x="42" y="249"/>
                  <a:pt x="55" y="261"/>
                  <a:pt x="56" y="276"/>
                </a:cubicBezTo>
                <a:cubicBezTo>
                  <a:pt x="56" y="281"/>
                  <a:pt x="45" y="358"/>
                  <a:pt x="44" y="366"/>
                </a:cubicBezTo>
                <a:cubicBezTo>
                  <a:pt x="40" y="465"/>
                  <a:pt x="13" y="505"/>
                  <a:pt x="56" y="570"/>
                </a:cubicBezTo>
                <a:cubicBezTo>
                  <a:pt x="52" y="614"/>
                  <a:pt x="58" y="654"/>
                  <a:pt x="50" y="696"/>
                </a:cubicBezTo>
                <a:cubicBezTo>
                  <a:pt x="40" y="940"/>
                  <a:pt x="26" y="1182"/>
                  <a:pt x="26" y="1428"/>
                </a:cubicBezTo>
              </a:path>
            </a:pathLst>
          </a:custGeom>
          <a:noFill/>
          <a:ln cap="sq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8680" y="4400640"/>
            <a:ext cx="1695600" cy="1305000"/>
          </a:xfrm>
          <a:prstGeom prst="ellipse">
            <a:avLst/>
          </a:prstGeom>
          <a:solidFill>
            <a:srgbClr val="bbe0e3"/>
          </a:solidFill>
          <a:ln cap="sq" w="468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7280" y="3238560"/>
            <a:ext cx="1486080" cy="1162080"/>
          </a:xfrm>
          <a:prstGeom prst="ellipse">
            <a:avLst/>
          </a:prstGeom>
          <a:solidFill>
            <a:srgbClr val="bbe0e3"/>
          </a:solidFill>
          <a:ln cap="sq" w="468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04800" y="2057400"/>
            <a:ext cx="1486080" cy="1162080"/>
          </a:xfrm>
          <a:prstGeom prst="ellipse">
            <a:avLst/>
          </a:prstGeom>
          <a:solidFill>
            <a:srgbClr val="bbe0e3"/>
          </a:solidFill>
          <a:ln cap="sq" w="468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95400" y="4848120"/>
            <a:ext cx="209520" cy="209520"/>
          </a:xfrm>
          <a:prstGeom prst="star5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66760" y="2600280"/>
            <a:ext cx="105120" cy="104760"/>
          </a:xfrm>
          <a:prstGeom prst="ellipse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5057640"/>
            <a:ext cx="104760" cy="104760"/>
          </a:xfrm>
          <a:prstGeom prst="ellipse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6360" y="265896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Nası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160" y="5116680"/>
            <a:ext cx="10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rebuchet MS"/>
              </a:rPr>
              <a:t>Beytle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99440" y="47354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rebuchet MS"/>
              </a:rPr>
              <a:t>Yeruşa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54000" y="21924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336699"/>
                </a:solidFill>
                <a:latin typeface="Trebuchet MS"/>
              </a:rPr>
              <a:t>CELİ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07840" y="36133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336699"/>
                </a:solidFill>
                <a:latin typeface="Trebuchet MS"/>
              </a:rPr>
              <a:t>SAMİRİ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33600" y="447372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336699"/>
                </a:solidFill>
                <a:latin typeface="Trebuchet MS"/>
              </a:rPr>
              <a:t>YAHUDİ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6120" y="538308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rebuchet MS"/>
              </a:rPr>
              <a:t>Ölü Den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rebuchet MS"/>
              </a:rPr>
              <a:t>(Lut Göl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12920" y="2316240"/>
            <a:ext cx="7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Trebuchet MS"/>
              </a:rPr>
              <a:t>Celile Göl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3000" y="3792600"/>
            <a:ext cx="127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Trebuchet MS"/>
              </a:rPr>
              <a:t>Yord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Trebuchet MS"/>
              </a:rPr>
              <a:t>(Ürdün, Şe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880" y="23734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Trebuchet MS"/>
              </a:rPr>
              <a:t>Akden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68240" y="5146560"/>
            <a:ext cx="299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Trebuchet MS"/>
              </a:rPr>
              <a:t>Hazır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Trebuchet MS"/>
              </a:rPr>
              <a:t>Bravo s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3520" y="6018120"/>
            <a:ext cx="179280" cy="17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2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3600" spc="-1" strike="noStrike">
                <a:solidFill>
                  <a:srgbClr val="33cccc"/>
                </a:solidFill>
                <a:latin typeface="Verdana"/>
              </a:rPr>
              <a:t>HARİTALAR (karta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fill="hold">
          <p:childTnLst>
            <p:seq>
              <p:cTn id="205" dur="indefinite" nodeType="mainSeq">
                <p:childTnLst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999999463558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dur="indefinite" fill="hold">
                            <p:stCondLst>
                              <p:cond delay="502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dur="indefinite" fill="hold">
                            <p:stCondLst>
                              <p:cond delay="504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dur="indefinite" fill="hold">
                            <p:stCondLst>
                              <p:cond delay="506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dur="indefinite" fill="hold">
                            <p:stCondLst>
                              <p:cond delay="508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dur="indefinite" fill="hold">
                            <p:stCondLst>
                              <p:cond delay="51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dur="indefinite" fill="hold">
                            <p:stCondLst>
                              <p:cond delay="512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dur="indefinite" fill="hold">
                            <p:stCondLst>
                              <p:cond delay="514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dur="indefinite" fill="hold">
                            <p:stCondLst>
                              <p:cond delay="516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518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dur="indefinite" fill="hold">
                            <p:stCondLst>
                              <p:cond delay="520"/>
                            </p:stCondLst>
                            <p:childTnLst>
                              <p:par>
                                <p:cTn id="34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1020"/>
                            </p:stCondLst>
                            <p:childTnLst>
                              <p:par>
                                <p:cTn id="354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5:31:30Z</dcterms:created>
  <dc:creator>Jessica Witmer</dc:creator>
  <dc:description/>
  <dc:language>en-US</dc:language>
  <cp:lastModifiedBy>asd</cp:lastModifiedBy>
  <dcterms:modified xsi:type="dcterms:W3CDTF">2009-06-20T12:34:13Z</dcterms:modified>
  <cp:revision>19</cp:revision>
  <dc:subject/>
  <dc:title>КАРТАЛАР</dc:title>
</cp:coreProperties>
</file>