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AA1-C2A0-41EE-97A4-90DB1F7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92D-0C9F-4A0C-B971-FCFF72DA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C4B-4111-4862-8C89-4A86DE5F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A33-49F0-43F6-992A-2A1FD712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05B-E056-4B95-B464-5E77C05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16A-9462-4222-8A3B-211C8EF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9C0-BFF8-4ADA-9791-31A8404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381-66D9-46A8-BA1B-D3BF268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1C7-DD3D-4DA6-B555-8DFE2B42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B2C-AA69-4D02-80BC-306EC15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680-2DD3-4AAD-9B00-23C5DAE0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0EF-88A7-4FBB-ABF6-4D2226DF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2737-6D2A-4D59-B00C-E753BE2EAB73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92720" y="3897360"/>
            <a:ext cx="4751280" cy="301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92720" y="792000"/>
            <a:ext cx="4751280" cy="302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836640"/>
            <a:ext cx="42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Kumran, Ölü Deniz'e bakan tepelerde mağaral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23760" y="792000"/>
            <a:ext cx="4408560" cy="6058080"/>
            <a:chOff x="-23760" y="792000"/>
            <a:chExt cx="4408560" cy="6058080"/>
          </a:xfrm>
        </p:grpSpPr>
        <p:pic>
          <p:nvPicPr>
            <p:cNvPr id="46" name="" descr=""/>
            <p:cNvPicPr/>
            <p:nvPr/>
          </p:nvPicPr>
          <p:blipFill>
            <a:blip r:embed="rId3"/>
            <a:srcRect l="0" t="0" r="19263" b="0"/>
            <a:stretch/>
          </p:blipFill>
          <p:spPr>
            <a:xfrm>
              <a:off x="-23760" y="792000"/>
              <a:ext cx="4335480" cy="60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87280" y="1504800"/>
              <a:ext cx="14320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eruşal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60" y="2000160"/>
              <a:ext cx="1432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ytle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16000" y="932040"/>
              <a:ext cx="92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i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640" y="3684600"/>
              <a:ext cx="1000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b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6360" y="3468600"/>
              <a:ext cx="1071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-Ge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280" y="4368960"/>
              <a:ext cx="1071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40000" y="1535040"/>
              <a:ext cx="1432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000080"/>
                  </a:solidFill>
                  <a:latin typeface="Arial"/>
                </a:rPr>
                <a:t>KUMR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000" y="2828880"/>
              <a:ext cx="19368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2200" spc="-1" strike="noStrike">
                  <a:solidFill>
                    <a:srgbClr val="008000"/>
                  </a:solidFill>
                  <a:latin typeface="Georgia"/>
                </a:rPr>
                <a:t>YAHUDİY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52720" y="5056200"/>
              <a:ext cx="1432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US" sz="2200" spc="-1" strike="noStrike">
                  <a:solidFill>
                    <a:srgbClr val="008000"/>
                  </a:solidFill>
                  <a:latin typeface="Georgia"/>
                </a:rPr>
                <a:t>MOA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411280" y="3672000"/>
            <a:ext cx="107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ÖLÜ DENİ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52720" y="4300560"/>
            <a:ext cx="446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Trebuchet MS"/>
              </a:rPr>
              <a:t>Kumran'dan ö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Trebuchet MS"/>
              </a:rPr>
              <a:t>en eski EA İbranice el yazmalar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Trebuchet MS"/>
              </a:rPr>
              <a:t>İsa'dan sonra 900-1000 senelerinden 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524640"/>
            <a:ext cx="842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638172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6920" y="594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22800" y="595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8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27640" y="595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680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4920" y="595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280" y="5950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6720" y="4103640"/>
            <a:ext cx="1440" cy="234972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ni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1008000"/>
            <a:ext cx="2095560" cy="2543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5440" y="1116000"/>
            <a:ext cx="2130480" cy="244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27280" y="3595680"/>
            <a:ext cx="22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nstantia"/>
              </a:rPr>
              <a:t>Leningrad kod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80000" y="3595680"/>
            <a:ext cx="18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nstantia"/>
              </a:rPr>
              <a:t>Halep kod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16000" y="1174680"/>
            <a:ext cx="2833560" cy="238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3600360"/>
            <a:ext cx="22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nstantia"/>
              </a:rPr>
              <a:t>Kahire kod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5904000"/>
            <a:ext cx="1295280" cy="647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6080" y="4068720"/>
            <a:ext cx="7288200" cy="1800"/>
          </a:xfrm>
          <a:prstGeom prst="line">
            <a:avLst/>
          </a:prstGeom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68360" y="1177920"/>
            <a:ext cx="3024360" cy="2638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4119480"/>
            <a:ext cx="51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Ama Kumran'daki en eski el yazmaları İsa'dan önce   200 senelerinden kalma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524640"/>
            <a:ext cx="842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638172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6920" y="594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22800" y="595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8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27640" y="595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680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4920" y="595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280" y="5950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56720" y="4869000"/>
            <a:ext cx="1440" cy="15843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4941720"/>
            <a:ext cx="433440" cy="1440000"/>
          </a:xfrm>
          <a:prstGeom prst="lightningBol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5805360"/>
            <a:ext cx="4537080" cy="1800"/>
          </a:xfrm>
          <a:prstGeom prst="line">
            <a:avLst/>
          </a:prstGeom>
          <a:ln cap="sq" w="507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43840" y="5213520"/>
            <a:ext cx="26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1100 </a:t>
            </a:r>
            <a:r>
              <a:rPr b="1" i="1" lang="bg-BG" sz="2600" spc="-1" strike="noStrike">
                <a:solidFill>
                  <a:srgbClr val="ff0000"/>
                </a:solidFill>
                <a:latin typeface="Arial"/>
              </a:rPr>
              <a:t>sene fark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ni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79640" y="1152360"/>
            <a:ext cx="3743280" cy="288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704000" y="1511280"/>
            <a:ext cx="118584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96000" y="2195640"/>
            <a:ext cx="140976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119640" y="1440000"/>
            <a:ext cx="1425600" cy="120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56360" y="4824360"/>
            <a:ext cx="201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e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43280" y="447984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Bu 1100 sene içinde metin (tekst) hiç değişm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524640"/>
            <a:ext cx="842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638172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66920" y="594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2800" y="595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7640" y="595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680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4920" y="595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" y="638172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280" y="5950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4869000"/>
            <a:ext cx="1440" cy="15843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6200" y="4941720"/>
            <a:ext cx="433440" cy="1440000"/>
          </a:xfrm>
          <a:prstGeom prst="lightningBol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5805360"/>
            <a:ext cx="4537080" cy="1800"/>
          </a:xfrm>
          <a:prstGeom prst="line">
            <a:avLst/>
          </a:prstGeom>
          <a:ln cap="sq" w="507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ni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3743280" cy="28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704000" y="1511280"/>
            <a:ext cx="118584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696000" y="2195640"/>
            <a:ext cx="1409760" cy="1620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119640" y="1440000"/>
            <a:ext cx="1425600" cy="1201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92720" y="2735280"/>
            <a:ext cx="1944720" cy="360360"/>
          </a:xfrm>
          <a:prstGeom prst="leftRightArrow">
            <a:avLst>
              <a:gd name="adj1" fmla="val 50000"/>
              <a:gd name="adj2" fmla="val 107432"/>
            </a:avLst>
          </a:prstGeom>
          <a:solidFill>
            <a:srgbClr val="94bd5e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2076" r="3353" b="2742"/>
          <a:stretch/>
        </p:blipFill>
        <p:spPr>
          <a:xfrm>
            <a:off x="7308720" y="3716280"/>
            <a:ext cx="1281240" cy="1513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164360" y="5300640"/>
            <a:ext cx="1584360" cy="1382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1836720"/>
            <a:ext cx="680400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20" indent="-20952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rebuchet MS"/>
              </a:rPr>
              <a:t>EA’nın son kitapçıkları İ.Ö. -450 senelerinde yazıl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rebuchet MS"/>
              </a:rPr>
              <a:t>Ama eskiden elimizde olan en eski el yazmaları İ.S. 900-1000 senelerinden kalma idi - demek: asıl yazılışından 1350 sene son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rebuchet MS"/>
              </a:rPr>
              <a:t>Kumran'daki el yazılarının en eskileri İ.Ö. 200 senelerinden kalmadır - demek en eski el yazmalarından 1100 sene daha eski ve asıl yazılışından sade 250 sene son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rebuchet MS"/>
              </a:rPr>
              <a:t>Kumran'daki el yazmalarını Ş.S. 900 senelerinden kalan el yazmalarıyla karşılaştırdılar - ve tekstin aynı olduğunu fark etti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rebuchet MS"/>
              </a:rPr>
              <a:t>Demek 1100 sene boyunca tekst hiç değişmedi. Onun için kabul edebiliriz ki, daha önce de değişmedi ve elimizdeki yazılar asıl sözlerin aynıs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1457280" cy="1820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16960" y="1773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45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3710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1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2360" y="5300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20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ni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0000" y="93672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520" indent="-174600" algn="ctr"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400" spc="-1" strike="noStrike">
                <a:solidFill>
                  <a:srgbClr val="008000"/>
                </a:solidFill>
                <a:latin typeface="Constantia"/>
              </a:rPr>
              <a:t>KUMRAN el yazmaları gösteriy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74600" algn="ctr"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1079640"/>
                <a:tab algn="l" pos="1528920"/>
                <a:tab algn="l" pos="1978200"/>
                <a:tab algn="l" pos="2427120"/>
                <a:tab algn="l" pos="2876400"/>
                <a:tab algn="l" pos="3325680"/>
                <a:tab algn="l" pos="3774960"/>
                <a:tab algn="l" pos="4224240"/>
                <a:tab algn="l" pos="4673520"/>
                <a:tab algn="l" pos="5122800"/>
                <a:tab algn="l" pos="5572080"/>
                <a:tab algn="l" pos="6021360"/>
                <a:tab algn="l" pos="6470640"/>
                <a:tab algn="l" pos="6919920"/>
                <a:tab algn="l" pos="7369200"/>
                <a:tab algn="l" pos="7818480"/>
                <a:tab algn="l" pos="8267760"/>
                <a:tab algn="l" pos="8717040"/>
                <a:tab algn="l" pos="9166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400" spc="-1" strike="noStrike">
                <a:solidFill>
                  <a:srgbClr val="008000"/>
                </a:solidFill>
                <a:latin typeface="Constantia"/>
              </a:rPr>
              <a:t>EA'nın </a:t>
            </a:r>
            <a:r>
              <a:rPr b="1" i="1" lang="bg-BG" sz="2400" spc="-1" strike="noStrike" u="sng">
                <a:solidFill>
                  <a:srgbClr val="008000"/>
                </a:solidFill>
                <a:uFillTx/>
                <a:latin typeface="Constantia"/>
              </a:rPr>
              <a:t>teksti güvenilir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3859200" cy="607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38760" y="765000"/>
            <a:ext cx="5205240" cy="348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9280" y="4340160"/>
            <a:ext cx="5263920" cy="251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5184720"/>
            <a:ext cx="3672000" cy="1099440"/>
          </a:xfrm>
          <a:prstGeom prst="rect">
            <a:avLst/>
          </a:prstGeom>
          <a:solidFill>
            <a:srgbClr val="cfe7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800080"/>
                </a:solidFill>
                <a:latin typeface="Arial"/>
              </a:rPr>
              <a:t>İsa'nın zamanında orada Eseniler adında bir grup Yahudi yaşard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0" y="2060640"/>
            <a:ext cx="3635280" cy="1511280"/>
          </a:xfrm>
          <a:prstGeom prst="ellipse">
            <a:avLst/>
          </a:prstGeom>
          <a:noFill/>
          <a:ln cap="sq" w="612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43640" y="900000"/>
            <a:ext cx="216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Arkeologlar kazı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56000" y="1224000"/>
            <a:ext cx="1944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760" y="5124600"/>
            <a:ext cx="3095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Arial"/>
              </a:rPr>
              <a:t>Kasabalardan uzak kalıp Mesihin gelişini ve dünyanın sonunu beklerd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3280" y="4707000"/>
            <a:ext cx="2448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Arial"/>
              </a:rPr>
              <a:t>Aynı zaman Eski Antlaşma metinlerini kopya ederd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11640" y="3672000"/>
            <a:ext cx="5048280" cy="27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963720"/>
            <a:ext cx="3060720" cy="335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64000" y="1152360"/>
            <a:ext cx="4264200" cy="22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0000" y="3887640"/>
            <a:ext cx="4464000" cy="2970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0" y="792000"/>
            <a:ext cx="4530960" cy="352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3244" r="0" b="3480"/>
          <a:stretch/>
        </p:blipFill>
        <p:spPr>
          <a:xfrm>
            <a:off x="4680000" y="792000"/>
            <a:ext cx="4464000" cy="302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360" y="475776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80"/>
                </a:solidFill>
                <a:latin typeface="Arial"/>
              </a:rPr>
              <a:t>Eski metinleri bokluğa atmazdılar, mağaralarda gömerd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600360" y="3581280"/>
            <a:ext cx="20163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120" y="3284640"/>
            <a:ext cx="2239920" cy="338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6000" y="1116000"/>
            <a:ext cx="2555640" cy="202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84720" y="2448000"/>
            <a:ext cx="2799000" cy="422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6360" y="1033560"/>
            <a:ext cx="59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800" spc="-1" strike="noStrike">
                <a:solidFill>
                  <a:srgbClr val="008000"/>
                </a:solidFill>
                <a:latin typeface="Constantia"/>
              </a:rPr>
              <a:t>1947 senesinde bir Arap çoban o mağaraları ve ilk metinleri bul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24360" y="2131920"/>
            <a:ext cx="2808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rebuchet MS"/>
              </a:rPr>
              <a:t>Arkasından el yazıları büyük paraya parça parça arkeologlara satmaya başladı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059280" y="4067280"/>
            <a:ext cx="2592360" cy="2563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360" y="1079640"/>
            <a:ext cx="4248360" cy="3470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11960" y="3240000"/>
            <a:ext cx="2300400" cy="237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0720" y="454968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1) Arap çobanlar el yazıları böyle sattı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91280" y="5688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3) En ufak parça bile çok kıymetl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08360" y="1368360"/>
            <a:ext cx="2808360" cy="237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5472000"/>
            <a:ext cx="38181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008000"/>
                </a:solidFill>
                <a:latin typeface="Constantia"/>
              </a:rPr>
              <a:t>Tekstin parçalarını restore ett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14920" y="1096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2) Her bir parçaya bir numara verili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82760" y="1620720"/>
            <a:ext cx="218124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0360" y="1008000"/>
            <a:ext cx="2303640" cy="365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60720" y="9288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5) Parçaları böyle birleştiriyor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609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4) Dünyanın en büyük pazı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02400" y="2519280"/>
            <a:ext cx="3152520" cy="279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4920" y="5543640"/>
            <a:ext cx="282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2000" spc="-1" strike="noStrike">
                <a:solidFill>
                  <a:srgbClr val="000080"/>
                </a:solidFill>
                <a:latin typeface="Trebuchet MS"/>
              </a:rPr>
              <a:t>6) Hazır tekst camlar arkasında korunu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7080" y="5472000"/>
            <a:ext cx="3817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bg-BG" sz="2800" spc="-1" strike="noStrike">
                <a:solidFill>
                  <a:srgbClr val="008000"/>
                </a:solidFill>
                <a:latin typeface="Constantia"/>
              </a:rPr>
              <a:t>Tekstin parçalarını restore ett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32360" y="1136520"/>
            <a:ext cx="3780000" cy="2652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3440" y="1123920"/>
            <a:ext cx="385128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31640" y="4076640"/>
            <a:ext cx="3924360" cy="25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32360" y="4086360"/>
            <a:ext cx="3816360" cy="2582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40000" y="3441600"/>
            <a:ext cx="4608360" cy="106884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200" spc="-1" strike="noStrike">
                <a:solidFill>
                  <a:srgbClr val="008000"/>
                </a:solidFill>
                <a:latin typeface="Constantia"/>
              </a:rPr>
              <a:t>Şimdi Yeruşalim'de bir müze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0" y="0"/>
            <a:ext cx="9144000" cy="79200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6160" bIns="5616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Kumran metin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3:31:21Z</dcterms:created>
  <dc:creator>Windows XP</dc:creator>
  <dc:description/>
  <dc:language>en-US</dc:language>
  <cp:lastModifiedBy>asd</cp:lastModifiedBy>
  <dcterms:modified xsi:type="dcterms:W3CDTF">2009-06-19T11:26:15Z</dcterms:modified>
  <cp:revision>62</cp:revision>
  <dc:subject/>
  <dc:title>Ескиден шьойле язълърдъ:</dc:title>
</cp:coreProperties>
</file>