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0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7.png" ContentType="image/png"/>
  <Override PartName="/ppt/media/image60.jpeg" ContentType="image/jpeg"/>
  <Override PartName="/ppt/media/image24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49.jpeg" ContentType="image/jpeg"/>
  <Override PartName="/ppt/media/image20.jpeg" ContentType="image/jpeg"/>
  <Override PartName="/ppt/media/image19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8.jpeg" ContentType="image/jpeg"/>
  <Override PartName="/ppt/media/image22.jpeg" ContentType="image/jpeg"/>
  <Override PartName="/ppt/media/image21.png" ContentType="image/pn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4.jpeg" ContentType="image/jpeg"/>
  <Override PartName="/ppt/media/image25.png" ContentType="image/png"/>
  <Override PartName="/ppt/media/image62.png" ContentType="image/png"/>
  <Override PartName="/ppt/media/image51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63.jpeg" ContentType="image/jpeg"/>
  <Override PartName="/ppt/media/image29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1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8DF-7783-438F-A2A0-352F54FE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D31-DE76-423F-BA09-C94E98FB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61A-B2BE-4E00-9463-665703E2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A8A-E576-4109-A945-A5E034C5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971-7600-4E3E-BCEB-3084CA1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A96-8144-477F-B69A-B0613F3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7BD-2B29-47EA-AAD5-8334A49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31A-90DF-4B26-BE36-4518CD1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509-9661-499F-BB24-FA05CEB9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8FE-8731-4E7E-82FB-7806D79F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0B8-31F1-456F-9B85-FED46FA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999-6328-4C67-B1C5-7993786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4358A-19D9-4828-928D-9C216E6BEB96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pn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jpeg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pn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image" Target="../media/image73.jpeg"/><Relationship Id="rId12" Type="http://schemas.openxmlformats.org/officeDocument/2006/relationships/image" Target="../media/image74.jpe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pn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png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8384"/>
            </a:gs>
            <a:gs pos="100000">
              <a:srgbClr val="d3eb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1052640"/>
            <a:ext cx="91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- Кутсал Китап бир адамън Аллах хаккъндаки фикирлери деилд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- Аллах йерйюзюнде куветли ишлер япт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- Кутсал Китап да язъйор, Аллах бютюн тарих ичинде кенди халкъна насъл давранд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316160"/>
            <a:ext cx="8451720" cy="24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5</a:t>
            </a: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 – Кючюк ПЕЙГАМБЕРЛЕР (12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840 - 4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йи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ючюк’ пеъгамберлер денилийор, чюнкю китапларъ даха късадър. Ама бу демек деил ки, ‘бюйюк’ пейгамберлерден даа аз ьонемлидирлер. Ашаъда пейгамберлерин адларъ ве яшадъкларъ сенелери яздъ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702560" y="5157720"/>
            <a:ext cx="690480" cy="1700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488960" y="5157720"/>
            <a:ext cx="831960" cy="1700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227640" y="5157720"/>
            <a:ext cx="722520" cy="1700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5398920" y="5157720"/>
            <a:ext cx="817560" cy="170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6964200" y="5157720"/>
            <a:ext cx="719280" cy="1700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0" y="5157720"/>
            <a:ext cx="787320" cy="1700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882960" y="5157720"/>
            <a:ext cx="762120" cy="170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>
            <a:lum contrast="18000"/>
          </a:blip>
          <a:srcRect l="-79" t="0" r="12559" b="0"/>
          <a:stretch/>
        </p:blipFill>
        <p:spPr>
          <a:xfrm>
            <a:off x="4660920" y="5157720"/>
            <a:ext cx="720720" cy="1700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0"/>
          <a:stretch/>
        </p:blipFill>
        <p:spPr>
          <a:xfrm>
            <a:off x="2340000" y="5157720"/>
            <a:ext cx="727200" cy="1700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798480" y="5157720"/>
            <a:ext cx="681120" cy="1700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>
            <a:off x="3078000" y="5157720"/>
            <a:ext cx="79236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3"/>
          <a:stretch/>
        </p:blipFill>
        <p:spPr>
          <a:xfrm>
            <a:off x="8408880" y="5157720"/>
            <a:ext cx="704880" cy="1700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0680" y="3898800"/>
            <a:ext cx="220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оше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40 -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оел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30 -7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Амос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6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43160" y="39006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Овадя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40 -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нус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80 -7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ик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40 -7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1320" y="3905280"/>
            <a:ext cx="26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Нахум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40 -62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8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авакук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08 -6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сефаня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40 -6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905280"/>
            <a:ext cx="2438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0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агай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5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екеря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520 -4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алаки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420 -4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dur="indefinite" fill="hold">
                      <p:stCondLst>
                        <p:cond delay="0"/>
                      </p:stCondLst>
                      <p:childTnLst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dur="indefinite" fill="hold">
                      <p:stCondLst>
                        <p:cond delay="indefinite"/>
                      </p:stCondLst>
                      <p:childTnLst>
                        <p:par>
                          <p:cTn id="8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dur="indefinite" fill="hold">
                      <p:stCondLst>
                        <p:cond delay="indefinite"/>
                      </p:stCondLst>
                      <p:childTnLst>
                        <p:par>
                          <p:cTn id="8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dur="indefinite" fill="hold">
                      <p:stCondLst>
                        <p:cond delay="indefinite"/>
                      </p:stCondLst>
                      <p:childTnLst>
                        <p:par>
                          <p:cTn id="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dur="indefinite" fill="hold">
                      <p:stCondLst>
                        <p:cond delay="indefinite"/>
                      </p:stCondLst>
                      <p:childTnLst>
                        <p:par>
                          <p:cTn id="8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dur="indefinite" fill="hold">
                      <p:stCondLst>
                        <p:cond delay="indefinite"/>
                      </p:stCondLst>
                      <p:childTnLst>
                        <p:par>
                          <p:cTn id="8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dur="indefinite" fill="hold">
                            <p:stCondLst>
                              <p:cond delay="1701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dur="indefinite" fill="hold">
                      <p:stCondLst>
                        <p:cond delay="indefinite"/>
                      </p:stCondLst>
                      <p:childTnLst>
                        <p:par>
                          <p:cTn id="8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dur="indefinite" fill="hold">
                            <p:stCondLst>
                              <p:cond delay="1601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dur="indefinite" fill="hold">
                      <p:stCondLst>
                        <p:cond delay="indefinite"/>
                      </p:stCondLst>
                      <p:childTnLst>
                        <p:par>
                          <p:cTn id="8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dur="indefinite" fill="hold">
                            <p:stCondLst>
                              <p:cond delay="1201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dur="indefinite" fill="hold">
                            <p:stCondLst>
                              <p:cond delay="1701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dur="indefinite" fill="hold">
                      <p:stCondLst>
                        <p:cond delay="indefinite"/>
                      </p:stCondLst>
                      <p:childTnLst>
                        <p:par>
                          <p:cTn id="8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dur="indefinite" fill="hold">
                            <p:stCondLst>
                              <p:cond delay="1701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dur="indefinite" fill="hold">
                            <p:stCondLst>
                              <p:cond delay="1601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dur="indefinite" fill="hold">
                      <p:stCondLst>
                        <p:cond delay="indefinite"/>
                      </p:stCondLst>
                      <p:childTnLst>
                        <p:par>
                          <p:cTn id="9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dur="indefinite" fill="hold">
                            <p:stCondLst>
                              <p:cond delay="1701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dur="indefinite" fill="hold">
                      <p:stCondLst>
                        <p:cond delay="indefinite"/>
                      </p:stCondLst>
                      <p:childTnLst>
                        <p:par>
                          <p:cTn id="9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dur="indefinite" fill="hold">
                            <p:stCondLst>
                              <p:cond delay="1901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dur="indefinite" fill="hold">
                      <p:stCondLst>
                        <p:cond delay="indefinite"/>
                      </p:stCondLst>
                      <p:childTnLst>
                        <p:par>
                          <p:cTn id="9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dur="indefinite" fill="hold">
                            <p:stCondLst>
                              <p:cond delay="1901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dur="indefinite" fill="hold">
                      <p:stCondLst>
                        <p:cond delay="indefinite"/>
                      </p:stCondLst>
                      <p:childTnLst>
                        <p:par>
                          <p:cTn id="9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dur="indefinite" fill="hold">
                            <p:stCondLst>
                              <p:cond delay="1401"/>
                            </p:stCondLst>
                            <p:childTnLst>
                              <p:par>
                                <p:cTn id="95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dur="indefinite" fill="hold">
                      <p:stCondLst>
                        <p:cond delay="indefinite"/>
                      </p:stCondLst>
                      <p:childTnLst>
                        <p:par>
                          <p:cTn id="9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dur="indefinite" fill="hold">
                            <p:stCondLst>
                              <p:cond delay="1901"/>
                            </p:stCondLst>
                            <p:childTnLst>
                              <p:par>
                                <p:cTn id="96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dur="indefinite" fill="hold">
                      <p:stCondLst>
                        <p:cond delay="indefinite"/>
                      </p:stCondLst>
                      <p:childTnLst>
                        <p:par>
                          <p:cTn id="9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dur="indefinite" fill="hold">
                            <p:stCondLst>
                              <p:cond delay="1901"/>
                            </p:stCondLst>
                            <p:childTnLst>
                              <p:par>
                                <p:cTn id="97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Ески Антлашма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7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71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48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3278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ратълъ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720" y="3298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07600" y="32972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й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80800" y="32781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38720" y="32716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ош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21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64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08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30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74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32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6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7052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48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912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4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214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58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105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534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978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21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294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4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2880" y="355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ъкъ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1440" y="38545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Левили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3600" y="414180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айъ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8400" y="44226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асанън Т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2920" y="3565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ким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87240" y="38545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75360" y="41353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75360" y="44226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6160" y="47116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6160" y="5005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85800" y="52941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85800" y="55818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87600" y="5870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з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7960" y="6151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х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87960" y="64468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97160" y="44308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ерлеме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06880" y="41418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згил. Е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6520" y="3848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юл. ЬО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07240" y="35654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езмур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80080" y="44308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ани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81520" y="4141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езеки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80440" y="38545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р. Аът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80080" y="3565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23240" y="64468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л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47000" y="61578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еке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24680" y="58705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г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23600" y="5581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ефанъ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23960" y="5294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вак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47720" y="50054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х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48440" y="4718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47000" y="4430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50240" y="41353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ва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32600" y="38545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54920" y="35593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о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643400" y="1281600"/>
            <a:ext cx="180720" cy="79236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3171600" y="651960"/>
            <a:ext cx="215640" cy="20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4849200" y="1281960"/>
            <a:ext cx="180720" cy="792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5963040" y="1281600"/>
            <a:ext cx="180720" cy="79236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635600" y="651960"/>
            <a:ext cx="215640" cy="20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9680000">
            <a:off x="1350000" y="1126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440000">
            <a:off x="2822760" y="1145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АР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440000">
            <a:off x="4448160" y="10998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ИК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680000">
            <a:off x="5939640" y="10555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Б. ПЕЙ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740000">
            <a:off x="7238520" y="10551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. ПЕЙ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dur="indefinite" fill="hold">
                      <p:stCondLst>
                        <p:cond delay="indefinite"/>
                      </p:stCondLst>
                      <p:childTnLst>
                        <p:par>
                          <p:cTn id="9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dur="indefinite" fill="hold">
                      <p:stCondLst>
                        <p:cond delay="indefinite"/>
                      </p:stCondLst>
                      <p:childTnLst>
                        <p:par>
                          <p:cTn id="9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dur="indefinite" fill="hold">
                      <p:stCondLst>
                        <p:cond delay="indefinite"/>
                      </p:stCondLst>
                      <p:childTnLst>
                        <p:par>
                          <p:cTn id="10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dur="indefinite" fill="hold">
                      <p:stCondLst>
                        <p:cond delay="indefinite"/>
                      </p:stCondLst>
                      <p:childTnLst>
                        <p:par>
                          <p:cTn id="10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dur="indefinite" fill="hold">
                      <p:stCondLst>
                        <p:cond delay="indefinite"/>
                      </p:stCondLst>
                      <p:childTnLst>
                        <p:par>
                          <p:cTn id="10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dur="indefinite" fill="hold">
                      <p:stCondLst>
                        <p:cond delay="indefinite"/>
                      </p:stCondLst>
                      <p:childTnLst>
                        <p:par>
                          <p:cTn id="10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dur="indefinite" fill="hold">
                      <p:stCondLst>
                        <p:cond delay="indefinite"/>
                      </p:stCondLst>
                      <p:childTnLst>
                        <p:par>
                          <p:cTn id="10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dur="indefinite" fill="hold">
                      <p:stCondLst>
                        <p:cond delay="indefinite"/>
                      </p:stCondLst>
                      <p:childTnLst>
                        <p:par>
                          <p:cTn id="10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dur="indefinite" fill="hold">
                      <p:stCondLst>
                        <p:cond delay="indefinite"/>
                      </p:stCondLst>
                      <p:childTnLst>
                        <p:par>
                          <p:cTn id="10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dur="indefinite" fill="hold">
                      <p:stCondLst>
                        <p:cond delay="indefinite"/>
                      </p:stCondLst>
                      <p:childTnLst>
                        <p:par>
                          <p:cTn id="10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dur="indefinite" fill="hold">
                      <p:stCondLst>
                        <p:cond delay="indefinite"/>
                      </p:stCondLst>
                      <p:childTnLst>
                        <p:par>
                          <p:cTn id="10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dur="indefinite" fill="hold">
                      <p:stCondLst>
                        <p:cond delay="indefinite"/>
                      </p:stCondLst>
                      <p:childTnLst>
                        <p:par>
                          <p:cTn id="1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dur="indefinite" fill="hold">
                      <p:stCondLst>
                        <p:cond delay="indefinite"/>
                      </p:stCondLst>
                      <p:childTnLst>
                        <p:par>
                          <p:cTn id="1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dur="indefinite" fill="hold">
                      <p:stCondLst>
                        <p:cond delay="indefinite"/>
                      </p:stCondLst>
                      <p:childTnLst>
                        <p:par>
                          <p:cTn id="1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dur="indefinite" fill="hold">
                      <p:stCondLst>
                        <p:cond delay="indefinite"/>
                      </p:stCondLst>
                      <p:childTnLst>
                        <p:par>
                          <p:cTn id="1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dur="indefinite" fill="hold">
                      <p:stCondLst>
                        <p:cond delay="indefinite"/>
                      </p:stCondLst>
                      <p:childTnLst>
                        <p:par>
                          <p:cTn id="1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dur="indefinite" fill="hold">
                      <p:stCondLst>
                        <p:cond delay="indefinite"/>
                      </p:stCondLst>
                      <p:childTnLst>
                        <p:par>
                          <p:cTn id="1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dur="indefinite" fill="hold">
                      <p:stCondLst>
                        <p:cond delay="indefinite"/>
                      </p:stCondLst>
                      <p:childTnLst>
                        <p:par>
                          <p:cTn id="1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dur="indefinite" fill="hold">
                      <p:stCondLst>
                        <p:cond delay="indefinite"/>
                      </p:stCondLst>
                      <p:childTnLst>
                        <p:par>
                          <p:cTn id="1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dur="indefinite" fill="hold">
                      <p:stCondLst>
                        <p:cond delay="indefinite"/>
                      </p:stCondLst>
                      <p:childTnLst>
                        <p:par>
                          <p:cTn id="1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dur="indefinite" fill="hold">
                      <p:stCondLst>
                        <p:cond delay="indefinite"/>
                      </p:stCondLst>
                      <p:childTnLst>
                        <p:par>
                          <p:cTn id="1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dur="indefinite" fill="hold">
                      <p:stCondLst>
                        <p:cond delay="indefinite"/>
                      </p:stCondLst>
                      <p:childTnLst>
                        <p:par>
                          <p:cTn id="1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dur="indefinite" fill="hold">
                      <p:stCondLst>
                        <p:cond delay="indefinite"/>
                      </p:stCondLst>
                      <p:childTnLst>
                        <p:par>
                          <p:cTn id="1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dur="indefinite" fill="hold">
                      <p:stCondLst>
                        <p:cond delay="indefinite"/>
                      </p:stCondLst>
                      <p:childTnLst>
                        <p:par>
                          <p:cTn id="1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dur="indefinite" fill="hold">
                      <p:stCondLst>
                        <p:cond delay="indefinite"/>
                      </p:stCondLst>
                      <p:childTnLst>
                        <p:par>
                          <p:cTn id="1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dur="indefinite" fill="hold">
                      <p:stCondLst>
                        <p:cond delay="indefinite"/>
                      </p:stCondLst>
                      <p:childTnLst>
                        <p:par>
                          <p:cTn id="1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dur="indefinite" fill="hold">
                      <p:stCondLst>
                        <p:cond delay="indefinite"/>
                      </p:stCondLst>
                      <p:childTnLst>
                        <p:par>
                          <p:cTn id="1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dur="indefinite" fill="hold">
                      <p:stCondLst>
                        <p:cond delay="indefinite"/>
                      </p:stCondLst>
                      <p:childTnLst>
                        <p:par>
                          <p:cTn id="1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dur="indefinite" fill="hold">
                      <p:stCondLst>
                        <p:cond delay="indefinite"/>
                      </p:stCondLst>
                      <p:childTnLst>
                        <p:par>
                          <p:cTn id="1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dur="indefinite" fill="hold">
                      <p:stCondLst>
                        <p:cond delay="indefinite"/>
                      </p:stCondLst>
                      <p:childTnLst>
                        <p:par>
                          <p:cTn id="1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dur="indefinite" fill="hold">
                      <p:stCondLst>
                        <p:cond delay="indefinite"/>
                      </p:stCondLst>
                      <p:childTnLst>
                        <p:par>
                          <p:cTn id="1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dur="indefinite" fill="hold">
                      <p:stCondLst>
                        <p:cond delay="indefinite"/>
                      </p:stCondLst>
                      <p:childTnLst>
                        <p:par>
                          <p:cTn id="1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dur="indefinite" fill="hold">
                      <p:stCondLst>
                        <p:cond delay="indefinite"/>
                      </p:stCondLst>
                      <p:childTnLst>
                        <p:par>
                          <p:cTn id="1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dur="indefinite" fill="hold">
                      <p:stCondLst>
                        <p:cond delay="indefinite"/>
                      </p:stCondLst>
                      <p:childTnLst>
                        <p:par>
                          <p:cTn id="1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dur="indefinite" fill="hold">
                      <p:stCondLst>
                        <p:cond delay="indefinite"/>
                      </p:stCondLst>
                      <p:childTnLst>
                        <p:par>
                          <p:cTn id="1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dur="indefinite" fill="hold">
                      <p:stCondLst>
                        <p:cond delay="indefinite"/>
                      </p:stCondLst>
                      <p:childTnLst>
                        <p:par>
                          <p:cTn id="1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dur="indefinite" fill="hold">
                      <p:stCondLst>
                        <p:cond delay="indefinite"/>
                      </p:stCondLst>
                      <p:childTnLst>
                        <p:par>
                          <p:cTn id="1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Йени Антлашма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476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305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3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64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60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05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9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371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258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299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43520" y="30178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омал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45680" y="64533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илим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76160" y="42210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50360" y="29908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чъ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68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1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7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880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76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2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5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08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5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974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930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ff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1800" y="32781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ар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1080" y="357336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2520" y="38606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39920" y="32846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Коринт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44600" y="35733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Коринт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5600" y="3854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алатял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4880" y="414180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фес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46400" y="4430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илипи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44960" y="472428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лосе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46040" y="5013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Селаник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46040" y="5300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Селаник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48920" y="5589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Тимотей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47480" y="58705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Тимотей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45680" y="61657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и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76160" y="39322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Пет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87320" y="36432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Пет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87680" y="33498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к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86600" y="306720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бран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76520" y="508464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Ях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75800" y="47973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3.Йуха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76160" y="4508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Йух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40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0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90800" y="299736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по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шл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1570680" y="1110240"/>
            <a:ext cx="181080" cy="792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4251240" y="51552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6036120" y="929160"/>
            <a:ext cx="181080" cy="1224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2593440" y="1379160"/>
            <a:ext cx="216000" cy="2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347960" y="1379160"/>
            <a:ext cx="216000" cy="2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49520" y="104616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БИ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91120" y="1052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АР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97040" y="10526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ПАВЛ. М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65800" y="105264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ГЕНЕЛ М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23240" y="10526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ПЕЙГАМБЕР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dur="indefinite" fill="hold">
                      <p:stCondLst>
                        <p:cond delay="indefinite"/>
                      </p:stCondLst>
                      <p:childTnLst>
                        <p:par>
                          <p:cTn id="1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dur="indefinite" fill="hold">
                      <p:stCondLst>
                        <p:cond delay="indefinite"/>
                      </p:stCondLst>
                      <p:childTnLst>
                        <p:par>
                          <p:cTn id="1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dur="indefinite" fill="hold">
                      <p:stCondLst>
                        <p:cond delay="indefinite"/>
                      </p:stCondLst>
                      <p:childTnLst>
                        <p:par>
                          <p:cTn id="1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dur="indefinite" fill="hold">
                      <p:stCondLst>
                        <p:cond delay="indefinite"/>
                      </p:stCondLst>
                      <p:childTnLst>
                        <p:par>
                          <p:cTn id="1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dur="indefinite" fill="hold">
                      <p:stCondLst>
                        <p:cond delay="indefinite"/>
                      </p:stCondLst>
                      <p:childTnLst>
                        <p:par>
                          <p:cTn id="1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dur="indefinite" fill="hold">
                      <p:stCondLst>
                        <p:cond delay="indefinite"/>
                      </p:stCondLst>
                      <p:childTnLst>
                        <p:par>
                          <p:cTn id="1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dur="indefinite" fill="hold">
                      <p:stCondLst>
                        <p:cond delay="indefinite"/>
                      </p:stCondLst>
                      <p:childTnLst>
                        <p:par>
                          <p:cTn id="1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dur="indefinite" fill="hold">
                      <p:stCondLst>
                        <p:cond delay="indefinite"/>
                      </p:stCondLst>
                      <p:childTnLst>
                        <p:par>
                          <p:cTn id="1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dur="indefinite" fill="hold">
                      <p:stCondLst>
                        <p:cond delay="indefinite"/>
                      </p:stCondLst>
                      <p:childTnLst>
                        <p:par>
                          <p:cTn id="1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dur="indefinite" fill="hold">
                      <p:stCondLst>
                        <p:cond delay="indefinite"/>
                      </p:stCondLst>
                      <p:childTnLst>
                        <p:par>
                          <p:cTn id="1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dur="indefinite" fill="hold">
                      <p:stCondLst>
                        <p:cond delay="indefinite"/>
                      </p:stCondLst>
                      <p:childTnLst>
                        <p:par>
                          <p:cTn id="1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dur="indefinite" fill="hold">
                      <p:stCondLst>
                        <p:cond delay="indefinite"/>
                      </p:stCondLst>
                      <p:childTnLst>
                        <p:par>
                          <p:cTn id="1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dur="indefinite" fill="hold">
                      <p:stCondLst>
                        <p:cond delay="indefinite"/>
                      </p:stCondLst>
                      <p:childTnLst>
                        <p:par>
                          <p:cTn id="1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dur="indefinite" fill="hold">
                      <p:stCondLst>
                        <p:cond delay="indefinite"/>
                      </p:stCondLst>
                      <p:childTnLst>
                        <p:par>
                          <p:cTn id="1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dur="indefinite" fill="hold">
                      <p:stCondLst>
                        <p:cond delay="indefinite"/>
                      </p:stCondLst>
                      <p:childTnLst>
                        <p:par>
                          <p:cTn id="1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dur="indefinite" fill="hold">
                      <p:stCondLst>
                        <p:cond delay="indefinite"/>
                      </p:stCondLst>
                      <p:childTnLst>
                        <p:par>
                          <p:cTn id="1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dur="indefinite" fill="hold">
                      <p:stCondLst>
                        <p:cond delay="indefinite"/>
                      </p:stCondLst>
                      <p:childTnLst>
                        <p:par>
                          <p:cTn id="1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dur="indefinite" fill="hold">
                      <p:stCondLst>
                        <p:cond delay="indefinite"/>
                      </p:stCondLst>
                      <p:childTnLst>
                        <p:par>
                          <p:cTn id="1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dur="indefinite" fill="hold">
                      <p:stCondLst>
                        <p:cond delay="indefinite"/>
                      </p:stCondLst>
                      <p:childTnLst>
                        <p:par>
                          <p:cTn id="1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dur="indefinite" fill="hold">
                      <p:stCondLst>
                        <p:cond delay="indefinite"/>
                      </p:stCondLst>
                      <p:childTnLst>
                        <p:par>
                          <p:cTn id="1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dur="indefinite" fill="hold">
                      <p:stCondLst>
                        <p:cond delay="indefinite"/>
                      </p:stCondLst>
                      <p:childTnLst>
                        <p:par>
                          <p:cTn id="1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dur="indefinite" fill="hold">
                      <p:stCondLst>
                        <p:cond delay="indefinite"/>
                      </p:stCondLst>
                      <p:childTnLst>
                        <p:par>
                          <p:cTn id="1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dur="indefinite" fill="hold">
                      <p:stCondLst>
                        <p:cond delay="indefinite"/>
                      </p:stCondLst>
                      <p:childTnLst>
                        <p:par>
                          <p:cTn id="1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dur="indefinite" fill="hold">
                      <p:stCondLst>
                        <p:cond delay="indefinite"/>
                      </p:stCondLst>
                      <p:childTnLst>
                        <p:par>
                          <p:cTn id="1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dur="indefinite" fill="hold">
                      <p:stCondLst>
                        <p:cond delay="indefinite"/>
                      </p:stCondLst>
                      <p:childTnLst>
                        <p:par>
                          <p:cTn id="1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dur="indefinite" fill="hold">
                      <p:stCondLst>
                        <p:cond delay="indefinite"/>
                      </p:stCondLst>
                      <p:childTnLst>
                        <p:par>
                          <p:cTn id="1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dur="indefinite" fill="hold">
                      <p:stCondLst>
                        <p:cond delay="indefinite"/>
                      </p:stCondLst>
                      <p:childTnLst>
                        <p:par>
                          <p:cTn id="1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Кючюк Пейгамбер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67920" y="220500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ошафъ йолладъм амдж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63880" y="364500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вакът йумурталар микроплан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9400" y="50068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съл, хаваданмъ сервира япайъ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4880" y="649116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Хани закусканън малларъ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573440" y="1090440"/>
            <a:ext cx="1440000" cy="10209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373800" y="1111320"/>
            <a:ext cx="1222560" cy="995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885080" y="1081080"/>
            <a:ext cx="905040" cy="1052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4832280" y="2637000"/>
            <a:ext cx="887400" cy="976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6127920" y="2708280"/>
            <a:ext cx="1096920" cy="920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7711920" y="2565360"/>
            <a:ext cx="790560" cy="1069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89800" y="4149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7308720" y="4149720"/>
            <a:ext cx="1079640" cy="820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872240" y="5661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5651640" y="5462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0"/>
          <a:stretch/>
        </p:blipFill>
        <p:spPr>
          <a:xfrm>
            <a:off x="7093080" y="553572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1"/>
          <a:stretch/>
        </p:blipFill>
        <p:spPr>
          <a:xfrm>
            <a:off x="5580000" y="414972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826920" y="1773360"/>
            <a:ext cx="29703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dur="indefinite" fill="hold">
                      <p:stCondLst>
                        <p:cond delay="indefinite"/>
                      </p:stCondLst>
                      <p:childTnLst>
                        <p:par>
                          <p:cTn id="1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dur="indefinite" fill="hold">
                      <p:stCondLst>
                        <p:cond delay="indefinite"/>
                      </p:stCondLst>
                      <p:childTnLst>
                        <p:par>
                          <p:cTn id="1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3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dur="indefinite" fill="hold">
                      <p:stCondLst>
                        <p:cond delay="indefinite"/>
                      </p:stCondLst>
                      <p:childTnLst>
                        <p:par>
                          <p:cTn id="1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dur="indefinite" fill="hold">
                      <p:stCondLst>
                        <p:cond delay="indefinite"/>
                      </p:stCondLst>
                      <p:childTnLst>
                        <p:par>
                          <p:cTn id="16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dur="indefinite" fill="hold">
                      <p:stCondLst>
                        <p:cond delay="indefinite"/>
                      </p:stCondLst>
                      <p:childTnLst>
                        <p:par>
                          <p:cTn id="1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dur="indefinite" fill="hold">
                      <p:stCondLst>
                        <p:cond delay="indefinite"/>
                      </p:stCondLst>
                      <p:childTnLst>
                        <p:par>
                          <p:cTn id="1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dur="indefinite" fill="hold">
                      <p:stCondLst>
                        <p:cond delay="indefinite"/>
                      </p:stCondLst>
                      <p:childTnLst>
                        <p:par>
                          <p:cTn id="1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dur="indefinite" fill="hold">
                      <p:stCondLst>
                        <p:cond delay="indefinite"/>
                      </p:stCondLst>
                      <p:childTnLst>
                        <p:par>
                          <p:cTn id="16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dur="indefinite" fill="hold">
                      <p:stCondLst>
                        <p:cond delay="indefinite"/>
                      </p:stCondLst>
                      <p:childTnLst>
                        <p:par>
                          <p:cTn id="16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dur="indefinite" fill="hold">
                      <p:stCondLst>
                        <p:cond delay="indefinite"/>
                      </p:stCondLst>
                      <p:childTnLst>
                        <p:par>
                          <p:cTn id="1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dur="indefinite" fill="hold">
                      <p:stCondLst>
                        <p:cond delay="indefinite"/>
                      </p:stCondLst>
                      <p:childTnLst>
                        <p:par>
                          <p:cTn id="1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dur="indefinite" fill="hold">
                      <p:stCondLst>
                        <p:cond delay="indefinite"/>
                      </p:stCondLst>
                      <p:childTnLst>
                        <p:par>
                          <p:cTn id="1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dur="indefinite" fill="hold">
                      <p:stCondLst>
                        <p:cond delay="indefinite"/>
                      </p:stCondLst>
                      <p:childTnLst>
                        <p:par>
                          <p:cTn id="1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dur="indefinite" fill="hold">
                      <p:stCondLst>
                        <p:cond delay="indefinite"/>
                      </p:stCondLst>
                      <p:childTnLst>
                        <p:par>
                          <p:cTn id="1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dur="indefinite" fill="hold">
                      <p:stCondLst>
                        <p:cond delay="indefinite"/>
                      </p:stCondLst>
                      <p:childTnLst>
                        <p:par>
                          <p:cTn id="1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dur="indefinite" fill="hold">
                      <p:stCondLst>
                        <p:cond delay="indefinite"/>
                      </p:stCondLst>
                      <p:childTnLst>
                        <p:par>
                          <p:cTn id="1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Кючюк Пейгамбер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1240" y="1574640"/>
            <a:ext cx="138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оше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Йо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А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Ова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Йу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Нах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авак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Сефа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Ха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Зек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Мал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63200" y="198900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Хошафъ йолладъм амдж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48440" y="299736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Овакът йумурталар микропланд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49520" y="4149720"/>
            <a:ext cx="56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Насъл, хаваданмъ сервира япайъ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21080" y="520380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Хани закусканън малларъ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54360" y="1912680"/>
            <a:ext cx="1303200" cy="150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54000" y="2205000"/>
            <a:ext cx="11588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854000" y="2347920"/>
            <a:ext cx="123012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852200" y="2993760"/>
            <a:ext cx="1303560" cy="150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852200" y="3286080"/>
            <a:ext cx="11588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852560" y="3429000"/>
            <a:ext cx="123048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854360" y="4001760"/>
            <a:ext cx="1303200" cy="150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854000" y="4294080"/>
            <a:ext cx="11588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854000" y="4437000"/>
            <a:ext cx="123012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852200" y="5154120"/>
            <a:ext cx="1303560" cy="150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852200" y="5446800"/>
            <a:ext cx="11588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852560" y="5589720"/>
            <a:ext cx="123048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716280"/>
            <a:ext cx="9144000" cy="289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51" y="0"/>
                </a:lnTo>
                <a:lnTo>
                  <a:pt x="21600" y="10800"/>
                </a:lnTo>
                <a:lnTo>
                  <a:pt x="2095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5400000"/>
          </a:gradFill>
          <a:ln cap="sq"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4315" r="0" b="14186"/>
          <a:stretch/>
        </p:blipFill>
        <p:spPr>
          <a:xfrm>
            <a:off x="3635280" y="1125360"/>
            <a:ext cx="1800360" cy="14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2200" y="3357720"/>
            <a:ext cx="793800" cy="930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681120" y="2637000"/>
            <a:ext cx="2814480" cy="64764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544400" y="2708280"/>
            <a:ext cx="2238120" cy="57636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08040" y="2781360"/>
            <a:ext cx="166212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73480" y="2781360"/>
            <a:ext cx="101448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37120" y="2781360"/>
            <a:ext cx="29376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781360"/>
            <a:ext cx="28728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781360"/>
            <a:ext cx="158436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708280"/>
            <a:ext cx="2089080" cy="57636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565360"/>
            <a:ext cx="2950920" cy="719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2781360"/>
            <a:ext cx="100800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019400" y="5084640"/>
            <a:ext cx="112896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4365720"/>
            <a:ext cx="3095640" cy="863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4365720"/>
            <a:ext cx="2303640" cy="71892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4365720"/>
            <a:ext cx="165600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365720"/>
            <a:ext cx="100800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365720"/>
            <a:ext cx="36036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13120" y="4365720"/>
            <a:ext cx="29376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856040" y="4365720"/>
            <a:ext cx="101448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45120" y="4365720"/>
            <a:ext cx="159048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289120" y="4365720"/>
            <a:ext cx="2382840" cy="79200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32040" y="4365720"/>
            <a:ext cx="3032280" cy="93492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125360"/>
            <a:ext cx="3384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Бютюн китабън асъл язаръ: Аллахън кендиси – Кутсал Рух ола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276640"/>
            <a:ext cx="3384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) 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Кърк адам 1500 сене ичинде Аллахън ишине шахитлик яптъ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105520"/>
            <a:ext cx="3384720" cy="119124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)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Аллхън халкъ Кутсал Рух’ун сесини танъйъп Кутсал Язъларъ бир китап халине гети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5013360"/>
            <a:ext cx="334800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1" lang="tr-TR" sz="1800" spc="-1" strike="noStrike">
                <a:solidFill>
                  <a:srgbClr val="008080"/>
                </a:solidFill>
                <a:latin typeface="Times New Roman"/>
              </a:rPr>
              <a:t>Беним койунларъм беним сесими ишитийорлар.</a:t>
            </a:r>
            <a:r>
              <a:rPr b="1" lang="bg-BG" sz="2000" spc="-1" strike="noStrike">
                <a:solidFill>
                  <a:srgbClr val="00808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Йуханна 10: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2236680"/>
            <a:ext cx="3419640" cy="9781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tr-TR" sz="1800" spc="-1" strike="noStrike">
                <a:solidFill>
                  <a:srgbClr val="800000"/>
                </a:solidFill>
                <a:latin typeface="Times New Roman"/>
              </a:rPr>
              <a:t>Кутсал Рух кишилери ьон</a:t>
            </a:r>
            <a:r>
              <a:rPr b="1" lang="bg-BG" sz="18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tr-TR" sz="1800" spc="-1" strike="noStrike">
                <a:solidFill>
                  <a:srgbClr val="800000"/>
                </a:solidFill>
                <a:latin typeface="Times New Roman"/>
              </a:rPr>
              <a:t>терди де ьойле Аллах'тан конуштулар.</a:t>
            </a:r>
            <a:r>
              <a:rPr b="1" lang="bg-BG" sz="20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2.Петрус 1:20-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176480"/>
            <a:ext cx="3419640" cy="8863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tr-TR" sz="1800" spc="-1" strike="noStrike">
                <a:solidFill>
                  <a:srgbClr val="000066"/>
                </a:solidFill>
                <a:latin typeface="Times New Roman"/>
              </a:rPr>
              <a:t>Китабъ-Мукаддес'ин хепси Аллахън солуундан 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гелийор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2.Тимотейус </a:t>
            </a: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: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87280" y="3357720"/>
            <a:ext cx="792360" cy="93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732200" y="3357720"/>
            <a:ext cx="72072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557680" y="3357720"/>
            <a:ext cx="727200" cy="93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95596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851280" y="3357720"/>
            <a:ext cx="792000" cy="930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637236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725184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07648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16920" y="3357720"/>
            <a:ext cx="7635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3601"/>
                            </p:stCondLst>
                            <p:childTnLst>
                              <p:par>
                                <p:cTn id="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4601"/>
                            </p:stCondLst>
                            <p:childTnLst>
                              <p:par>
                                <p:cTn id="2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3301"/>
                            </p:stCondLst>
                            <p:childTnLst>
                              <p:par>
                                <p:cTn id="3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fill="hold">
                            <p:stCondLst>
                              <p:cond delay="4201"/>
                            </p:stCondLst>
                            <p:childTnLst>
                              <p:par>
                                <p:cTn id="1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4701"/>
                            </p:stCondLst>
                            <p:childTnLst>
                              <p:par>
                                <p:cTn id="16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dur="indefinite" fill="hold">
                            <p:stCondLst>
                              <p:cond delay="5201"/>
                            </p:stCondLst>
                            <p:childTnLst>
                              <p:par>
                                <p:cTn id="17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5401"/>
                            </p:stCondLst>
                            <p:childTnLst>
                              <p:par>
                                <p:cTn id="18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dur="indefinite" fill="hold">
                            <p:stCondLst>
                              <p:cond delay="5601"/>
                            </p:stCondLst>
                            <p:childTnLst>
                              <p:par>
                                <p:cTn id="18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5801"/>
                            </p:stCondLst>
                            <p:childTnLst>
                              <p:par>
                                <p:cTn id="19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dur="indefinite" fill="hold">
                            <p:stCondLst>
                              <p:cond delay="6001"/>
                            </p:stCondLst>
                            <p:childTnLst>
                              <p:par>
                                <p:cTn id="203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6201"/>
                            </p:stCondLst>
                            <p:childTnLst>
                              <p:par>
                                <p:cTn id="210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6401"/>
                            </p:stCondLst>
                            <p:childTnLst>
                              <p:par>
                                <p:cTn id="21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dur="indefinite" fill="hold">
                            <p:stCondLst>
                              <p:cond delay="6601"/>
                            </p:stCondLst>
                            <p:childTnLst>
                              <p:par>
                                <p:cTn id="224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dur="indefinite" fill="hold">
                            <p:stCondLst>
                              <p:cond delay="6801"/>
                            </p:stCondLst>
                            <p:childTnLst>
                              <p:par>
                                <p:cTn id="231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fill="hold">
                            <p:stCondLst>
                              <p:cond delay="7001"/>
                            </p:stCondLst>
                            <p:childTnLst>
                              <p:par>
                                <p:cTn id="2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3200" spc="-1" strike="noStrike">
                <a:solidFill>
                  <a:srgbClr val="000000"/>
                </a:solidFill>
                <a:latin typeface="Century Gothic"/>
              </a:rPr>
              <a:t> ве </a:t>
            </a:r>
            <a:r>
              <a:rPr b="1" i="1" lang="bg-BG" sz="3600" spc="-1" strike="noStrike">
                <a:solidFill>
                  <a:srgbClr val="339933"/>
                </a:solidFill>
                <a:latin typeface="Century Gothic"/>
              </a:rPr>
              <a:t>Куран</a:t>
            </a:r>
            <a:r>
              <a:rPr b="1" i="1" lang="bg-BG" sz="32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14315" r="0" b="14186"/>
          <a:stretch/>
        </p:blipFill>
        <p:spPr>
          <a:xfrm>
            <a:off x="539640" y="1052640"/>
            <a:ext cx="1800360" cy="1438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1656000" cy="208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1628640"/>
            <a:ext cx="309564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Кутсал Рух 1500 сене бойунджа 40 кишинин ичинде чалъшт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218200" y="2637000"/>
            <a:ext cx="1655640" cy="209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643280" y="105264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76360" y="4941720"/>
            <a:ext cx="1513080" cy="1511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722920" y="4941720"/>
            <a:ext cx="151128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24360" y="907920"/>
            <a:ext cx="1368360" cy="595008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3808440"/>
            <a:ext cx="324000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Онлар Аллахън сьозюню алъркен кафа-ларъ нормал ишле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6021360"/>
            <a:ext cx="324000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КК’ън язарларъ ШАХИТ оларак кулланъл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1628640"/>
            <a:ext cx="2952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Кьотю рухлар 23 сене бойунджа 1 кишинин ичинде чалъшт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3808440"/>
            <a:ext cx="381636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Онларън сьозлерини алър-кен Мухаммед кендинден гечип контролуну кайбе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6021360"/>
            <a:ext cx="338472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144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Мухаммед бир МАШИНА гиби кулланъл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2200" y="2492280"/>
            <a:ext cx="5834160" cy="2933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cap="sq"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c0c0c0"/>
                </a:solidFill>
                <a:latin typeface="Garamond"/>
              </a:rPr>
              <a:t>“</a:t>
            </a:r>
            <a:r>
              <a:rPr b="1" lang="tr-TR" sz="4000" spc="-1" strike="noStrike">
                <a:solidFill>
                  <a:srgbClr val="c0c0c0"/>
                </a:solidFill>
                <a:latin typeface="Garamond"/>
              </a:rPr>
              <a:t>Пейгамберлерин рухларъ пейгамберлери сеслийорлар.</a:t>
            </a:r>
            <a:r>
              <a:rPr b="1" lang="bg-BG" sz="4000" spc="-1" strike="noStrike">
                <a:solidFill>
                  <a:srgbClr val="c0c0c0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(1.Коринтлилер 14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0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8384"/>
            </a:gs>
            <a:gs pos="100000">
              <a:srgbClr val="d3eb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Кутсал Китап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насъл язълдъ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052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ИСА МЕСИХ, Кутсал Китабън ортасъдъ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3048120"/>
            <a:ext cx="67820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2054160" cy="309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989000"/>
            <a:ext cx="29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ски Антлашма онун  </a:t>
            </a: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ГЕЛЕДЖЕИН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гьост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1989000"/>
            <a:ext cx="29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Йени Антлашма онун  </a:t>
            </a:r>
            <a:r>
              <a:rPr b="1" lang="bg-BG" sz="2000" spc="-1" strike="noStrike">
                <a:solidFill>
                  <a:srgbClr val="ff9933"/>
                </a:solidFill>
                <a:latin typeface="Arial"/>
              </a:rPr>
              <a:t>ГЕЛДИИН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гьост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30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ени Антлашма  олмадан, Ески Атнлашма ексик калъйор – Аллахън вердии сьозлер каршълъксъз ка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306864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ски Антлашма  олмадан, Йени Атнлашмайъ бютюн оларак анламаяджаз – Иса Месихин ишини ве ьонемини там анлаямаядж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70480"/>
            <a:ext cx="9144000" cy="137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d3ebed"/>
                </a:solidFill>
                <a:latin typeface="Garamond"/>
              </a:rPr>
              <a:t>“</a:t>
            </a:r>
            <a:r>
              <a:rPr b="1" lang="tr-TR" sz="2200" spc="-1" strike="noStrike">
                <a:solidFill>
                  <a:srgbClr val="d3ebed"/>
                </a:solidFill>
                <a:latin typeface="Arial"/>
              </a:rPr>
              <a:t>Сонра Муса ве бютюн пейгамберлерден тутуп бютюн Кутсал Китап'та кендисинден ичин не кадар шейлер язълмъшса, онлара ачъкламая башладъ.</a:t>
            </a:r>
            <a:r>
              <a:rPr b="0" lang="tr-TR" sz="2200" spc="-1" strike="noStrike">
                <a:solidFill>
                  <a:srgbClr val="d3ebed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d3ebed"/>
                </a:solidFill>
                <a:latin typeface="Garamond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(1.Коринтлилер 14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dur="indefinite" fill="hold">
                      <p:stCondLst>
                        <p:cond delay="0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55"/>
            </a:gs>
            <a:gs pos="100000">
              <a:srgbClr val="3d3d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907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Кутсал Китабън Китапчъклар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3080" y="126828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Кутсал Китап аслънда бир китап деилдир, кючюк бир библиотекад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66 китапчък = 39 ЕА + 27 Й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383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 u="sng">
                <a:solidFill>
                  <a:srgbClr val="99ccff"/>
                </a:solidFill>
                <a:uFillTx/>
                <a:latin typeface="Arial"/>
              </a:rPr>
              <a:t>Ески</a:t>
            </a: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 Антлашма’нън тел. Нумарасъ: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 5 - 12</a:t>
            </a:r>
            <a:r>
              <a:rPr b="1" lang="tr-T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5 - 5 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 u="sng">
                <a:solidFill>
                  <a:srgbClr val="99ccff"/>
                </a:solidFill>
                <a:uFillTx/>
                <a:latin typeface="Arial"/>
              </a:rPr>
              <a:t>Йени</a:t>
            </a: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 Антлашма’нън тел. Нумарасъ: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 4 - 1 - 13 - </a:t>
            </a:r>
            <a:r>
              <a:rPr b="1" lang="tr-TR" sz="20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48360" y="1268280"/>
            <a:ext cx="1440000" cy="1249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47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20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64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076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42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7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00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91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34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64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07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5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9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29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5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05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49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7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12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3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785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29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5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22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51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294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3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82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1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5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02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49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78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22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894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2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7496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19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0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084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13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04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476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27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2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64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66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0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2476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6732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20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89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160" y="1130400"/>
            <a:ext cx="87487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1 - МУСА’нън китапларъ (5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5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Ханги заманъ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юнянън яратълъшъндан, Муса’нън ьолюмюне ка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Китаплар ве ен ьонемли олайл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Яратълъш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дюнянън яратълъшъ - Аден бахчеси - Нух’ун гемиси - Бабил кулеси - Ибрахим’ин хаятъ -  Исхак’ън хаятъ - Якуп’ун хаятъ - Йусуф’ун хаят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Чъкъш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Мъсърдаки кьолелик - Муса - Мъсърдан чъкъш - Аллах канунунун верилм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Левилиле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Муса’нън кану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айъм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кърк сене чьолде гезме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Яса’нън текраръ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Муса’нън кануну йениден верилийор, Муса’нън ьолюм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110040" y="5445000"/>
            <a:ext cx="718920" cy="115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39076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67004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231840" y="5445000"/>
            <a:ext cx="718920" cy="1152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938160" y="5445000"/>
            <a:ext cx="731880" cy="1152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383076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4551480" y="5445000"/>
            <a:ext cx="712800" cy="1152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5270400" y="5445000"/>
            <a:ext cx="719280" cy="115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599112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6710400" y="5445000"/>
            <a:ext cx="763560" cy="1152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743112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>
            <a:off x="8151840" y="5445000"/>
            <a:ext cx="74124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dur="indefinite" fill="hold">
                      <p:stCondLst>
                        <p:cond delay="0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fill="hold">
                      <p:stCondLst>
                        <p:cond delay="indefinite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087560"/>
            <a:ext cx="845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2 - ТАРИХ китапларъ (12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400 - 465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Ханги заманъ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сраил халкънън Кенан топракларъна гирмесинден сонраки тарих. Дьорт айръ зама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Хакимлер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манъ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шу, Хакимлер, 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Бирлешик краллък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манъ (Саул, Давут, Сюлейман)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1.&amp;2.Саму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Бьолюнмюш краллък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манъ (Сюлейманън ьолюмюнден Бабил сюргюнлюе кадар)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1.&amp;2.Краллар, 1.&amp;2.Тарих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Бабил сюргюнлюю ве дьонюш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Езра, Нехемя, 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1222200" cy="1628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21312" t="0" r="20892" b="0"/>
          <a:stretch/>
        </p:blipFill>
        <p:spPr>
          <a:xfrm>
            <a:off x="3422520" y="5229360"/>
            <a:ext cx="114948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732640" y="5229360"/>
            <a:ext cx="1144440" cy="1628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8028000" y="5229360"/>
            <a:ext cx="1116000" cy="1628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77080" y="5229360"/>
            <a:ext cx="1150920" cy="1628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187280" y="5229360"/>
            <a:ext cx="1152720" cy="1628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340000" y="5229360"/>
            <a:ext cx="1079640" cy="1628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4570560" y="5229360"/>
            <a:ext cx="11538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dur="indefinite" fill="hold">
                      <p:stCondLst>
                        <p:cond delay="0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dur="indefinite" fill="hold">
                      <p:stCondLst>
                        <p:cond delay="indefinite"/>
                      </p:stCondLst>
                      <p:childTnLst>
                        <p:par>
                          <p:cTn id="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052640"/>
            <a:ext cx="8451720" cy="39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3 - ХИКМЕТ китапларъ (5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000 - 3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йи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 китаплар мензуме, поезия стилиндедир. Белли бир заманъ анлатмъйор, ама сонсуз хакикатлар ортая койуйуор. Амачларъ: инсан дору карар веребилме дурумуна гелси (хик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Ейуб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Аллах адамларъ неден аджъ чекийорл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езмурла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бунлар Исраил халкънън илахи китабъдъ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юлейманън ЬОздейишлер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гюнделик хаят ичин акъ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Дерлемедж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Хаятън анламъ нед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Езгилер Езгис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каръ коджанън арасъндаки севги не кадар ьон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55640" y="530064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093080" y="5300640"/>
            <a:ext cx="1412640" cy="144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508720" y="530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340000" y="5300640"/>
            <a:ext cx="1440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924360" y="5300640"/>
            <a:ext cx="1419120" cy="1436760"/>
            <a:chOff x="3924360" y="5300640"/>
            <a:chExt cx="1419120" cy="1436760"/>
          </a:xfrm>
        </p:grpSpPr>
        <p:pic>
          <p:nvPicPr>
            <p:cNvPr id="203" name="" descr=""/>
            <p:cNvPicPr/>
            <p:nvPr/>
          </p:nvPicPr>
          <p:blipFill>
            <a:blip r:embed="rId6"/>
            <a:srcRect l="4876" t="0" r="6616" b="-968"/>
            <a:stretch/>
          </p:blipFill>
          <p:spPr>
            <a:xfrm>
              <a:off x="3924360" y="5300640"/>
              <a:ext cx="141912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924360" y="6568920"/>
              <a:ext cx="154080" cy="15588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dur="indefinite" fill="hold">
                      <p:stCondLst>
                        <p:cond delay="0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dur="indefinite" fill="hold">
                      <p:stCondLst>
                        <p:cond delay="indefinite"/>
                      </p:stCondLst>
                      <p:childTnLst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dur="indefinite" fill="hold">
                      <p:stCondLst>
                        <p:cond delay="indefinite"/>
                      </p:stCondLst>
                      <p:childTnLst>
                        <p:par>
                          <p:cTn id="6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dur="indefinite" fill="hold">
                      <p:stCondLst>
                        <p:cond delay="indefinite"/>
                      </p:stCondLst>
                      <p:childTnLst>
                        <p:par>
                          <p:cTn id="6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dur="indefinite" fill="hold">
                      <p:stCondLst>
                        <p:cond delay="indefinite"/>
                      </p:stCondLst>
                      <p:childTnLst>
                        <p:par>
                          <p:cTn id="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dur="indefinite" fill="hold">
                      <p:stCondLst>
                        <p:cond delay="indefinite"/>
                      </p:stCondLst>
                      <p:childTnLst>
                        <p:par>
                          <p:cTn id="7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Ески Антлашма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нън Китапчък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8040" y="1058760"/>
            <a:ext cx="8452080" cy="39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4 – Бюйюк ПЕЙГАМБЕРЛЕР (5 та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 заман язълдъ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ЬО. 1000 - 300 сенелери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Нейи анлатъй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 китаплар мензуме, поезия стилиндедир. Белли бир заманъ анлатмъйор, ама сонсуз хакикатлар ортая койуйуор. Амачларъ: инсан дору карар веребилме дурумуна гелси (хик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ша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Аллах адамларъ неден аджъ чекийорл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рем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бунлар Исраил халкънън илахи китабъдъ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ер.’нън Аътларъ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гюнделик хаят ичин акъ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езекиел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ема: Хаятън анламъ нед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Даниел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каръ коджанън арасъндаки севги не кадар ьонем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62728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21164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759280" y="5084640"/>
            <a:ext cx="1332000" cy="151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7192800" y="5084640"/>
            <a:ext cx="141156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dur="indefinite" fill="hold">
                      <p:stCondLst>
                        <p:cond delay="0"/>
                      </p:stCondLst>
                      <p:childTnLst>
                        <p:par>
                          <p:cTn id="7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dur="indefinite" fill="hold">
                      <p:stCondLst>
                        <p:cond delay="indefinite"/>
                      </p:stCondLst>
                      <p:childTnLst>
                        <p:par>
                          <p:cTn id="7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dur="indefinite" fill="hold">
                      <p:stCondLst>
                        <p:cond delay="indefinite"/>
                      </p:stCondLst>
                      <p:childTnLst>
                        <p:par>
                          <p:cTn id="7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dur="indefinite" fill="hold">
                      <p:stCondLst>
                        <p:cond delay="indefinite"/>
                      </p:stCondLst>
                      <p:childTnLst>
                        <p:par>
                          <p:cTn id="7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dur="indefinite" fill="hold">
                      <p:stCondLst>
                        <p:cond delay="indefinite"/>
                      </p:stCondLst>
                      <p:childTnLst>
                        <p:par>
                          <p:cTn id="7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dur="indefinite" fill="hold">
                      <p:stCondLst>
                        <p:cond delay="indefinite"/>
                      </p:stCondLst>
                      <p:childTnLst>
                        <p:par>
                          <p:cTn id="7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dur="indefinite" fill="hold">
                      <p:stCondLst>
                        <p:cond delay="indefinite"/>
                      </p:stCondLst>
                      <p:childTnLst>
                        <p:par>
                          <p:cTn id="7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dur="indefinite" fill="hold">
                      <p:stCondLst>
                        <p:cond delay="indefinite"/>
                      </p:stCondLst>
                      <p:childTnLst>
                        <p:par>
                          <p:cTn id="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dur="indefinite" fill="hold">
                      <p:stCondLst>
                        <p:cond delay="indefinite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39:12Z</dcterms:created>
  <dc:creator>Windows XP</dc:creator>
  <dc:description/>
  <dc:language>en-US</dc:language>
  <cp:lastModifiedBy>asd</cp:lastModifiedBy>
  <dcterms:modified xsi:type="dcterms:W3CDTF">2009-06-19T11:28:26Z</dcterms:modified>
  <cp:revision>104</cp:revision>
  <dc:subject/>
  <dc:title>Кутсал Китабън Китапчъкларъ</dc:title>
</cp:coreProperties>
</file>