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76E-2C46-48FE-85E4-4BF51198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F08-97F7-4E66-9438-1E4FF060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DAA-9216-4263-BAC8-DAD527A6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03D-EC3F-4337-A297-48D54528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BCE-AEDE-4A0F-9E42-0F765EB7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FF3-D688-4CEE-A67E-27B19491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F31-6FB9-4CFC-8962-B1A84B25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465-C751-4E63-84DE-62137E5F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F9E-0951-48C7-AB30-B8BA9F9B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25E-B554-429D-B27F-7B47932B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B2D-6FC6-430D-BE11-3CEF7DC1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F5B-27D6-4F0E-9B97-97F859B2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7F74-D12B-46AB-8ECC-DC6DB2452CF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7480" y="1035000"/>
            <a:ext cx="79232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Неден географяя ьонем верел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Географя ве история Аллахън сьозюне 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дюнянън ичиндеки йери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и гьост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.Петрус 1: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b2b2b2"/>
                </a:solidFill>
                <a:latin typeface="Arial"/>
              </a:rPr>
              <a:t>Сизе Раббимиз Иса Месихин кувветини ве гелишини билдирмиштик. О вакът курназджа уйдурулмуш </a:t>
            </a:r>
            <a:r>
              <a:rPr b="1" lang="tr-TR" sz="2000" spc="-1" strike="noStrike" u="sng">
                <a:solidFill>
                  <a:srgbClr val="b2b2b2"/>
                </a:solidFill>
                <a:uFillTx/>
                <a:latin typeface="Arial"/>
              </a:rPr>
              <a:t>масалларън пешине таклашмадък</a:t>
            </a:r>
            <a:r>
              <a:rPr b="1" lang="tr-TR" sz="2000" spc="-1" strike="noStrike">
                <a:solidFill>
                  <a:srgbClr val="b2b2b2"/>
                </a:solidFill>
                <a:latin typeface="Arial"/>
              </a:rPr>
              <a:t>. Хайър, биз Онун бюйюклююнюн гьоз шахитлери олдук.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 белки съкъджъдър – ама сонра Аллахън сьозю сенин ичин чок 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даа джанлъ ве герчек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олу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уран масалларла долу, кишилери масалла уйуттурмая бакъйорлар. Ама биз олмуш битмиш олайлар анлатъйоруз, 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кишилер уянсън дийе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1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202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17480" y="103500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Ен ьонемлис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сааъмъзъ солумузу билел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6120" y="2413080"/>
            <a:ext cx="656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ер картада дюнянън 4 ноктасъ айнъ йер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у стандар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Йукаръда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УЗЕЙ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(Сев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Саада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ДОУ 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(Изт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Ашаъда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ГЮНЕЙ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(Ю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Солда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АТЪ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(Запа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“Кузу доду, гюнеш баттъ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0666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Практ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Бу касабалар Бугаристан’ън нересеин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6705720" cy="474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01280" y="3505320"/>
            <a:ext cx="153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ВА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ЛЕ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ЪРДЖ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Е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СИЛИ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СМОЛ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БУРГ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В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801"/>
                            </p:stCondLst>
                            <p:childTnLst>
                              <p:par>
                                <p:cTn id="8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324480" y="137016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Бу касабалар Иран’ън нересеин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33360" y="3352680"/>
            <a:ext cx="227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AB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SHI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RAS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ZAHE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ASHH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BANDAR-E AB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KERMANSH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QAZ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21241" t="0" r="0" b="0"/>
          <a:stretch/>
        </p:blipFill>
        <p:spPr>
          <a:xfrm>
            <a:off x="0" y="900000"/>
            <a:ext cx="6324480" cy="59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17480" y="10350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Карталарда нелер гьостерилийор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600" y="2057400"/>
            <a:ext cx="787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ула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(денизлер, гьоллер, ърмаклар) – м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Балканлар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– кавере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Дюзлюкле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– йеш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асабала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– кара нокт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ънърла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– там я да кесик чиз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Йоллар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– чизги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асаба – санджак (област) – дев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унларън арасъндаки фаркъна диккат едел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улар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Балканлар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Дюзлюклер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асабала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ънърлар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- 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Йол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5520"/>
          <a:stretch/>
        </p:blipFill>
        <p:spPr>
          <a:xfrm>
            <a:off x="0" y="1644480"/>
            <a:ext cx="9144000" cy="5213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17480" y="10350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Arial"/>
              </a:rPr>
              <a:t>ИСРАИЛ’ин географясънъ ьоренел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37339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22680" y="1789200"/>
            <a:ext cx="462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Бир черчеве ч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Йукаръдан сол ашаъна бир чиз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Узун топарлак саа тараф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йнъсънъ даа кючюк йукаръ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кисини бир чизги иле бирлешт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Юч тане чембер юстюс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Йукаръда бир топка, ашаъда бир топка бир йълдъ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дларъ 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0120" y="1752480"/>
            <a:ext cx="961920" cy="3886200"/>
          </a:xfrm>
          <a:custGeom>
            <a:avLst/>
            <a:gdLst/>
            <a:ahLst/>
            <a:rect l="l" t="t" r="r" b="b"/>
            <a:pathLst>
              <a:path w="606" h="2448">
                <a:moveTo>
                  <a:pt x="6" y="0"/>
                </a:moveTo>
                <a:lnTo>
                  <a:pt x="606" y="0"/>
                </a:lnTo>
                <a:lnTo>
                  <a:pt x="606" y="90"/>
                </a:lnTo>
                <a:lnTo>
                  <a:pt x="600" y="180"/>
                </a:lnTo>
                <a:lnTo>
                  <a:pt x="588" y="330"/>
                </a:lnTo>
                <a:lnTo>
                  <a:pt x="570" y="474"/>
                </a:lnTo>
                <a:lnTo>
                  <a:pt x="522" y="750"/>
                </a:lnTo>
                <a:lnTo>
                  <a:pt x="474" y="1074"/>
                </a:lnTo>
                <a:lnTo>
                  <a:pt x="426" y="1278"/>
                </a:lnTo>
                <a:lnTo>
                  <a:pt x="372" y="1560"/>
                </a:lnTo>
                <a:lnTo>
                  <a:pt x="342" y="1824"/>
                </a:lnTo>
                <a:lnTo>
                  <a:pt x="318" y="2076"/>
                </a:lnTo>
                <a:lnTo>
                  <a:pt x="288" y="2286"/>
                </a:lnTo>
                <a:lnTo>
                  <a:pt x="258" y="2394"/>
                </a:lnTo>
                <a:lnTo>
                  <a:pt x="204" y="2418"/>
                </a:lnTo>
                <a:lnTo>
                  <a:pt x="114" y="2442"/>
                </a:lnTo>
                <a:lnTo>
                  <a:pt x="42" y="2448"/>
                </a:lnTo>
                <a:lnTo>
                  <a:pt x="0" y="2448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010120"/>
            <a:ext cx="438120" cy="942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24280" y="2419200"/>
            <a:ext cx="247680" cy="352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87640" y="2790720"/>
            <a:ext cx="147600" cy="2266920"/>
          </a:xfrm>
          <a:custGeom>
            <a:avLst/>
            <a:gdLst/>
            <a:ahLst/>
            <a:rect l="l" t="t" r="r" b="b"/>
            <a:pathLst>
              <a:path w="93" h="1428">
                <a:moveTo>
                  <a:pt x="26" y="0"/>
                </a:moveTo>
                <a:cubicBezTo>
                  <a:pt x="32" y="2"/>
                  <a:pt x="39" y="2"/>
                  <a:pt x="44" y="6"/>
                </a:cubicBezTo>
                <a:cubicBezTo>
                  <a:pt x="93" y="39"/>
                  <a:pt x="25" y="67"/>
                  <a:pt x="2" y="90"/>
                </a:cubicBezTo>
                <a:cubicBezTo>
                  <a:pt x="15" y="140"/>
                  <a:pt x="0" y="196"/>
                  <a:pt x="38" y="234"/>
                </a:cubicBezTo>
                <a:cubicBezTo>
                  <a:pt x="42" y="249"/>
                  <a:pt x="55" y="261"/>
                  <a:pt x="56" y="276"/>
                </a:cubicBezTo>
                <a:cubicBezTo>
                  <a:pt x="56" y="281"/>
                  <a:pt x="45" y="358"/>
                  <a:pt x="44" y="366"/>
                </a:cubicBezTo>
                <a:cubicBezTo>
                  <a:pt x="40" y="465"/>
                  <a:pt x="13" y="505"/>
                  <a:pt x="56" y="570"/>
                </a:cubicBezTo>
                <a:cubicBezTo>
                  <a:pt x="52" y="614"/>
                  <a:pt x="58" y="654"/>
                  <a:pt x="50" y="696"/>
                </a:cubicBezTo>
                <a:cubicBezTo>
                  <a:pt x="40" y="940"/>
                  <a:pt x="26" y="1182"/>
                  <a:pt x="26" y="1428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28680" y="4400640"/>
            <a:ext cx="1695600" cy="130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57280" y="3238560"/>
            <a:ext cx="1486080" cy="11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04800" y="2057400"/>
            <a:ext cx="1486080" cy="11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95400" y="4848120"/>
            <a:ext cx="209520" cy="20952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66760" y="2600280"/>
            <a:ext cx="105120" cy="104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057640"/>
            <a:ext cx="104760" cy="104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27440" y="265896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съ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8480" y="51166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ейтлех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200" y="47354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Йерушал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0360" y="21924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ДЖЕЛИ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3520" y="346860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САМИРИЙ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7480" y="454500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ЯХУДИЙ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7400" y="53830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ЬОлю Ден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84560" y="2316240"/>
            <a:ext cx="96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Джелиле Гьо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7400" y="379260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Йорд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3880" y="23734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Акден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КАРТ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39080" y="5146560"/>
            <a:ext cx="305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Хазър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Браво с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53520" y="6018120"/>
            <a:ext cx="179280" cy="1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1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402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3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4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605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306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907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408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209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1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10"/>
                            </p:stCondLst>
                            <p:childTnLst>
                              <p:par>
                                <p:cTn id="32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47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5:31:30Z</dcterms:created>
  <dc:creator>Jessica Witmer</dc:creator>
  <dc:description/>
  <dc:language>en-US</dc:language>
  <cp:lastModifiedBy>asd</cp:lastModifiedBy>
  <dcterms:modified xsi:type="dcterms:W3CDTF">2009-06-20T12:34:13Z</dcterms:modified>
  <cp:revision>19</cp:revision>
  <dc:subject/>
  <dc:title>КАРТАЛАР</dc:title>
</cp:coreProperties>
</file>