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3.gif" ContentType="image/gi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A2F-5902-45C2-B1B8-4CE52EC7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821-84BC-409B-90D8-9EDE9A7D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EE7A-3440-4416-B3C5-617460C8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F92-4250-4943-9891-345DEBD4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486-97E0-41CC-A8A5-F84BFDD6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5C8-7AD5-490C-83DD-EEB09253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7E6-E2DC-43B9-9D70-4F65AB7A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0214-4CB2-4E45-91D6-9F05DEA1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C94-3980-4A3E-B899-88689F33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2F6-3376-46B8-93FA-C6695F86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980-F2BA-4BAB-A242-B48FE448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49F-CAD9-4EF8-8D2A-5CAC51AE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53F9-05B4-4410-BF53-54EC3A401BD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24000" y="4724280"/>
            <a:ext cx="6508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1., 2. Тимотейус ве Титус мектупларънда 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907920"/>
            <a:ext cx="7777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мотейус ве Титус'та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2133720"/>
            <a:ext cx="3529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Р ГЕЗИ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589040"/>
            <a:ext cx="5688000" cy="4939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Сен гене Иса Месихин ийи бир аскери гиби зорлуклара ортак о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Аскерлик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 япан хич кимсе бу хаятън ишлерине каръшмаз. ЬОйле ки, ким ону аскерлие яздърмъшса ону мемнун етс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Ве бириси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спор ойунларъна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 катълърса, лазъм о спорун сърасъна уйгун оларак катълсън. Йокса мадаляйъ аламаядж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Ъргатлък япан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чифтчи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, илк ьондже о лазъм йемишлерден йесин.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052640"/>
            <a:ext cx="568800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2.Тимотейус 2:3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27640" y="1052640"/>
            <a:ext cx="1582920" cy="316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020000" y="328464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551640" y="5084640"/>
            <a:ext cx="2413080" cy="15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1989000"/>
            <a:ext cx="4032000" cy="30200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Диккат ет, кендини Аллахън ьонюнде ьойле бир ишчи оларак гьостереси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хани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утанмак ичин себебин олмасън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 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хакикатън сьозюню дору кулланасън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452600"/>
            <a:ext cx="403200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2.Тимотейус 2: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1773360"/>
            <a:ext cx="3124080" cy="4303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003640" y="1628640"/>
            <a:ext cx="3456000" cy="46800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932360" y="1628640"/>
            <a:ext cx="3456000" cy="46800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4560" y="1662120"/>
            <a:ext cx="5400720" cy="47264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Ве Раббин хизметчиси лазъ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кавга етмесин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, ама лазъм херкесе йумушак даврансъ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ьоретирмейе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 хазър олсун 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кендисине япълан хаксъзлъклара каршъ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сабретсин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Лазъм, кендисине каршъ геленлери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алчакгьонюллюкле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 тербийейе чексин. Белки де Аллах онлара тьовбейи вереджек, хакикатъ танъсънлар.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4560" y="1125360"/>
            <a:ext cx="54007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2.Тимотейус 2:24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22671" t="0" r="4252" b="0"/>
          <a:stretch/>
        </p:blipFill>
        <p:spPr>
          <a:xfrm>
            <a:off x="6407280" y="1486080"/>
            <a:ext cx="1079280" cy="115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407280" y="2709720"/>
            <a:ext cx="1081080" cy="1154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07280" y="3933720"/>
            <a:ext cx="1079280" cy="114804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6407280" y="5157720"/>
            <a:ext cx="1079280" cy="1152720"/>
            <a:chOff x="6407280" y="5157720"/>
            <a:chExt cx="1079280" cy="1152720"/>
          </a:xfrm>
        </p:grpSpPr>
        <p:sp>
          <p:nvSpPr>
            <p:cNvPr id="104" name=""/>
            <p:cNvSpPr/>
            <p:nvPr/>
          </p:nvSpPr>
          <p:spPr>
            <a:xfrm>
              <a:off x="6407280" y="5157720"/>
              <a:ext cx="1079280" cy="115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5"/>
            <a:srcRect l="5650" t="3339" r="10809" b="0"/>
            <a:stretch/>
          </p:blipFill>
          <p:spPr>
            <a:xfrm>
              <a:off x="6407280" y="5157720"/>
              <a:ext cx="1079280" cy="115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7918560" y="5445000"/>
            <a:ext cx="614160" cy="758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7846920" y="1773360"/>
            <a:ext cx="662040" cy="718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7880400" y="2924280"/>
            <a:ext cx="614160" cy="758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7880400" y="4221000"/>
            <a:ext cx="614160" cy="75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989000"/>
            <a:ext cx="7127640" cy="37814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Хер меселеде кендини ьорнек оларак гьост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йи ишлерде</a:t>
            </a:r>
            <a:r>
              <a:rPr b="0" lang="tr-TR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дюрюстлюк ичинде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ьоретирмек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аърбашлъ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 олма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уйгун сьозлерле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, хани ьойле сьозлерле, хич кимсе онлара маана булмасъ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ьойле ки, каршъ гелен киши сенден ичин кьотю конушаджак бир шей булмасън ве утансъ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1452600"/>
            <a:ext cx="712764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Титус 2:7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1800" y="2198520"/>
            <a:ext cx="4030560" cy="36291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Ь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Оретишимизин асъл максадъ севгид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темиз бир йюр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ийи бир виджд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ве икийюзлю олмаян бир имандан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гелен севг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и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1800" y="1662120"/>
            <a:ext cx="403056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1.Тимотейус 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12000" y="2708280"/>
            <a:ext cx="2089080" cy="211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440" y="2076480"/>
            <a:ext cx="4246560" cy="30200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Шу сьоз чок дорудур, херкес лазъм ону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кабул етсин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Месих Иса йерйюзюне инди гюнахкярларъ куртармак ич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Онларън ен кьотюсю гене беним.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440" y="1539720"/>
            <a:ext cx="424656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1.Тимотейус 1: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3557880" cy="325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2720" y="1933560"/>
            <a:ext cx="3454560" cy="2654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Ама дюняджа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коджакаръ масалларънъ хич кабул ет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Сен гене кендини Аллах коркусунда илерлетир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2720" y="1397160"/>
            <a:ext cx="345456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1.Тимотейус 4: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427640" y="2637000"/>
            <a:ext cx="4284720" cy="3235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11640" y="2421000"/>
            <a:ext cx="4753080" cy="360036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211640" y="2492280"/>
            <a:ext cx="4681440" cy="352908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2720" y="1933560"/>
            <a:ext cx="3743280" cy="3751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Хич кимсе сени генчлиинден ичин хор гьормесин. Ама иманлъла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конушм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давранм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севг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иманда 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арънма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ьорнек ол.</a:t>
            </a: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2720" y="1397160"/>
            <a:ext cx="374328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1.Тимотейус 4: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0" y="2427120"/>
            <a:ext cx="4392720" cy="3459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0" y="5591160"/>
            <a:ext cx="4392720" cy="100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Гюдюджю, геледжек кушак иманлъларънън калъбъдър. Хепси онун копясъ оладжакл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413000"/>
            <a:ext cx="9144000" cy="14346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tr-TR" sz="2200" spc="-1" strike="noStrike">
                <a:solidFill>
                  <a:srgbClr val="ffcc00"/>
                </a:solidFill>
                <a:latin typeface="Arial"/>
              </a:rPr>
              <a:t>Ама мемнунлук гетирип Аллах йолунда йюрюмек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cc00"/>
                </a:solidFill>
                <a:latin typeface="Arial"/>
              </a:rPr>
              <a:t>аслънда бюйюк казанч будур. Чюнкю 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дюняя хичбир шей гетирмедик, </a:t>
            </a:r>
            <a:r>
              <a:rPr b="0" lang="tr-TR" sz="2200" spc="-1" strike="noStrike">
                <a:solidFill>
                  <a:srgbClr val="ffcc00"/>
                </a:solidFill>
                <a:latin typeface="Arial"/>
              </a:rPr>
              <a:t>не де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 бурадан бир шей гьотюремейеджез</a:t>
            </a:r>
            <a:r>
              <a:rPr b="0" lang="tr-TR" sz="22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cc00"/>
                </a:solidFill>
                <a:latin typeface="Arial"/>
              </a:rPr>
              <a:t>Йийеджеимиз вар мъ, гийеджеимиз вар мъ - о кадар йетер бизе.</a:t>
            </a:r>
            <a:r>
              <a:rPr b="0" lang="bg-BG" sz="2200" spc="-1" strike="noStrike">
                <a:solidFill>
                  <a:srgbClr val="ffcc00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7080" y="876240"/>
            <a:ext cx="468000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1.Тимотейус 6:6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74920" y="2924280"/>
            <a:ext cx="2665440" cy="3933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788000" y="2924280"/>
            <a:ext cx="2649600" cy="39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2205000"/>
            <a:ext cx="3454560" cy="11912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Ей Тимотейус, сана верилен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еманети колла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!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668600"/>
            <a:ext cx="345456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1.Тимотейус 6: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2683080" cy="474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1800" y="2006640"/>
            <a:ext cx="3598920" cy="1922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Онун ичин ей евладъм, Месих Иса’да булунан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мерхаметле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куветлен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1800" y="1469880"/>
            <a:ext cx="35989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2.Тимотейус 2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143680" y="1698480"/>
            <a:ext cx="3389040" cy="439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1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9e3c06"/>
                </a:solidFill>
                <a:latin typeface="Arial Black"/>
              </a:rPr>
              <a:t>Павлус’тан гюдюджюлере акъ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205000"/>
            <a:ext cx="4824360" cy="3476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Бирчок шахитлерин ьонюнде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бенден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чок шейлер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ишиттин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Бунларъ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садикан кишилере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 еманет 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Ве онлар да бунларъ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башкаларъна</a:t>
            </a:r>
            <a:r>
              <a:rPr b="1" lang="tr-TR" sz="2400" spc="-1" strike="noStrike">
                <a:solidFill>
                  <a:srgbClr val="ffcc00"/>
                </a:solidFill>
                <a:latin typeface="Arial"/>
              </a:rPr>
              <a:t> ьоретирмейе хазър олсунлар.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668600"/>
            <a:ext cx="482436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9999"/>
                </a:solidFill>
                <a:latin typeface="Arial"/>
              </a:rPr>
              <a:t>2.Тимотейус 2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35640" y="2276640"/>
            <a:ext cx="3384360" cy="2687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867280" y="5059440"/>
            <a:ext cx="26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99"/>
                </a:solidFill>
                <a:latin typeface="Times New Roman"/>
              </a:rPr>
              <a:t>Дьорт ку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65440" y="3357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33cc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10160" y="2781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9933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18520" y="4437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cc66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18160" y="450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cc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37:29Z</dcterms:created>
  <dc:creator>Windows XP</dc:creator>
  <dc:description/>
  <dc:language>en-US</dc:language>
  <cp:lastModifiedBy>PC</cp:lastModifiedBy>
  <dcterms:modified xsi:type="dcterms:W3CDTF">2007-11-28T16:33:04Z</dcterms:modified>
  <cp:revision>94</cp:revision>
  <dc:subject/>
  <dc:title>Иса иле килисе ичин бензетмелер</dc:title>
</cp:coreProperties>
</file>