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923-F392-49D5-9984-F3A36C5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3A4-B72F-4D65-94C0-69EE820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B03-89F1-4C7F-A143-01046D02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352-0E12-45C4-A6F0-E36EA8B1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BAE-92D9-40F7-9145-458B196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444-B5E1-4C9D-805B-FFA2BFF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FDA-CD9F-4584-9280-C7DAE48B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DC5-B105-4405-A25A-79BFE2A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EC1-B504-4398-B1A2-D5439FF2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76A-5DEA-4F13-BF05-E2FF8BF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4F6-634D-4816-8F90-CE7A1B3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AC1-215C-463A-84C4-D5EC4B9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429D-BBFC-488C-B4F1-BB54BFBE31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БИР гьорев – ЮЧ 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00" y="1197000"/>
            <a:ext cx="5040000" cy="5040360"/>
            <a:chOff x="324000" y="1197000"/>
            <a:chExt cx="5040000" cy="5040360"/>
          </a:xfrm>
        </p:grpSpPr>
        <p:sp>
          <p:nvSpPr>
            <p:cNvPr id="43" name=""/>
            <p:cNvSpPr/>
            <p:nvPr/>
          </p:nvSpPr>
          <p:spPr>
            <a:xfrm>
              <a:off x="324000" y="1197000"/>
              <a:ext cx="5040000" cy="504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71640" y="3645000"/>
              <a:ext cx="201564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828000" y="3645000"/>
              <a:ext cx="1942920" cy="15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771640" y="1197000"/>
              <a:ext cx="0" cy="24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27280" y="27082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0600" y="505944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ПРЕСДВИТЕРОС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5200" y="2708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‘</a:t>
            </a: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ИСКОПОС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5080" y="1341360"/>
            <a:ext cx="3021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ff"/>
                </a:solidFill>
                <a:uFillTx/>
                <a:latin typeface="Arial"/>
              </a:rPr>
              <a:t>Ики ьонемли айет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1.Петрус 5: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 Апо 20:17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1640" y="316080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чо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ПРЕСВИТЕ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даа яшлъ о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СИКОП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= гьозетмен, ише ба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497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ш дюнясъндан бир ьорнек:  ГЛОБУЛ фирм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2001’де курулду ве 7 сенеде ен бюйюк тел. оператору олду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(4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милион мющери)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ccff"/>
                </a:solidFill>
                <a:latin typeface="Arial"/>
              </a:rPr>
              <a:t>2007 сенесинде пиясънън 40% контрол ед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) </a:t>
            </a:r>
            <a:r>
              <a:rPr b="1" lang="bg-BG" sz="3200" spc="-1" strike="noStrike">
                <a:solidFill>
                  <a:srgbClr val="cc3300"/>
                </a:solidFill>
                <a:latin typeface="Arial"/>
              </a:rPr>
              <a:t>Хедеф койдулар: геледжек сене ичинде 15% бюйюме олс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16000" y="3548160"/>
            <a:ext cx="2811600" cy="2644560"/>
            <a:chOff x="1116000" y="3548160"/>
            <a:chExt cx="2811600" cy="264456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116000" y="3548160"/>
              <a:ext cx="258912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694160" y="52750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tel (5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1440" y="392724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GLOB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(4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62520" y="42670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v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1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57880" y="3548160"/>
            <a:ext cx="2596320" cy="2612880"/>
            <a:chOff x="5357880" y="3548160"/>
            <a:chExt cx="2596320" cy="26128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357880" y="3548160"/>
              <a:ext cx="256860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720760" y="52750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tel (38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1320" y="3908160"/>
              <a:ext cx="114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GLOB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(55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89120" y="513216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v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7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45360" y="63309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0760" y="6356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4699080"/>
            <a:ext cx="1295280" cy="5047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98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6600"/>
                </a:solidFill>
                <a:latin typeface="Arial"/>
              </a:rPr>
              <a:t>2) Стратегия сечтил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) даа фазла генч мющерилере диккат верилсин  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) Мющерилер ваучерлерден айлък хесаплара гечирил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056" t="6470" r="7858" b="3331"/>
          <a:stretch/>
        </p:blipFill>
        <p:spPr>
          <a:xfrm>
            <a:off x="1187280" y="4508640"/>
            <a:ext cx="6336000" cy="201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002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 rot="5400000">
            <a:off x="5327640" y="3249360"/>
            <a:ext cx="1152360" cy="93672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4" stAng="10800000" swAng="5400000"/>
                <a:lnTo>
                  <a:pt x="15024" y="3246"/>
                </a:lnTo>
                <a:lnTo>
                  <a:pt x="15024" y="0"/>
                </a:lnTo>
                <a:lnTo>
                  <a:pt x="21600" y="6079"/>
                </a:lnTo>
                <a:lnTo>
                  <a:pt x="15024" y="12158"/>
                </a:lnTo>
                <a:lnTo>
                  <a:pt x="15024" y="8912"/>
                </a:lnTo>
                <a:lnTo>
                  <a:pt x="12427" y="8912"/>
                </a:lnTo>
                <a:arcTo wR="6761" hR="3248" stAng="16200000" swAng="-5400000"/>
                <a:lnTo>
                  <a:pt x="5666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90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12536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3) Ишчилерини харекете гечирди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Иш моралъна диккат едийорлар – деил садедже пара вермекле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052640"/>
            <a:ext cx="88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GLOBUL ПРАЗНУВА 7-МИ РОЖДЕН ДЕН В НЕБЕТО НАД СОФИЯ  18-09-200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„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Да се срещнем на върха” покани GLOBUL своите служители, партньори и представителите на медиите по повод отбелязването на 7-мата годишнина на мобилния оператор. Поради символиката на годишнината компанията реши да провокира гостите си с уникално преживяване – „Вечеря в небето”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7087" b="0"/>
          <a:stretch/>
        </p:blipFill>
        <p:spPr>
          <a:xfrm>
            <a:off x="4788000" y="2952720"/>
            <a:ext cx="4248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0920" y="2565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За първи път в България, в центъра на столицата, до храм-паметник „Александър Невски”, бе издигната нашумялата в света конструкция за ресторант във въздуха. Специална платформа, изградена под формата на маса за вечеря за 22 души, се издига с помощта на мощен кран на височина 50 метра във въздуха. От там гостите на тридневното тържество, между 18 и 20 септември, по случай рождения ден на GLOBUL ще се наслаждават на панорамата на столичния град в компанията на своите домак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125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4) Кишилери йетиштирд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шчи варкен, 200 даха алдълар ве йетиштирдилер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00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шчи ол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500280"/>
            <a:ext cx="1368360" cy="2378160"/>
          </a:xfrm>
          <a:prstGeom prst="can">
            <a:avLst>
              <a:gd name="adj" fmla="val 18625"/>
            </a:avLst>
          </a:prstGeom>
          <a:gradFill rotWithShape="0">
            <a:gsLst>
              <a:gs pos="0">
                <a:srgbClr val="2d0000"/>
              </a:gs>
              <a:gs pos="50000">
                <a:srgbClr val="cc0000"/>
              </a:gs>
              <a:gs pos="100000">
                <a:srgbClr val="2d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000 иш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2997360"/>
            <a:ext cx="1368360" cy="2954160"/>
          </a:xfrm>
          <a:prstGeom prst="can">
            <a:avLst>
              <a:gd name="adj" fmla="val 17787"/>
            </a:avLst>
          </a:prstGeom>
          <a:gradFill rotWithShape="0">
            <a:gsLst>
              <a:gs pos="0">
                <a:srgbClr val="0f0c00"/>
              </a:gs>
              <a:gs pos="50000">
                <a:srgbClr val="ffcc00"/>
              </a:gs>
              <a:gs pos="100000">
                <a:srgbClr val="0f0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200 иш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2560" y="5011560"/>
            <a:ext cx="1944720" cy="505080"/>
          </a:xfrm>
          <a:custGeom>
            <a:avLst/>
            <a:gdLst>
              <a:gd name="textAreaLeft" fmla="*/ 303840 w 1944720"/>
              <a:gd name="textAreaRight" fmla="*/ 1747440 w 1944720"/>
              <a:gd name="textAreaTop" fmla="*/ 127080 h 505080"/>
              <a:gd name="textAreaBottom" fmla="*/ 37800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34"/>
                </a:moveTo>
                <a:lnTo>
                  <a:pt x="17189" y="5434"/>
                </a:lnTo>
                <a:lnTo>
                  <a:pt x="17189" y="0"/>
                </a:lnTo>
                <a:lnTo>
                  <a:pt x="21600" y="10800"/>
                </a:lnTo>
                <a:lnTo>
                  <a:pt x="17189" y="21600"/>
                </a:lnTo>
                <a:lnTo>
                  <a:pt x="17189" y="16166"/>
                </a:lnTo>
                <a:lnTo>
                  <a:pt x="3375" y="16166"/>
                </a:lnTo>
                <a:close/>
              </a:path>
              <a:path w="21600" h="21600">
                <a:moveTo>
                  <a:pt x="0" y="5434"/>
                </a:moveTo>
                <a:lnTo>
                  <a:pt x="675" y="5434"/>
                </a:lnTo>
                <a:lnTo>
                  <a:pt x="675" y="16166"/>
                </a:lnTo>
                <a:lnTo>
                  <a:pt x="0" y="16166"/>
                </a:lnTo>
                <a:close/>
              </a:path>
              <a:path w="21600" h="21600">
                <a:moveTo>
                  <a:pt x="1350" y="5434"/>
                </a:moveTo>
                <a:lnTo>
                  <a:pt x="2700" y="5434"/>
                </a:lnTo>
                <a:lnTo>
                  <a:pt x="2700" y="16166"/>
                </a:lnTo>
                <a:lnTo>
                  <a:pt x="1350" y="1616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8160" y="60930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800" y="60930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2389320" cy="29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лер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5) Бюйюмейи контрол етт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- Мухасебеджилер (счетоводители) хер 3 ай статистискаларъ ве репорларъ хазърлъйорлар. Айръджа мющерилерле интервюлар япъл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9869" t="0" r="6540" b="0"/>
          <a:stretch/>
        </p:blipFill>
        <p:spPr>
          <a:xfrm>
            <a:off x="4572000" y="3068640"/>
            <a:ext cx="3600360" cy="3352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3598560" cy="33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1 гьорев – 3 ад</a:t>
            </a:r>
            <a:r>
              <a:rPr b="1" lang="el-GR" sz="4000" spc="-1" strike="noStrike">
                <a:solidFill>
                  <a:srgbClr val="99ccff"/>
                </a:solidFill>
                <a:latin typeface="Garamond"/>
              </a:rPr>
              <a:t> (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ики ьонемли айе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ОЙМЕ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</a:rPr>
              <a:t>ποιμεν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ПРЕСВИТЕРОС </a:t>
            </a:r>
            <a:r>
              <a:rPr b="1" lang="el-GR" sz="2400" spc="-1" strike="noStrike">
                <a:solidFill>
                  <a:srgbClr val="ff9900"/>
                </a:solidFill>
                <a:latin typeface="Arial"/>
              </a:rPr>
              <a:t> (πρεσβιτεροσ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ЕПСИКОПОС</a:t>
            </a:r>
            <a:r>
              <a:rPr b="1" lang="el-GR" sz="2400" spc="-1" strike="noStrike">
                <a:solidFill>
                  <a:srgbClr val="6699ff"/>
                </a:solidFill>
                <a:latin typeface="Arial"/>
              </a:rPr>
              <a:t> (επισκοπο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920" y="1844640"/>
            <a:ext cx="42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1Pe 5:1-2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Πρεσβυτέρ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οὺς ἐν ὑμῖν παρακαλῶ ὁ συμπρεσβύτερος καὶ μάρτυς τῶν τοῦ Χριστοῦ παθημάτων, ὁ καὶ τῆς μελλούσης ἀποκαλύπτεσθαι δόξης κοινωνός,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ποιμάνατ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ὸ ἐν ὑμῖν ποίμνιον τοῦ Θεοῦ, 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ἐπισκοποῦντε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μὴ ἀναγκαστῶς ἀλλ᾿ ἑκουσίως, μηδὲ αἰσχροκερδῶς ἀλλὰ προθύμω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67120" y="1865160"/>
            <a:ext cx="419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по 20:17,28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᾿Απὸ δὲ τῆς Μιλήτου πέμψας εἰς ῎Εφεσον μετεκαλέσατο τοὺς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πρεσβυτέρ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ῆς ἐκκλησί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προσέχετε οὖν ἑαυτοῖς καὶ παντὶ τῷ ποιμνίῳ, ἐν ᾧ ὑμᾶς τὸ Πνεῦμα τὸ ῞Αγιον ἔθετο </a:t>
            </a:r>
            <a:r>
              <a:rPr b="0" lang="bg-BG" sz="2400" spc="-1" strike="noStrike">
                <a:solidFill>
                  <a:srgbClr val="6699ff"/>
                </a:solidFill>
                <a:latin typeface="Arial"/>
              </a:rPr>
              <a:t>ἐπισκόπους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ποιμαίνειν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τὴν ἐκκλησίαν τοῦ Θεοῦ, ἣν περιποιήσατο διὰ τοῦ ἰδίου αἵματο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628640"/>
            <a:ext cx="0" cy="522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ЧОБАН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25360"/>
            <a:ext cx="6769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Бир чобанън йюр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змур 78:70-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лу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вуд’у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сеч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лдъ ону бир койун аълън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мзикли койунларън ардъндан чаърдъ о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отлатсън дийе кенди халкъ олан Якуб’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мирасъ олан Исраил’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Бьойледже дору йюрекли бир чобан гиб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гюттю Давуд онларъ, уста бир ел иле.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ън ишини герекли кълан койунларън зайъфлъкларъд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зулар хепси сърада олса, чобана иш к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ЧОБАН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чобан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ашкасъ сана о джанларъ еманет ед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484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ъ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шилерин юзерине – онлар ийи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637080"/>
            <a:ext cx="78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Чобан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раж ве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 кейфине бак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шилер она терс даврандъ мъ, о ташъябил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ИХТИЯ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ъ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341360"/>
            <a:ext cx="820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ихтияр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отоматик оларак, рухсал яшамънда девам ет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рухсал теджрюбелер казан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ман адъмларъ ат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193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хтияръ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синде: Раббе бензер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34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хтияр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рнек олма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268280"/>
            <a:ext cx="820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Топлулук башка организасйонлара бенз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лазъм организиран олс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епископ’ оларак лазъм хер змана билелим: “Ким не заман нереде лазъм олсун ве не иш япсън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зим ичин чок зор: махалледе хер шей сон секундада белли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ючюк сайдъъмъз олайларда инсан карактери белли олуйр (синир, ьофке, аф етмемез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ама ийи организе едилмиш олайлар махалледе бюйюк шахитлик олу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341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Насъл йьоентиджи олуну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даа кючюк ишлери башарълъ бити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4922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Йьонетиджинин диккати нере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илисенин иши йюрюсю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645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Йьонетиджи насъл чалъшъй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ьондже кендиси япъйор, сонра башка иманлълара яптър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ЙЬОНЕТИДЖИ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9079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Мемур  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иле</a:t>
            </a: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менеджъ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59236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6323" t="0" r="3921" b="0"/>
          <a:stretch/>
        </p:blipFill>
        <p:spPr>
          <a:xfrm>
            <a:off x="755640" y="1557360"/>
            <a:ext cx="2592360" cy="20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3716280"/>
            <a:ext cx="4032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садедже верилен иши тамамламая бак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хазър кураллара 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она сакинлик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деишиклик япмак проблем ярат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онун иши кят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2920" y="3768840"/>
            <a:ext cx="489600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енди кендине иш верийор ве ону битир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уралларъ кендиси дизи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она хейеджан лаз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деишиклик япмактан коркм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9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онун иши инсанла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бир </a:t>
            </a:r>
            <a:r>
              <a:rPr b="1" lang="bg-BG" sz="4000" spc="-1" strike="noStrike">
                <a:solidFill>
                  <a:srgbClr val="dddddd"/>
                </a:solidFill>
                <a:latin typeface="Garamond"/>
              </a:rPr>
              <a:t>МЕНЕДЖЪР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д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850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bg-BG" sz="3200" spc="-1" strike="noStrike">
                <a:solidFill>
                  <a:srgbClr val="cc0000"/>
                </a:solidFill>
                <a:latin typeface="Arial"/>
              </a:rPr>
              <a:t>Хедефлер сеч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3200" spc="-1" strike="noStrike">
                <a:solidFill>
                  <a:srgbClr val="ff0000"/>
                </a:solidFill>
                <a:latin typeface="Arial"/>
              </a:rPr>
              <a:t>2. Стратегияйъ сеч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bg-BG" sz="3200" spc="-1" strike="noStrike">
                <a:solidFill>
                  <a:srgbClr val="ff6600"/>
                </a:solidFill>
                <a:latin typeface="Arial"/>
              </a:rPr>
              <a:t>3. Харекете гечи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bg-BG" sz="3200" spc="-1" strike="noStrike">
                <a:solidFill>
                  <a:srgbClr val="cccc00"/>
                </a:solidFill>
                <a:latin typeface="Arial"/>
              </a:rPr>
              <a:t>4. Кишилери йетиштири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5. Илерлемейи ьолчюй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16800" y="4940280"/>
            <a:ext cx="123192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3907" t="0" r="22228" b="3541"/>
          <a:stretch/>
        </p:blipFill>
        <p:spPr>
          <a:xfrm>
            <a:off x="3943440" y="4940280"/>
            <a:ext cx="1349280" cy="158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14715" t="0" r="15787" b="0"/>
          <a:stretch/>
        </p:blipFill>
        <p:spPr>
          <a:xfrm>
            <a:off x="1979640" y="4940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11376" t="0" r="0" b="9123"/>
          <a:stretch/>
        </p:blipFill>
        <p:spPr>
          <a:xfrm>
            <a:off x="525600" y="4940280"/>
            <a:ext cx="12380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rcRect l="9459" t="0" r="0" b="0"/>
          <a:stretch/>
        </p:blipFill>
        <p:spPr>
          <a:xfrm>
            <a:off x="5508720" y="4940280"/>
            <a:ext cx="180000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092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528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5659560"/>
            <a:ext cx="647640" cy="21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2T05:50:51Z</dcterms:modified>
  <cp:revision>389</cp:revision>
  <dc:subject/>
  <dc:title>Иса иле килисе ичин бензетмелер</dc:title>
</cp:coreProperties>
</file>