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5CC-BBD7-47A8-88E2-BE4E4D35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0CE-4322-4E7E-B0A0-41D3B17D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B97-66CD-4630-91B7-B39E46EA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E27-1DCE-4110-BC65-2622DA4B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80EE-EFBD-4201-88A5-26C2C0E8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79A-3C50-4614-BC81-CCEFA25D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E512-1BC0-4583-9707-F9E0572A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FC3-903E-4754-838F-172623F4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65C0-1234-485A-B921-48761BAD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DFC-972B-42D2-A085-CB497F63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1E4-B436-41CD-B81E-44348854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7CF-F49D-4833-A377-76D42EAB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35B4-CF84-4079-86AF-D0C30F7789E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24240" y="4797360"/>
            <a:ext cx="552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Verdana"/>
              </a:rPr>
              <a:t>Гюдюджюлерин ьорне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073160"/>
            <a:ext cx="396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лисенин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2297160"/>
            <a:ext cx="4508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ши недир?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89280" y="2822400"/>
            <a:ext cx="1771560" cy="1684440"/>
          </a:xfrm>
          <a:prstGeom prst="star5">
            <a:avLst/>
          </a:prstGeom>
          <a:gradFill rotWithShape="0">
            <a:gsLst>
              <a:gs pos="0">
                <a:srgbClr val="b9b9b9">
                  <a:alpha val="59215"/>
                </a:srgbClr>
              </a:gs>
              <a:gs pos="50000">
                <a:srgbClr val="ffffff">
                  <a:alpha val="35294"/>
                </a:srgbClr>
              </a:gs>
              <a:gs pos="100000">
                <a:srgbClr val="b9b9b9">
                  <a:alpha val="59215"/>
                </a:srgbClr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Килисенин иши нед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10200" y="22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60600" y="3365640"/>
            <a:ext cx="1229040" cy="1380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29000" y="2546280"/>
            <a:ext cx="1189080" cy="122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579920" y="2549520"/>
            <a:ext cx="1177920" cy="1228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579920" y="3421080"/>
            <a:ext cx="122868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822840" y="3772080"/>
            <a:ext cx="1442880" cy="1228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2199960" y="4743360"/>
            <a:ext cx="1625400" cy="21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-360" y="2143080"/>
            <a:ext cx="3435480" cy="12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602240" y="767880"/>
            <a:ext cx="936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56400" y="2419200"/>
            <a:ext cx="3387600" cy="9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64280" y="4797360"/>
            <a:ext cx="1317600" cy="20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1000" y="9810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99cc00"/>
                </a:solidFill>
                <a:latin typeface="Arial"/>
              </a:rPr>
              <a:t>ТАПЪН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4520" y="50846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6666ff"/>
                </a:solidFill>
                <a:latin typeface="Arial"/>
              </a:rPr>
              <a:t>БЕРАБЕР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89240" y="614196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cc99"/>
                </a:solidFill>
                <a:latin typeface="Arial"/>
              </a:rPr>
              <a:t>ДУ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5040" y="508464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МЮЖДЕЛ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79960" y="98100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ЬОРЕТИ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rcRect l="3411" t="2730" r="3411" b="5050"/>
          <a:stretch/>
        </p:blipFill>
        <p:spPr>
          <a:xfrm>
            <a:off x="1617840" y="1600200"/>
            <a:ext cx="1514160" cy="965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3878280" y="5157720"/>
            <a:ext cx="1414440" cy="93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471600" y="3932280"/>
            <a:ext cx="1508040" cy="93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rcRect l="0" t="13374" r="0" b="8402"/>
          <a:stretch/>
        </p:blipFill>
        <p:spPr>
          <a:xfrm>
            <a:off x="7093080" y="3932280"/>
            <a:ext cx="1509480" cy="93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6012000" y="1628640"/>
            <a:ext cx="152064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2446200" y="2527200"/>
            <a:ext cx="4164120" cy="251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50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Килисенин иши нед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10200" y="22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429000" y="2546280"/>
            <a:ext cx="1189080" cy="1228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-360" y="2152800"/>
            <a:ext cx="3435480" cy="12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603320" y="767880"/>
            <a:ext cx="972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1000" y="9810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99cc00"/>
                </a:solidFill>
                <a:latin typeface="Arial"/>
              </a:rPr>
              <a:t>ТАПЪН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rcRect l="3411" t="2730" r="3411" b="5050"/>
          <a:stretch/>
        </p:blipFill>
        <p:spPr>
          <a:xfrm>
            <a:off x="1617840" y="1600200"/>
            <a:ext cx="1514160" cy="965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3716280"/>
            <a:ext cx="446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1. ЬОвмек, тешеккюр етм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Раббе САДЕ тешекюр едерек дуа етмек – хич бир нуждаджък какма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86200" y="907920"/>
            <a:ext cx="4392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2. Илахи сьойлем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Илахи сьойлеркен онун сьозлерини дюшюнюйор муйу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Йоника ве песнарка олмадан кач илахи сьойлейебилири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2798640"/>
            <a:ext cx="4209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. Раббе сайгъ гьостерм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атедрала я да джамийе гирсек, сайгълъ давранъйоруз.  Я бизим топлантъмъзда неден олмасъ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Топлантъда конушмак, сакъз чийнемек, сък сък къра чъкм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000" y="5229360"/>
            <a:ext cx="8433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4. Тапънма кейфимизе я да дуйгуларъмъза калмъ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а. Рухсал гиземлер (вафтиз + Раббин софрасъ) буйрук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. Мемзур 29:2 – Раббин характери тапънмамъзъ ярат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в. Ром 12:1 – бютюн хаятъмъз бир тапънма олмал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Килисенин иши нед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10200" y="22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9920" y="2549520"/>
            <a:ext cx="1177920" cy="1228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 flipV="1">
            <a:off x="4600080" y="767880"/>
            <a:ext cx="972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756400" y="2438280"/>
            <a:ext cx="3387600" cy="9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79960" y="98100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00"/>
                </a:solidFill>
                <a:latin typeface="Arial"/>
              </a:rPr>
              <a:t>ЬОРЕТИ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12000" y="1628640"/>
            <a:ext cx="1520640" cy="93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907920"/>
            <a:ext cx="38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по 2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Онлар кендилерини дурмадакка апостолларън ьоретишине, бераберлие, екмек кърмая ве дуая верирдилер.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200" y="2852640"/>
            <a:ext cx="4681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1. ‘Апостолларън ьоретиши’ бугюн Инджил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Ен гюзел топлулук янлъш ьоретише сапарса файда й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579920"/>
            <a:ext cx="4681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2. Вааздан башка метод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нджил дерсл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ъзан дерсл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Тек тек дерс верм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Йени методл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Килисенин иши нед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10200" y="22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9920" y="3421080"/>
            <a:ext cx="122868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5756400" y="2419200"/>
            <a:ext cx="3387600" cy="9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64280" y="4797360"/>
            <a:ext cx="1317600" cy="20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5040" y="508464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0000"/>
                </a:solidFill>
                <a:latin typeface="Arial"/>
              </a:rPr>
              <a:t>МЮЖДЕЛ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rcRect l="0" t="13374" r="0" b="8402"/>
          <a:stretch/>
        </p:blipFill>
        <p:spPr>
          <a:xfrm>
            <a:off x="7093080" y="3932280"/>
            <a:ext cx="1509480" cy="931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5400" y="1052640"/>
            <a:ext cx="8960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1. Махалледе санки мюжделеме кендилиинден ол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йи ишлейен топлантъ ен бюйюк евангел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ама бу артък йетерли олмаяджак, махалледе илишкилер деиш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гиттикче даа фазла мюслюманлъкла урашмак зорунда каладж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2583000"/>
            <a:ext cx="4916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00"/>
                </a:solidFill>
                <a:latin typeface="Arial"/>
              </a:rPr>
              <a:t>2. “Бютюн дюняя гидин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Махаллемиз бютюн дюня деилд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етрафтаки кьойлер, БГ’ън башка херлери, башка девлетле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Килисенин иши нед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10200" y="22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22840" y="3772080"/>
            <a:ext cx="1442880" cy="1228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>
            <a:off x="2199960" y="4743360"/>
            <a:ext cx="1625400" cy="21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64280" y="4797360"/>
            <a:ext cx="1317600" cy="20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89240" y="614196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cc99"/>
                </a:solidFill>
                <a:latin typeface="Arial"/>
              </a:rPr>
              <a:t>ДУ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878280" y="5157720"/>
            <a:ext cx="1414440" cy="935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1125360"/>
            <a:ext cx="835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99"/>
                </a:solidFill>
                <a:latin typeface="Arial"/>
              </a:rPr>
              <a:t>1. Дуанън чешитлери 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тапънма, шюкран, истеклер, тьовбе, шефа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162160"/>
            <a:ext cx="88930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99"/>
                </a:solidFill>
                <a:latin typeface="Arial"/>
              </a:rPr>
              <a:t>2. Дуа иле кяхинлик гьоревимизи йерине гетирийор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1.Петрус 2: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Аллах рухча бир ев калдъръйор. Сиз де, о евин ичинде дири ташлар олун. ЬОйле ки, бир кутсал гьоревлилер грубу оласънъз ве рухча курбанлар гетиресиниз. Онлар Иса Месихин елийле Аллаха макбул олуйорлар.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3933720"/>
            <a:ext cx="33843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99"/>
                </a:solidFill>
                <a:latin typeface="Arial"/>
              </a:rPr>
              <a:t>3. Ибрахимин ьорн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Яратълъш 18:22-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Раб ески гьореви калдъръп ону башкасъна ве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4005360"/>
            <a:ext cx="25923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99"/>
                </a:solidFill>
                <a:latin typeface="Arial"/>
              </a:rPr>
              <a:t>4. Бизде насъл дуа едилий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ашка методлар: зинджир дуасъ, йюрюйюшлер, дуа ешлери, теле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Килисенин иши нед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10200" y="22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360600" y="3365640"/>
            <a:ext cx="1229040" cy="1380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2199960" y="4743360"/>
            <a:ext cx="1625400" cy="21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-360" y="2143080"/>
            <a:ext cx="3435480" cy="12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4520" y="50846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6666ff"/>
                </a:solidFill>
                <a:latin typeface="Arial"/>
              </a:rPr>
              <a:t>БЕРАБЕР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71600" y="3932280"/>
            <a:ext cx="1508040" cy="936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90560" y="981000"/>
            <a:ext cx="8353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1. Килисе йени ханемиз олу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Ибрахим гиби ески баалантъларъ кесийоруз – йени аиле казанъйоруз – Маркос 10:29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танъшмак, долашмак, аркадаш олм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0360" y="4653000"/>
            <a:ext cx="45590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3. Р. софрасъ бераберлиин семб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“агапе софрасъ” (кардеш софрасъ) хеп чпълърдъ, хич башка себеп йокк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2633760"/>
            <a:ext cx="496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99ff"/>
                </a:solidFill>
                <a:latin typeface="Arial"/>
              </a:rPr>
              <a:t>2. Ярдъм етм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Йени Ахит: дул кадънлар, 1.Тим 5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парамъз фазла олунджа ийилик япмак азал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asd</cp:lastModifiedBy>
  <dcterms:modified xsi:type="dcterms:W3CDTF">2008-11-23T23:02:39Z</dcterms:modified>
  <cp:revision>376</cp:revision>
  <dc:subject/>
  <dc:title>Иса иле килисе ичин бензетмелер</dc:title>
</cp:coreProperties>
</file>