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E798-52E4-475D-A6CF-70237E7C3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C975-72CB-495F-9A92-3383ED8F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6AA2-3B79-4F81-988D-CFBA11DF9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D681-B24C-4CC5-BD39-B2C6C1D78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944C-4651-4B84-934D-F919BD05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901D-46BD-438B-97B1-7F3A767F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70F0-B505-4C82-B5FB-A01F1139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CBC8-2E3E-4F57-8954-A9218804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1266-D27C-4666-A8D6-F053DA98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25B2-F648-47F0-89DC-E86C330B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85B1-AD4C-45FC-9962-A8C0345E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5ECE-7665-4A1B-B364-D8B6B932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D25B-492D-49A2-8F3F-2D6DA9115B6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41156" t="28353" r="0" b="0"/>
          <a:stretch/>
        </p:blipFill>
        <p:spPr>
          <a:xfrm>
            <a:off x="0" y="765000"/>
            <a:ext cx="3949560" cy="6093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rot="1152600">
            <a:off x="323280" y="1978200"/>
            <a:ext cx="2278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bg-BG" sz="4000" spc="-1" strike="noStrike">
                <a:solidFill>
                  <a:srgbClr val="ffff00"/>
                </a:solidFill>
                <a:latin typeface="Arial"/>
              </a:rPr>
              <a:t>Деил БЕН, ама БИЗ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лер ичин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10 ем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9080" y="1101600"/>
            <a:ext cx="4319640" cy="55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Aft>
                <a:spcPts val="1500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Анджак бирлик ичинде чалъштък мъ, Раб де ишлейед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1500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ЬОндже ьобюр гюдюджюлерле айнъ фикире геледжез, сонра о иши япадж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1500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Енгеллер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бюйюк олмак хърс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кишилери кендимизе баалам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късканчлъ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анвон хасталъ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656720" y="945720"/>
            <a:ext cx="1150200" cy="1149840"/>
            <a:chOff x="1656720" y="945720"/>
            <a:chExt cx="1150200" cy="1149840"/>
          </a:xfrm>
        </p:grpSpPr>
        <p:sp>
          <p:nvSpPr>
            <p:cNvPr id="46" name=""/>
            <p:cNvSpPr/>
            <p:nvPr/>
          </p:nvSpPr>
          <p:spPr>
            <a:xfrm rot="915600">
              <a:off x="1763280" y="1052280"/>
              <a:ext cx="936720" cy="936360"/>
            </a:xfrm>
            <a:custGeom>
              <a:avLst/>
              <a:gdLst>
                <a:gd name="textAreaLeft" fmla="*/ 213840 w 936720"/>
                <a:gd name="textAreaRight" fmla="*/ 722880 w 936720"/>
                <a:gd name="textAreaTop" fmla="*/ 213840 h 936360"/>
                <a:gd name="textAreaBottom" fmla="*/ 7225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20d00"/>
                </a:gs>
                <a:gs pos="50000">
                  <a:srgbClr val="ff3300"/>
                </a:gs>
                <a:gs pos="100000">
                  <a:srgbClr val="420d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915600">
              <a:off x="1979280" y="12045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Aft>
                  <a:spcPts val="22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3600" spc="-1" strike="noStrike">
                  <a:solidFill>
                    <a:srgbClr val="ccccff"/>
                  </a:solidFill>
                  <a:latin typeface="Arial"/>
                </a:rPr>
                <a:t>1.</a:t>
              </a:r>
              <a:r>
                <a:rPr b="1" lang="bg-BG" sz="36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лер ичин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10 ем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052640"/>
            <a:ext cx="8424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4 темперамент (ху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сангуин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-  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олерик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-  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меланколик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-  </a:t>
            </a:r>
            <a:r>
              <a:rPr b="1" lang="bg-BG" sz="2400" spc="-1" strike="noStrike">
                <a:solidFill>
                  <a:srgbClr val="969696"/>
                </a:solidFill>
                <a:latin typeface="Arial"/>
              </a:rPr>
              <a:t>флегма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2152800"/>
            <a:ext cx="570852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Су (ъслак – соу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Къ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сакин, колай хейеджанланмаз, чекинген, хершейе разъ гелийор, олайларъ инджелийор, кендинден мемну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сюрекли, иши сона гетири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тембел 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227640" y="3068640"/>
            <a:ext cx="2495520" cy="3108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лер ичин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10 ем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1557360"/>
            <a:ext cx="3814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ими кере конфликт олунджа анджак кърдан гелен бири ярдъм едебил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41156" t="28353" r="0" b="0"/>
          <a:stretch/>
        </p:blipFill>
        <p:spPr>
          <a:xfrm>
            <a:off x="0" y="765000"/>
            <a:ext cx="3949560" cy="6093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rot="1119600">
            <a:off x="-180720" y="1814400"/>
            <a:ext cx="33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bg-BG" sz="3600" spc="-1" strike="noStrike">
                <a:solidFill>
                  <a:srgbClr val="ffff00"/>
                </a:solidFill>
                <a:latin typeface="Arial"/>
              </a:rPr>
              <a:t>Акъл алмактан коркмая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bg-BG" sz="3600" spc="-1" strike="noStrike">
                <a:solidFill>
                  <a:srgbClr val="ffff00"/>
                </a:solidFill>
                <a:latin typeface="Arial"/>
              </a:rPr>
              <a:t>джак-сънъз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656720" y="945720"/>
            <a:ext cx="1150200" cy="1149840"/>
            <a:chOff x="1656720" y="945720"/>
            <a:chExt cx="1150200" cy="1149840"/>
          </a:xfrm>
        </p:grpSpPr>
        <p:sp>
          <p:nvSpPr>
            <p:cNvPr id="120" name=""/>
            <p:cNvSpPr/>
            <p:nvPr/>
          </p:nvSpPr>
          <p:spPr>
            <a:xfrm rot="915600">
              <a:off x="1763280" y="1052280"/>
              <a:ext cx="936720" cy="936360"/>
            </a:xfrm>
            <a:custGeom>
              <a:avLst/>
              <a:gdLst>
                <a:gd name="textAreaLeft" fmla="*/ 213840 w 936720"/>
                <a:gd name="textAreaRight" fmla="*/ 722880 w 936720"/>
                <a:gd name="textAreaTop" fmla="*/ 213840 h 936360"/>
                <a:gd name="textAreaBottom" fmla="*/ 7225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20d00"/>
                </a:gs>
                <a:gs pos="50000">
                  <a:srgbClr val="ff3300"/>
                </a:gs>
                <a:gs pos="100000">
                  <a:srgbClr val="420d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915600">
              <a:off x="1979280" y="12045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Aft>
                  <a:spcPts val="22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3600" spc="-1" strike="noStrike">
                  <a:solidFill>
                    <a:srgbClr val="ccccff"/>
                  </a:solidFill>
                  <a:latin typeface="Arial"/>
                </a:rPr>
                <a:t>6.</a:t>
              </a:r>
              <a:r>
                <a:rPr b="1" lang="bg-BG" sz="36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лер ичин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10 ем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1640" y="270828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Хер гюдюджю кенди вергисине гьоре иш япсъ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41156" t="28353" r="0" b="0"/>
          <a:stretch/>
        </p:blipFill>
        <p:spPr>
          <a:xfrm>
            <a:off x="0" y="765000"/>
            <a:ext cx="3949560" cy="6093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155000">
            <a:off x="324000" y="1844640"/>
            <a:ext cx="244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bg-BG" sz="3600" spc="-1" strike="noStrike">
                <a:solidFill>
                  <a:srgbClr val="ffff00"/>
                </a:solidFill>
                <a:latin typeface="Arial"/>
              </a:rPr>
              <a:t>Хепиниз айнъ иши япма-йън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656720" y="945720"/>
            <a:ext cx="1150200" cy="1149840"/>
            <a:chOff x="1656720" y="945720"/>
            <a:chExt cx="1150200" cy="1149840"/>
          </a:xfrm>
        </p:grpSpPr>
        <p:sp>
          <p:nvSpPr>
            <p:cNvPr id="127" name=""/>
            <p:cNvSpPr/>
            <p:nvPr/>
          </p:nvSpPr>
          <p:spPr>
            <a:xfrm rot="915600">
              <a:off x="1763280" y="1052280"/>
              <a:ext cx="936720" cy="936360"/>
            </a:xfrm>
            <a:custGeom>
              <a:avLst/>
              <a:gdLst>
                <a:gd name="textAreaLeft" fmla="*/ 213840 w 936720"/>
                <a:gd name="textAreaRight" fmla="*/ 722880 w 936720"/>
                <a:gd name="textAreaTop" fmla="*/ 213840 h 936360"/>
                <a:gd name="textAreaBottom" fmla="*/ 7225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20d00"/>
                </a:gs>
                <a:gs pos="50000">
                  <a:srgbClr val="ff3300"/>
                </a:gs>
                <a:gs pos="100000">
                  <a:srgbClr val="420d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915600">
              <a:off x="1979280" y="12045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Aft>
                  <a:spcPts val="22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3600" spc="-1" strike="noStrike">
                  <a:solidFill>
                    <a:srgbClr val="ccccff"/>
                  </a:solidFill>
                  <a:latin typeface="Arial"/>
                </a:rPr>
                <a:t>7.</a:t>
              </a:r>
              <a:r>
                <a:rPr b="1" lang="bg-BG" sz="36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лер ичин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10 ем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1628640"/>
            <a:ext cx="41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Раб сени калдърдъ, ама иши япмазсан, о башкасънъ калдърадж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гюдюджюнюн ишини ким япарса, гюдюджю одур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rcRect l="41156" t="28353" r="0" b="0"/>
          <a:stretch/>
        </p:blipFill>
        <p:spPr>
          <a:xfrm>
            <a:off x="0" y="765000"/>
            <a:ext cx="3949560" cy="6093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rot="1113600">
            <a:off x="179280" y="1844640"/>
            <a:ext cx="273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bg-BG" sz="3600" spc="-1" strike="noStrike">
                <a:solidFill>
                  <a:srgbClr val="ffff00"/>
                </a:solidFill>
                <a:latin typeface="Arial"/>
              </a:rPr>
              <a:t>Я илер-лейе-джен, я да дюше-джен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656720" y="945720"/>
            <a:ext cx="1150200" cy="1149840"/>
            <a:chOff x="1656720" y="945720"/>
            <a:chExt cx="1150200" cy="1149840"/>
          </a:xfrm>
        </p:grpSpPr>
        <p:sp>
          <p:nvSpPr>
            <p:cNvPr id="134" name=""/>
            <p:cNvSpPr/>
            <p:nvPr/>
          </p:nvSpPr>
          <p:spPr>
            <a:xfrm rot="915600">
              <a:off x="1763280" y="1052280"/>
              <a:ext cx="936720" cy="936360"/>
            </a:xfrm>
            <a:custGeom>
              <a:avLst/>
              <a:gdLst>
                <a:gd name="textAreaLeft" fmla="*/ 213840 w 936720"/>
                <a:gd name="textAreaRight" fmla="*/ 722880 w 936720"/>
                <a:gd name="textAreaTop" fmla="*/ 213840 h 936360"/>
                <a:gd name="textAreaBottom" fmla="*/ 7225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20d00"/>
                </a:gs>
                <a:gs pos="50000">
                  <a:srgbClr val="ff3300"/>
                </a:gs>
                <a:gs pos="100000">
                  <a:srgbClr val="420d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915600">
              <a:off x="1979280" y="12045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Aft>
                  <a:spcPts val="22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3600" spc="-1" strike="noStrike">
                  <a:solidFill>
                    <a:srgbClr val="ccccff"/>
                  </a:solidFill>
                  <a:latin typeface="Arial"/>
                </a:rPr>
                <a:t>8.</a:t>
              </a:r>
              <a:r>
                <a:rPr b="1" lang="bg-BG" sz="36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4427640" y="4365720"/>
            <a:ext cx="42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1Sa 15:2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Samuel, "Bugün RAB İsrail Krallığı'nı elinden aldı ve senden daha iyi birine verdi" ded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лер ичин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10 ем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00720" y="2060640"/>
            <a:ext cx="42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1.Тим 4:7 – “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Сен гене кендини Аллах коркусунда илерлетир.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окумак, окумак ве гене окум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41156" t="28353" r="0" b="0"/>
          <a:stretch/>
        </p:blipFill>
        <p:spPr>
          <a:xfrm>
            <a:off x="0" y="765000"/>
            <a:ext cx="3949560" cy="609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rot="1120200">
            <a:off x="179280" y="1743120"/>
            <a:ext cx="259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bg-BG" sz="3600" spc="-1" strike="noStrike">
                <a:solidFill>
                  <a:srgbClr val="ffff00"/>
                </a:solidFill>
                <a:latin typeface="Arial"/>
              </a:rPr>
              <a:t>Даха билме-диин чок шейлер вар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656720" y="945720"/>
            <a:ext cx="1150200" cy="1149840"/>
            <a:chOff x="1656720" y="945720"/>
            <a:chExt cx="1150200" cy="1149840"/>
          </a:xfrm>
        </p:grpSpPr>
        <p:sp>
          <p:nvSpPr>
            <p:cNvPr id="142" name=""/>
            <p:cNvSpPr/>
            <p:nvPr/>
          </p:nvSpPr>
          <p:spPr>
            <a:xfrm rot="915600">
              <a:off x="1763280" y="1052280"/>
              <a:ext cx="936720" cy="936360"/>
            </a:xfrm>
            <a:custGeom>
              <a:avLst/>
              <a:gdLst>
                <a:gd name="textAreaLeft" fmla="*/ 213840 w 936720"/>
                <a:gd name="textAreaRight" fmla="*/ 722880 w 936720"/>
                <a:gd name="textAreaTop" fmla="*/ 213840 h 936360"/>
                <a:gd name="textAreaBottom" fmla="*/ 7225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20d00"/>
                </a:gs>
                <a:gs pos="50000">
                  <a:srgbClr val="ff3300"/>
                </a:gs>
                <a:gs pos="100000">
                  <a:srgbClr val="420d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915600">
              <a:off x="1979280" y="12045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Aft>
                  <a:spcPts val="22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3600" spc="-1" strike="noStrike">
                  <a:solidFill>
                    <a:srgbClr val="ccccff"/>
                  </a:solidFill>
                  <a:latin typeface="Arial"/>
                </a:rPr>
                <a:t>9.</a:t>
              </a:r>
              <a:r>
                <a:rPr b="1" lang="bg-BG" sz="36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лер ичин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10 ем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11640" y="907920"/>
            <a:ext cx="460836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Джъст ду ит!” Рибук фирмасънън маратонки ичин рекламъйд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анламъ: “Чок лаф япма, иши битир!” – “Аз конуш, чок ишле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артък ‘аслънда’ лафъйла кендини бошуна авуттурма: “Аслънда лазъм КК’ъ даа ийи ьоренейим”, “Аслънда фаланджа кишийле баръшмам лазъм, фаланджа кишийи зиярет етмем лазъ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rcRect l="41156" t="28353" r="0" b="0"/>
          <a:stretch/>
        </p:blipFill>
        <p:spPr>
          <a:xfrm>
            <a:off x="0" y="765000"/>
            <a:ext cx="3949560" cy="6093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rot="994200">
            <a:off x="538920" y="1988640"/>
            <a:ext cx="194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Aft>
                <a:spcPts val="33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Just do it</a:t>
            </a:r>
            <a:r>
              <a:rPr b="1" lang="bg-BG" sz="5400" spc="-1" strike="noStrike">
                <a:solidFill>
                  <a:srgbClr val="ffff00"/>
                </a:solidFill>
                <a:latin typeface="Arial"/>
              </a:rPr>
              <a:t>!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656720" y="945720"/>
            <a:ext cx="1150200" cy="1149840"/>
            <a:chOff x="1656720" y="945720"/>
            <a:chExt cx="1150200" cy="1149840"/>
          </a:xfrm>
        </p:grpSpPr>
        <p:sp>
          <p:nvSpPr>
            <p:cNvPr id="149" name=""/>
            <p:cNvSpPr/>
            <p:nvPr/>
          </p:nvSpPr>
          <p:spPr>
            <a:xfrm rot="915600">
              <a:off x="1763280" y="1052280"/>
              <a:ext cx="936720" cy="936360"/>
            </a:xfrm>
            <a:custGeom>
              <a:avLst/>
              <a:gdLst>
                <a:gd name="textAreaLeft" fmla="*/ 213840 w 936720"/>
                <a:gd name="textAreaRight" fmla="*/ 722880 w 936720"/>
                <a:gd name="textAreaTop" fmla="*/ 213840 h 936360"/>
                <a:gd name="textAreaBottom" fmla="*/ 7225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20d00"/>
                </a:gs>
                <a:gs pos="50000">
                  <a:srgbClr val="ff3300"/>
                </a:gs>
                <a:gs pos="100000">
                  <a:srgbClr val="420d00"/>
                </a:gs>
              </a:gsLst>
              <a:lin ang="4482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915600">
              <a:off x="1836360" y="119700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Aft>
                  <a:spcPts val="22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3600" spc="-1" strike="noStrike">
                  <a:solidFill>
                    <a:srgbClr val="ccccff"/>
                  </a:solidFill>
                  <a:latin typeface="Arial"/>
                </a:rPr>
                <a:t>10.</a:t>
              </a:r>
              <a:r>
                <a:rPr b="1" lang="bg-BG" sz="36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лер ичин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10 ем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11640" y="1125360"/>
            <a:ext cx="46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Хепимиз айнъ йеткийе сахиб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хепимиз хенюз зайъфъ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хепимиз бу гьореве чаарълдъ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хепимиз ьонемлий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rcRect l="41156" t="28353" r="0" b="0"/>
          <a:stretch/>
        </p:blipFill>
        <p:spPr>
          <a:xfrm>
            <a:off x="0" y="765000"/>
            <a:ext cx="3949560" cy="6093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rot="1080000">
            <a:off x="179280" y="1989000"/>
            <a:ext cx="265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bg-BG" sz="3600" spc="-1" strike="noStrike">
                <a:solidFill>
                  <a:srgbClr val="ffff00"/>
                </a:solidFill>
                <a:latin typeface="Arial"/>
              </a:rPr>
              <a:t>Хепимиз айнъ дереджедейиз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656720" y="945720"/>
            <a:ext cx="1150200" cy="1149840"/>
            <a:chOff x="1656720" y="945720"/>
            <a:chExt cx="1150200" cy="1149840"/>
          </a:xfrm>
        </p:grpSpPr>
        <p:sp>
          <p:nvSpPr>
            <p:cNvPr id="53" name=""/>
            <p:cNvSpPr/>
            <p:nvPr/>
          </p:nvSpPr>
          <p:spPr>
            <a:xfrm rot="915600">
              <a:off x="1763280" y="1052280"/>
              <a:ext cx="936720" cy="936360"/>
            </a:xfrm>
            <a:custGeom>
              <a:avLst/>
              <a:gdLst>
                <a:gd name="textAreaLeft" fmla="*/ 213840 w 936720"/>
                <a:gd name="textAreaRight" fmla="*/ 722880 w 936720"/>
                <a:gd name="textAreaTop" fmla="*/ 213840 h 936360"/>
                <a:gd name="textAreaBottom" fmla="*/ 7225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20d00"/>
                </a:gs>
                <a:gs pos="50000">
                  <a:srgbClr val="ff3300"/>
                </a:gs>
                <a:gs pos="100000">
                  <a:srgbClr val="420d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915600">
              <a:off x="1979280" y="12045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Aft>
                  <a:spcPts val="22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3600" spc="-1" strike="noStrike">
                  <a:solidFill>
                    <a:srgbClr val="ccccff"/>
                  </a:solidFill>
                  <a:latin typeface="Arial"/>
                </a:rPr>
                <a:t>2.</a:t>
              </a:r>
              <a:r>
                <a:rPr b="1" lang="bg-BG" sz="36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884240" y="730080"/>
            <a:ext cx="138636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кусурсу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1268280"/>
            <a:ext cx="326232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бир кадънън коджас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7400" y="1844640"/>
            <a:ext cx="344664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иманлъ къзанларъ в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2492280"/>
            <a:ext cx="3384360" cy="8254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хеп кенди кафасъна гьоре гитмес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6840" y="3429000"/>
            <a:ext cx="341928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хемен ьофкеленме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й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560" y="4005360"/>
            <a:ext cx="214992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ичкиджи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де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0200" y="4545000"/>
            <a:ext cx="228096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кавгаджъ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де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600" y="5086440"/>
            <a:ext cx="423936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паранън пешинден кошма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я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1680" y="5661000"/>
            <a:ext cx="507744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мисафирлери кабул етмейи сев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600" y="6202440"/>
            <a:ext cx="211788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ийилии сев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227640" y="981000"/>
            <a:ext cx="244800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аклъ башъ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59600" y="1593720"/>
            <a:ext cx="127800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дюрю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88120" y="2241720"/>
            <a:ext cx="219852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Аллаха баал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42920" y="2817720"/>
            <a:ext cx="341604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кендини запте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дебил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9640" y="3429000"/>
            <a:ext cx="378000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саалам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ьоретиш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вер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68120" y="4005360"/>
            <a:ext cx="166680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ърбашл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08720" y="4581360"/>
            <a:ext cx="3203640" cy="8254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енди евини ийи гю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дю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23440" y="5516640"/>
            <a:ext cx="289800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ни иманлъ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деи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35640" y="6035760"/>
            <a:ext cx="4608360" cy="8254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ъшаръдакилер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д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ну ийи бири оларак танъ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йор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63640" y="1189080"/>
            <a:ext cx="5400720" cy="5400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830320" y="1353960"/>
            <a:ext cx="347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БЕН бу гьорев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уйгун муйум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-27000"/>
            <a:ext cx="9180360" cy="865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 олмак ичин </a:t>
            </a: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шартлар</a:t>
            </a:r>
            <a:br>
              <a:rPr sz="4000"/>
            </a:br>
            <a:r>
              <a:rPr b="1" lang="bg-BG" sz="2400" spc="-1" strike="noStrike">
                <a:solidFill>
                  <a:srgbClr val="ffcc00"/>
                </a:solidFill>
                <a:latin typeface="Garamond"/>
              </a:rPr>
              <a:t>Титус 1:5-9 </a:t>
            </a:r>
            <a:r>
              <a:rPr b="1" lang="bg-BG" sz="2400" spc="-1" strike="noStrike">
                <a:solidFill>
                  <a:srgbClr val="99ccff"/>
                </a:solidFill>
                <a:latin typeface="Garamond"/>
              </a:rPr>
              <a:t>ве</a:t>
            </a:r>
            <a:r>
              <a:rPr b="1" lang="bg-BG" sz="2400" spc="-1" strike="noStrike">
                <a:solidFill>
                  <a:srgbClr val="ffcc00"/>
                </a:solidFill>
                <a:latin typeface="Garamond"/>
              </a:rPr>
              <a:t> 1.Тимотейус 3:1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лер ичин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10 ем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11640" y="1197000"/>
            <a:ext cx="41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Езг 2 15  “Якалайън тилкилери бизим ичин, Баларъ бозан кючюк тилкилери; Чюнкю баларъмъз йешерди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Уфак сайдъъмъз проблемлери вакътла чьозмейе алъшалъм – беклемейелим, кишийи уратмак дереджесине гелинс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rcRect l="41156" t="28353" r="0" b="0"/>
          <a:stretch/>
        </p:blipFill>
        <p:spPr>
          <a:xfrm>
            <a:off x="0" y="765000"/>
            <a:ext cx="3949560" cy="6093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1012200">
            <a:off x="144360" y="1773360"/>
            <a:ext cx="284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bg-BG" sz="3600" spc="-1" strike="noStrike">
                <a:solidFill>
                  <a:srgbClr val="ffff00"/>
                </a:solidFill>
                <a:latin typeface="Arial"/>
              </a:rPr>
              <a:t>Кючюк тилки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bg-BG" sz="3600" spc="-1" strike="noStrike">
                <a:solidFill>
                  <a:srgbClr val="ffff00"/>
                </a:solidFill>
                <a:latin typeface="Arial"/>
              </a:rPr>
              <a:t>лери якала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bg-BG" sz="3600" spc="-1" strike="noStrike">
                <a:solidFill>
                  <a:srgbClr val="ffff00"/>
                </a:solidFill>
                <a:latin typeface="Arial"/>
              </a:rPr>
              <a:t>йън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656720" y="945720"/>
            <a:ext cx="1150200" cy="1149840"/>
            <a:chOff x="1656720" y="945720"/>
            <a:chExt cx="1150200" cy="1149840"/>
          </a:xfrm>
        </p:grpSpPr>
        <p:sp>
          <p:nvSpPr>
            <p:cNvPr id="82" name=""/>
            <p:cNvSpPr/>
            <p:nvPr/>
          </p:nvSpPr>
          <p:spPr>
            <a:xfrm rot="915600">
              <a:off x="1763280" y="1052280"/>
              <a:ext cx="936720" cy="936360"/>
            </a:xfrm>
            <a:custGeom>
              <a:avLst/>
              <a:gdLst>
                <a:gd name="textAreaLeft" fmla="*/ 213840 w 936720"/>
                <a:gd name="textAreaRight" fmla="*/ 722880 w 936720"/>
                <a:gd name="textAreaTop" fmla="*/ 213840 h 936360"/>
                <a:gd name="textAreaBottom" fmla="*/ 7225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20d00"/>
                </a:gs>
                <a:gs pos="50000">
                  <a:srgbClr val="ff3300"/>
                </a:gs>
                <a:gs pos="100000">
                  <a:srgbClr val="420d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915600">
              <a:off x="1979280" y="12045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Aft>
                  <a:spcPts val="22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3600" spc="-1" strike="noStrike">
                  <a:solidFill>
                    <a:srgbClr val="ccccff"/>
                  </a:solidFill>
                  <a:latin typeface="Arial"/>
                </a:rPr>
                <a:t>3.</a:t>
              </a:r>
              <a:r>
                <a:rPr b="1" lang="bg-BG" sz="36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148360" y="3583080"/>
            <a:ext cx="3095640" cy="308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лер ичин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10 ем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40360" y="1052640"/>
            <a:ext cx="500364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омуникация хер шейд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йьонетиджи (епикопос) оларак: гьоревлеримизи ийидже пайлаштък мъ? Херкес билийор му, не лазъм япсъ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чобан (поъмен) оларак: бен ьобюр гюдюджюлерин халине мерак едийор муйум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ихтияр (пресвитерос) оларак: бен зайълъкларъмъ пайлашъйоъ муйу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хер хафта дуа ве план япмак бир араъя гелийор муйу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rcRect l="41156" t="28353" r="0" b="0"/>
          <a:stretch/>
        </p:blipFill>
        <p:spPr>
          <a:xfrm>
            <a:off x="0" y="765000"/>
            <a:ext cx="3949560" cy="6093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rot="1167600">
            <a:off x="179640" y="1697040"/>
            <a:ext cx="266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bg-BG" sz="3600" spc="-1" strike="noStrike">
                <a:solidFill>
                  <a:srgbClr val="ffff00"/>
                </a:solidFill>
                <a:latin typeface="Arial"/>
              </a:rPr>
              <a:t>Йюреин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bg-BG" sz="3600" spc="-1" strike="noStrike">
                <a:solidFill>
                  <a:srgbClr val="ffff00"/>
                </a:solidFill>
                <a:latin typeface="Arial"/>
              </a:rPr>
              <a:t>де не варса, аазънда да о олсун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56720" y="945720"/>
            <a:ext cx="1150200" cy="1149840"/>
            <a:chOff x="1656720" y="945720"/>
            <a:chExt cx="1150200" cy="1149840"/>
          </a:xfrm>
        </p:grpSpPr>
        <p:sp>
          <p:nvSpPr>
            <p:cNvPr id="90" name=""/>
            <p:cNvSpPr/>
            <p:nvPr/>
          </p:nvSpPr>
          <p:spPr>
            <a:xfrm rot="915600">
              <a:off x="1763280" y="1052280"/>
              <a:ext cx="936720" cy="936360"/>
            </a:xfrm>
            <a:custGeom>
              <a:avLst/>
              <a:gdLst>
                <a:gd name="textAreaLeft" fmla="*/ 213840 w 936720"/>
                <a:gd name="textAreaRight" fmla="*/ 722880 w 936720"/>
                <a:gd name="textAreaTop" fmla="*/ 213840 h 936360"/>
                <a:gd name="textAreaBottom" fmla="*/ 7225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20d00"/>
                </a:gs>
                <a:gs pos="50000">
                  <a:srgbClr val="ff3300"/>
                </a:gs>
                <a:gs pos="100000">
                  <a:srgbClr val="420d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915600">
              <a:off x="1979280" y="12045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Aft>
                  <a:spcPts val="22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3600" spc="-1" strike="noStrike">
                  <a:solidFill>
                    <a:srgbClr val="ccccff"/>
                  </a:solidFill>
                  <a:latin typeface="Arial"/>
                </a:rPr>
                <a:t>4.</a:t>
              </a:r>
              <a:r>
                <a:rPr b="1" lang="bg-BG" sz="36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лер ичин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10 ем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84720" y="1413000"/>
            <a:ext cx="439092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Хер гюдюджю лазъм кенди зайъф ве кувветли тарафънъ билс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илахи 135 (“Бени кувветлендиренде”): “Кенди зайъфлъкларънъ биленлерин хепсине, Раб якън ве ярдъм едер, бу сьоз гечерли бизе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41156" t="28353" r="0" b="0"/>
          <a:stretch/>
        </p:blipFill>
        <p:spPr>
          <a:xfrm>
            <a:off x="0" y="765000"/>
            <a:ext cx="3949560" cy="6093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rot="1166400">
            <a:off x="394920" y="1988640"/>
            <a:ext cx="24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bg-BG" sz="3600" spc="-1" strike="noStrike">
                <a:solidFill>
                  <a:srgbClr val="ffff00"/>
                </a:solidFill>
                <a:latin typeface="Arial"/>
              </a:rPr>
              <a:t>Кендини ийидже танъ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656720" y="945720"/>
            <a:ext cx="1150200" cy="1149840"/>
            <a:chOff x="1656720" y="945720"/>
            <a:chExt cx="1150200" cy="1149840"/>
          </a:xfrm>
        </p:grpSpPr>
        <p:sp>
          <p:nvSpPr>
            <p:cNvPr id="97" name=""/>
            <p:cNvSpPr/>
            <p:nvPr/>
          </p:nvSpPr>
          <p:spPr>
            <a:xfrm rot="915600">
              <a:off x="1763280" y="1052280"/>
              <a:ext cx="936720" cy="936360"/>
            </a:xfrm>
            <a:custGeom>
              <a:avLst/>
              <a:gdLst>
                <a:gd name="textAreaLeft" fmla="*/ 213840 w 936720"/>
                <a:gd name="textAreaRight" fmla="*/ 722880 w 936720"/>
                <a:gd name="textAreaTop" fmla="*/ 213840 h 936360"/>
                <a:gd name="textAreaBottom" fmla="*/ 7225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20d00"/>
                </a:gs>
                <a:gs pos="50000">
                  <a:srgbClr val="ff3300"/>
                </a:gs>
                <a:gs pos="100000">
                  <a:srgbClr val="420d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915600">
              <a:off x="1979280" y="12045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Aft>
                  <a:spcPts val="22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3600" spc="-1" strike="noStrike">
                  <a:solidFill>
                    <a:srgbClr val="ccccff"/>
                  </a:solidFill>
                  <a:latin typeface="Arial"/>
                </a:rPr>
                <a:t>5.</a:t>
              </a:r>
              <a:r>
                <a:rPr b="1" lang="bg-BG" sz="36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лер ичин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10 ем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052640"/>
            <a:ext cx="8424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4 темперамент (ху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сангуин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-  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олерик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-  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меланколик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- 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флегма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916280"/>
            <a:ext cx="597672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Хава (ъслак – съджа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Илк бах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Хер шейе хафифе алъйор, хеп ишини ийи тарафъна бакъйор, майтапчъ, инсанларла колай контакт куруйор ве кендине гювенийор, кишилерин арасънда хармония сааламак истийор, компромис япмайъ севи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хаялджъ, концентрация ексик, саа солу белли олмуйор, бир анда харекет едийор, чок конушкан, проблемлери гьормю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516720" y="3573360"/>
            <a:ext cx="2354400" cy="275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лер ичин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10 ем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052640"/>
            <a:ext cx="8424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4 темперамент (ху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сангуин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-   </a:t>
            </a: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колерик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-  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меланколик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- 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флегма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2152800"/>
            <a:ext cx="570852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Атеш (куру – съджа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Я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Гючлю, енергия долу, иш битириджи, хърслъ, башкаларъна колай ьондерлик япъйор, атълг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колай ьофкеленийор, башкаларъна лаф гечирмек истийор, сон сьозю лазъм онун олс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227640" y="2708280"/>
            <a:ext cx="2446560" cy="351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лер ичин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10 ем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1052640"/>
            <a:ext cx="8424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4 темперамент (ху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сангуин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-  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олерик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-   </a:t>
            </a:r>
            <a:r>
              <a:rPr b="1" lang="bg-BG" sz="2400" spc="-1" strike="noStrike">
                <a:solidFill>
                  <a:srgbClr val="00cc66"/>
                </a:solidFill>
                <a:latin typeface="Arial"/>
              </a:rPr>
              <a:t>меланколик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- 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флегма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2152800"/>
            <a:ext cx="570852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Топрак (куру – соу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Сон бах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дерин дюшюнюйор, детайлара диккат едийор, яратъджъ, хер шей лазъм дьорт дьортлюк олс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хеп ишин кьотю тарафъна бакъйор, куражъ колай кърълъйор, депреаяя дюшюйор, хич мемнун калмъ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940360" y="2924280"/>
            <a:ext cx="2679840" cy="309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8:37:29Z</dcterms:created>
  <dc:creator>Windows XP</dc:creator>
  <dc:description/>
  <dc:language>en-US</dc:language>
  <cp:lastModifiedBy>asd</cp:lastModifiedBy>
  <dcterms:modified xsi:type="dcterms:W3CDTF">2008-11-23T22:52:01Z</dcterms:modified>
  <cp:revision>387</cp:revision>
  <dc:subject/>
  <dc:title>Иса иле килисе ичин бензетмелер</dc:title>
</cp:coreProperties>
</file>