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846D-ADF6-4A8D-A473-2756D506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8D4-D1E3-4B77-9B18-DB136FDF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C801-BDDA-4A82-8795-6EB1A491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5C10-ACD1-4B00-826F-81B3675A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A79-07BC-4706-BEC5-067CE2E3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44F8-E0E0-4F69-80B6-FF50270A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B7AD-4FBA-494C-8D05-2F0C9275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D11-EFC9-4D15-9ADA-0A27F533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68E6-633D-4EB5-B904-DF299A52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E954-5AFD-4B6E-9557-83B2BEFC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7E4-7035-4E5D-9C3C-D6ACAE5D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6062-336A-4CC2-87A8-41CA2C2C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23D8-3FA3-4724-B47D-FEC02EB677D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324240" y="4797360"/>
            <a:ext cx="55245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Verdana"/>
              </a:rPr>
              <a:t>Гюдюджюлерин ьорне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073160"/>
            <a:ext cx="4221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172f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хсал йетки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2297160"/>
            <a:ext cx="5589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172f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ъл казанълър?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1080" y="90792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cc00"/>
                </a:solidFill>
                <a:latin typeface="Arial"/>
              </a:rPr>
              <a:t>Ибрах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674720"/>
            <a:ext cx="8424720" cy="48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енди зайълъкларънъ анладъ: корку – каръсъ хаккънда ялан сьойледи (Яр 12:12-13) – сонра бебек ичин каръсъна бойун ейди (Яр 16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есин итаат ьоренди: Раб она конушуйор, хемен ертеси гюн ону йерине гетирийор (Яр 22: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Ески баалантъларънъ кесмейе ьоренди: касаба, джинс кьок, ана ба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Йерйюзюнде ябанджъ олдууну анладъ: Филистинде бир каръш топрак йокту – саде каръсъна мезар ичин бир маара алд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Ьоренди ки, сенин каршълъън олмаяджак: Раб жаат етти, ама Ибрахим онун герчеклешмесини гьормеди – гюдюджю де ‘каршълък’ беклемеден урашъ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Иманла яшамайъ ьоренди: сеченеи Лут’а брактъ (Яр 13: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0360" y="90792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cc00"/>
                </a:solidFill>
                <a:latin typeface="Arial"/>
              </a:rPr>
              <a:t>М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674720"/>
            <a:ext cx="842472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Муса алчалтълдъ: сарайдан хайванларън янъна – хем де буна карар верди (Ибранилер 11: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Бунлар беним кардешлерим” дийе карар верди, утанмадъ (Ибр 11: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Хайванларла анлашъркен, кенди хакънън табийетини ьоренди: койунлар гиби акълсъз ве кечилер гиби инат – сабър ьорен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енди карактери деишти: ьондже синирли ве ьофкели иди – сонра дюнянън ен алчакгьонюллю адамъ олду (Сай 12: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Иманла яшамайъ ьоренди: бюйюк рисклере гирмейе хазърд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1800" y="90792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cc00"/>
                </a:solidFill>
                <a:latin typeface="Arial"/>
              </a:rPr>
              <a:t>Гиде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674720"/>
            <a:ext cx="8424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енди хачтъндаки путларъ кърмайъ ьоренди (Хак 6:26-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енди коркусуну йенмейи ьорен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Иманла яшамайъ ьоренди: 300 киши = елимиздеки матерял ьонемли деил, Раб елимиздеки азънъ да кулланабил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0360" y="907920"/>
            <a:ext cx="152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cc00"/>
                </a:solidFill>
                <a:latin typeface="Arial"/>
              </a:rPr>
              <a:t>Дав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1674720"/>
            <a:ext cx="8424720" cy="50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Сабърла беклемейи ьоренди: месхедилдиктен сонра 10 сенеден фазла сюрдю крал олсун. Краллъъ кенди елийле казанмадъ, Раб она вер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енди зайъфлъкларънъ анладъ: Авигаъл олайъ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1.Сам 25 (ьофке ве гурур); Зиглаг олайъ, 1.Сам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(курназлъ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ьотюлюе каршъ кьотюлюк чпмамайъ ьоренди: Саулу ьолдюребилирди,а ма япмадъ – Ен-Геди маарасънда (1.Сам 24:7) –Хакила маарасънда 1.Сам 26:9 - ве гене ьолдюктен сонра (2.Сам 1: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ухсал савашта дьовюшмейи ьоренди: Саул’ун силахларънъ кълланмадъ, 5 чакълла дьовюштю (1.Сам 17:3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Иманла яшамайъ ьоренди: Голята бакмадъ, рухсал хакикатлара бактъ (“О сюннетсиз адам кимдир ки, Раббин ордуларънъ ашаълъйор – 1.Сам 17: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0000" y="90792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cc00"/>
                </a:solidFill>
                <a:latin typeface="Arial"/>
              </a:rPr>
              <a:t>Петр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674720"/>
            <a:ext cx="842472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арактер деишиклии гьордю: адъ да деишти Симун -&gt; Петрус (Яхуди аддан, Грек адъна – ланетли, аджъмасъз кишиден, сарсълма кая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етрус гьоктен куввет алдъ, деил инсанлардан: Пентикост гюню ичин 10 гюн беклемек, саде ду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етрус иманла яшамайъ ьоренди: хеп Исая якън олмак истеди (суйун юстюнде йюрюмек, Мат 17 “Сана чардаклар япалъм”, Йух 13 аяк йъкамада, Йух 21 гьоле атлама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0000" y="90792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cc00"/>
                </a:solidFill>
                <a:latin typeface="Arial"/>
              </a:rPr>
              <a:t>Павл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674720"/>
            <a:ext cx="842472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авлус кенди зайъфлъкларънъ анламая башладъ: Ром 7:18 “Ичимде ийилик йок” – 1.Тим 1: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авлус хер дурумда мутлу олмайъ ьоренди: Фил 4:12 – Раббе хизмет етмек ичин шарт кошмадъ (“ЬОндже лазъм .... олсун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авлус куртулушу херкестен даа дерин оларак анладъ: канун ве мерхамет – санки бир акумулаторун ики полйу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3160" y="941400"/>
            <a:ext cx="8646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3300"/>
                </a:solidFill>
                <a:latin typeface="Comic Sans MS"/>
              </a:rPr>
              <a:t>Рухсал йетки (авторитет) инсанджа ьолчюлеме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bbe0e3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  <a:ea typeface="Arial"/>
              </a:rPr>
              <a:t>деил кишинин ел коймасъ и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bbe0e3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  <a:ea typeface="Arial"/>
              </a:rPr>
              <a:t>деил общинадан гелен мектуплар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bbe0e3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  <a:ea typeface="Arial"/>
              </a:rPr>
              <a:t>деил офислер, печатлар я да арабалар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bbe0e3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  <a:ea typeface="Arial"/>
              </a:rPr>
              <a:t>деил баърмак, чъърма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3160" y="3997440"/>
            <a:ext cx="835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3300"/>
                </a:solidFill>
                <a:latin typeface="Comic Sans MS"/>
              </a:rPr>
              <a:t>Рухсал йетки неди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bbe0e3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  <a:ea typeface="Arial"/>
              </a:rPr>
              <a:t>конушуйоруз ве инсанлар бизи сесл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bbe0e3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bbe0e3"/>
                </a:solidFill>
                <a:latin typeface="Arial"/>
                <a:ea typeface="Arial"/>
              </a:rPr>
              <a:t>зорбаджълък япмадан иманлъларъ рухсал иште чалъштърм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836640"/>
            <a:ext cx="86468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3300"/>
                </a:solidFill>
                <a:latin typeface="Comic Sans MS"/>
              </a:rPr>
              <a:t>Рухсал йетки казанмак ичин КК’тан 6 ьорн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Раббин халкънън ен бюйюк ьондерлери насъл рухсал йетки казандъла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бизим ичин ьонемли: ьондже ьобюр иманлъларла бир дередже идик, шимди гюдюджю олд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9440" y="414828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Ибрах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5440" y="50115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М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4520" y="588312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Гиде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3800" y="5018040"/>
            <a:ext cx="152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Дав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88720" y="414828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Петр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50640" y="58752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Павл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5440" y="105264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cc00"/>
                </a:solidFill>
                <a:latin typeface="Arial"/>
              </a:rPr>
              <a:t>Ибрах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819440"/>
            <a:ext cx="41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ьондж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ухсал йеткиси йок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о бабасъндан айрълмадъ, бабасъ ону Харан касабасъна гетирди (Яр 11:3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4495680" cy="1905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967280" y="1916280"/>
            <a:ext cx="38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сонр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ухсал йеткиси вард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аб иле пазарлък япъйор (Яр 18:22-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804000" y="3357720"/>
            <a:ext cx="1571760" cy="260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720" y="105264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cc00"/>
                </a:solidFill>
                <a:latin typeface="Arial"/>
              </a:rPr>
              <a:t>М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81944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ьондж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ухсал йеткиси йок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Сени ким арамъзда яргъч яптъ?’ (Чъкъш 2: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67280" y="1916280"/>
            <a:ext cx="38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сонр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ухсал йеткиси вард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бютюн халкъ харекете гечирийор (Чък 4:29-3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3333960" cy="2543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3672000" cy="23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6160" y="105264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cc00"/>
                </a:solidFill>
                <a:latin typeface="Arial"/>
              </a:rPr>
              <a:t>Гиде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81944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ьондж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ухсал йеткиси йок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Мелек она конушуркен аалашъйор “Ен кючюк джинстеним” (Хакимлер 6:12-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67280" y="1916280"/>
            <a:ext cx="385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сонр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ухсал йеткиси вард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00 аскерле коджаман дюшман ордусуну йенийор (Хакимлер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8360" y="4046400"/>
            <a:ext cx="3166920" cy="2379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716360" y="4049640"/>
            <a:ext cx="3600720" cy="237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5080" y="1052640"/>
            <a:ext cx="152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cc00"/>
                </a:solidFill>
                <a:latin typeface="Arial"/>
              </a:rPr>
              <a:t>Дав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81944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ьондж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саде хайванларън юзерине йеткиси вардъ (1.Сам 17:3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67280" y="1916280"/>
            <a:ext cx="38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сонр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ухсал йеткиси вард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бютюн халк тарафъндан крал сечилийор (2.Сам 5:1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64000" y="3357720"/>
            <a:ext cx="1968840" cy="2982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187280" y="3429000"/>
            <a:ext cx="1990800" cy="289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720" y="1052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cc00"/>
                </a:solidFill>
                <a:latin typeface="Arial"/>
              </a:rPr>
              <a:t>Петр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81944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ьондж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ухсал анлайъшъ биле йокту - Иса она “Шейтан” дийор (Матта 16:2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67280" y="1916280"/>
            <a:ext cx="38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сонр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ухсал йеткиси вард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байрам гюнюнде бютюн халка конушуйор (Апо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076720" y="3716280"/>
            <a:ext cx="3022560" cy="228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11280" y="3765600"/>
            <a:ext cx="3313080" cy="225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Рухсал йетки насъл казанълъ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360" y="105264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cc00"/>
                </a:solidFill>
                <a:latin typeface="Arial"/>
              </a:rPr>
              <a:t>Павл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181944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ьондж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ухсал йеткиси йокту – ьоренджилер ону кабул етмийорлар (Апо 9: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67280" y="1916280"/>
            <a:ext cx="385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сонр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ухсал йеткиси вард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етрус ве ьобюр апостоллар она саа елини узатъръйор (Гал 2: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435640" y="3933720"/>
            <a:ext cx="1984320" cy="251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2011320" cy="23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8:37:29Z</dcterms:created>
  <dc:creator>Windows XP</dc:creator>
  <dc:description/>
  <dc:language>en-US</dc:language>
  <cp:lastModifiedBy>asd</cp:lastModifiedBy>
  <dcterms:modified xsi:type="dcterms:W3CDTF">2008-11-23T23:04:37Z</dcterms:modified>
  <cp:revision>331</cp:revision>
  <dc:subject/>
  <dc:title>Иса иле килисе ичин бензетмелер</dc:title>
</cp:coreProperties>
</file>