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D48-EE37-419F-A617-6D337E88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A7A-97A5-49A8-BD83-59DDBAB3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55E-FDC2-4F5E-B6D6-E1D2355F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A31-E53F-47F1-A90F-AFF3815D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0F6-D447-4BB6-AB3B-278569DD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A776-6867-4347-9E34-5251FB7A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A84-0A57-4D44-A6C5-4E1863B9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9BA8-F1CD-4E70-8B23-8E56C42C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11A-09F0-48EC-A57F-9DBF4475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BB18-9E03-4EB2-86D5-C38D44C2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376-C1B5-4201-9330-5ECC399B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67C-661C-4EAD-BDB5-8B597F85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3FED-4C54-4CE2-88DF-27EAB73A795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324240" y="4797360"/>
            <a:ext cx="5524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Verdana"/>
              </a:rPr>
              <a:t>Гюдюджюлерин ьорне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073160"/>
            <a:ext cx="396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172f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а иле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2297160"/>
            <a:ext cx="396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172f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илисе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: гюдюджюлере ьорн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580000" y="1052640"/>
            <a:ext cx="2952720" cy="252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574560" y="1785960"/>
            <a:ext cx="42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(6) 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Башгьоревли  ве  гьоревли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2924280"/>
            <a:ext cx="42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Luka 1:17</a:t>
            </a:r>
            <a:r>
              <a:rPr b="1" lang="bg-BG" sz="1600" spc="-1" strike="noStrike">
                <a:solidFill>
                  <a:srgbClr val="009999"/>
                </a:solidFill>
                <a:latin typeface="Arial"/>
              </a:rPr>
              <a:t>; 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1.Pet 2:10</a:t>
            </a:r>
            <a:r>
              <a:rPr b="1" lang="bg-BG" sz="1600" spc="-1" strike="noStrike">
                <a:solidFill>
                  <a:srgbClr val="009999"/>
                </a:solidFill>
                <a:latin typeface="Arial"/>
              </a:rPr>
              <a:t>; 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İ</a:t>
            </a:r>
            <a:r>
              <a:rPr b="1" lang="de-DE" sz="16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1" lang="de-DE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2:17</a:t>
            </a:r>
            <a:r>
              <a:rPr b="1" lang="bg-BG" sz="1600" spc="-1" strike="noStrike">
                <a:solidFill>
                  <a:srgbClr val="009999"/>
                </a:solidFill>
                <a:latin typeface="Arial"/>
              </a:rPr>
              <a:t>; 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7:25</a:t>
            </a:r>
            <a:r>
              <a:rPr b="1" lang="bg-BG" sz="16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8: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7840" y="3882960"/>
            <a:ext cx="81565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Башгьоревли Аллахън ьонюнде дуруйор, она хесап вер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де о дуйгу вар мъ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Башгьоревли ишини ялнъз япмъйор. ЬОбюр гьоревлилерле бирликте ишл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башка кардешлере иш верийор муйу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Башгьоревлинин ен бюйюк иши, дуа етмект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иманлълар ичин дуа едийор муйу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: гюдюджюлере ьорн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3240000" cy="2244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554480" y="256536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1.Pet 2:5-8</a:t>
            </a:r>
            <a:r>
              <a:rPr b="1" lang="bg-BG" sz="1600" spc="-1" strike="noStrike">
                <a:solidFill>
                  <a:srgbClr val="009999"/>
                </a:solidFill>
                <a:latin typeface="Arial"/>
              </a:rPr>
              <a:t>; 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Efes 2:20-21</a:t>
            </a:r>
            <a:r>
              <a:rPr b="1" lang="de-DE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484280"/>
            <a:ext cx="51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(7) Кьоше ташъ  ве  ташл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3716280"/>
            <a:ext cx="750888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1)  Кьоше ташъ бютюн бинанън ьорнеи и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кардешлериме ьорнек оладжак дурумда мъйъ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Кьоше ташънън юзеринде коджаман бир йюк дуру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башкаларънъ ташъйор муйум, йокса онлар мъ лазъм бени ташъсънл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Кьоше ташъ ялнъз иш битирмез, дуварла лазъм баалансъ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кардешлере баалъ лъйъм? Кардешлери бирбирлерине баалъйор муйу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 ичин бензетме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1528920" cy="2016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195800" y="1052640"/>
            <a:ext cx="1457280" cy="1990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978600" y="1125360"/>
            <a:ext cx="1289160" cy="1913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948360" y="372276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005440" y="4659480"/>
            <a:ext cx="1538280" cy="1519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2554200" y="4692600"/>
            <a:ext cx="1728720" cy="147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179280" y="3768840"/>
            <a:ext cx="2016360" cy="1396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17800" y="313848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(1) Чобан ве сюр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65960" y="313380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(2) Кафа ве бед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47960" y="313992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(3) Гювей ве  ге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83360" y="53085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(4) Асма  ве   чубук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62434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(5) Икинджи Адем ве   йени инсаний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3840" y="621648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(6) Башгьоревли  ве  гьоревли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080" y="516420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(7) Кьоше ташъ ве таш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692360" y="1978200"/>
          <a:ext cx="7129440" cy="4259160"/>
        </p:xfrm>
        <a:graphic>
          <a:graphicData uri="http://schemas.openxmlformats.org/drawingml/2006/table">
            <a:tbl>
              <a:tblPr/>
              <a:tblGrid>
                <a:gridCol w="3600360"/>
                <a:gridCol w="3529080"/>
              </a:tblGrid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Йуханна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10:11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0:14-15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 Мезмур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хаятънъ верийор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слемек, йол гьостер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ола гетирмек, темизлемек, кору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Йуханна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10:14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:27</a:t>
                      </a:r>
                      <a:r>
                        <a:rPr b="1" lang="de-DE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сле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кадан гел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Ефес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1:22-23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Кол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1:18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: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бедени бир арада тутмак, бюйютюр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Ефес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5:24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; Кол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2:19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; Ефес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4:16</a:t>
                      </a:r>
                      <a:r>
                        <a:rPr b="1" lang="tr-TR" sz="14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есле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ъкъ тут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топл. Илерлетир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Ефес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5:26-27</a:t>
                      </a:r>
                      <a:r>
                        <a:rPr b="1" lang="de-DE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темиз ве кутсал къл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.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р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11:2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; Матта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25:13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; Ачък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21:2</a:t>
                      </a:r>
                      <a:r>
                        <a:rPr b="1" lang="de-DE" sz="14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кендимизи темиз туталъ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диккатле беклейелим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юслен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Йуханна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15:4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5:7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5:9</a:t>
                      </a:r>
                      <a:r>
                        <a:rPr b="1" lang="de-DE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зде калъй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аларъмъза джевап верий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бизи севий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Йуханна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15:4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:5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:8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:9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;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15:10</a:t>
                      </a:r>
                      <a:r>
                        <a:rPr b="1" lang="de-DE" sz="14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онда кал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емиш вер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оренджи ол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евгиде девам ет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йрукларъмъ тут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 ичин бензетме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0" r="0" b="23054"/>
          <a:stretch/>
        </p:blipFill>
        <p:spPr>
          <a:xfrm>
            <a:off x="552600" y="2049480"/>
            <a:ext cx="779400" cy="792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0" t="0" r="0" b="24848"/>
          <a:stretch/>
        </p:blipFill>
        <p:spPr>
          <a:xfrm>
            <a:off x="560520" y="2986200"/>
            <a:ext cx="771480" cy="79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rcRect l="-10095" t="13618" r="-1774" b="10895"/>
          <a:stretch/>
        </p:blipFill>
        <p:spPr>
          <a:xfrm>
            <a:off x="468360" y="3994200"/>
            <a:ext cx="863640" cy="792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rcRect l="33271" t="0" r="0" b="0"/>
          <a:stretch/>
        </p:blipFill>
        <p:spPr>
          <a:xfrm>
            <a:off x="539640" y="5073480"/>
            <a:ext cx="768600" cy="86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00360" y="90792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6600"/>
                </a:solidFill>
                <a:latin typeface="Arial"/>
              </a:rPr>
              <a:t>Иса килисе ичин не япъй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907920"/>
            <a:ext cx="34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Килисенин гьореви неди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05200" y="2548080"/>
            <a:ext cx="311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05200" y="3484440"/>
            <a:ext cx="311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5200" y="4492800"/>
            <a:ext cx="311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05200" y="5645160"/>
            <a:ext cx="311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2276640"/>
            <a:ext cx="338472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63640" y="2244600"/>
            <a:ext cx="3456000" cy="679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3213000"/>
            <a:ext cx="345600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4000" y="3213000"/>
            <a:ext cx="3384720" cy="679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4221000"/>
            <a:ext cx="3456000" cy="6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8800" y="4221000"/>
            <a:ext cx="3409920" cy="6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3640" y="5157720"/>
            <a:ext cx="345600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5157720"/>
            <a:ext cx="3384720" cy="10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655640" y="2278080"/>
          <a:ext cx="6984720" cy="3098880"/>
        </p:xfrm>
        <a:graphic>
          <a:graphicData uri="http://schemas.openxmlformats.org/drawingml/2006/table">
            <a:tbl>
              <a:tblPr/>
              <a:tblGrid>
                <a:gridCol w="3528720"/>
                <a:gridCol w="34560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Ром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5:15,18-19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.Кор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15:45-4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рулук ве яшам гетир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нсуз чшам вер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р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15:4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а бензер оладж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20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Лука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1:17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 Ибр</a:t>
                      </a:r>
                      <a:r>
                        <a:rPr b="1" lang="de-DE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.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8:10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.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Пет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2:10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İ</a:t>
                      </a:r>
                      <a:r>
                        <a:rPr b="1" lang="de-DE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b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r</a:t>
                      </a:r>
                      <a:r>
                        <a:rPr b="1" lang="de-DE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. 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:17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7:25</a:t>
                      </a:r>
                      <a:r>
                        <a:rPr b="1" lang="de-DE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зи бир халк япт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юнахларъмъзъ баъшлатъръй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зим ичин дуа едий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ъкъш 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:6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; Ром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12:1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; 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ет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2:5.9</a:t>
                      </a:r>
                      <a:r>
                        <a:rPr b="1" lang="tr-TR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ьоревли бир халкъ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ендимизи курбан едийору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лахън ийилиини илан етм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.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Пет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2:5-8</a:t>
                      </a:r>
                      <a:r>
                        <a:rPr b="1" lang="bg-BG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; Ефес</a:t>
                      </a:r>
                      <a:r>
                        <a:rPr b="1" lang="tr-TR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2:20-21</a:t>
                      </a:r>
                      <a:r>
                        <a:rPr b="1" lang="de-DE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мансъзлара кьостек, бизим ичин къймет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зи бир арада тутуйор, бичим верийор, Килисейи бюйютюрюй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</a:t>
                      </a:r>
                      <a:r>
                        <a:rPr b="1" lang="bg-BG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етрус</a:t>
                      </a:r>
                      <a:r>
                        <a:rPr b="1" lang="tr-TR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2:5</a:t>
                      </a:r>
                      <a:r>
                        <a:rPr b="1" lang="de-DE" sz="14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дири ташлар олалъ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 ичин бензетме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9800" y="2205000"/>
            <a:ext cx="790560" cy="781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8442" t="-9855" r="0" b="0"/>
          <a:stretch/>
        </p:blipFill>
        <p:spPr>
          <a:xfrm>
            <a:off x="468360" y="3213000"/>
            <a:ext cx="792000" cy="811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rcRect l="21515" t="0" r="14242" b="0"/>
          <a:stretch/>
        </p:blipFill>
        <p:spPr>
          <a:xfrm>
            <a:off x="468360" y="4438800"/>
            <a:ext cx="803160" cy="863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92360" y="119700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6600"/>
                </a:solidFill>
                <a:latin typeface="Arial"/>
              </a:rPr>
              <a:t>Иса килисе ичин не япъй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21440" y="119700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Килисенин гьореви неди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56240" y="2711520"/>
            <a:ext cx="311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56240" y="3719520"/>
            <a:ext cx="311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56240" y="5014800"/>
            <a:ext cx="311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2521080"/>
            <a:ext cx="3456000" cy="47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19640" y="2530440"/>
            <a:ext cx="3394080" cy="4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3500280"/>
            <a:ext cx="3456000" cy="69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3284640"/>
            <a:ext cx="3389400" cy="9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4508640"/>
            <a:ext cx="3456000" cy="83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19640" y="4475160"/>
            <a:ext cx="3403800" cy="88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: гюдюджюлере ьорн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12000" y="1557360"/>
            <a:ext cx="2895480" cy="3816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4920" y="981000"/>
            <a:ext cx="391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Чобан ве сюр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57200" y="157464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9999"/>
                </a:solidFill>
                <a:latin typeface="Arial"/>
              </a:rPr>
              <a:t>Йух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 10:11-27</a:t>
            </a:r>
            <a:r>
              <a:rPr b="1" lang="de-DE" sz="1600" spc="-1" strike="noStrike">
                <a:solidFill>
                  <a:srgbClr val="009999"/>
                </a:solidFill>
                <a:latin typeface="Arial"/>
              </a:rPr>
              <a:t>; </a:t>
            </a:r>
            <a:r>
              <a:rPr b="1" lang="bg-BG" sz="1600" spc="-1" strike="noStrike">
                <a:solidFill>
                  <a:srgbClr val="009999"/>
                </a:solidFill>
                <a:latin typeface="Arial"/>
              </a:rPr>
              <a:t>Мезмур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 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349360"/>
            <a:ext cx="54720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Ийи чобан койунлара бес гьостерийор</a:t>
            </a: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иманлълара Инджили ьоретийор муйу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2)  Ийи чобан ьондерлик япъ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иманда иманлълардан даа илериде мийи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Ийи чобан койунларънъ кору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иманлъларън халини дюшюнюп онларъ коруйор муйу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Койунлар онун сесини танърлар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иманлълар беним сесими ишитирлер 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: гюдюджюлере ьорн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867280" y="1700280"/>
            <a:ext cx="2898720" cy="3959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1528920"/>
            <a:ext cx="37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(2) Кафа ве</a:t>
            </a: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бе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060640"/>
            <a:ext cx="43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Efes 1:22-23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; 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Kol 1:18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;</a:t>
            </a:r>
            <a:r>
              <a:rPr b="1" lang="bg-BG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2:19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; 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Efe 5:24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;</a:t>
            </a:r>
            <a:r>
              <a:rPr b="1" lang="bg-BG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4:1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3284640"/>
            <a:ext cx="532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1)  Бейин планлъйор, илери бакъ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топлантънън геледжеи ичин план япъйор муйу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Бейинин опрганлара баалантъсъ в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иманлълара баалъ мъйъм? Онларла конушуйор муйум? Онларъ долашъйор муйу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: гюдюджюлере ьорн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940360" y="1341360"/>
            <a:ext cx="2621160" cy="388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71640" y="98100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(3) Гювей ве ге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6880" y="155736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Efes 5:26-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989000"/>
            <a:ext cx="5400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Гювей кадънъ темиз кълъ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гюнах темасънда не япъйору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Гювей гелинини яратъйор: гелин даа ортада йоккен гювей онун уруна ьолмекле ону мейдана гетир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биринджи адъмъ мъ атъйорум, йокса беклийор муйум, башкасъ башлатсъ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Гювей каръсъна баалъдър, ону джандан севи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каръмъ герчектен севийор муйум? Онунлз бирликте Раб ичин ишлийор муйу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: гюдюджюлере ьорн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64000" y="1125360"/>
            <a:ext cx="3384720" cy="2536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468360" y="23954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(4) Асма ве чубукл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789360"/>
            <a:ext cx="8281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1) Асма топрактан бес алъп чубуклара улаштъръй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Иса’дан не алдъм да, топлантия верейи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2) Асма ве чубукла иш битмийор, йемиш лазъ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 калъджъ йемиш мейдана гетирдим м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3) ”Бабам темизлийор” = Раб герексиз шейлери хаятъмъздан алъй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Хаятъмда не фазлалък вар, Раб ону бенден алсъ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67240" y="292428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Yuh 15:4 -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8036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bbe0e3"/>
                </a:solidFill>
                <a:latin typeface="Arial"/>
              </a:rPr>
              <a:t>Иса ве килисе: гюдюджюлере ьорн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24360" y="1413000"/>
            <a:ext cx="2878200" cy="2842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95280" y="1054080"/>
            <a:ext cx="42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(5) 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Икинджи Адем ве</a:t>
            </a:r>
            <a:r>
              <a:rPr b="1" lang="tr-T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ffff00"/>
                </a:solidFill>
                <a:latin typeface="Arial"/>
              </a:rPr>
              <a:t>йени инсаний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20500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Rom 5:15,18-19</a:t>
            </a:r>
            <a:r>
              <a:rPr b="1" lang="bg-BG" sz="1600" spc="-1" strike="noStrike">
                <a:solidFill>
                  <a:srgbClr val="009999"/>
                </a:solidFill>
                <a:latin typeface="Arial"/>
              </a:rPr>
              <a:t>; </a:t>
            </a:r>
            <a:r>
              <a:rPr b="1" lang="tr-TR" sz="1600" spc="-1" strike="noStrike">
                <a:solidFill>
                  <a:srgbClr val="009999"/>
                </a:solidFill>
                <a:latin typeface="Arial"/>
              </a:rPr>
              <a:t>1.Kor 15:45-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3068640"/>
            <a:ext cx="403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Адем херкесин бабасъдър, херкес онун копясъдъ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Кишилер бени копя едийорлар мъ? Беним нейи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6600"/>
                </a:solidFill>
                <a:latin typeface="Arial"/>
              </a:rPr>
              <a:t>Адем биринджи ханенин башъ и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- Беним ханем не дурумда? О конуда ьорнек мийи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37:29Z</dcterms:created>
  <dc:creator>Windows XP</dc:creator>
  <dc:description/>
  <dc:language>en-US</dc:language>
  <cp:lastModifiedBy>asd</cp:lastModifiedBy>
  <dcterms:modified xsi:type="dcterms:W3CDTF">2008-01-14T11:49:01Z</dcterms:modified>
  <cp:revision>82</cp:revision>
  <dc:subject/>
  <dc:title>Иса иле килисе ичин бензетмелер</dc:title>
</cp:coreProperties>
</file>