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58.jpeg" ContentType="image/jpeg"/>
  <Override PartName="/ppt/media/image56.jpeg" ContentType="image/jpeg"/>
  <Override PartName="/ppt/media/image41.jpeg" ContentType="image/jpeg"/>
  <Override PartName="/ppt/media/image14.jpeg" ContentType="image/jpeg"/>
  <Override PartName="/ppt/media/image5.jpeg" ContentType="image/jpeg"/>
  <Override PartName="/ppt/media/image50.png" ContentType="image/png"/>
  <Override PartName="/ppt/media/image62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.jpeg" ContentType="image/jpeg"/>
  <Override PartName="/ppt/media/image6.jpeg" ContentType="image/jpeg"/>
  <Override PartName="/ppt/media/image63.jpeg" ContentType="image/jpeg"/>
  <Override PartName="/ppt/media/image27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52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23.jpeg" ContentType="image/jpeg"/>
  <Override PartName="/ppt/media/image8.png" ContentType="image/png"/>
  <Override PartName="/ppt/media/image39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11.png" ContentType="image/png"/>
  <Override PartName="/ppt/media/image29.jpeg" ContentType="image/jpeg"/>
  <Override PartName="/ppt/media/image12.jpeg" ContentType="image/jpeg"/>
  <Override PartName="/ppt/media/image9.png" ContentType="image/pn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png" ContentType="image/png"/>
  <Override PartName="/ppt/media/image57.jpeg" ContentType="image/jpeg"/>
  <Override PartName="/ppt/media/image55.jpeg" ContentType="image/jpeg"/>
  <Override PartName="/ppt/media/image43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EF0C-A293-42E8-831A-CC2BA2E5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951F-896E-462F-9E8C-118E9CD6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D424-FEB9-4839-92AB-865516F8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3DC0-84E5-4861-A349-E802EF1A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FA77-950F-4891-A7C7-88244C5A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5796-7A8B-4F68-87EA-878C87E6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5600-8576-4106-9B42-31A90042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22F1-6AC8-4598-98DB-E0E5C945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4284-E574-4A2F-8211-278D538D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EA5-ABDB-4816-BCA8-7855D1AA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976D-E128-42CA-A59C-68354FDB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5BF3-74FE-4FD9-9171-5BEC554C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FE2A-C8DE-4E53-A4EF-3D8211D741E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png"/><Relationship Id="rId7" Type="http://schemas.openxmlformats.org/officeDocument/2006/relationships/image" Target="../media/image51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324240" y="4797360"/>
            <a:ext cx="55245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Verdana"/>
              </a:rPr>
              <a:t>Гюдюджюлерин ьорне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1073160"/>
            <a:ext cx="3960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172f75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илисенин</a:t>
            </a:r>
            <a:endParaRPr b="0" lang="en-US" sz="1800" spc="1" strike="noStrike">
              <a:ln w="1908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2421000"/>
            <a:ext cx="5229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172f75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ганизасйону</a:t>
            </a:r>
            <a:endParaRPr b="0" lang="en-US" sz="1800" spc="1" strike="noStrike">
              <a:ln w="1908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68360" y="1628640"/>
            <a:ext cx="828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Апо 6:3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3 Ама сиз аранъздан йеди адам сечин. Онлар лазъм ийи оларак танънсънлар, хем де Кутсал Рух ве анлайъшла долу олсунлар. Онларъ бу ишин башъна кояджаз.“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...   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1" lang="tr-TR" sz="1800" spc="-1" strike="noStrike" u="sng">
                <a:solidFill>
                  <a:srgbClr val="ffffff"/>
                </a:solidFill>
                <a:uFillTx/>
                <a:latin typeface="Arial"/>
              </a:rPr>
              <a:t>Бютюн топлулук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бу лафа разъ гелди. Бьойлеликле шу кишилери </a:t>
            </a:r>
            <a:r>
              <a:rPr b="1" lang="tr-TR" sz="1800" spc="-1" strike="noStrike" u="sng">
                <a:solidFill>
                  <a:srgbClr val="ffffff"/>
                </a:solidFill>
                <a:uFillTx/>
                <a:latin typeface="Arial"/>
              </a:rPr>
              <a:t>сечтилер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: Стефанус (иман ве Кутсал Рух'ла долу олан бир адам), Филип, Прохорус, Никанор, Тимон, Парменас ве Николас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. 6 Бунларъ апостолларън ьонюне гетирдилер. Онлар да </a:t>
            </a:r>
            <a:r>
              <a:rPr b="1" lang="tr-TR" sz="1800" spc="-1" strike="noStrike" u="sng">
                <a:solidFill>
                  <a:srgbClr val="ffffff"/>
                </a:solidFill>
                <a:uFillTx/>
                <a:latin typeface="Arial"/>
              </a:rPr>
              <a:t>дуа еттиктен сонра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1800" spc="-1" strike="noStrike" u="sng">
                <a:solidFill>
                  <a:srgbClr val="ffffff"/>
                </a:solidFill>
                <a:uFillTx/>
                <a:latin typeface="Arial"/>
              </a:rPr>
              <a:t>еллерини бу кишилерин юзерине койдулар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Апо 13:1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1 Антакя'даки топлулуун ичинде пейгамберлер ве муаллимлер вардъ: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Бар-Набас, Симеон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Лукийус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Манаен ве Сау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2 Онлар оруч тутуп Раббе хизмет еттилер. О вакът </a:t>
            </a:r>
            <a:r>
              <a:rPr b="1" lang="tr-TR" sz="1800" spc="-1" strike="noStrike" u="sng">
                <a:solidFill>
                  <a:srgbClr val="ffffff"/>
                </a:solidFill>
                <a:uFillTx/>
                <a:latin typeface="Arial"/>
              </a:rPr>
              <a:t>Кутсал Рух шьойле конушту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"Бана Бар-Набас'ъ ве Саул'у айърън. Бен онларъ бир иш ичин чаърдъм." 3 Ондан сонра </a:t>
            </a:r>
            <a:r>
              <a:rPr b="1" lang="tr-TR" sz="1800" spc="-1" strike="noStrike" u="sng">
                <a:solidFill>
                  <a:srgbClr val="ffffff"/>
                </a:solidFill>
                <a:uFillTx/>
                <a:latin typeface="Arial"/>
              </a:rPr>
              <a:t>оруч тутуп дуа еттилер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. Ве </a:t>
            </a:r>
            <a:r>
              <a:rPr b="1" lang="tr-TR" sz="1800" spc="-1" strike="noStrike" u="sng">
                <a:solidFill>
                  <a:srgbClr val="ffffff"/>
                </a:solidFill>
                <a:uFillTx/>
                <a:latin typeface="Arial"/>
              </a:rPr>
              <a:t>еллерини онларън юзерине койуйуп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онларъ йолджу еттил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0920" y="981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99"/>
              </a:buClr>
              <a:buFont typeface="Garamond"/>
              <a:buChar char="•"/>
              <a:tabLst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66ff99"/>
                </a:solidFill>
                <a:latin typeface="Garamond"/>
              </a:rPr>
              <a:t> </a:t>
            </a:r>
            <a:r>
              <a:rPr b="1" lang="bg-BG" sz="2800" spc="-1" strike="noStrike">
                <a:solidFill>
                  <a:srgbClr val="66ff99"/>
                </a:solidFill>
                <a:latin typeface="Garamond"/>
              </a:rPr>
              <a:t>Ашаъдаки айетлерде бир съра гьоребилир мийиз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ьоревлилере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насъл гьорев верил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0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1484280"/>
            <a:ext cx="914400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64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Verdana"/>
              </a:rPr>
              <a:t>1)</a:t>
            </a:r>
            <a:r>
              <a:rPr b="1" lang="bg-BG" sz="2800" spc="-1" strike="noStrike">
                <a:solidFill>
                  <a:srgbClr val="ffffff"/>
                </a:solidFill>
                <a:latin typeface="Verdana"/>
              </a:rPr>
              <a:t> ДУА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ве</a:t>
            </a:r>
            <a:r>
              <a:rPr b="1" lang="bg-BG" sz="2800" spc="-1" strike="noStrike">
                <a:solidFill>
                  <a:srgbClr val="ffffff"/>
                </a:solidFill>
                <a:latin typeface="Verdana"/>
              </a:rPr>
              <a:t> ОРУЧ </a:t>
            </a: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япълъй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2637000"/>
            <a:ext cx="914400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64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Verdana"/>
              </a:rPr>
              <a:t>2)</a:t>
            </a:r>
            <a:r>
              <a:rPr b="1" lang="bg-BG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bg-BG" sz="2800" spc="-1" strike="noStrike">
                <a:solidFill>
                  <a:srgbClr val="ffff00"/>
                </a:solidFill>
                <a:latin typeface="Verdana"/>
              </a:rPr>
              <a:t>Аллах </a:t>
            </a:r>
            <a:r>
              <a:rPr b="1" lang="bg-BG" sz="2800" spc="-1" strike="noStrike">
                <a:solidFill>
                  <a:srgbClr val="ffff00"/>
                </a:solidFill>
                <a:latin typeface="Verdana"/>
              </a:rPr>
              <a:t>КОНУШУЙ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716280"/>
            <a:ext cx="914400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64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99cc00"/>
                </a:solidFill>
                <a:latin typeface="Verdana"/>
              </a:rPr>
              <a:t>3)</a:t>
            </a:r>
            <a:r>
              <a:rPr b="1" lang="bg-BG" sz="2800" spc="-1" strike="noStrike">
                <a:solidFill>
                  <a:srgbClr val="99cc00"/>
                </a:solidFill>
                <a:latin typeface="Verdana"/>
              </a:rPr>
              <a:t> </a:t>
            </a:r>
            <a:r>
              <a:rPr b="0" lang="bg-BG" sz="2800" spc="-1" strike="noStrike">
                <a:solidFill>
                  <a:srgbClr val="99cc00"/>
                </a:solidFill>
                <a:latin typeface="Verdana"/>
              </a:rPr>
              <a:t>Топлулук</a:t>
            </a:r>
            <a:r>
              <a:rPr b="1" lang="bg-BG" sz="2800" spc="-1" strike="noStrike">
                <a:solidFill>
                  <a:srgbClr val="99cc00"/>
                </a:solidFill>
                <a:latin typeface="Verdana"/>
              </a:rPr>
              <a:t> СЕЧИЙОР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4800600"/>
            <a:ext cx="914400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64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c99ff"/>
                </a:solidFill>
                <a:latin typeface="Verdana"/>
              </a:rPr>
              <a:t>4)</a:t>
            </a:r>
            <a:r>
              <a:rPr b="1" lang="bg-BG" sz="28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0" lang="bg-BG" sz="2800" spc="-1" strike="noStrike">
                <a:solidFill>
                  <a:srgbClr val="cc99ff"/>
                </a:solidFill>
                <a:latin typeface="Verdana"/>
              </a:rPr>
              <a:t>Гюдюджюлер </a:t>
            </a:r>
            <a:r>
              <a:rPr b="1" lang="bg-BG" sz="2800" spc="-1" strike="noStrike">
                <a:solidFill>
                  <a:srgbClr val="cc99ff"/>
                </a:solidFill>
                <a:latin typeface="Verdana"/>
              </a:rPr>
              <a:t>ГЬОРЕВ ВЕРИЙ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ьоревлилере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насъл гьорев верил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0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1449360"/>
            <a:ext cx="9144000" cy="520560"/>
          </a:xfrm>
          <a:prstGeom prst="rect">
            <a:avLst/>
          </a:prstGeom>
          <a:gradFill rotWithShape="0">
            <a:gsLst>
              <a:gs pos="0">
                <a:srgbClr val="2f1700"/>
              </a:gs>
              <a:gs pos="50000">
                <a:srgbClr val="663300"/>
              </a:gs>
              <a:gs pos="100000">
                <a:srgbClr val="2f1700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cc00"/>
                </a:solidFill>
                <a:latin typeface="Verdana"/>
              </a:rPr>
              <a:t>1)  </a:t>
            </a:r>
            <a:r>
              <a:rPr b="1" lang="bg-BG" sz="2800" spc="-1" strike="noStrike">
                <a:solidFill>
                  <a:srgbClr val="ffcc00"/>
                </a:solidFill>
                <a:latin typeface="Verdana"/>
              </a:rPr>
              <a:t>ШИФА</a:t>
            </a:r>
            <a:r>
              <a:rPr b="0" lang="bg-BG" sz="2800" spc="-1" strike="noStrike">
                <a:solidFill>
                  <a:srgbClr val="ffcc00"/>
                </a:solidFill>
                <a:latin typeface="Verdana"/>
              </a:rPr>
              <a:t> вермек ич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2743200"/>
            <a:ext cx="9144000" cy="520560"/>
          </a:xfrm>
          <a:prstGeom prst="rect">
            <a:avLst/>
          </a:prstGeom>
          <a:gradFill rotWithShape="0">
            <a:gsLst>
              <a:gs pos="0">
                <a:srgbClr val="001700"/>
              </a:gs>
              <a:gs pos="50000">
                <a:srgbClr val="003300"/>
              </a:gs>
              <a:gs pos="100000">
                <a:srgbClr val="001700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ffcc00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bg-BG" sz="2800" spc="-1" strike="noStrike">
                <a:solidFill>
                  <a:srgbClr val="ffcc00"/>
                </a:solidFill>
                <a:latin typeface="Verdana"/>
              </a:rPr>
              <a:t>Бир кишийи </a:t>
            </a:r>
            <a:r>
              <a:rPr b="1" lang="bg-BG" sz="2800" spc="-1" strike="noStrike">
                <a:solidFill>
                  <a:srgbClr val="ffcc00"/>
                </a:solidFill>
                <a:latin typeface="Verdana"/>
              </a:rPr>
              <a:t>БЕРЕКЕТЛЕМЕК</a:t>
            </a:r>
            <a:r>
              <a:rPr b="0" lang="bg-BG" sz="2800" spc="-1" strike="noStrike">
                <a:solidFill>
                  <a:srgbClr val="ffcc00"/>
                </a:solidFill>
                <a:latin typeface="Verdana"/>
              </a:rPr>
              <a:t> ич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4005360"/>
            <a:ext cx="9144000" cy="520560"/>
          </a:xfrm>
          <a:prstGeom prst="rect">
            <a:avLst/>
          </a:prstGeom>
          <a:gradFill rotWithShape="0">
            <a:gsLst>
              <a:gs pos="0">
                <a:srgbClr val="232323"/>
              </a:gs>
              <a:gs pos="50000">
                <a:srgbClr val="4d4d4d"/>
              </a:gs>
              <a:gs pos="100000">
                <a:srgbClr val="23232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cc00"/>
                </a:solidFill>
                <a:latin typeface="Verdana"/>
              </a:rPr>
              <a:t>3)  Кутсал Рухун </a:t>
            </a:r>
            <a:r>
              <a:rPr b="1" lang="bg-BG" sz="2800" spc="-1" strike="noStrike">
                <a:solidFill>
                  <a:srgbClr val="ffcc00"/>
                </a:solidFill>
                <a:latin typeface="Verdana"/>
              </a:rPr>
              <a:t>ВЕРГИСИ</a:t>
            </a:r>
            <a:r>
              <a:rPr b="0" lang="bg-BG" sz="2800" spc="-1" strike="noStrike">
                <a:solidFill>
                  <a:srgbClr val="ffcc00"/>
                </a:solidFill>
                <a:latin typeface="Verdana"/>
              </a:rPr>
              <a:t> алмак ич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5392800"/>
            <a:ext cx="9144000" cy="5205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cc00"/>
                </a:solidFill>
                <a:latin typeface="Verdana"/>
              </a:rPr>
              <a:t>4)  Рухсал бир </a:t>
            </a:r>
            <a:r>
              <a:rPr b="1" lang="bg-BG" sz="2800" spc="-1" strike="noStrike">
                <a:solidFill>
                  <a:srgbClr val="ffcc00"/>
                </a:solidFill>
                <a:latin typeface="Verdana"/>
              </a:rPr>
              <a:t>ГЬОРЕВ</a:t>
            </a:r>
            <a:r>
              <a:rPr b="0" lang="bg-BG" sz="2800" spc="-1" strike="noStrike">
                <a:solidFill>
                  <a:srgbClr val="ffcc00"/>
                </a:solidFill>
                <a:latin typeface="Verdana"/>
              </a:rPr>
              <a:t> вермек ичин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Ел коймак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 месел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5000" y="882720"/>
            <a:ext cx="624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Кутсал Китап’та биркач амачла ел коймак ва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38640" y="2023920"/>
            <a:ext cx="59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Иса, хаста бир кадъна ел койду (Лука 13: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39000" y="3354480"/>
            <a:ext cx="60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Иса, кючюк  къзанлара ел койду (Лука 10: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40440" y="4672080"/>
            <a:ext cx="556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Топл. ихтиярларъ Тимотейус’а ел кой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(1.Тим. 4:14; 2.Тим. 1: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11280" y="6040440"/>
            <a:ext cx="67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Топл. гюдюджюлери, Павлус ве Барнабас’а ел койдулар (Апо 13: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7524720" y="1268280"/>
            <a:ext cx="1368360" cy="936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524720" y="2565360"/>
            <a:ext cx="1368360" cy="9367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524720" y="3860640"/>
            <a:ext cx="1381320" cy="8636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-92160" y="2297160"/>
            <a:ext cx="970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920" y="765000"/>
            <a:ext cx="9144000" cy="4608720"/>
          </a:xfrm>
          <a:prstGeom prst="rect">
            <a:avLst/>
          </a:prstGeom>
          <a:solidFill>
            <a:srgbClr val="80808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7524720" y="5167440"/>
            <a:ext cx="1389240" cy="9255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0" y="5157720"/>
            <a:ext cx="7236000" cy="1008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300720" y="4652640"/>
            <a:ext cx="71928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95640" y="4005360"/>
            <a:ext cx="454716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8fccd1"/>
                </a:solidFill>
                <a:latin typeface="Arial"/>
              </a:rPr>
              <a:t>Саде буна бакадж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0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6" nodeType="afterEffect" fill="hold" presetClass="emph" presetID="21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0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09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210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1501"/>
                            </p:stCondLst>
                            <p:childTnLst>
                              <p:par>
                                <p:cTn id="1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2001"/>
                            </p:stCondLst>
                            <p:childTnLst>
                              <p:par>
                                <p:cTn id="1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Ел коймак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 месел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-92160" y="2297160"/>
            <a:ext cx="970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765000"/>
            <a:ext cx="9180360" cy="201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Апо 13:1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1 Антакя'даки топлулуун ичинде пейгамберлер ве муаллимлер вардъ: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Бар-Набас, Симеон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Лукийус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Манаен ве Саул.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2 Онлар оруч тутуп Раббе хизмет еттилер. О вакът </a:t>
            </a:r>
            <a:r>
              <a:rPr b="1" lang="tr-TR" sz="1800" spc="-1" strike="noStrike" u="sng">
                <a:solidFill>
                  <a:srgbClr val="ffffff"/>
                </a:solidFill>
                <a:uFillTx/>
                <a:latin typeface="Arial"/>
              </a:rPr>
              <a:t>Кутсал Рух шьойле конушту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"Бана Бар-Набас'ъ ве Саул'у айърън. Бен онларъ бир иш ичин чаърдъм." 3 Ондан сонра </a:t>
            </a:r>
            <a:r>
              <a:rPr b="1" lang="tr-TR" sz="1800" spc="-1" strike="noStrike" u="sng">
                <a:solidFill>
                  <a:srgbClr val="ffffff"/>
                </a:solidFill>
                <a:uFillTx/>
                <a:latin typeface="Arial"/>
              </a:rPr>
              <a:t>оруч тутуп дуа еттилер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. Ве </a:t>
            </a:r>
            <a:r>
              <a:rPr b="1" lang="tr-TR" sz="1800" spc="-1" strike="noStrike" u="sng">
                <a:solidFill>
                  <a:srgbClr val="ffffff"/>
                </a:solidFill>
                <a:uFillTx/>
                <a:latin typeface="Arial"/>
              </a:rPr>
              <a:t>еллерини онларън юзерине койуйуп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онларъ йолджу еттил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3270240"/>
            <a:ext cx="61214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66"/>
                </a:solidFill>
                <a:latin typeface="Arial"/>
              </a:rPr>
              <a:t>Антакя килисеси Павлус ве Барнабас’а гьорев верди, Исанън хаберини яйсънлар.</a:t>
            </a: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99cc00"/>
                </a:solidFill>
                <a:latin typeface="Arial"/>
              </a:rPr>
              <a:t>Бу ишин ичинде онлара хер тюрлю ярдъм ве дестек вердилер. Павлус ве Барнабас Антакя килисесине хесап верирдил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66"/>
                </a:solidFill>
                <a:latin typeface="Arial"/>
              </a:rPr>
              <a:t>Ел коймак садедже бир иш ичиндир, кишийи даха йюксек бир дереджейе гетирме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99cc00"/>
                </a:solidFill>
                <a:latin typeface="Arial"/>
              </a:rPr>
              <a:t>Бу гьорев биттиктен сонра, ел койманън еткиси де битий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6516720" y="3357720"/>
            <a:ext cx="2627280" cy="175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0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500"/>
                            </p:stCondLst>
                            <p:childTnLst>
                              <p:par>
                                <p:cTn id="1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Ел коймак</a:t>
            </a: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 меселе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-92160" y="2297160"/>
            <a:ext cx="970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2700360" cy="18003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24000" y="393372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Еллери коян кишилер, ону </a:t>
            </a: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ТОПЛУЛУУН АДЪНА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япъйорлар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254960" y="981000"/>
            <a:ext cx="21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Инджилде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c99ff"/>
                </a:solidFill>
                <a:latin typeface="Arial"/>
              </a:rPr>
              <a:t>ДОРУ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съ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788000" y="981000"/>
            <a:ext cx="42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Бугюн тутул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6600"/>
                </a:solidFill>
                <a:latin typeface="Arial"/>
              </a:rPr>
              <a:t>ЯНЛЪШ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съ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6300720" y="1844640"/>
            <a:ext cx="1368360" cy="18003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7524720" y="1844640"/>
            <a:ext cx="1368360" cy="18003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5">
            <a:lum contrast="30000"/>
          </a:blip>
          <a:stretch/>
        </p:blipFill>
        <p:spPr>
          <a:xfrm>
            <a:off x="4933800" y="1844640"/>
            <a:ext cx="1368720" cy="18003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0" y="765000"/>
            <a:ext cx="0" cy="6093000"/>
          </a:xfrm>
          <a:prstGeom prst="line">
            <a:avLst/>
          </a:prstGeom>
          <a:ln w="1015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32360" y="328464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Ортодокс    Католик    Протес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32360" y="394020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... ону </a:t>
            </a:r>
            <a:r>
              <a:rPr b="1" lang="bg-BG" sz="1800" spc="-1" strike="noStrike">
                <a:solidFill>
                  <a:srgbClr val="ff6600"/>
                </a:solidFill>
                <a:latin typeface="Arial"/>
              </a:rPr>
              <a:t>ДЕНОМИНАЦИЯНЪН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адъна япъйор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24000" y="458136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Киме ел койулурса, о даха юстюн бир категорийе </a:t>
            </a: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ГЕЧМ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32360" y="458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... О киши </a:t>
            </a:r>
            <a:r>
              <a:rPr b="1" lang="bg-BG" sz="1800" spc="-1" strike="noStrike">
                <a:solidFill>
                  <a:srgbClr val="ff6600"/>
                </a:solidFill>
                <a:latin typeface="Arial"/>
              </a:rPr>
              <a:t>ДАХА ЮСТЮН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бир сънъфа гечй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4000" y="530856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Ел коймак, </a:t>
            </a: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БИР ИШ ИЧИН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гечерлид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32360" y="530856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... </a:t>
            </a:r>
            <a:r>
              <a:rPr b="1" lang="bg-BG" sz="1800" spc="-1" strike="noStrike">
                <a:solidFill>
                  <a:srgbClr val="ff6600"/>
                </a:solidFill>
                <a:latin typeface="Arial"/>
              </a:rPr>
              <a:t>БЮТЮН ХАЯТ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ичин гечерлидир.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4000" y="6021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Хер иманлъ хер рухсал</a:t>
            </a: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иши</a:t>
            </a: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 ЯПАБИЛИР</a:t>
            </a:r>
            <a:r>
              <a:rPr b="1" lang="bg-BG" sz="1800" spc="-1" strike="noStrike">
                <a:solidFill>
                  <a:srgbClr val="cc99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932360" y="6021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...  хер рухсал</a:t>
            </a: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иши </a:t>
            </a:r>
            <a:r>
              <a:rPr b="1" lang="bg-BG" sz="1800" spc="-1" strike="noStrike">
                <a:solidFill>
                  <a:srgbClr val="ff6600"/>
                </a:solidFill>
                <a:latin typeface="Arial"/>
              </a:rPr>
              <a:t>ЯПАМАЗ</a:t>
            </a:r>
            <a:r>
              <a:rPr b="1" lang="bg-BG" sz="1800" spc="-1" strike="noStrike">
                <a:solidFill>
                  <a:srgbClr val="99ccff"/>
                </a:solidFill>
                <a:latin typeface="Arial"/>
              </a:rPr>
              <a:t>.</a:t>
            </a:r>
            <a:r>
              <a:rPr b="1" lang="bg-BG" sz="1800" spc="-1" strike="noStrike">
                <a:solidFill>
                  <a:srgbClr val="cc99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0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4716360" y="765000"/>
            <a:ext cx="4427640" cy="1671480"/>
          </a:xfrm>
          <a:prstGeom prst="rect">
            <a:avLst/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6600"/>
                </a:solidFill>
                <a:latin typeface="Arial"/>
              </a:rPr>
              <a:t>Инджиле айкъръ</a:t>
            </a:r>
            <a:r>
              <a:rPr b="0" lang="bg-BG" sz="2400" spc="-1" strike="noStrike">
                <a:solidFill>
                  <a:srgbClr val="ff6600"/>
                </a:solidFill>
                <a:latin typeface="Arial"/>
              </a:rPr>
              <a:t>:</a:t>
            </a:r>
            <a:r>
              <a:rPr b="0" lang="bg-BG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сон сьоз бир кишиде, деноминация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гюдюжюлер меркезе хесап вер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йетки (власт) йукраъдан гел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611280" y="3645000"/>
            <a:ext cx="3671280" cy="1368360"/>
            <a:chOff x="611280" y="3645000"/>
            <a:chExt cx="3671280" cy="1368360"/>
          </a:xfrm>
        </p:grpSpPr>
        <p:sp>
          <p:nvSpPr>
            <p:cNvPr id="372" name=""/>
            <p:cNvSpPr/>
            <p:nvPr/>
          </p:nvSpPr>
          <p:spPr>
            <a:xfrm>
              <a:off x="611280" y="400392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87280" y="457992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627280" y="4579920"/>
              <a:ext cx="107892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906560" y="3645000"/>
              <a:ext cx="107892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03640" y="4003920"/>
              <a:ext cx="107892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87280" y="4148280"/>
              <a:ext cx="50292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3203640" y="4077000"/>
              <a:ext cx="431280" cy="576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1977840" y="4722840"/>
              <a:ext cx="1009440" cy="1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1258560" y="3716640"/>
              <a:ext cx="100764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flipV="1">
              <a:off x="2554200" y="3716280"/>
              <a:ext cx="115200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1690560" y="3859200"/>
              <a:ext cx="863280" cy="793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>
              <a:off x="1474560" y="4003560"/>
              <a:ext cx="1584000" cy="64908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2482560" y="3861000"/>
              <a:ext cx="862920" cy="1008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690200" y="4148280"/>
              <a:ext cx="172836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580000" y="2637000"/>
            <a:ext cx="2664000" cy="647640"/>
          </a:xfrm>
          <a:prstGeom prst="can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643280" y="765000"/>
            <a:ext cx="0" cy="6093000"/>
          </a:xfrm>
          <a:prstGeom prst="line">
            <a:avLst/>
          </a:prstGeom>
          <a:ln w="1015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148360" y="3645000"/>
            <a:ext cx="3671280" cy="1368360"/>
            <a:chOff x="5148360" y="3645000"/>
            <a:chExt cx="3671280" cy="1368360"/>
          </a:xfrm>
        </p:grpSpPr>
        <p:sp>
          <p:nvSpPr>
            <p:cNvPr id="389" name=""/>
            <p:cNvSpPr/>
            <p:nvPr/>
          </p:nvSpPr>
          <p:spPr>
            <a:xfrm>
              <a:off x="5148360" y="400356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724360" y="457992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164360" y="4579920"/>
              <a:ext cx="107892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443640" y="3645000"/>
              <a:ext cx="1078920" cy="43308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40720" y="4003560"/>
              <a:ext cx="107892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 flipV="1">
            <a:off x="6659640" y="3357720"/>
            <a:ext cx="431640" cy="8632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611280" y="5948280"/>
            <a:ext cx="3600360" cy="793800"/>
            <a:chOff x="611280" y="5948280"/>
            <a:chExt cx="3600360" cy="793800"/>
          </a:xfrm>
        </p:grpSpPr>
        <p:sp>
          <p:nvSpPr>
            <p:cNvPr id="396" name=""/>
            <p:cNvSpPr/>
            <p:nvPr/>
          </p:nvSpPr>
          <p:spPr>
            <a:xfrm>
              <a:off x="611280" y="637992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32000" y="637992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5640" y="594828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03280" y="594828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24000" y="637992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64000" y="638172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43280" y="637992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50920" y="5949720"/>
              <a:ext cx="64800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92360" y="5949720"/>
              <a:ext cx="64800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71640" y="5949720"/>
              <a:ext cx="64800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2268360" y="5013360"/>
            <a:ext cx="432000" cy="863640"/>
          </a:xfrm>
          <a:prstGeom prst="upArrow">
            <a:avLst>
              <a:gd name="adj1" fmla="val 50000"/>
              <a:gd name="adj2" fmla="val 499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765000"/>
            <a:ext cx="4572000" cy="1709280"/>
          </a:xfrm>
          <a:prstGeom prst="rect">
            <a:avLst/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Инджилин сърасъ:</a:t>
            </a: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сон сьоз топлулу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гюдюжюлер топлантъя хесап вер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йетки (власт) ашаъда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гел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4859280" y="1052280"/>
            <a:ext cx="3816360" cy="5545080"/>
          </a:xfrm>
          <a:prstGeom prst="line">
            <a:avLst/>
          </a:prstGeom>
          <a:ln w="1015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075280" y="1008000"/>
            <a:ext cx="3817800" cy="5589720"/>
          </a:xfrm>
          <a:prstGeom prst="line">
            <a:avLst/>
          </a:prstGeom>
          <a:ln w="1015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435640" y="4939560"/>
            <a:ext cx="216000" cy="576360"/>
          </a:xfrm>
          <a:prstGeom prst="upArrow">
            <a:avLst>
              <a:gd name="adj1" fmla="val 50000"/>
              <a:gd name="adj2" fmla="val 66708"/>
            </a:avLst>
          </a:prstGeom>
          <a:solidFill>
            <a:srgbClr val="8fcc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8244000" y="4939560"/>
            <a:ext cx="215640" cy="576360"/>
          </a:xfrm>
          <a:prstGeom prst="upArrow">
            <a:avLst>
              <a:gd name="adj1" fmla="val 50000"/>
              <a:gd name="adj2" fmla="val 66820"/>
            </a:avLst>
          </a:prstGeom>
          <a:solidFill>
            <a:srgbClr val="8fcc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6875640" y="4939560"/>
            <a:ext cx="215640" cy="576360"/>
          </a:xfrm>
          <a:prstGeom prst="upArrow">
            <a:avLst>
              <a:gd name="adj1" fmla="val 50000"/>
              <a:gd name="adj2" fmla="val 66820"/>
            </a:avLst>
          </a:prstGeom>
          <a:solidFill>
            <a:srgbClr val="8fcc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7594560" y="4939560"/>
            <a:ext cx="216000" cy="576360"/>
          </a:xfrm>
          <a:prstGeom prst="upArrow">
            <a:avLst>
              <a:gd name="adj1" fmla="val 50000"/>
              <a:gd name="adj2" fmla="val 66708"/>
            </a:avLst>
          </a:prstGeom>
          <a:solidFill>
            <a:srgbClr val="8fcc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6154560" y="4939560"/>
            <a:ext cx="216000" cy="576360"/>
          </a:xfrm>
          <a:prstGeom prst="upArrow">
            <a:avLst>
              <a:gd name="adj1" fmla="val 50000"/>
              <a:gd name="adj2" fmla="val 66708"/>
            </a:avLst>
          </a:prstGeom>
          <a:solidFill>
            <a:srgbClr val="8fcc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5148360" y="5948280"/>
            <a:ext cx="3600360" cy="793800"/>
            <a:chOff x="5148360" y="5948280"/>
            <a:chExt cx="3600360" cy="793800"/>
          </a:xfrm>
        </p:grpSpPr>
        <p:sp>
          <p:nvSpPr>
            <p:cNvPr id="416" name=""/>
            <p:cNvSpPr/>
            <p:nvPr/>
          </p:nvSpPr>
          <p:spPr>
            <a:xfrm>
              <a:off x="5148360" y="637992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869080" y="637992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92720" y="594828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940360" y="594828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661080" y="637992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101080" y="638172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380360" y="637992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588000" y="5949720"/>
              <a:ext cx="64800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029440" y="5949720"/>
              <a:ext cx="64800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308720" y="5949720"/>
              <a:ext cx="64800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5651640" y="3645000"/>
            <a:ext cx="2538360" cy="25606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ьоревлилере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ким гьорев вер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73" dur="indefinite" restart="never" nodeType="tmRoot">
          <p:childTnLst>
            <p:seq>
              <p:cTn id="1374" dur="indefinite" nodeType="mainSeq">
                <p:childTnLst>
                  <p:par>
                    <p:cTn id="1375" fill="hold">
                      <p:stCondLst>
                        <p:cond delay="0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801"/>
                            </p:stCondLst>
                            <p:childTnLst>
                              <p:par>
                                <p:cTn id="1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1301"/>
                            </p:stCondLst>
                            <p:childTnLst>
                              <p:par>
                                <p:cTn id="1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1801"/>
                            </p:stCondLst>
                            <p:childTnLst>
                              <p:par>
                                <p:cTn id="13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2301"/>
                            </p:stCondLst>
                            <p:childTnLst>
                              <p:par>
                                <p:cTn id="1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2801"/>
                            </p:stCondLst>
                            <p:childTnLst>
                              <p:par>
                                <p:cTn id="1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500"/>
                            </p:stCondLst>
                            <p:childTnLst>
                              <p:par>
                                <p:cTn id="148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49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500"/>
                            </p:stCondLst>
                            <p:childTnLst>
                              <p:par>
                                <p:cTn id="15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8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0" dur="77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1" dur="770" fill="hold"/>
                                        <p:tgtEl>
                                          <p:spTgt spid="4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3" dur="77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5" dur="77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ьоревлилере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ким гьорев вер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340000" y="1773360"/>
            <a:ext cx="6048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гьорев вермек ичин ескиден зейтин яъ кишинин кафасъна дьокердилер (месхетме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юч чешит адам месхедилир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4861080" y="3500280"/>
            <a:ext cx="1439640" cy="20782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rcRect l="15626" t="5765" r="12347" b="5804"/>
          <a:stretch/>
        </p:blipFill>
        <p:spPr>
          <a:xfrm>
            <a:off x="2773440" y="3500280"/>
            <a:ext cx="1439640" cy="208944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6948360" y="3500280"/>
            <a:ext cx="1417680" cy="20894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2557440" y="5732640"/>
            <a:ext cx="21081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ГЬОРЕВЛ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Arial"/>
              </a:rPr>
              <a:t>(Муса, Харун’у месхедийо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573440" y="5732640"/>
            <a:ext cx="2108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КРАЛ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Arial"/>
              </a:rPr>
              <a:t>(Самуел, Давуд’у месхедийо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640560" y="5732640"/>
            <a:ext cx="21081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ПЕЙГАМБЕР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Arial"/>
              </a:rPr>
              <a:t>(Иляс, Елиша’йъ месхедийо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5"/>
          <a:stretch/>
        </p:blipFill>
        <p:spPr>
          <a:xfrm>
            <a:off x="250920" y="1773360"/>
            <a:ext cx="1396800" cy="17269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95280" y="981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Хер иманлъ Аллахън ишинде гьорев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47" dur="indefinite" restart="never" nodeType="tmRoot">
          <p:childTnLst>
            <p:seq>
              <p:cTn id="1548" dur="indefinite" nodeType="mainSeq">
                <p:childTnLst>
                  <p:par>
                    <p:cTn id="1549" fill="hold">
                      <p:stCondLst>
                        <p:cond delay="0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801"/>
                            </p:stCondLst>
                            <p:childTnLst>
                              <p:par>
                                <p:cTn id="15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fill="hold">
                            <p:stCondLst>
                              <p:cond delay="500"/>
                            </p:stCondLst>
                            <p:childTnLst>
                              <p:par>
                                <p:cTn id="15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411280" y="2492280"/>
            <a:ext cx="2305080" cy="2881440"/>
          </a:xfrm>
          <a:prstGeom prst="rect">
            <a:avLst/>
          </a:prstGeom>
          <a:solidFill>
            <a:srgbClr val="0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ьоревлилере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ким гьорев вер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79640" y="1700280"/>
            <a:ext cx="71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Бугюнлерде </a:t>
            </a:r>
            <a:r>
              <a:rPr b="1" lang="bg-BG" sz="2000" spc="-1" strike="noStrike">
                <a:solidFill>
                  <a:srgbClr val="cc99ff"/>
                </a:solidFill>
                <a:latin typeface="Arial"/>
              </a:rPr>
              <a:t>ХЕР ИМАНЛЪ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месхедилмишти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Зейтиняаъ саде семболду; аслъсъ </a:t>
            </a:r>
            <a:r>
              <a:rPr b="1" lang="bg-BG" sz="2000" spc="-1" strike="noStrike">
                <a:solidFill>
                  <a:srgbClr val="cc99ff"/>
                </a:solidFill>
                <a:latin typeface="Arial"/>
              </a:rPr>
              <a:t>КУТСАЛ РУХ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1396800" cy="17269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250920" y="90792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Хер иманлъ Аллахън ишинде гьорев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6012000" y="2492280"/>
            <a:ext cx="2313000" cy="28800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4"/>
          <a:srcRect l="14413" t="19199" r="12491" b="7754"/>
          <a:stretch/>
        </p:blipFill>
        <p:spPr>
          <a:xfrm>
            <a:off x="2411280" y="2492280"/>
            <a:ext cx="2305080" cy="28800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5580000" y="5373720"/>
            <a:ext cx="38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33"/>
                </a:solidFill>
                <a:latin typeface="Arial"/>
              </a:rPr>
              <a:t>Апо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 2:</a:t>
            </a:r>
            <a:r>
              <a:rPr b="1" lang="tr-TR" sz="1800" spc="-1" strike="noStrike">
                <a:solidFill>
                  <a:srgbClr val="ff9933"/>
                </a:solidFill>
                <a:latin typeface="Arial"/>
              </a:rPr>
              <a:t>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Аллах дийор: Сон гюнлерде ьойле оладжак ки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Рухуму бютюн инсанларън юзерине дьокедж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95640" y="538020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9933"/>
                </a:solidFill>
                <a:latin typeface="Arial"/>
              </a:rPr>
              <a:t>Кол 2: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Бютюн бунлар, геледжектеки шейлерин гьолгеси иди. Ама аслъсъ Месихти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12" dur="indefinite" restart="never" nodeType="tmRoot">
          <p:childTnLst>
            <p:seq>
              <p:cTn id="1613" dur="indefinite" nodeType="mainSeq">
                <p:childTnLst>
                  <p:par>
                    <p:cTn id="1614" fill="hold">
                      <p:stCondLst>
                        <p:cond delay="0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801"/>
                            </p:stCondLst>
                            <p:childTnLst>
                              <p:par>
                                <p:cTn id="16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1301"/>
                            </p:stCondLst>
                            <p:childTnLst>
                              <p:par>
                                <p:cTn id="1624" autoRev="1" nodeType="after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5" dur="2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5301"/>
                            </p:stCondLst>
                            <p:childTnLst>
                              <p:par>
                                <p:cTn id="16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2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2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2" dur="2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200"/>
                            </p:stCondLst>
                            <p:childTnLst>
                              <p:par>
                                <p:cTn id="165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9" dur="73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72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5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5" dur="5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1">
                                  <p:stCondLst>
                                    <p:cond delay="120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4572000" y="4222800"/>
            <a:ext cx="3313080" cy="24764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1258920" y="4222800"/>
            <a:ext cx="3313080" cy="24480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250920" y="1488600"/>
            <a:ext cx="853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Петрус 2: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Ама сиз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buClr>
                <a:srgbClr val="ffffff"/>
              </a:buClr>
              <a:buFont typeface="Arial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сечилмиш бир халксънъз,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краллар гибисини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buClr>
                <a:srgbClr val="ffffff"/>
              </a:buClr>
              <a:buFont typeface="Arial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кутсал </a:t>
            </a:r>
            <a:r>
              <a:rPr b="1" lang="tr-TR" sz="2000" spc="-1" strike="noStrike" u="sng">
                <a:solidFill>
                  <a:srgbClr val="ffffff"/>
                </a:solidFill>
                <a:uFillTx/>
                <a:latin typeface="Arial"/>
              </a:rPr>
              <a:t>Аллах гьоревлилерисиниз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buClr>
                <a:srgbClr val="ffffff"/>
              </a:buClr>
              <a:buFont typeface="Arial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кутсал бир миллетсиниз, Аллахън кенди халкъсънъз.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buClr>
                <a:srgbClr val="ff66ff"/>
              </a:buClr>
              <a:buFont typeface="Arial"/>
              <a:buChar char="-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ff"/>
                </a:solidFill>
                <a:latin typeface="Arial"/>
              </a:rPr>
              <a:t>Ескиси гиби Аллах халкънън ичинде бир айръм йок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258920" y="3789360"/>
          <a:ext cx="6626160" cy="2892600"/>
        </p:xfrm>
        <a:graphic>
          <a:graphicData uri="http://schemas.openxmlformats.org/drawingml/2006/table">
            <a:tbl>
              <a:tblPr/>
              <a:tblGrid>
                <a:gridCol w="3313080"/>
                <a:gridCol w="331308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ИСАДАН ЬОНДЖ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БУГЮ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spcBef>
                          <a:spcPts val="499"/>
                        </a:spcBef>
                        <a:buClr>
                          <a:srgbClr val="8fccd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8fccd1"/>
                          </a:solidFill>
                          <a:latin typeface="Arial"/>
                        </a:rPr>
                        <a:t>Саде гьоревлиле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8fccd1"/>
                          </a:solidFill>
                          <a:latin typeface="Arial"/>
                        </a:rPr>
                        <a:t>   </a:t>
                      </a:r>
                      <a:r>
                        <a:rPr b="1" lang="bg-BG" sz="2000" spc="-1" strike="noStrike" u="sng">
                          <a:solidFill>
                            <a:srgbClr val="8fccd1"/>
                          </a:solidFill>
                          <a:uFillTx/>
                          <a:latin typeface="Arial"/>
                        </a:rPr>
                        <a:t>дуа </a:t>
                      </a:r>
                      <a:r>
                        <a:rPr b="1" lang="bg-BG" sz="2000" spc="-1" strike="noStrike">
                          <a:solidFill>
                            <a:srgbClr val="8fccd1"/>
                          </a:solidFill>
                          <a:latin typeface="Arial"/>
                        </a:rPr>
                        <a:t>едердиле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spcBef>
                          <a:spcPts val="499"/>
                        </a:spcBef>
                        <a:buClr>
                          <a:srgbClr val="ff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ff9999"/>
                          </a:solidFill>
                          <a:latin typeface="Arial"/>
                        </a:rPr>
                        <a:t>Артък хер иманл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ff9999"/>
                          </a:solidFill>
                          <a:latin typeface="Arial"/>
                        </a:rPr>
                        <a:t>   </a:t>
                      </a:r>
                      <a:r>
                        <a:rPr b="1" lang="bg-BG" sz="2000" spc="-1" strike="noStrike" u="sng">
                          <a:solidFill>
                            <a:srgbClr val="ff9999"/>
                          </a:solidFill>
                          <a:uFillTx/>
                          <a:latin typeface="Arial"/>
                        </a:rPr>
                        <a:t>дуа</a:t>
                      </a:r>
                      <a:r>
                        <a:rPr b="1" lang="bg-BG" sz="2000" spc="-1" strike="noStrike">
                          <a:solidFill>
                            <a:srgbClr val="ff9999"/>
                          </a:solidFill>
                          <a:latin typeface="Arial"/>
                        </a:rPr>
                        <a:t> едийо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spcBef>
                          <a:spcPts val="499"/>
                        </a:spcBef>
                        <a:buClr>
                          <a:srgbClr val="8fccd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8fccd1"/>
                          </a:solidFill>
                          <a:latin typeface="Arial"/>
                        </a:rPr>
                        <a:t>Саде гьоревлилер </a:t>
                      </a:r>
                      <a:r>
                        <a:rPr b="1" lang="bg-BG" sz="2000" spc="-1" strike="noStrike" u="sng">
                          <a:solidFill>
                            <a:srgbClr val="8fccd1"/>
                          </a:solidFill>
                          <a:uFillTx/>
                          <a:latin typeface="Arial"/>
                        </a:rPr>
                        <a:t>кутсал</a:t>
                      </a:r>
                      <a:r>
                        <a:rPr b="1" lang="bg-BG" sz="2000" spc="-1" strike="noStrike">
                          <a:solidFill>
                            <a:srgbClr val="8fccd1"/>
                          </a:solidFill>
                          <a:latin typeface="Arial"/>
                        </a:rPr>
                        <a:t> сайълърдъ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spcBef>
                          <a:spcPts val="499"/>
                        </a:spcBef>
                        <a:buClr>
                          <a:srgbClr val="ff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ff9999"/>
                          </a:solidFill>
                          <a:latin typeface="Arial"/>
                        </a:rPr>
                        <a:t>Артък хер иманлъ </a:t>
                      </a:r>
                      <a:r>
                        <a:rPr b="1" lang="bg-BG" sz="2000" spc="-1" strike="noStrike" u="sng">
                          <a:solidFill>
                            <a:srgbClr val="ff9999"/>
                          </a:solidFill>
                          <a:uFillTx/>
                          <a:latin typeface="Arial"/>
                        </a:rPr>
                        <a:t>кутсалдър</a:t>
                      </a:r>
                      <a:r>
                        <a:rPr b="1" lang="bg-BG" sz="2000" spc="-1" strike="noStrike">
                          <a:solidFill>
                            <a:srgbClr val="ff9999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spcBef>
                          <a:spcPts val="499"/>
                        </a:spcBef>
                        <a:buClr>
                          <a:srgbClr val="8fccd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8fccd1"/>
                          </a:solidFill>
                          <a:latin typeface="Arial"/>
                        </a:rPr>
                        <a:t>Саде гьоревлилер </a:t>
                      </a:r>
                      <a:r>
                        <a:rPr b="1" lang="bg-BG" sz="2000" spc="-1" strike="noStrike" u="sng">
                          <a:solidFill>
                            <a:srgbClr val="8fccd1"/>
                          </a:solidFill>
                          <a:uFillTx/>
                          <a:latin typeface="Arial"/>
                        </a:rPr>
                        <a:t>курбан</a:t>
                      </a:r>
                      <a:r>
                        <a:rPr b="1" lang="bg-BG" sz="2000" spc="-1" strike="noStrike">
                          <a:solidFill>
                            <a:srgbClr val="8fccd1"/>
                          </a:solidFill>
                          <a:latin typeface="Arial"/>
                        </a:rPr>
                        <a:t> сунардъла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spcBef>
                          <a:spcPts val="499"/>
                        </a:spcBef>
                        <a:buClr>
                          <a:srgbClr val="ff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ff9999"/>
                          </a:solidFill>
                          <a:latin typeface="Arial"/>
                        </a:rPr>
                        <a:t>Артък хер иманлъ </a:t>
                      </a:r>
                      <a:r>
                        <a:rPr b="1" lang="bg-BG" sz="2000" spc="-1" strike="noStrike" u="sng">
                          <a:solidFill>
                            <a:srgbClr val="ff9999"/>
                          </a:solidFill>
                          <a:uFillTx/>
                          <a:latin typeface="Arial"/>
                        </a:rPr>
                        <a:t>курбан</a:t>
                      </a:r>
                      <a:r>
                        <a:rPr b="1" lang="bg-BG" sz="2000" spc="-1" strike="noStrike">
                          <a:solidFill>
                            <a:srgbClr val="ff9999"/>
                          </a:solidFill>
                          <a:latin typeface="Arial"/>
                        </a:rPr>
                        <a:t> сунуйо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1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ьоревлилере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ким гьорев вер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0920" y="90792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Иса Месих йенилик гети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0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801"/>
                            </p:stCondLst>
                            <p:childTnLst>
                              <p:par>
                                <p:cTn id="16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1301"/>
                            </p:stCondLst>
                            <p:childTnLst>
                              <p:par>
                                <p:cTn id="1680" autoRev="1" nodeType="after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1" dur="2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9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2" dur="24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7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250920" y="1617840"/>
            <a:ext cx="853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Матта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23: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Сизе гене 'муаллим' демесинлер, чюнкю тек бир Муаллиминиз вар, </a:t>
            </a:r>
            <a:r>
              <a:rPr b="1" lang="tr-TR" sz="2000" spc="-1" strike="noStrike" u="sng">
                <a:solidFill>
                  <a:srgbClr val="ffffff"/>
                </a:solidFill>
                <a:uFillTx/>
                <a:latin typeface="Arial"/>
              </a:rPr>
              <a:t>ве сиз хепиниз кардешсиниз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. Ве йерйюзюнде кимсейе 'баба' демейин. Чюнкю тек бир Бабанъз вар, О да гьоктедир. Сизе 'гюдюджю' демесинлер. Чюнкю тек бир Гюдюджюнюз вар, о да Месихтир. Ама сизин аранъзда ен бюйюк олан, сизин хизмет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кярънъз олсун. Хер ким кендини йюкселтирирсе, о алчалтъръл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аджак. Ве хер ким кендини алчалтърърса, о йюкселтириледжек.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ьоревлилере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ким гьорев вер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324000" y="4292640"/>
            <a:ext cx="2736720" cy="242712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3492360" y="4287960"/>
            <a:ext cx="4897440" cy="24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Aft>
                <a:spcPts val="67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Ферисилерин хатасъ: иманлъарън арасънда айръм гетирдилер: СЪРАДАН иманлълар ве БИРИНДЖИ СЪНЪФ иманли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67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Месихин топлантъсънда херкес ‘кардештир’ – ики айръ категори й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67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Онун ичин киме ел конулурса, о киши бир юст категорийе гечми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90792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9933"/>
                </a:solidFill>
                <a:latin typeface="Arial"/>
              </a:rPr>
              <a:t>Гюдюджюлюк = КАРДЕШИНЕ ХИЗ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3" dur="indefinite" restart="never" nodeType="tmRoot">
          <p:childTnLst>
            <p:seq>
              <p:cTn id="1734" dur="indefinite" nodeType="mainSeq">
                <p:childTnLst>
                  <p:par>
                    <p:cTn id="1735" fill="hold">
                      <p:stCondLst>
                        <p:cond delay="0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801"/>
                            </p:stCondLst>
                            <p:childTnLst>
                              <p:par>
                                <p:cTn id="17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fill="hold">
                            <p:stCondLst>
                              <p:cond delay="1301"/>
                            </p:stCondLst>
                            <p:childTnLst>
                              <p:par>
                                <p:cTn id="1745" autoRev="1" nodeType="after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6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417680"/>
            <a:ext cx="4859280" cy="8254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21236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Деил саде бир пасто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ама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биркач гюдюдж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168720"/>
            <a:ext cx="4859280" cy="11912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21236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Килисейе ярдъм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гелмесин, ама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ендим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сорумлулук алалъ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162400"/>
            <a:ext cx="4932360" cy="11912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21236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3) Деил саде илахиле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bg-BG" sz="2400" spc="-1" strike="noStrike">
                <a:solidFill>
                  <a:srgbClr val="ffcc00"/>
                </a:solidFill>
                <a:latin typeface="Arial"/>
              </a:rPr>
              <a:t>ама 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Кутсал Китаба ьонем верилс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76720" y="1397160"/>
            <a:ext cx="1366920" cy="1056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31280" y="1374840"/>
            <a:ext cx="1512720" cy="1101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91280" y="1158840"/>
            <a:ext cx="99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cc6600"/>
                </a:solidFill>
                <a:latin typeface="Arial"/>
              </a:rPr>
              <a:t>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16720" y="1735200"/>
            <a:ext cx="1152360" cy="287280"/>
          </a:xfrm>
          <a:custGeom>
            <a:avLst/>
            <a:gdLst>
              <a:gd name="textAreaLeft" fmla="*/ 144000 w 1152360"/>
              <a:gd name="textAreaRight" fmla="*/ 1008360 w 1152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88000" y="5450040"/>
            <a:ext cx="1152720" cy="287280"/>
          </a:xfrm>
          <a:custGeom>
            <a:avLst/>
            <a:gdLst>
              <a:gd name="textAreaLeft" fmla="*/ 144000 w 1152720"/>
              <a:gd name="textAreaRight" fmla="*/ 1008720 w 115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16720" y="3573360"/>
            <a:ext cx="1152360" cy="287280"/>
          </a:xfrm>
          <a:custGeom>
            <a:avLst/>
            <a:gdLst>
              <a:gd name="textAreaLeft" fmla="*/ 144000 w 1152360"/>
              <a:gd name="textAreaRight" fmla="*/ 1008360 w 1152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292720" y="314640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885080" y="3141720"/>
            <a:ext cx="1031760" cy="1249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64000" y="2924280"/>
            <a:ext cx="99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cc6600"/>
                </a:solidFill>
                <a:latin typeface="Arial"/>
              </a:rPr>
              <a:t>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7885080" y="4973760"/>
            <a:ext cx="1011240" cy="134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5292720" y="4873680"/>
            <a:ext cx="1109520" cy="1479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64000" y="4869000"/>
            <a:ext cx="99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600" spc="-1" strike="noStrike">
                <a:solidFill>
                  <a:srgbClr val="cc6600"/>
                </a:solidFill>
                <a:latin typeface="Arial"/>
              </a:rPr>
              <a:t>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Саалам топлулуклар ичин </a:t>
            </a:r>
            <a:r>
              <a:rPr b="1" lang="bg-BG" sz="4000" spc="-1" strike="noStrike">
                <a:solidFill>
                  <a:srgbClr val="cc99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3 пренси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ьоревлер 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иле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3300"/>
                </a:solidFill>
                <a:latin typeface="Garamond"/>
              </a:rPr>
              <a:t>Вергил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39640" y="1197000"/>
            <a:ext cx="39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Хер бир </a:t>
            </a:r>
            <a:r>
              <a:rPr b="1" lang="bg-BG" sz="3200" spc="-1" strike="noStrike">
                <a:solidFill>
                  <a:srgbClr val="cc99ff"/>
                </a:solidFill>
                <a:latin typeface="Arial"/>
              </a:rPr>
              <a:t>ИШ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ичи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бу ише гьоре бир </a:t>
            </a:r>
            <a:r>
              <a:rPr b="1" lang="bg-BG" sz="3200" spc="-1" strike="noStrike">
                <a:solidFill>
                  <a:srgbClr val="ff3300"/>
                </a:solidFill>
                <a:latin typeface="Arial"/>
              </a:rPr>
              <a:t>КУВЕТ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лазъ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6948360" y="1052640"/>
            <a:ext cx="1800360" cy="20890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4716360" y="1052640"/>
            <a:ext cx="1800360" cy="20890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539640" y="3692520"/>
            <a:ext cx="396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cc99ff"/>
                </a:solidFill>
                <a:latin typeface="Arial"/>
              </a:rPr>
              <a:t>РАББИН ИШИНИ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япмак ичи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Раб тарафъндан бир </a:t>
            </a:r>
            <a:r>
              <a:rPr b="1" lang="bg-BG" sz="3200" spc="-1" strike="noStrike">
                <a:solidFill>
                  <a:srgbClr val="ff3300"/>
                </a:solidFill>
                <a:latin typeface="Arial"/>
              </a:rPr>
              <a:t>ВЕРГИ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лазъ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4"/>
          <a:stretch/>
        </p:blipFill>
        <p:spPr>
          <a:xfrm>
            <a:off x="6948360" y="3591000"/>
            <a:ext cx="1800360" cy="20764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5"/>
          <a:stretch/>
        </p:blipFill>
        <p:spPr>
          <a:xfrm>
            <a:off x="4716360" y="3591000"/>
            <a:ext cx="1800360" cy="20890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760040" y="6093000"/>
            <a:ext cx="67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Ама бьойле Рух вергиси кимлере верилди?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84" dur="indefinite" restart="never" nodeType="tmRoot">
          <p:childTnLst>
            <p:seq>
              <p:cTn id="1785" dur="indefinite" nodeType="mainSeq">
                <p:childTnLst>
                  <p:par>
                    <p:cTn id="1786" fill="hold">
                      <p:stCondLst>
                        <p:cond delay="0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763200"/>
            <a:ext cx="9144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Ефес 4: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199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Ама </a:t>
            </a: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МЕСИХ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 хер биримизе мерхаметинден верип дередже дередже вергилер даътърдъ.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ьоревлер 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иле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3300"/>
                </a:solidFill>
                <a:latin typeface="Garamond"/>
              </a:rPr>
              <a:t>Вегил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6084720" y="2276640"/>
            <a:ext cx="2880000" cy="20286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>
            <a:lum contrast="42000"/>
          </a:blip>
          <a:stretch/>
        </p:blipFill>
        <p:spPr>
          <a:xfrm>
            <a:off x="326880" y="2276640"/>
            <a:ext cx="2876760" cy="42480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4"/>
          <a:stretch/>
        </p:blipFill>
        <p:spPr>
          <a:xfrm>
            <a:off x="6084720" y="4508640"/>
            <a:ext cx="2880000" cy="20462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3348000" y="2492280"/>
            <a:ext cx="2664000" cy="32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cc00"/>
                </a:solidFill>
                <a:latin typeface="Arial"/>
              </a:rPr>
              <a:t>Иса бурада гьостерилийор йенгийи казанан бир </a:t>
            </a:r>
            <a:r>
              <a:rPr b="1" i="1" lang="bg-BG" sz="1800" spc="-1" strike="noStrike" u="sng">
                <a:solidFill>
                  <a:srgbClr val="cc99ff"/>
                </a:solidFill>
                <a:uFillTx/>
                <a:latin typeface="Arial"/>
              </a:rPr>
              <a:t>генерал</a:t>
            </a:r>
            <a:r>
              <a:rPr b="1" i="1" lang="bg-BG" sz="1800" spc="-1" strike="noStrike">
                <a:solidFill>
                  <a:srgbClr val="ffcc00"/>
                </a:solidFill>
                <a:latin typeface="Arial"/>
              </a:rPr>
              <a:t> гиб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Дюшманъ йенип онун малларънъ еле гечир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Сонра бюйюк алай япъп херкесе о маллардан бола гани даътърд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878840" y="29242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903240" y="58770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Шей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38" dur="indefinite" restart="never" nodeType="tmRoot">
          <p:childTnLst>
            <p:seq>
              <p:cTn id="1839" dur="indefinite" nodeType="mainSeq">
                <p:childTnLst>
                  <p:par>
                    <p:cTn id="1840" fill="hold">
                      <p:stCondLst>
                        <p:cond delay="0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500"/>
                            </p:stCondLst>
                            <p:childTnLst>
                              <p:par>
                                <p:cTn id="18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5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fill="hold">
                            <p:stCondLst>
                              <p:cond delay="500"/>
                            </p:stCondLst>
                            <p:childTnLst>
                              <p:par>
                                <p:cTn id="18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fill="hold">
                            <p:stCondLst>
                              <p:cond delay="500"/>
                            </p:stCondLst>
                            <p:childTnLst>
                              <p:par>
                                <p:cTn id="19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ьоревлер </a:t>
            </a:r>
            <a:r>
              <a:rPr b="1" lang="bg-BG" sz="4000" spc="-1" strike="noStrike">
                <a:solidFill>
                  <a:srgbClr val="ffffff"/>
                </a:solidFill>
                <a:latin typeface="Garamond"/>
              </a:rPr>
              <a:t>иле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ff3300"/>
                </a:solidFill>
                <a:latin typeface="Garamond"/>
              </a:rPr>
              <a:t>Вегил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484360" y="2205000"/>
            <a:ext cx="59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cc00"/>
                </a:solidFill>
                <a:latin typeface="Arial"/>
              </a:rPr>
              <a:t>Иса Шейтанън елинден не алдъ да бизе верд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763200"/>
            <a:ext cx="9144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Ефес 4: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199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Ама Месих хер биримизе мерхаметинден верип дередже дередже </a:t>
            </a: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ВЕРГИЛЕР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 даътърдъ.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79280" y="566100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Инсан нормал халинде </a:t>
            </a:r>
            <a:r>
              <a:rPr b="1" lang="bg-BG" sz="1800" spc="-1" strike="noStrike">
                <a:solidFill>
                  <a:srgbClr val="cc99ff"/>
                </a:solidFill>
                <a:latin typeface="Arial"/>
              </a:rPr>
              <a:t>ЕГОИСТ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тир, саде кендини дюшюнюйор, башкасъна хизмет етмек истемий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59280" y="5661000"/>
            <a:ext cx="39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Иса Месих бизе бахшиш оларак кувет верийор, башкасъна </a:t>
            </a:r>
            <a:r>
              <a:rPr b="1" lang="bg-BG" sz="1800" spc="-1" strike="noStrike">
                <a:solidFill>
                  <a:srgbClr val="cc99ff"/>
                </a:solidFill>
                <a:latin typeface="Arial"/>
              </a:rPr>
              <a:t>ХИЗМЕТ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едел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227640" y="3500280"/>
            <a:ext cx="2448000" cy="2089440"/>
          </a:xfrm>
          <a:prstGeom prst="rect">
            <a:avLst/>
          </a:prstGeom>
          <a:ln w="0">
            <a:noFill/>
          </a:ln>
        </p:spPr>
      </p:pic>
      <p:grpSp>
        <p:nvGrpSpPr>
          <p:cNvPr id="480" name=""/>
          <p:cNvGrpSpPr/>
          <p:nvPr/>
        </p:nvGrpSpPr>
        <p:grpSpPr>
          <a:xfrm>
            <a:off x="1401840" y="3500280"/>
            <a:ext cx="2449440" cy="2087280"/>
            <a:chOff x="1401840" y="3500280"/>
            <a:chExt cx="2449440" cy="2087280"/>
          </a:xfrm>
        </p:grpSpPr>
        <p:sp>
          <p:nvSpPr>
            <p:cNvPr id="481" name=""/>
            <p:cNvSpPr/>
            <p:nvPr/>
          </p:nvSpPr>
          <p:spPr>
            <a:xfrm>
              <a:off x="1401840" y="3500280"/>
              <a:ext cx="2447640" cy="208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2" name="" descr=""/>
            <p:cNvPicPr/>
            <p:nvPr/>
          </p:nvPicPr>
          <p:blipFill>
            <a:blip r:embed="rId3"/>
            <a:stretch/>
          </p:blipFill>
          <p:spPr>
            <a:xfrm>
              <a:off x="1401840" y="3787560"/>
              <a:ext cx="2449440" cy="1630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0" y="2997360"/>
            <a:ext cx="1800360" cy="13190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5"/>
          <a:srcRect l="0" t="18871" r="0" b="16307"/>
          <a:stretch/>
        </p:blipFill>
        <p:spPr>
          <a:xfrm>
            <a:off x="4643280" y="2986200"/>
            <a:ext cx="1800360" cy="130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fill="hold">
                      <p:stCondLst>
                        <p:cond delay="0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6" fill="hold">
                            <p:stCondLst>
                              <p:cond delay="500"/>
                            </p:stCondLst>
                            <p:childTnLst>
                              <p:par>
                                <p:cTn id="19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574560" y="3354120"/>
            <a:ext cx="8569440" cy="20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Ефес 4: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001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Ама Месих хер биримизе мерхаметинден верип дередже дередже вергилер даътърдъ.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ff"/>
                </a:solidFill>
                <a:latin typeface="Arial"/>
              </a:rPr>
              <a:t>- Иса, Шейтанън гюджюню къръп бизи бенджилликтен сербест етти. Артък башкаларъна хизмет едебилир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ff"/>
                </a:solidFill>
                <a:latin typeface="Arial"/>
              </a:rPr>
              <a:t>- Демек, Раб хепимизе фърсат верди, килиседе ишлейел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ьоревлилере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ким гьорев вер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308600" y="1052640"/>
            <a:ext cx="632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99ff"/>
                </a:solidFill>
                <a:latin typeface="Comic Sans MS"/>
              </a:rPr>
              <a:t>ГЬОРЕВЛЕР</a:t>
            </a:r>
            <a:r>
              <a:rPr b="1" lang="bg-BG" sz="3600" spc="-1" strike="noStrike">
                <a:solidFill>
                  <a:srgbClr val="000000"/>
                </a:solidFill>
                <a:latin typeface="Comic Sans MS"/>
              </a:rPr>
              <a:t> иле </a:t>
            </a:r>
            <a:r>
              <a:rPr b="1" lang="bg-BG" sz="3600" spc="-1" strike="noStrike">
                <a:solidFill>
                  <a:srgbClr val="ff6600"/>
                </a:solidFill>
                <a:latin typeface="Comic Sans MS"/>
              </a:rPr>
              <a:t>ВЕРГИЛ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60360" y="1936800"/>
            <a:ext cx="87487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Раббин ишинде ьонемли бир пренси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Саде о иманлълар Раббин </a:t>
            </a:r>
            <a:r>
              <a:rPr b="0" lang="bg-BG" sz="3200" spc="-1" strike="noStrike">
                <a:solidFill>
                  <a:srgbClr val="cc99ff"/>
                </a:solidFill>
                <a:latin typeface="Arial"/>
              </a:rPr>
              <a:t>ишини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япсънла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киме Раб о иш ичин бир </a:t>
            </a:r>
            <a:r>
              <a:rPr b="0" lang="bg-BG" sz="3200" spc="-1" strike="noStrike">
                <a:solidFill>
                  <a:srgbClr val="ff6600"/>
                </a:solidFill>
                <a:latin typeface="Arial"/>
              </a:rPr>
              <a:t>верги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вердийсе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59" dur="indefinite" restart="never" nodeType="tmRoot">
          <p:childTnLst>
            <p:seq>
              <p:cTn id="1960" dur="indefinite" nodeType="mainSeq">
                <p:childTnLst>
                  <p:par>
                    <p:cTn id="1961" fill="hold">
                      <p:stCondLst>
                        <p:cond delay="0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466560" y="1044000"/>
            <a:ext cx="8569440" cy="20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Ефес 4: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001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Ама Месих хер биримизе мерхаметинден верип дередже дередже вергилер даътърдъ.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ff"/>
                </a:solidFill>
                <a:latin typeface="Arial"/>
              </a:rPr>
              <a:t>- Иса, Шейтанън гюджюню къръп бизи бенджилликтен сербест етти. Артък башкаларъна хизмет едебилир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ff"/>
                </a:solidFill>
                <a:latin typeface="Arial"/>
              </a:rPr>
              <a:t>- Демек, Раб хепимизе фърсат верди, килиседе ишлейел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1762200" y="3429000"/>
            <a:ext cx="2244600" cy="295272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498920" y="3429000"/>
            <a:ext cx="2211480" cy="29527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ьоревлилере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ким гьорев вер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89" dur="indefinite" restart="never" nodeType="tmRoot">
          <p:childTnLst>
            <p:seq>
              <p:cTn id="1990" dur="indefinite" nodeType="mainSeq">
                <p:childTnLst>
                  <p:par>
                    <p:cTn id="1991" fill="hold">
                      <p:stCondLst>
                        <p:cond delay="0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95280" y="903960"/>
            <a:ext cx="8532720" cy="38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Ром 12: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Гене де, бизе верилен мерхамете гьоре, айръ айръ вергилеримиз ва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егер пейгамберлик исе, иманън дереджесине гьоре олсун.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 егер хизмет етмек исе, хизмет етмек олсу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 егер </a:t>
            </a:r>
            <a:r>
              <a:rPr b="1" lang="tr-TR" sz="2000" spc="-1" strike="noStrike">
                <a:solidFill>
                  <a:srgbClr val="ff5050"/>
                </a:solidFill>
                <a:latin typeface="Arial"/>
              </a:rPr>
              <a:t>ьоретирмек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исе, ьоретирмек олсу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егер кураж вермек исе, кураж вермек олсу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 ким пара ярдъмъ япарса, онун ели ачък олсу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 ким </a:t>
            </a:r>
            <a:r>
              <a:rPr b="1" lang="tr-TR" sz="2000" spc="-1" strike="noStrike">
                <a:solidFill>
                  <a:srgbClr val="ff5050"/>
                </a:solidFill>
                <a:latin typeface="Arial"/>
              </a:rPr>
              <a:t>гюдюджюлюк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япарса, ону диккатла япсъ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 ким башкаларъна аджърса, ону севинчле япсън.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ff"/>
                </a:solidFill>
                <a:latin typeface="Arial"/>
              </a:rPr>
              <a:t>- Демек, Раб кими кишилере фърсат верди, топлулукта гюдюджюлюк япсънл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7794720" y="5084640"/>
            <a:ext cx="1206360" cy="13687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5275440" y="5084640"/>
            <a:ext cx="1290600" cy="136872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179280" y="5084640"/>
            <a:ext cx="1203480" cy="13687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1386000" y="5084640"/>
            <a:ext cx="1323720" cy="13687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5"/>
          <a:stretch/>
        </p:blipFill>
        <p:spPr>
          <a:xfrm>
            <a:off x="2682720" y="5084640"/>
            <a:ext cx="1297080" cy="13687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6"/>
          <a:stretch/>
        </p:blipFill>
        <p:spPr>
          <a:xfrm>
            <a:off x="6553080" y="5084640"/>
            <a:ext cx="1241640" cy="136872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7"/>
          <a:stretch/>
        </p:blipFill>
        <p:spPr>
          <a:xfrm>
            <a:off x="3978360" y="5084640"/>
            <a:ext cx="1295280" cy="136872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ьоревлилере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ким гьорев вер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31" dur="indefinite" restart="never" nodeType="tmRoot">
          <p:childTnLst>
            <p:seq>
              <p:cTn id="2032" dur="indefinite" nodeType="mainSeq">
                <p:childTnLst>
                  <p:par>
                    <p:cTn id="2033" fill="hold">
                      <p:stCondLst>
                        <p:cond delay="0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500"/>
                            </p:stCondLst>
                            <p:childTnLst>
                              <p:par>
                                <p:cTn id="20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fill="hold">
                            <p:stCondLst>
                              <p:cond delay="500"/>
                            </p:stCondLst>
                            <p:childTnLst>
                              <p:par>
                                <p:cTn id="20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500"/>
                            </p:stCondLst>
                            <p:childTnLst>
                              <p:par>
                                <p:cTn id="20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500"/>
                            </p:stCondLst>
                            <p:childTnLst>
                              <p:par>
                                <p:cTn id="20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500"/>
                            </p:stCondLst>
                            <p:childTnLst>
                              <p:par>
                                <p:cTn id="2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500"/>
                            </p:stCondLst>
                            <p:childTnLst>
                              <p:par>
                                <p:cTn id="2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500"/>
                            </p:stCondLst>
                            <p:childTnLst>
                              <p:par>
                                <p:cTn id="214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1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723960" y="2502000"/>
            <a:ext cx="36320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00"/>
                </a:solidFill>
                <a:latin typeface="Bookman Old Style"/>
              </a:rPr>
              <a:t>ЗОРЛАН ГЮЗЕЛЛИК ОЛМАЗ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1189080" y="5013360"/>
            <a:ext cx="2735280" cy="17049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3"/>
          <a:stretch/>
        </p:blipFill>
        <p:spPr>
          <a:xfrm>
            <a:off x="6659640" y="2430360"/>
            <a:ext cx="1441440" cy="103032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4"/>
          <a:stretch/>
        </p:blipFill>
        <p:spPr>
          <a:xfrm>
            <a:off x="5724360" y="4653000"/>
            <a:ext cx="1951200" cy="166032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5"/>
          <a:stretch/>
        </p:blipFill>
        <p:spPr>
          <a:xfrm>
            <a:off x="6877080" y="5372280"/>
            <a:ext cx="1871640" cy="12585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-34920" y="905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cc00"/>
                </a:solidFill>
                <a:latin typeface="Arial"/>
              </a:rPr>
              <a:t>1.Петрус 5:1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6560" y="1638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деил зорлуктан имиш гиби, ама </a:t>
            </a:r>
            <a:r>
              <a:rPr b="1" lang="tr-TR" sz="2200" spc="-1" strike="noStrike">
                <a:solidFill>
                  <a:srgbClr val="9999ff"/>
                </a:solidFill>
                <a:latin typeface="Arial"/>
              </a:rPr>
              <a:t>Аллахън истедии гиб</a:t>
            </a:r>
            <a:r>
              <a:rPr b="1" lang="bg-BG" sz="2200" spc="-1" strike="noStrike">
                <a:solidFill>
                  <a:srgbClr val="9999ff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08720" y="163836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деил казанч ичин, ама </a:t>
            </a:r>
            <a:r>
              <a:rPr b="1" lang="tr-TR" sz="2200" spc="-1" strike="noStrike">
                <a:solidFill>
                  <a:srgbClr val="9999ff"/>
                </a:solidFill>
                <a:latin typeface="Arial"/>
              </a:rPr>
              <a:t>меракл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24000" y="3789360"/>
            <a:ext cx="464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деил сизе еманет едилен кишилере зорбаджълък япмакла, ама сюрюйе </a:t>
            </a:r>
            <a:r>
              <a:rPr b="1" lang="tr-TR" sz="2200" spc="-1" strike="noStrike">
                <a:solidFill>
                  <a:srgbClr val="9999ff"/>
                </a:solidFill>
                <a:latin typeface="Arial"/>
              </a:rPr>
              <a:t>ьорнек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 олмакл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80000" y="378936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9999ff"/>
                </a:solidFill>
                <a:latin typeface="Arial"/>
              </a:rPr>
              <a:t>башчобана сорумлу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олара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-27000"/>
            <a:ext cx="9180360" cy="792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 олмак ичин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шартл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45" dur="indefinite" restart="never" nodeType="tmRoot">
          <p:childTnLst>
            <p:seq>
              <p:cTn id="2146" dur="indefinite" nodeType="mainSeq">
                <p:childTnLst>
                  <p:par>
                    <p:cTn id="2147" fill="hold">
                      <p:stCondLst>
                        <p:cond delay="0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500"/>
                            </p:stCondLst>
                            <p:childTnLst>
                              <p:par>
                                <p:cTn id="2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fill="hold">
                            <p:stCondLst>
                              <p:cond delay="500"/>
                            </p:stCondLst>
                            <p:childTnLst>
                              <p:par>
                                <p:cTn id="2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8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884240" y="730080"/>
            <a:ext cx="138636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кусурсу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52280" y="1268280"/>
            <a:ext cx="326232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бир кадънън коджас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17400" y="1844640"/>
            <a:ext cx="344664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иманлъ къзанларъ в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50920" y="2492280"/>
            <a:ext cx="3384360" cy="8254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хеп кенди кафасъна гьоре гитмес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46840" y="3429000"/>
            <a:ext cx="341928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хемен ьофкеленме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й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58560" y="4005360"/>
            <a:ext cx="214992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ичкиджи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е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30200" y="4545000"/>
            <a:ext cx="228096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кавгаджъ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е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99600" y="5086440"/>
            <a:ext cx="423936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паранън пешинден кошма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я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1680" y="5661000"/>
            <a:ext cx="507744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мисафирлери кабул етмейи сев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55600" y="6202440"/>
            <a:ext cx="211788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ийилии сев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27640" y="981000"/>
            <a:ext cx="24480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аклъ башъ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059600" y="1593720"/>
            <a:ext cx="12780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дюрю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288120" y="2241720"/>
            <a:ext cx="219852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Аллаха баал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542920" y="2817720"/>
            <a:ext cx="341604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кендини запте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еби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219640" y="3429000"/>
            <a:ext cx="37800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аалам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ьоретиш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вер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468120" y="4005360"/>
            <a:ext cx="16668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ърбашл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508720" y="4581360"/>
            <a:ext cx="3203640" cy="8254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енди евини ийи гю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ю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923440" y="5516640"/>
            <a:ext cx="289800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ни иманлъ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еи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535640" y="6035760"/>
            <a:ext cx="4608360" cy="8254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ъшаръдакилер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ну ийи бири оларак танъ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йор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1763640" y="118908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2830320" y="1353960"/>
            <a:ext cx="347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БЕН бу гьорев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уйгун муйум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-27000"/>
            <a:ext cx="9180360" cy="865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Гюдюджю олмак ичин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шартлар</a:t>
            </a:r>
            <a:br>
              <a:rPr sz="4000"/>
            </a:br>
            <a:r>
              <a:rPr b="1" lang="bg-BG" sz="2400" spc="-1" strike="noStrike">
                <a:solidFill>
                  <a:srgbClr val="ffcc00"/>
                </a:solidFill>
                <a:latin typeface="Garamond"/>
              </a:rPr>
              <a:t>Титус 1:5-9 </a:t>
            </a:r>
            <a:r>
              <a:rPr b="1" lang="bg-BG" sz="2400" spc="-1" strike="noStrike">
                <a:solidFill>
                  <a:srgbClr val="99ccff"/>
                </a:solidFill>
                <a:latin typeface="Garamond"/>
              </a:rPr>
              <a:t>ве</a:t>
            </a:r>
            <a:r>
              <a:rPr b="1" lang="bg-BG" sz="2400" spc="-1" strike="noStrike">
                <a:solidFill>
                  <a:srgbClr val="ffcc00"/>
                </a:solidFill>
                <a:latin typeface="Garamond"/>
              </a:rPr>
              <a:t> 1.Тимотейус 3:1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09" dur="indefinite" restart="never" nodeType="tmRoot">
          <p:childTnLst>
            <p:seq>
              <p:cTn id="2210" dur="indefinite" nodeType="mainSeq">
                <p:childTnLst>
                  <p:par>
                    <p:cTn id="2211" fill="hold">
                      <p:stCondLst>
                        <p:cond delay="0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9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6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1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7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5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fill="hold">
                      <p:stCondLst>
                        <p:cond delay="indefinite"/>
                      </p:stCondLst>
                      <p:childTnLst>
                        <p:par>
                          <p:cTn id="2368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3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1850760"/>
            <a:ext cx="914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2160"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Хезекиел 34 2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"Инсанолу, Исраил'ин чобанларъна каршъ пейгамберлик ет ве онлара, бу чобанлара шьойле де: 'Егемен РАБ дийор ки: Вай кенди кендини гюден Исраил чобанларъна!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Чобанларън сюрюйю гютмеси герекмез ми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йъфларъ гючлендирмединиз, хасталаръ ийилештирмединиз, яралъларън ярасънъ сармадънъз. Йолуну шашъранларъ гери гетирмединиз, кайъларъ арамадънъз. Анджак сертлик ве шиддетле онлара егемен олдуну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Чобанларъ олмадъъ ичин даълдълар, ябанъл хайванлара йем олдулар. Койунларъм бютюн даларда, йюксек тепелерде башъбош доландълар. Койунларъм йерйюзюне даълдъ. Онларъ не араян вар, не сор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"'Бу йюзден, ей чобанлар, РАБ'бин сьозюню динлейин.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нун ичин, ей чобанлар, РАБ'бин сьозюню динлейин.  Егемен РАБ шьойле дийор: Бен чобанлара каршъйъм! Койунларъмдан онларъ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сорумлу тутаджаъм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койунларъмъ гютмелерине сон вередже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0"/>
            <a:ext cx="9180360" cy="1152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cc99ff"/>
                </a:solidFill>
                <a:latin typeface="Garamond"/>
              </a:rPr>
              <a:t>Чобан олмак истейенлере</a:t>
            </a:r>
            <a:br>
              <a:rPr sz="4000"/>
            </a:br>
            <a:r>
              <a:rPr b="1" lang="bg-BG" sz="4000" spc="-1" strike="noStrike">
                <a:solidFill>
                  <a:srgbClr val="ff3300"/>
                </a:solidFill>
                <a:latin typeface="Garamond"/>
              </a:rPr>
              <a:t>КОРКУ</a:t>
            </a:r>
            <a:r>
              <a:rPr b="1" lang="bg-BG" sz="4000" spc="-1" strike="noStrike">
                <a:solidFill>
                  <a:srgbClr val="cc99ff"/>
                </a:solidFill>
                <a:latin typeface="Garamond"/>
              </a:rPr>
              <a:t> ве </a:t>
            </a:r>
            <a:r>
              <a:rPr b="1" lang="bg-BG" sz="4000" spc="-1" strike="noStrike">
                <a:solidFill>
                  <a:srgbClr val="ffcc00"/>
                </a:solidFill>
                <a:latin typeface="Garamond"/>
              </a:rPr>
              <a:t>КУРА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1181160"/>
            <a:ext cx="9144000" cy="52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66"/>
                </a:solidFill>
                <a:latin typeface="Arial"/>
              </a:rPr>
              <a:t>Диккат един: чобанлък ойунджак деилд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77" dur="indefinite" restart="never" nodeType="tmRoot">
          <p:childTnLst>
            <p:seq>
              <p:cTn id="2378" dur="indefinite" nodeType="mainSeq">
                <p:childTnLst>
                  <p:par>
                    <p:cTn id="2379" fill="hold">
                      <p:stCondLst>
                        <p:cond delay="0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fill="hold">
                      <p:stCondLst>
                        <p:cond delay="indefinite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7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2" nodeType="after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3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fill="hold">
                      <p:stCondLst>
                        <p:cond delay="indefinite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8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250920" y="1771920"/>
            <a:ext cx="867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Йуханна  10 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Ийи чобан бен'им. Ийи чобан койунлар ичин джанънъ верийор. 12 Ама дийелим вар кираланмъш бир ишчи: о асъл чобан деил, койунлар да онун деил. О гьордю мю, курт якънлъйор, койунларъ бракъп качаджак. Курт да онларъ кападжак ве койунларъ даътъраджак. Шимди, киралан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мъш ишчи неден качъйор - чюнкю анджак кираланмъштър ве </a:t>
            </a:r>
            <a:r>
              <a:rPr b="0" lang="tr-TR" sz="2000" spc="-1" strike="noStrike" u="sng">
                <a:solidFill>
                  <a:srgbClr val="ffffff"/>
                </a:solidFill>
                <a:uFillTx/>
                <a:latin typeface="Arial"/>
              </a:rPr>
              <a:t>кенди койунларъ ичин дюшюнмез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6012000" y="4149720"/>
            <a:ext cx="2663640" cy="22320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395280" y="4149720"/>
            <a:ext cx="2664000" cy="22129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3"/>
          <a:stretch/>
        </p:blipFill>
        <p:spPr>
          <a:xfrm>
            <a:off x="3276720" y="4221000"/>
            <a:ext cx="2452680" cy="207648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541440" y="649116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Койунларъ корум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276720" y="631656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Койунлардан саде файдаланъ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727960" y="6491160"/>
            <a:ext cx="33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Саде кейфини дюшюню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-27000"/>
            <a:ext cx="9180360" cy="1152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cc99ff"/>
                </a:solidFill>
                <a:latin typeface="Garamond"/>
              </a:rPr>
              <a:t>Чобан олмак истейенлере</a:t>
            </a:r>
            <a:br>
              <a:rPr sz="4000"/>
            </a:br>
            <a:r>
              <a:rPr b="1" lang="bg-BG" sz="4000" spc="-1" strike="noStrike">
                <a:solidFill>
                  <a:srgbClr val="ff3300"/>
                </a:solidFill>
                <a:latin typeface="Garamond"/>
              </a:rPr>
              <a:t>КОРКУ</a:t>
            </a:r>
            <a:r>
              <a:rPr b="1" lang="bg-BG" sz="4000" spc="-1" strike="noStrike">
                <a:solidFill>
                  <a:srgbClr val="cc99ff"/>
                </a:solidFill>
                <a:latin typeface="Garamond"/>
              </a:rPr>
              <a:t> ве </a:t>
            </a:r>
            <a:r>
              <a:rPr b="1" lang="bg-BG" sz="4000" spc="-1" strike="noStrike">
                <a:solidFill>
                  <a:srgbClr val="ffcc00"/>
                </a:solidFill>
                <a:latin typeface="Garamond"/>
              </a:rPr>
              <a:t>КУРА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1125360"/>
            <a:ext cx="9144000" cy="52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66"/>
                </a:solidFill>
                <a:latin typeface="Arial"/>
              </a:rPr>
              <a:t>Диккат един: чобанлък ойунджак деилд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99" dur="indefinite" restart="never" nodeType="tmRoot">
          <p:childTnLst>
            <p:seq>
              <p:cTn id="2400" dur="indefinite" nodeType="mainSeq">
                <p:childTnLst>
                  <p:par>
                    <p:cTn id="2401" fill="hold">
                      <p:stCondLst>
                        <p:cond delay="0"/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9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1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4" nodeType="after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5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6" fill="hold">
                      <p:stCondLst>
                        <p:cond delay="indefinite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0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fill="hold">
                      <p:stCondLst>
                        <p:cond delay="indefinite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8" fill="hold">
                            <p:stCondLst>
                              <p:cond delay="500"/>
                            </p:stCondLst>
                            <p:childTnLst>
                              <p:par>
                                <p:cTn id="2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091280" y="5084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3440" y="541656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24720" y="5589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34160" y="54878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50920" y="1700280"/>
            <a:ext cx="2519280" cy="1584360"/>
            <a:chOff x="250920" y="1700280"/>
            <a:chExt cx="2519280" cy="1584360"/>
          </a:xfrm>
        </p:grpSpPr>
        <p:sp>
          <p:nvSpPr>
            <p:cNvPr id="65" name=""/>
            <p:cNvSpPr/>
            <p:nvPr/>
          </p:nvSpPr>
          <p:spPr>
            <a:xfrm>
              <a:off x="324000" y="184500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22560" y="239256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87640" y="170028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7280" y="285300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51280" y="184500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87640" y="227664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64000" y="292428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0920" y="2392560"/>
              <a:ext cx="647640" cy="360360"/>
            </a:xfrm>
            <a:prstGeom prst="can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7813800" y="592128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921280"/>
            <a:ext cx="64800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45440" y="5445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21280"/>
            <a:ext cx="64800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125360"/>
            <a:ext cx="70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. Олгун топлулук бир </a:t>
            </a:r>
            <a:r>
              <a:rPr b="1" lang="bg-BG" sz="2000" spc="-1" strike="noStrike">
                <a:solidFill>
                  <a:srgbClr val="cccc00"/>
                </a:solidFill>
                <a:latin typeface="Arial"/>
              </a:rPr>
              <a:t>мюждеджи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сечип гьондер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27320" y="1844640"/>
            <a:ext cx="52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. О да гидип </a:t>
            </a:r>
            <a:r>
              <a:rPr b="1" lang="bg-BG" sz="2000" spc="-1" strike="noStrike">
                <a:solidFill>
                  <a:srgbClr val="cccc00"/>
                </a:solidFill>
                <a:latin typeface="Arial"/>
              </a:rPr>
              <a:t>Аллахън сьозюню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ек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8000" y="2422440"/>
            <a:ext cx="26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. Кишилер тьовбе едерсе онларъ </a:t>
            </a:r>
            <a:r>
              <a:rPr b="1" lang="bg-BG" sz="2000" spc="-1" strike="noStrike">
                <a:solidFill>
                  <a:srgbClr val="cccc00"/>
                </a:solidFill>
                <a:latin typeface="Arial"/>
              </a:rPr>
              <a:t>вафтиз ед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95640" y="488808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. Бунларън арасъндан </a:t>
            </a:r>
            <a:r>
              <a:rPr b="1" lang="bg-BG" sz="2000" spc="-1" strike="noStrike">
                <a:solidFill>
                  <a:srgbClr val="cccc00"/>
                </a:solidFill>
                <a:latin typeface="Arial"/>
              </a:rPr>
              <a:t>гюдюджю йетиштир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582300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. Йени топлулук олгунлаштъ мъ, </a:t>
            </a:r>
            <a:r>
              <a:rPr b="1" lang="bg-BG" sz="2000" spc="-1" strike="noStrike">
                <a:solidFill>
                  <a:srgbClr val="cccc00"/>
                </a:solidFill>
                <a:latin typeface="Arial"/>
              </a:rPr>
              <a:t>башка йере гид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Топлулук</a:t>
            </a:r>
            <a:r>
              <a:rPr b="1" lang="bg-BG" sz="4000" spc="-1" strike="noStrike">
                <a:solidFill>
                  <a:srgbClr val="cc99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насъл курулу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0" t="0" r="48148" b="0"/>
          <a:stretch/>
        </p:blipFill>
        <p:spPr>
          <a:xfrm>
            <a:off x="395280" y="1413000"/>
            <a:ext cx="1728720" cy="2504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0" t="0" r="-1512" b="0"/>
          <a:stretch/>
        </p:blipFill>
        <p:spPr>
          <a:xfrm>
            <a:off x="4572000" y="2563920"/>
            <a:ext cx="3384720" cy="250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877080" y="3645000"/>
            <a:ext cx="1541520" cy="1800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4572000" y="2579760"/>
            <a:ext cx="1800360" cy="250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401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401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9259E-006 L 0.45677 0.1743 E">
                                      <p:cBhvr>
                                        <p:cTn id="162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401"/>
                            </p:stCondLst>
                            <p:childTnLst>
                              <p:par>
                                <p:cTn id="1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401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401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401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901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401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901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401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901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401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401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3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1"/>
                            </p:stCondLst>
                            <p:childTnLst>
                              <p:par>
                                <p:cTn id="23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3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1"/>
                            </p:stCondLst>
                            <p:childTnLst>
                              <p:par>
                                <p:cTn id="24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4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4.44444E-006 L -0.59445 0.11551 E">
                                      <p:cBhvr>
                                        <p:cTn id="262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3713"/>
            </a:gs>
            <a:gs pos="100000">
              <a:srgbClr val="0008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1125360"/>
            <a:ext cx="9144000" cy="52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66"/>
                </a:solidFill>
                <a:latin typeface="Arial"/>
              </a:rPr>
              <a:t>Диккат един: чобанлък ойунджак деилд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68360" y="2172240"/>
            <a:ext cx="403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1.Тимотейус 3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Шу сьоз чок дорудур: "Бир кишинин мераъ вар мъ, топ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лулуун гюдюджюсю олсун, демек ийи бир иш истийор."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861080" y="2172240"/>
            <a:ext cx="42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1.Петрус 5: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4720"/>
                <a:tab algn="l" pos="863640"/>
                <a:tab algn="l" pos="122400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Ве Башчобан не заман ортая чъкаджакса, о заман солмаз бир шанлълък таджъ аладжанъз.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6102360" y="3860640"/>
            <a:ext cx="2286000" cy="274320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684360" y="4076640"/>
            <a:ext cx="3338280" cy="215892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0" y="-27000"/>
            <a:ext cx="9180360" cy="115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cc99ff"/>
                </a:solidFill>
                <a:latin typeface="Garamond"/>
              </a:rPr>
              <a:t>Чобан олмак истейенлере</a:t>
            </a:r>
            <a:br>
              <a:rPr sz="4000"/>
            </a:br>
            <a:r>
              <a:rPr b="1" lang="bg-BG" sz="4000" spc="-1" strike="noStrike">
                <a:solidFill>
                  <a:srgbClr val="ff3300"/>
                </a:solidFill>
                <a:latin typeface="Garamond"/>
              </a:rPr>
              <a:t>КОРКУ</a:t>
            </a:r>
            <a:r>
              <a:rPr b="1" lang="bg-BG" sz="4000" spc="-1" strike="noStrike">
                <a:solidFill>
                  <a:srgbClr val="cc99ff"/>
                </a:solidFill>
                <a:latin typeface="Garamond"/>
              </a:rPr>
              <a:t> ве </a:t>
            </a:r>
            <a:r>
              <a:rPr b="1" lang="bg-BG" sz="4000" spc="-1" strike="noStrike">
                <a:solidFill>
                  <a:srgbClr val="ffcc00"/>
                </a:solidFill>
                <a:latin typeface="Garamond"/>
              </a:rPr>
              <a:t>КУРА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60" dur="indefinite" restart="never" nodeType="tmRoot">
          <p:childTnLst>
            <p:seq>
              <p:cTn id="2461" dur="indefinite" nodeType="mainSeq">
                <p:childTnLst>
                  <p:par>
                    <p:cTn id="2462" fill="hold">
                      <p:stCondLst>
                        <p:cond delay="0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fill="hold">
                      <p:stCondLst>
                        <p:cond delay="indefinite"/>
                      </p:stCondLst>
                      <p:childTnLst>
                        <p:par>
                          <p:cTn id="2467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0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5" nodeType="after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6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500"/>
                            </p:stCondLst>
                            <p:childTnLst>
                              <p:par>
                                <p:cTn id="2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8" fill="hold">
                      <p:stCondLst>
                        <p:cond delay="indefinite"/>
                      </p:stCondLst>
                      <p:childTnLst>
                        <p:par>
                          <p:cTn id="2489" fill="hold">
                            <p:stCondLst>
                              <p:cond delay="0"/>
                            </p:stCondLst>
                            <p:childTnLst>
                              <p:par>
                                <p:cTn id="2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3" fill="hold">
                            <p:stCondLst>
                              <p:cond delay="500"/>
                            </p:stCondLst>
                            <p:childTnLst>
                              <p:par>
                                <p:cTn id="24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95280" y="1011240"/>
            <a:ext cx="8352000" cy="54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6600"/>
                </a:solidFill>
                <a:latin typeface="Arial"/>
              </a:rPr>
              <a:t>Базъ ьонемли хакикатла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1) Мюждеджийи гьондерен КИЛИСЕд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- деил деноминация, деил ми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- Мюждеджи киме баалъдър, киме хесап вередж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2) Мюждеджи йени топлулуунун ПАСТОРУ ОЛМУЙ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- Бир топлулуу курмак ичин ве ону узун заман гютмек ичин башка Рух вергиси лазъ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3) Мюждеджи кенди йерине бир кишийи деил, БИРКАЧ киши бракъй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- башка рух вергиси олдуу ичин, топлантъйъ БИР киши башлатъръйор, ама БИРКАЧ киши девам еттирий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Топлулук</a:t>
            </a:r>
            <a:r>
              <a:rPr b="1" lang="bg-BG" sz="4000" spc="-1" strike="noStrike">
                <a:solidFill>
                  <a:srgbClr val="cc99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насъл курулу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52720" y="3859200"/>
            <a:ext cx="1079640" cy="433440"/>
          </a:xfrm>
          <a:prstGeom prst="can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29080" y="4435560"/>
            <a:ext cx="1079640" cy="433440"/>
          </a:xfrm>
          <a:prstGeom prst="can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9080" y="4435560"/>
            <a:ext cx="1079280" cy="433440"/>
          </a:xfrm>
          <a:prstGeom prst="can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48360" y="3500280"/>
            <a:ext cx="1079280" cy="433440"/>
          </a:xfrm>
          <a:prstGeom prst="can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45080" y="3859200"/>
            <a:ext cx="1079640" cy="433440"/>
          </a:xfrm>
          <a:prstGeom prst="can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9080" y="4003560"/>
            <a:ext cx="503280" cy="505080"/>
          </a:xfrm>
          <a:prstGeom prst="line">
            <a:avLst/>
          </a:prstGeom>
          <a:ln w="82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445080" y="3932280"/>
            <a:ext cx="432000" cy="576360"/>
          </a:xfrm>
          <a:prstGeom prst="line">
            <a:avLst/>
          </a:prstGeom>
          <a:ln w="82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219280" y="4578480"/>
            <a:ext cx="1009800" cy="1440"/>
          </a:xfrm>
          <a:prstGeom prst="line">
            <a:avLst/>
          </a:prstGeom>
          <a:ln w="82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500720" y="3571920"/>
            <a:ext cx="1008000" cy="360360"/>
          </a:xfrm>
          <a:prstGeom prst="line">
            <a:avLst/>
          </a:prstGeom>
          <a:ln w="82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5795640" y="3571560"/>
            <a:ext cx="1152360" cy="360360"/>
          </a:xfrm>
          <a:prstGeom prst="line">
            <a:avLst/>
          </a:prstGeom>
          <a:ln w="82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932000" y="3714840"/>
            <a:ext cx="863640" cy="793800"/>
          </a:xfrm>
          <a:prstGeom prst="line">
            <a:avLst/>
          </a:prstGeom>
          <a:ln w="82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716000" y="3859200"/>
            <a:ext cx="1584360" cy="649440"/>
          </a:xfrm>
          <a:prstGeom prst="line">
            <a:avLst/>
          </a:prstGeom>
          <a:ln w="82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5724000" y="3716280"/>
            <a:ext cx="863640" cy="1008000"/>
          </a:xfrm>
          <a:prstGeom prst="line">
            <a:avLst/>
          </a:prstGeom>
          <a:ln w="82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932360" y="4003560"/>
            <a:ext cx="1728720" cy="505080"/>
          </a:xfrm>
          <a:prstGeom prst="line">
            <a:avLst/>
          </a:prstGeom>
          <a:ln w="82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3213000"/>
            <a:ext cx="2519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ЕПИСКОПО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гюдджюю, ьондер, гьозетмен, назъ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47280" y="4197240"/>
            <a:ext cx="1566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ПОЙМЕН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чоба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6165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5600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9280" y="6093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27280" y="6165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0328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24360" y="6093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92720" y="6165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4036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20000" y="616572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08720" y="6497640"/>
            <a:ext cx="64800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4364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17236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8000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07360" y="4916520"/>
            <a:ext cx="2386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ПРЕСВИТЕРО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ихтия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765000"/>
            <a:ext cx="9144000" cy="185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274680">
              <a:spcAft>
                <a:spcPts val="451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Топлантъйъ куран мюждеджи, заманла иманлъларън арасъндан кишилери йетиштирийор, онлара гюдюджюлюк гьоревини верий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spcAft>
                <a:spcPts val="451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Бу адамлар бирлик ичинде топлантъйъ гютмейе башлъйорлар. Мюждеджи чекилий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Бу гьорев ичин Грекчеде юч айръ ад вар (ве онлар да терджюмеден терджюмейе деишийорлар), ама кишилерин иши хеп айнъдър, тект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70120" y="2909880"/>
            <a:ext cx="2881080" cy="2809800"/>
          </a:xfrm>
          <a:prstGeom prst="ellipse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Топлулук</a:t>
            </a:r>
            <a:r>
              <a:rPr b="1" lang="bg-BG" sz="4000" spc="-1" strike="noStrike">
                <a:solidFill>
                  <a:srgbClr val="cc99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насъл курулу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5680" y="3716280"/>
            <a:ext cx="3333960" cy="250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01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5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45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0"/>
                            </p:stCondLst>
                            <p:childTnLst>
                              <p:par>
                                <p:cTn id="42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98844E-006 L 0.25608 -0.31977 E">
                                      <p:cBhvr>
                                        <p:cTn id="430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7000"/>
                            </p:stCondLst>
                            <p:childTnLst>
                              <p:par>
                                <p:cTn id="43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84971E-006 L -0.06702 -0.24647 E">
                                      <p:cBhvr>
                                        <p:cTn id="433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8000"/>
                            </p:stCondLst>
                            <p:childTnLst>
                              <p:par>
                                <p:cTn id="43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4971E-006 L -0.03541 -0.3304 E">
                                      <p:cBhvr>
                                        <p:cTn id="436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9000"/>
                            </p:stCondLst>
                            <p:childTnLst>
                              <p:par>
                                <p:cTn id="43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62 0.02635 L 0.23229 -0.43122 E">
                                      <p:cBhvr>
                                        <p:cTn id="439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5087E-006 L -0.22448 -0.2948 E">
                                      <p:cBhvr>
                                        <p:cTn id="442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500"/>
                            </p:stCondLst>
                            <p:childTnLst>
                              <p:par>
                                <p:cTn id="4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500"/>
                            </p:stCondLst>
                            <p:childTnLst>
                              <p:par>
                                <p:cTn id="4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500"/>
                            </p:stCondLst>
                            <p:childTnLst>
                              <p:par>
                                <p:cTn id="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60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6500"/>
                            </p:stCondLst>
                            <p:childTnLst>
                              <p:par>
                                <p:cTn id="5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70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75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80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850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9000"/>
                            </p:stCondLst>
                            <p:childTnLst>
                              <p:par>
                                <p:cTn id="5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9500"/>
                            </p:stCondLst>
                            <p:childTnLst>
                              <p:par>
                                <p:cTn id="53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3852720" y="2351160"/>
            <a:ext cx="3672000" cy="1368360"/>
            <a:chOff x="3852720" y="2351160"/>
            <a:chExt cx="3672000" cy="1368360"/>
          </a:xfrm>
        </p:grpSpPr>
        <p:sp>
          <p:nvSpPr>
            <p:cNvPr id="127" name=""/>
            <p:cNvSpPr/>
            <p:nvPr/>
          </p:nvSpPr>
          <p:spPr>
            <a:xfrm>
              <a:off x="3852720" y="2710080"/>
              <a:ext cx="107964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29080" y="3286080"/>
              <a:ext cx="107964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69080" y="328608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48360" y="235116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45440" y="271008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29080" y="2854440"/>
              <a:ext cx="50328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445080" y="2783160"/>
              <a:ext cx="431640" cy="576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219280" y="3429000"/>
              <a:ext cx="1009800" cy="1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500720" y="2422800"/>
              <a:ext cx="100800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5795640" y="2422440"/>
              <a:ext cx="115236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932000" y="2565360"/>
              <a:ext cx="863640" cy="793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4716000" y="2709720"/>
              <a:ext cx="1584360" cy="64908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5724720" y="2567160"/>
              <a:ext cx="863280" cy="1008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932360" y="2854440"/>
              <a:ext cx="172872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564000" y="5084640"/>
            <a:ext cx="863640" cy="360360"/>
          </a:xfrm>
          <a:prstGeom prst="can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16360" y="5084640"/>
            <a:ext cx="863640" cy="360360"/>
          </a:xfrm>
          <a:prstGeom prst="can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69080" y="5084640"/>
            <a:ext cx="863640" cy="360360"/>
          </a:xfrm>
          <a:prstGeom prst="can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1440" y="5084640"/>
            <a:ext cx="863640" cy="360360"/>
          </a:xfrm>
          <a:prstGeom prst="can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4005360"/>
            <a:ext cx="301680" cy="1008000"/>
          </a:xfrm>
          <a:prstGeom prst="upArrow">
            <a:avLst>
              <a:gd name="adj1" fmla="val 50000"/>
              <a:gd name="adj2" fmla="val 83532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03640" y="4005360"/>
            <a:ext cx="301680" cy="1008000"/>
          </a:xfrm>
          <a:prstGeom prst="upArrow">
            <a:avLst>
              <a:gd name="adj1" fmla="val 50000"/>
              <a:gd name="adj2" fmla="val 83532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56360" y="4005360"/>
            <a:ext cx="301680" cy="1008000"/>
          </a:xfrm>
          <a:prstGeom prst="upArrow">
            <a:avLst>
              <a:gd name="adj1" fmla="val 50000"/>
              <a:gd name="adj2" fmla="val 83532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8720" y="4005360"/>
            <a:ext cx="301680" cy="1008000"/>
          </a:xfrm>
          <a:prstGeom prst="upArrow">
            <a:avLst>
              <a:gd name="adj1" fmla="val 50000"/>
              <a:gd name="adj2" fmla="val 83532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5360" y="4862520"/>
            <a:ext cx="21574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cccc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33cccc"/>
                </a:solidFill>
                <a:latin typeface="Arial"/>
              </a:rPr>
              <a:t>ДИАКОНО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диакон, гьорев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шемма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1919160"/>
            <a:ext cx="2519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ЕПИСКОПО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гюдджюю, ьондер, гьозетмен, назъ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04400" y="2901960"/>
            <a:ext cx="1566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ПОЙМЕН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чоба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6093000"/>
            <a:ext cx="64800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63640" y="6093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8360" y="6497640"/>
            <a:ext cx="64800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00360" y="6093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0328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08360" y="6093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9564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93080" y="6093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5928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08720" y="6497640"/>
            <a:ext cx="64800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7640" y="6093000"/>
            <a:ext cx="64800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2280" y="3621240"/>
            <a:ext cx="2386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ПРЕСВИТЕРО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ихтия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1628640"/>
            <a:ext cx="2952720" cy="2737080"/>
          </a:xfrm>
          <a:prstGeom prst="ellipse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4797360"/>
            <a:ext cx="2736720" cy="1079640"/>
          </a:xfrm>
          <a:prstGeom prst="ellipse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65000"/>
            <a:ext cx="9144000" cy="103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274680">
              <a:spcAft>
                <a:spcPts val="451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Топлулук, базъ ьозел ишлер ве гьоревлер ичин, гьоревлилер сечийо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spcAft>
                <a:spcPts val="451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Онларън иши даха сънърлъдър, ве гюдюджюлерин ярдъмджъларъдъ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spcAft>
                <a:spcPts val="451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Демек, Инджиле гьоре, килисе ичинде саде </a:t>
            </a: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ики чешит гьорев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в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00720" y="609300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4920" y="2565360"/>
            <a:ext cx="647640" cy="719280"/>
            <a:chOff x="34920" y="2565360"/>
            <a:chExt cx="647640" cy="719280"/>
          </a:xfrm>
        </p:grpSpPr>
        <p:sp>
          <p:nvSpPr>
            <p:cNvPr id="171" name=""/>
            <p:cNvSpPr/>
            <p:nvPr/>
          </p:nvSpPr>
          <p:spPr>
            <a:xfrm>
              <a:off x="34920" y="2637000"/>
              <a:ext cx="647640" cy="64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0960" y="25653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4000" spc="-1" strike="noStrike">
                  <a:solidFill>
                    <a:srgbClr val="ff6600"/>
                  </a:solidFill>
                  <a:latin typeface="Verdana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4920" y="4869000"/>
            <a:ext cx="647640" cy="718560"/>
            <a:chOff x="34920" y="4869000"/>
            <a:chExt cx="647640" cy="718560"/>
          </a:xfrm>
        </p:grpSpPr>
        <p:sp>
          <p:nvSpPr>
            <p:cNvPr id="174" name=""/>
            <p:cNvSpPr/>
            <p:nvPr/>
          </p:nvSpPr>
          <p:spPr>
            <a:xfrm>
              <a:off x="34920" y="4940280"/>
              <a:ext cx="647640" cy="64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0960" y="48690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4000" spc="-1" strike="noStrike">
                  <a:solidFill>
                    <a:srgbClr val="ff6600"/>
                  </a:solidFill>
                  <a:latin typeface="Verdan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203640" y="645336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6093000"/>
            <a:ext cx="64800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16720" y="6497640"/>
            <a:ext cx="647640" cy="360360"/>
          </a:xfrm>
          <a:prstGeom prst="can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Топлулуун</a:t>
            </a:r>
            <a:r>
              <a:rPr b="1" lang="bg-BG" sz="4000" spc="-1" strike="noStrike">
                <a:solidFill>
                  <a:srgbClr val="cc99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организасйо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1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98844E-006 L 0.10625 -0.14151 E">
                                      <p:cBhvr>
                                        <p:cTn id="589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56069E-006 L 0.17726 -0.19399 E">
                                      <p:cBhvr>
                                        <p:cTn id="592" dur="5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98844E-006 L 0.06701 -0.14151 E">
                                      <p:cBhvr>
                                        <p:cTn id="595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45087E-006 L 0.06684 -0.20047 E">
                                      <p:cBhvr>
                                        <p:cTn id="598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5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6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2" dur="100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8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5" dur="1000" autoRev="1" fill="hold"/>
                                        <p:tgtEl>
                                          <p:spTgt spid="1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852720" y="3933720"/>
            <a:ext cx="3672000" cy="1368360"/>
            <a:chOff x="3852720" y="3933720"/>
            <a:chExt cx="3672000" cy="1368360"/>
          </a:xfrm>
        </p:grpSpPr>
        <p:sp>
          <p:nvSpPr>
            <p:cNvPr id="181" name=""/>
            <p:cNvSpPr/>
            <p:nvPr/>
          </p:nvSpPr>
          <p:spPr>
            <a:xfrm>
              <a:off x="3852720" y="4292640"/>
              <a:ext cx="107964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29080" y="4868640"/>
              <a:ext cx="107964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69080" y="486864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48360" y="393372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45440" y="4292640"/>
              <a:ext cx="1079280" cy="433440"/>
            </a:xfrm>
            <a:prstGeom prst="can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29080" y="4437000"/>
              <a:ext cx="50328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6445080" y="4365720"/>
              <a:ext cx="431640" cy="576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219280" y="5011560"/>
              <a:ext cx="1009800" cy="1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500720" y="4005360"/>
              <a:ext cx="100800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5795640" y="4005000"/>
              <a:ext cx="1152360" cy="360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4932000" y="4147920"/>
              <a:ext cx="863640" cy="7938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4716000" y="4292280"/>
              <a:ext cx="1584360" cy="64908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5724720" y="4149720"/>
              <a:ext cx="863280" cy="10080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4932360" y="4437000"/>
              <a:ext cx="1728720" cy="5047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564000" y="5445000"/>
            <a:ext cx="4321080" cy="1152360"/>
            <a:chOff x="3564000" y="5445000"/>
            <a:chExt cx="4321080" cy="1152360"/>
          </a:xfrm>
        </p:grpSpPr>
        <p:sp>
          <p:nvSpPr>
            <p:cNvPr id="196" name=""/>
            <p:cNvSpPr/>
            <p:nvPr/>
          </p:nvSpPr>
          <p:spPr>
            <a:xfrm>
              <a:off x="3564000" y="6237000"/>
              <a:ext cx="863640" cy="36036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16360" y="6237000"/>
              <a:ext cx="863640" cy="36036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69080" y="6237000"/>
              <a:ext cx="863640" cy="36036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21440" y="6237000"/>
              <a:ext cx="863640" cy="36036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51280" y="5445000"/>
              <a:ext cx="216000" cy="720720"/>
            </a:xfrm>
            <a:prstGeom prst="upArrow">
              <a:avLst>
                <a:gd name="adj1" fmla="val 50000"/>
                <a:gd name="adj2" fmla="val 8341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03640" y="5445000"/>
              <a:ext cx="216000" cy="720720"/>
            </a:xfrm>
            <a:prstGeom prst="upArrow">
              <a:avLst>
                <a:gd name="adj1" fmla="val 50000"/>
                <a:gd name="adj2" fmla="val 8341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56360" y="5445000"/>
              <a:ext cx="216000" cy="720720"/>
            </a:xfrm>
            <a:prstGeom prst="upArrow">
              <a:avLst>
                <a:gd name="adj1" fmla="val 50000"/>
                <a:gd name="adj2" fmla="val 8341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08720" y="5445000"/>
              <a:ext cx="216000" cy="720720"/>
            </a:xfrm>
            <a:prstGeom prst="upArrow">
              <a:avLst>
                <a:gd name="adj1" fmla="val 50000"/>
                <a:gd name="adj2" fmla="val 8341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 flipV="1">
            <a:off x="5435640" y="2851920"/>
            <a:ext cx="431640" cy="863640"/>
          </a:xfrm>
          <a:prstGeom prst="upArrow">
            <a:avLst>
              <a:gd name="adj1" fmla="val 50000"/>
              <a:gd name="adj2" fmla="val 50021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687080" y="3284640"/>
            <a:ext cx="1346760" cy="3095640"/>
            <a:chOff x="7687080" y="3284640"/>
            <a:chExt cx="1346760" cy="3095640"/>
          </a:xfrm>
        </p:grpSpPr>
        <p:sp>
          <p:nvSpPr>
            <p:cNvPr id="206" name=""/>
            <p:cNvSpPr/>
            <p:nvPr/>
          </p:nvSpPr>
          <p:spPr>
            <a:xfrm>
              <a:off x="8033040" y="3284640"/>
              <a:ext cx="410400" cy="3095640"/>
            </a:xfrm>
            <a:custGeom>
              <a:avLst/>
              <a:gdLst>
                <a:gd name="textAreaLeft" fmla="*/ 0 w 410400"/>
                <a:gd name="textAreaRight" fmla="*/ 148320 w 410400"/>
                <a:gd name="textAreaTop" fmla="*/ 80640 h 3095640"/>
                <a:gd name="textAreaBottom" fmla="*/ 3015000 h 30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87080" y="4010400"/>
              <a:ext cx="134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fffff"/>
                  </a:solidFill>
                  <a:latin typeface="Arial"/>
                </a:rPr>
                <a:t>Инджилд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ffffff"/>
                  </a:solidFill>
                  <a:latin typeface="Arial"/>
                </a:rPr>
                <a:t>ВА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7747200" y="2062080"/>
            <a:ext cx="1213920" cy="1006560"/>
            <a:chOff x="7747200" y="2062080"/>
            <a:chExt cx="1213920" cy="1006560"/>
          </a:xfrm>
        </p:grpSpPr>
        <p:sp>
          <p:nvSpPr>
            <p:cNvPr id="209" name=""/>
            <p:cNvSpPr/>
            <p:nvPr/>
          </p:nvSpPr>
          <p:spPr>
            <a:xfrm>
              <a:off x="8061120" y="2062080"/>
              <a:ext cx="367920" cy="1006560"/>
            </a:xfrm>
            <a:custGeom>
              <a:avLst/>
              <a:gdLst>
                <a:gd name="textAreaLeft" fmla="*/ 0 w 367920"/>
                <a:gd name="textAreaRight" fmla="*/ 132840 w 367920"/>
                <a:gd name="textAreaTop" fmla="*/ 25920 h 1006560"/>
                <a:gd name="textAreaBottom" fmla="*/ 980640 h 100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47200" y="2312640"/>
              <a:ext cx="1213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3300"/>
                  </a:solidFill>
                  <a:latin typeface="Arial"/>
                </a:rPr>
                <a:t>Инджилд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3300"/>
                  </a:solidFill>
                  <a:latin typeface="Arial"/>
                </a:rPr>
                <a:t>Й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0" y="3141720"/>
            <a:ext cx="9144000" cy="0"/>
          </a:xfrm>
          <a:prstGeom prst="line">
            <a:avLst/>
          </a:prstGeom>
          <a:ln w="101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765000"/>
            <a:ext cx="9144000" cy="124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274680">
              <a:spcAft>
                <a:spcPts val="451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Исадан 100 сене сонра: чок кишилик гюдюджюлюк системинден </a:t>
            </a: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тек кишилик систем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ине гечтилер. О тек гюдюджюйе ‘епископос’ адънъ тактълар, (аслънда о ‘чобан’ ве ‘ихтияр’ гьоревинден фарклъ деи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spcAft>
                <a:spcPts val="451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Артък ики катлъ деил, юч катлъ гюдюджюлюк системи олуш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3216240"/>
            <a:ext cx="2519280" cy="9475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ЕПИСКОПО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гюдджюю, ьондер, гьозетмен, назъ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04400" y="4199040"/>
            <a:ext cx="1566360" cy="6732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ПОЙМЕН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чоба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2280" y="4917960"/>
            <a:ext cx="2386080" cy="6732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ПРЕСВИТЕРО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ихтия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7800" y="5734080"/>
            <a:ext cx="21574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cccc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33cccc"/>
                </a:solidFill>
                <a:latin typeface="Arial"/>
              </a:rPr>
              <a:t>ДИАКОНО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(диакон, гьорев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шемма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3068640"/>
            <a:ext cx="2952720" cy="2592360"/>
          </a:xfrm>
          <a:prstGeom prst="ellipse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6560" y="5662440"/>
            <a:ext cx="2737080" cy="1079640"/>
          </a:xfrm>
          <a:prstGeom prst="ellipse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56000" y="2131920"/>
            <a:ext cx="2664000" cy="647640"/>
          </a:xfrm>
          <a:prstGeom prst="can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1989000"/>
            <a:ext cx="2736720" cy="1079640"/>
          </a:xfrm>
          <a:prstGeom prst="ellipse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4920" y="2135160"/>
            <a:ext cx="647640" cy="719280"/>
            <a:chOff x="34920" y="2135160"/>
            <a:chExt cx="647640" cy="719280"/>
          </a:xfrm>
        </p:grpSpPr>
        <p:sp>
          <p:nvSpPr>
            <p:cNvPr id="222" name=""/>
            <p:cNvSpPr/>
            <p:nvPr/>
          </p:nvSpPr>
          <p:spPr>
            <a:xfrm>
              <a:off x="34920" y="2206800"/>
              <a:ext cx="647640" cy="64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0960" y="21351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4000" spc="-1" strike="noStrike">
                  <a:solidFill>
                    <a:srgbClr val="ff6600"/>
                  </a:solidFill>
                  <a:latin typeface="Verdana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4920" y="4005360"/>
            <a:ext cx="647640" cy="718560"/>
            <a:chOff x="34920" y="4005360"/>
            <a:chExt cx="647640" cy="718560"/>
          </a:xfrm>
        </p:grpSpPr>
        <p:sp>
          <p:nvSpPr>
            <p:cNvPr id="225" name=""/>
            <p:cNvSpPr/>
            <p:nvPr/>
          </p:nvSpPr>
          <p:spPr>
            <a:xfrm>
              <a:off x="34920" y="4076640"/>
              <a:ext cx="647640" cy="64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0960" y="40053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4000" spc="-1" strike="noStrike">
                  <a:solidFill>
                    <a:srgbClr val="ff6600"/>
                  </a:solidFill>
                  <a:latin typeface="Verdan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4920" y="5877000"/>
            <a:ext cx="647640" cy="718560"/>
            <a:chOff x="34920" y="5877000"/>
            <a:chExt cx="647640" cy="718560"/>
          </a:xfrm>
        </p:grpSpPr>
        <p:sp>
          <p:nvSpPr>
            <p:cNvPr id="228" name=""/>
            <p:cNvSpPr/>
            <p:nvPr/>
          </p:nvSpPr>
          <p:spPr>
            <a:xfrm>
              <a:off x="34920" y="5948280"/>
              <a:ext cx="647640" cy="64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0960" y="58770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4000" spc="-1" strike="noStrike">
                  <a:solidFill>
                    <a:srgbClr val="ff6600"/>
                  </a:solidFill>
                  <a:latin typeface="Verdan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780000" y="3860640"/>
            <a:ext cx="3816360" cy="15130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51280" y="4292640"/>
            <a:ext cx="1079640" cy="433440"/>
          </a:xfrm>
          <a:prstGeom prst="can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27640" y="4869000"/>
            <a:ext cx="1079280" cy="433080"/>
          </a:xfrm>
          <a:prstGeom prst="can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4869000"/>
            <a:ext cx="1079640" cy="433080"/>
          </a:xfrm>
          <a:prstGeom prst="can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46560" y="3933720"/>
            <a:ext cx="1079640" cy="433440"/>
          </a:xfrm>
          <a:prstGeom prst="can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443640" y="4292640"/>
            <a:ext cx="1079640" cy="433440"/>
          </a:xfrm>
          <a:prstGeom prst="can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284720" y="3284640"/>
            <a:ext cx="2808360" cy="1007280"/>
            <a:chOff x="4284720" y="3284640"/>
            <a:chExt cx="2808360" cy="1007280"/>
          </a:xfrm>
        </p:grpSpPr>
        <p:sp>
          <p:nvSpPr>
            <p:cNvPr id="237" name=""/>
            <p:cNvSpPr/>
            <p:nvPr/>
          </p:nvSpPr>
          <p:spPr>
            <a:xfrm>
              <a:off x="4284720" y="3284640"/>
              <a:ext cx="216000" cy="1005120"/>
            </a:xfrm>
            <a:prstGeom prst="upArrow">
              <a:avLst>
                <a:gd name="adj1" fmla="val 50000"/>
                <a:gd name="adj2" fmla="val 116333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80360" y="3284640"/>
              <a:ext cx="216000" cy="1005120"/>
            </a:xfrm>
            <a:prstGeom prst="upArrow">
              <a:avLst>
                <a:gd name="adj1" fmla="val 50000"/>
                <a:gd name="adj2" fmla="val 116333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77440" y="3284640"/>
              <a:ext cx="215640" cy="1005120"/>
            </a:xfrm>
            <a:prstGeom prst="upArrow">
              <a:avLst>
                <a:gd name="adj1" fmla="val 50000"/>
                <a:gd name="adj2" fmla="val 116528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32720" y="3286800"/>
              <a:ext cx="215640" cy="1005120"/>
            </a:xfrm>
            <a:prstGeom prst="upArrow">
              <a:avLst>
                <a:gd name="adj1" fmla="val 50000"/>
                <a:gd name="adj2" fmla="val 116528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28000" y="3286800"/>
              <a:ext cx="216000" cy="1005120"/>
            </a:xfrm>
            <a:prstGeom prst="upArrow">
              <a:avLst>
                <a:gd name="adj1" fmla="val 50000"/>
                <a:gd name="adj2" fmla="val 116333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0" y="-27000"/>
            <a:ext cx="9144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Топлулуун</a:t>
            </a:r>
            <a:r>
              <a:rPr b="1" lang="bg-BG" sz="4000" spc="-1" strike="noStrike">
                <a:solidFill>
                  <a:srgbClr val="cc99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организасйо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01"/>
                            </p:stCondLst>
                            <p:childTnLst>
                              <p:par>
                                <p:cTn id="6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04046E-006 L -1.38889E-006 -0.1637 E">
                                      <p:cBhvr>
                                        <p:cTn id="706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500"/>
                            </p:stCondLst>
                            <p:childTnLst>
                              <p:par>
                                <p:cTn id="7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500"/>
                            </p:stCondLst>
                            <p:childTnLst>
                              <p:par>
                                <p:cTn id="7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2500"/>
                            </p:stCondLst>
                            <p:childTnLst>
                              <p:par>
                                <p:cTn id="7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4500"/>
                            </p:stCondLst>
                            <p:childTnLst>
                              <p:par>
                                <p:cTn id="74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7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7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6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8" dur="1000" autoRev="1" fill="hold"/>
                                        <p:tgtEl>
                                          <p:spTgt spid="2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6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1" dur="1000" autoRev="1" fill="hold"/>
                                        <p:tgtEl>
                                          <p:spTgt spid="2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0" dur="1000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Топлулуун</a:t>
            </a:r>
            <a:r>
              <a:rPr b="1" lang="bg-BG" sz="4000" spc="-1" strike="noStrike">
                <a:solidFill>
                  <a:srgbClr val="cc99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организасйо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-34920" y="765000"/>
            <a:ext cx="9144000" cy="60753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227640" y="3789360"/>
            <a:ext cx="576360" cy="54756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35640" y="3284640"/>
            <a:ext cx="288720" cy="27468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95640" y="3284640"/>
            <a:ext cx="289080" cy="27468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16360" y="3213000"/>
            <a:ext cx="289080" cy="27468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5734080"/>
            <a:ext cx="288720" cy="27468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27640" y="1700280"/>
            <a:ext cx="289080" cy="27468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75640" y="2781360"/>
            <a:ext cx="289080" cy="27468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524720" y="4221000"/>
            <a:ext cx="289080" cy="27468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6165720"/>
            <a:ext cx="289080" cy="27468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4520" y="544500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Салам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89800" y="31338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Мерс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142520" y="29242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Тарс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21800" y="292428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Ад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55240" y="141300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Кайсерий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176320" y="248616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Ед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67240" y="39258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Дама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87600" y="63086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Хайф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14880" y="3357720"/>
            <a:ext cx="1430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6600"/>
                </a:solidFill>
                <a:latin typeface="Arial"/>
              </a:rPr>
              <a:t>АНТАК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47640" y="5877000"/>
            <a:ext cx="439272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476360" y="3429000"/>
            <a:ext cx="266400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403280" y="3429000"/>
            <a:ext cx="417672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476360" y="3429000"/>
            <a:ext cx="338292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476360" y="4365720"/>
            <a:ext cx="619128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0000" y="3500280"/>
            <a:ext cx="432000" cy="273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4932000" y="3357720"/>
            <a:ext cx="576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43640" y="1916280"/>
            <a:ext cx="230508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4290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51640" y="3429000"/>
            <a:ext cx="201600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651640" y="1916280"/>
            <a:ext cx="720720" cy="151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859280" y="1916280"/>
            <a:ext cx="1441440" cy="144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140360" y="1844640"/>
            <a:ext cx="223200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6011640" y="1916280"/>
            <a:ext cx="360360" cy="43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7596360" y="2924280"/>
            <a:ext cx="1152360" cy="151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580000" y="2924280"/>
            <a:ext cx="3168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403280" y="2924280"/>
            <a:ext cx="7345440" cy="29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6012000" y="4221000"/>
            <a:ext cx="504720" cy="20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59640" y="4076640"/>
            <a:ext cx="100800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6372000" y="1916280"/>
            <a:ext cx="144360" cy="201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4140360" y="3428640"/>
            <a:ext cx="223200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1476360" y="4149720"/>
            <a:ext cx="4896000" cy="172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588000" y="2923920"/>
            <a:ext cx="216072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6012000" y="4365360"/>
            <a:ext cx="1655640" cy="19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140360" y="3499920"/>
            <a:ext cx="1800000" cy="28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72360" y="1844640"/>
            <a:ext cx="129528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-36360" y="765000"/>
            <a:ext cx="5760720" cy="207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276120">
              <a:spcAft>
                <a:spcPts val="451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Ен Башта хер касабанън килисеси айръ иди. Хепси бирбирлерийле баалантъ курурдулар. Бир ‘център’ йок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27612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2) Месела, Антакя килисеси ен биринджи иди. Хепси она сайгъ гьостерирдилер. Башка килиселерде проблем олунджа, акъл верирдилер, ама сон карар о килисенинд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50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2000"/>
                            </p:stCondLst>
                            <p:childTnLst>
                              <p:par>
                                <p:cTn id="8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2500"/>
                            </p:stCondLst>
                            <p:childTnLst>
                              <p:par>
                                <p:cTn id="8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00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3500"/>
                            </p:stCondLst>
                            <p:childTnLst>
                              <p:par>
                                <p:cTn id="8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4500"/>
                            </p:stCondLst>
                            <p:childTnLst>
                              <p:par>
                                <p:cTn id="8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5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6000"/>
                            </p:stCondLst>
                            <p:childTnLst>
                              <p:par>
                                <p:cTn id="8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65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7000"/>
                            </p:stCondLst>
                            <p:childTnLst>
                              <p:par>
                                <p:cTn id="8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7500"/>
                            </p:stCondLst>
                            <p:childTnLst>
                              <p:par>
                                <p:cTn id="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8000"/>
                            </p:stCondLst>
                            <p:childTnLst>
                              <p:par>
                                <p:cTn id="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8500"/>
                            </p:stCondLst>
                            <p:childTnLst>
                              <p:par>
                                <p:cTn id="8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9500"/>
                            </p:stCondLst>
                            <p:childTnLst>
                              <p:par>
                                <p:cTn id="8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11000"/>
                            </p:stCondLst>
                            <p:childTnLst>
                              <p:par>
                                <p:cTn id="9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1500"/>
                            </p:stCondLst>
                            <p:childTnLst>
                              <p:par>
                                <p:cTn id="9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250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3000"/>
                            </p:stCondLst>
                            <p:childTnLst>
                              <p:par>
                                <p:cTn id="9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2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2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3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000"/>
                            </p:stCondLst>
                            <p:childTnLst>
                              <p:par>
                                <p:cTn id="9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3" dur="2000" fill="hold"/>
                                        <p:tgtEl>
                                          <p:spTgt spid="2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3000"/>
                            </p:stCondLst>
                            <p:childTnLst>
                              <p:par>
                                <p:cTn id="935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3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-34920" y="765000"/>
            <a:ext cx="9144000" cy="60753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5435640" y="3284640"/>
            <a:ext cx="288720" cy="27468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95640" y="3284640"/>
            <a:ext cx="289080" cy="27468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716360" y="3213000"/>
            <a:ext cx="289080" cy="27468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332000" y="5734080"/>
            <a:ext cx="288720" cy="27468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227640" y="1700280"/>
            <a:ext cx="289080" cy="27468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675640" y="2781360"/>
            <a:ext cx="289080" cy="27468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524720" y="4221000"/>
            <a:ext cx="289080" cy="27468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6165720"/>
            <a:ext cx="289080" cy="27468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4520" y="544500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Салам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989800" y="31338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Мерс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142520" y="29242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Тарс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221800" y="292428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Ад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655240" y="141300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Кайсерий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76320" y="248616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Ед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167240" y="39258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Дама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87600" y="63086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ff33"/>
                </a:solidFill>
                <a:latin typeface="Arial"/>
              </a:rPr>
              <a:t>Хайф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012000" y="4221000"/>
            <a:ext cx="504720" cy="2087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659640" y="4076640"/>
            <a:ext cx="1008000" cy="2890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6372000" y="1916280"/>
            <a:ext cx="144360" cy="20174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4140360" y="3428640"/>
            <a:ext cx="2232000" cy="576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1476360" y="4149720"/>
            <a:ext cx="4896000" cy="1727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588000" y="2923920"/>
            <a:ext cx="2160720" cy="10810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-36360" y="765000"/>
            <a:ext cx="5651280" cy="1797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27612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Заманла бюйюк касабалардаки килиселер ‘център’ олду, етрафтаки килиселер она бааланд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27612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) ‘Епископос’ адънъ ташъян ьондерлер артък деил саде бир килисенин, ама бютюн областтаки килиселерин башъ олду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580000" y="3429000"/>
            <a:ext cx="936720" cy="576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788000" y="3357720"/>
            <a:ext cx="1655640" cy="647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84720" y="3573360"/>
            <a:ext cx="863640" cy="792360"/>
          </a:xfrm>
          <a:prstGeom prst="star5">
            <a:avLst/>
          </a:prstGeom>
          <a:solidFill>
            <a:srgbClr val="ccff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6588000" y="1773360"/>
            <a:ext cx="1343160" cy="20635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234120" y="3116160"/>
            <a:ext cx="1430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6600"/>
                </a:solidFill>
                <a:latin typeface="Arial"/>
              </a:rPr>
              <a:t>АНТАК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99ccff"/>
                </a:solidFill>
                <a:latin typeface="Garamond"/>
              </a:rPr>
              <a:t>Топлулуун</a:t>
            </a:r>
            <a:r>
              <a:rPr b="1" lang="bg-BG" sz="4000" spc="-1" strike="noStrike">
                <a:solidFill>
                  <a:srgbClr val="cc99ff"/>
                </a:solidFill>
                <a:latin typeface="Garamond"/>
              </a:rPr>
              <a:t> </a:t>
            </a:r>
            <a:r>
              <a:rPr b="1" lang="bg-BG" sz="4000" spc="-1" strike="noStrike">
                <a:solidFill>
                  <a:srgbClr val="99cc00"/>
                </a:solidFill>
                <a:latin typeface="Garamond"/>
              </a:rPr>
              <a:t>организасйо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500"/>
                            </p:stCondLst>
                            <p:childTnLst>
                              <p:par>
                                <p:cTn id="9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3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800"/>
                            </p:stCondLst>
                            <p:childTnLst>
                              <p:par>
                                <p:cTn id="9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3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100"/>
                            </p:stCondLst>
                            <p:childTnLst>
                              <p:par>
                                <p:cTn id="9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3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1400"/>
                            </p:stCondLst>
                            <p:childTnLst>
                              <p:par>
                                <p:cTn id="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3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700"/>
                            </p:stCondLst>
                            <p:childTnLst>
                              <p:par>
                                <p:cTn id="9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3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3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300"/>
                            </p:stCondLst>
                            <p:childTnLst>
                              <p:par>
                                <p:cTn id="9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3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2600"/>
                            </p:stCondLst>
                            <p:childTnLst>
                              <p:par>
                                <p:cTn id="9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3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2900"/>
                            </p:stCondLst>
                            <p:childTnLst>
                              <p:par>
                                <p:cTn id="989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1" dur="50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4" dur="500" autoRev="1" fill="hold"/>
                                        <p:tgtEl>
                                          <p:spTgt spid="3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7" dur="500" autoRev="1" fill="hold"/>
                                        <p:tgtEl>
                                          <p:spTgt spid="3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0" dur="500" autoRev="1" fill="hold"/>
                                        <p:tgtEl>
                                          <p:spTgt spid="3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0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3" dur="500" autoRev="1" fill="hold"/>
                                        <p:tgtEl>
                                          <p:spTgt spid="3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0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6" dur="500" autoRev="1" fill="hold"/>
                                        <p:tgtEl>
                                          <p:spTgt spid="3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0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9" dur="500" autoRev="1" fill="hold"/>
                                        <p:tgtEl>
                                          <p:spTgt spid="3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2" dur="500" autoRev="1" fill="hold"/>
                                        <p:tgtEl>
                                          <p:spTgt spid="3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500"/>
                            </p:stCondLst>
                            <p:childTnLst>
                              <p:par>
                                <p:cTn id="10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8:37:29Z</dcterms:created>
  <dc:creator>Windows XP</dc:creator>
  <dc:description/>
  <dc:language>en-US</dc:language>
  <cp:lastModifiedBy>asd</cp:lastModifiedBy>
  <dcterms:modified xsi:type="dcterms:W3CDTF">2008-11-23T23:00:18Z</dcterms:modified>
  <cp:revision>302</cp:revision>
  <dc:subject/>
  <dc:title>Иса иле килисе ичин бензетмелер</dc:title>
</cp:coreProperties>
</file>