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C46-310F-4F7D-8F4F-334E131E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F10-7C62-4A1A-AB57-05677060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FB5-7FD1-49CE-AEB6-630B3B4B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383-A27B-47FC-9521-4D653BD8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5EA-8F3A-419B-B05C-AC09E18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B62-AC2F-4271-93EB-1FF533B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0C7-CE42-4D86-9AA5-8632A123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177-508E-4BA6-BE13-321C1DA7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ABD-9354-4A9C-9609-E05F5C2A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D04-4E74-4ECB-B43A-BEE0B3DC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D4C-ABD9-4BFC-919D-544EB9E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89F-36B7-4494-868C-691703D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441A2-8A11-4D3D-A08C-C03BA18531A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6625" r="0" b="23132"/>
          <a:stretch/>
        </p:blipFill>
        <p:spPr>
          <a:xfrm>
            <a:off x="4106880" y="439272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76835" r="0" b="0"/>
          <a:stretch/>
        </p:blipFill>
        <p:spPr>
          <a:xfrm>
            <a:off x="4106880" y="4751280"/>
            <a:ext cx="1973160" cy="41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36371" r="0" b="43375"/>
          <a:stretch/>
        </p:blipFill>
        <p:spPr>
          <a:xfrm>
            <a:off x="4106880" y="4032360"/>
            <a:ext cx="1973160" cy="36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-4073" r="0" b="63629"/>
          <a:stretch/>
        </p:blipFill>
        <p:spPr>
          <a:xfrm>
            <a:off x="4106880" y="3311640"/>
            <a:ext cx="197316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0" b="70178"/>
          <a:stretch/>
        </p:blipFill>
        <p:spPr>
          <a:xfrm>
            <a:off x="1187280" y="3409920"/>
            <a:ext cx="107964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29780" r="0" b="54605"/>
          <a:stretch/>
        </p:blipFill>
        <p:spPr>
          <a:xfrm>
            <a:off x="1187280" y="3959280"/>
            <a:ext cx="107964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41457" r="0" b="35105"/>
          <a:stretch/>
        </p:blipFill>
        <p:spPr>
          <a:xfrm>
            <a:off x="1187280" y="4176720"/>
            <a:ext cx="107964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0" t="64874" r="0" b="0"/>
          <a:stretch/>
        </p:blipFill>
        <p:spPr>
          <a:xfrm>
            <a:off x="1187280" y="4608360"/>
            <a:ext cx="1079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0" b="71706"/>
          <a:stretch/>
        </p:blipFill>
        <p:spPr>
          <a:xfrm>
            <a:off x="5975280" y="3262320"/>
            <a:ext cx="1535040" cy="6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28274" r="0" b="45629"/>
          <a:stretch/>
        </p:blipFill>
        <p:spPr>
          <a:xfrm>
            <a:off x="5977080" y="388764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rcRect l="0" t="54351" r="0" b="19562"/>
          <a:stretch/>
        </p:blipFill>
        <p:spPr>
          <a:xfrm>
            <a:off x="5977080" y="4464000"/>
            <a:ext cx="153504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rcRect l="0" t="73894" r="0" b="0"/>
          <a:stretch/>
        </p:blipFill>
        <p:spPr>
          <a:xfrm>
            <a:off x="5977080" y="4896000"/>
            <a:ext cx="153504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51824" t="0" r="0" b="66365"/>
          <a:stretch/>
        </p:blipFill>
        <p:spPr>
          <a:xfrm>
            <a:off x="7343640" y="3592440"/>
            <a:ext cx="93672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0" t="29477" r="38887" b="0"/>
          <a:stretch/>
        </p:blipFill>
        <p:spPr>
          <a:xfrm>
            <a:off x="6372360" y="3995640"/>
            <a:ext cx="1187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rcRect l="74050" t="33614" r="0" b="0"/>
          <a:stretch/>
        </p:blipFill>
        <p:spPr>
          <a:xfrm>
            <a:off x="7775640" y="4176720"/>
            <a:ext cx="5032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rcRect l="59233" t="29477" r="22226" b="0"/>
          <a:stretch/>
        </p:blipFill>
        <p:spPr>
          <a:xfrm>
            <a:off x="7488360" y="3995640"/>
            <a:ext cx="360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0" t="0" r="0" b="45669"/>
          <a:stretch/>
        </p:blipFill>
        <p:spPr>
          <a:xfrm>
            <a:off x="5508720" y="3532320"/>
            <a:ext cx="649080" cy="426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rcRect l="0" t="54233" r="0" b="0"/>
          <a:stretch/>
        </p:blipFill>
        <p:spPr>
          <a:xfrm>
            <a:off x="5508720" y="3959280"/>
            <a:ext cx="64908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320" y="1290600"/>
            <a:ext cx="1007892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06880" y="3384720"/>
            <a:ext cx="1973160" cy="177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335640" y="3592440"/>
            <a:ext cx="194472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975280" y="3262320"/>
            <a:ext cx="1535040" cy="220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3409920"/>
            <a:ext cx="1079640" cy="184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48979" t="0" r="0" b="0"/>
          <a:stretch/>
        </p:blipFill>
        <p:spPr>
          <a:xfrm>
            <a:off x="2735280" y="3535200"/>
            <a:ext cx="898560" cy="17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508720" y="3532320"/>
            <a:ext cx="649080" cy="78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rcRect l="0" t="0" r="53031" b="0"/>
          <a:stretch/>
        </p:blipFill>
        <p:spPr>
          <a:xfrm>
            <a:off x="1979640" y="3535200"/>
            <a:ext cx="82692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836720"/>
            <a:ext cx="10080720" cy="38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4360" y="283536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07:44:01Z</dcterms:created>
  <dc:creator/>
  <dc:description/>
  <dc:language>en-US</dc:language>
  <cp:lastModifiedBy/>
  <dcterms:modified xsi:type="dcterms:W3CDTF">2015-12-14T11:39:49Z</dcterms:modified>
  <cp:revision>7</cp:revision>
  <dc:subject/>
  <dc:title/>
</cp:coreProperties>
</file>