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ECAF-1E09-4D90-8AB4-E1A0AA83E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BD56-AF38-4AB2-9849-A3792A20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3B81-904F-47A8-8362-9B384642C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AD54-2A75-4F86-8081-9DFC5A2D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8B95-A29D-4DFC-906D-01667FBD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4752-3007-4373-B46B-1FC405F8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C788-0FFA-48D3-9775-7C2A58E2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8B69-13FF-4DCD-BAFF-59AD3D3C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CD1A-7EB9-43A6-A879-74EEADC6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A9EA-5801-4161-9DE3-02394BD1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E7ED-92B6-44B1-AC83-408F6BF6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6E9B-7FA3-42EC-97DE-111E2A05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46635A-BA52-41E0-A81C-ACB28700C9B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320" y="1290600"/>
            <a:ext cx="1007892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320" y="1290600"/>
            <a:ext cx="1007892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320" y="1290600"/>
            <a:ext cx="10078920" cy="5040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0" t="56631" r="0" b="23133"/>
          <a:stretch/>
        </p:blipFill>
        <p:spPr>
          <a:xfrm>
            <a:off x="4106880" y="4392720"/>
            <a:ext cx="1973160" cy="360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0" t="76841" r="0" b="0"/>
          <a:stretch/>
        </p:blipFill>
        <p:spPr>
          <a:xfrm>
            <a:off x="4106880" y="4751280"/>
            <a:ext cx="1973160" cy="411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rcRect l="0" t="36368" r="0" b="43369"/>
          <a:stretch/>
        </p:blipFill>
        <p:spPr>
          <a:xfrm>
            <a:off x="4106880" y="4032360"/>
            <a:ext cx="1973160" cy="360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rcRect l="0" t="-4065" r="0" b="63632"/>
          <a:stretch/>
        </p:blipFill>
        <p:spPr>
          <a:xfrm>
            <a:off x="4106880" y="3311640"/>
            <a:ext cx="1973160" cy="71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320" y="1290600"/>
            <a:ext cx="10078920" cy="5040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06880" y="3384720"/>
            <a:ext cx="1973160" cy="1779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rcRect l="0" t="0" r="0" b="70188"/>
          <a:stretch/>
        </p:blipFill>
        <p:spPr>
          <a:xfrm>
            <a:off x="1187280" y="3409920"/>
            <a:ext cx="1079640" cy="549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rcRect l="0" t="29775" r="0" b="54606"/>
          <a:stretch/>
        </p:blipFill>
        <p:spPr>
          <a:xfrm>
            <a:off x="1187280" y="3959280"/>
            <a:ext cx="1079640" cy="287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rcRect l="0" t="41452" r="0" b="35106"/>
          <a:stretch/>
        </p:blipFill>
        <p:spPr>
          <a:xfrm>
            <a:off x="1187280" y="4176720"/>
            <a:ext cx="1079640" cy="431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rcRect l="0" t="64881" r="0" b="0"/>
          <a:stretch/>
        </p:blipFill>
        <p:spPr>
          <a:xfrm>
            <a:off x="1187280" y="4608360"/>
            <a:ext cx="1079640" cy="6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320" y="1290600"/>
            <a:ext cx="10078920" cy="5040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106880" y="3384720"/>
            <a:ext cx="1973160" cy="1779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rcRect l="0" t="0" r="0" b="71706"/>
          <a:stretch/>
        </p:blipFill>
        <p:spPr>
          <a:xfrm>
            <a:off x="5975280" y="3262320"/>
            <a:ext cx="1535040" cy="623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187280" y="3409920"/>
            <a:ext cx="1079640" cy="1844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rcRect l="0" t="28273" r="0" b="45625"/>
          <a:stretch/>
        </p:blipFill>
        <p:spPr>
          <a:xfrm>
            <a:off x="5977080" y="3887640"/>
            <a:ext cx="1535040" cy="576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rcRect l="0" t="54333" r="0" b="19555"/>
          <a:stretch/>
        </p:blipFill>
        <p:spPr>
          <a:xfrm>
            <a:off x="5977080" y="4464000"/>
            <a:ext cx="1535040" cy="576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rcRect l="0" t="73888" r="0" b="0"/>
          <a:stretch/>
        </p:blipFill>
        <p:spPr>
          <a:xfrm>
            <a:off x="5977080" y="4896000"/>
            <a:ext cx="1535040" cy="57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320" y="1290600"/>
            <a:ext cx="10078920" cy="5040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06880" y="3384720"/>
            <a:ext cx="1973160" cy="1779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rcRect l="51818" t="0" r="0" b="66369"/>
          <a:stretch/>
        </p:blipFill>
        <p:spPr>
          <a:xfrm>
            <a:off x="7343640" y="3592440"/>
            <a:ext cx="936720" cy="584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975280" y="3262320"/>
            <a:ext cx="1535040" cy="2208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187280" y="3409920"/>
            <a:ext cx="1079640" cy="1844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rcRect l="0" t="29478" r="38876" b="0"/>
          <a:stretch/>
        </p:blipFill>
        <p:spPr>
          <a:xfrm>
            <a:off x="6372360" y="3995640"/>
            <a:ext cx="1187280" cy="1224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rcRect l="74043" t="33617" r="0" b="0"/>
          <a:stretch/>
        </p:blipFill>
        <p:spPr>
          <a:xfrm>
            <a:off x="7775640" y="4176720"/>
            <a:ext cx="503280" cy="1152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rcRect l="59235" t="29478" r="22213" b="0"/>
          <a:stretch/>
        </p:blipFill>
        <p:spPr>
          <a:xfrm>
            <a:off x="7488360" y="3995640"/>
            <a:ext cx="36036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320" y="1290600"/>
            <a:ext cx="10078920" cy="5040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106880" y="3384720"/>
            <a:ext cx="1973160" cy="177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335640" y="3592440"/>
            <a:ext cx="1944720" cy="1735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5975280" y="3262320"/>
            <a:ext cx="1535040" cy="2208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1187280" y="3409920"/>
            <a:ext cx="1079640" cy="1844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rcRect l="0" t="0" r="0" b="45649"/>
          <a:stretch/>
        </p:blipFill>
        <p:spPr>
          <a:xfrm>
            <a:off x="5508720" y="3532320"/>
            <a:ext cx="649080" cy="426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rcRect l="0" t="54234" r="0" b="0"/>
          <a:stretch/>
        </p:blipFill>
        <p:spPr>
          <a:xfrm>
            <a:off x="5508720" y="3959280"/>
            <a:ext cx="64908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320" y="1290600"/>
            <a:ext cx="10078920" cy="5040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106880" y="3384720"/>
            <a:ext cx="1973160" cy="1779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335640" y="3592440"/>
            <a:ext cx="1944720" cy="1735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5975280" y="3262320"/>
            <a:ext cx="1535040" cy="2208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187280" y="3409920"/>
            <a:ext cx="1079640" cy="1844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rcRect l="48976" t="0" r="0" b="0"/>
          <a:stretch/>
        </p:blipFill>
        <p:spPr>
          <a:xfrm>
            <a:off x="2735280" y="3535200"/>
            <a:ext cx="898560" cy="1757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5508720" y="3532320"/>
            <a:ext cx="649080" cy="7873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rcRect l="0" t="0" r="53031" b="0"/>
          <a:stretch/>
        </p:blipFill>
        <p:spPr>
          <a:xfrm>
            <a:off x="1979640" y="3535200"/>
            <a:ext cx="826920" cy="17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836720"/>
            <a:ext cx="10080720" cy="3887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84360" y="2835360"/>
            <a:ext cx="1476360" cy="12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7T07:44:01Z</dcterms:created>
  <dc:creator/>
  <dc:description/>
  <dc:language>en-US</dc:language>
  <cp:lastModifiedBy/>
  <dcterms:modified xsi:type="dcterms:W3CDTF">2015-12-17T15:36:30Z</dcterms:modified>
  <cp:revision>8</cp:revision>
  <dc:subject/>
  <dc:title/>
</cp:coreProperties>
</file>