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A4D-F0BC-473F-AF30-50A6EF41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85C-C002-4298-9B2D-888D1DAB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A33-D1FC-4350-A48B-6D4E811C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0F4-3BA3-4ECE-ADF5-B5439CEB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5EE-8AFF-405E-A66A-4A49BB3A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3BB-D73A-4C52-86AB-6E5B561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3F2-7EBB-41BB-AAA5-482FCB86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364-E831-414F-86B7-DE7710E7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1F8-2C0D-4CFC-8667-74B0361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B4E-42D1-4E96-AF0C-A3DD0FED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019-0A75-4BD3-93BF-B0ECCB9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B65-D2F2-4474-841D-0B85D75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A4058-E0DF-47F2-B3BF-6C7E9271E8A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6631" r="0" b="23133"/>
          <a:stretch/>
        </p:blipFill>
        <p:spPr>
          <a:xfrm>
            <a:off x="4106880" y="439272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76841" r="0" b="0"/>
          <a:stretch/>
        </p:blipFill>
        <p:spPr>
          <a:xfrm>
            <a:off x="4106880" y="4751280"/>
            <a:ext cx="1973160" cy="41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36368" r="0" b="43369"/>
          <a:stretch/>
        </p:blipFill>
        <p:spPr>
          <a:xfrm>
            <a:off x="4106880" y="403236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-4065" r="0" b="63632"/>
          <a:stretch/>
        </p:blipFill>
        <p:spPr>
          <a:xfrm>
            <a:off x="4106880" y="3311640"/>
            <a:ext cx="197316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0" b="70188"/>
          <a:stretch/>
        </p:blipFill>
        <p:spPr>
          <a:xfrm>
            <a:off x="1187280" y="3409920"/>
            <a:ext cx="10796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29775" r="0" b="54606"/>
          <a:stretch/>
        </p:blipFill>
        <p:spPr>
          <a:xfrm>
            <a:off x="1187280" y="3959280"/>
            <a:ext cx="107964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41452" r="0" b="35106"/>
          <a:stretch/>
        </p:blipFill>
        <p:spPr>
          <a:xfrm>
            <a:off x="1187280" y="4176720"/>
            <a:ext cx="107964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0" t="64881" r="0" b="0"/>
          <a:stretch/>
        </p:blipFill>
        <p:spPr>
          <a:xfrm>
            <a:off x="1187280" y="4608360"/>
            <a:ext cx="1079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0" b="71706"/>
          <a:stretch/>
        </p:blipFill>
        <p:spPr>
          <a:xfrm>
            <a:off x="5975280" y="3262320"/>
            <a:ext cx="1535040" cy="6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28273" r="0" b="45625"/>
          <a:stretch/>
        </p:blipFill>
        <p:spPr>
          <a:xfrm>
            <a:off x="5977080" y="388764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rcRect l="0" t="54333" r="0" b="19555"/>
          <a:stretch/>
        </p:blipFill>
        <p:spPr>
          <a:xfrm>
            <a:off x="5977080" y="446400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rcRect l="0" t="73888" r="0" b="0"/>
          <a:stretch/>
        </p:blipFill>
        <p:spPr>
          <a:xfrm>
            <a:off x="5977080" y="4896000"/>
            <a:ext cx="153504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51818" t="0" r="0" b="66369"/>
          <a:stretch/>
        </p:blipFill>
        <p:spPr>
          <a:xfrm>
            <a:off x="7343640" y="3592440"/>
            <a:ext cx="93672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0" t="29478" r="38876" b="0"/>
          <a:stretch/>
        </p:blipFill>
        <p:spPr>
          <a:xfrm>
            <a:off x="6372360" y="3995640"/>
            <a:ext cx="1187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rcRect l="74043" t="33617" r="0" b="0"/>
          <a:stretch/>
        </p:blipFill>
        <p:spPr>
          <a:xfrm>
            <a:off x="7775640" y="4176720"/>
            <a:ext cx="5032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rcRect l="59235" t="29478" r="22213" b="0"/>
          <a:stretch/>
        </p:blipFill>
        <p:spPr>
          <a:xfrm>
            <a:off x="7488360" y="3995640"/>
            <a:ext cx="360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0" t="0" r="0" b="45649"/>
          <a:stretch/>
        </p:blipFill>
        <p:spPr>
          <a:xfrm>
            <a:off x="5508720" y="3532320"/>
            <a:ext cx="649080" cy="426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rcRect l="0" t="54234" r="0" b="0"/>
          <a:stretch/>
        </p:blipFill>
        <p:spPr>
          <a:xfrm>
            <a:off x="5508720" y="3959280"/>
            <a:ext cx="64908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48976" t="0" r="0" b="0"/>
          <a:stretch/>
        </p:blipFill>
        <p:spPr>
          <a:xfrm>
            <a:off x="2735280" y="3535200"/>
            <a:ext cx="898560" cy="17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508720" y="3532320"/>
            <a:ext cx="649080" cy="78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rcRect l="0" t="0" r="53031" b="0"/>
          <a:stretch/>
        </p:blipFill>
        <p:spPr>
          <a:xfrm>
            <a:off x="1979640" y="3535200"/>
            <a:ext cx="82692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836720"/>
            <a:ext cx="10080720" cy="38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4360" y="283536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07:44:01Z</dcterms:created>
  <dc:creator/>
  <dc:description/>
  <dc:language>en-US</dc:language>
  <cp:lastModifiedBy/>
  <dcterms:modified xsi:type="dcterms:W3CDTF">2015-12-17T15:36:30Z</dcterms:modified>
  <cp:revision>8</cp:revision>
  <dc:subject/>
  <dc:title/>
</cp:coreProperties>
</file>