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E189-BC32-4059-95D0-E2AB2F13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CBE-7FA2-4104-98B3-18AE59C3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604-0299-48B7-BF59-D0753203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3E3-E9FD-4676-AFE7-5E423CDD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87C-3F00-4B04-AA15-9DC860C9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14D-E67E-4CD5-8212-2A9DEE08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6BD0-8879-4A88-A2CC-CC30F283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F921-DBCB-435F-BC9D-22A1ED9A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AB3-C407-4E3F-9B42-CAFF9DF8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8D0-9538-4537-B1B1-2EA3BC11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994-640F-41A3-8A51-E173F3F9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64C-85FF-4EB9-AE95-13B14401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A3B48-3EF8-4EA6-8366-5FB91810CD6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56625" r="0" b="23132"/>
          <a:stretch/>
        </p:blipFill>
        <p:spPr>
          <a:xfrm>
            <a:off x="4106880" y="4392720"/>
            <a:ext cx="1973160" cy="3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0" t="76835" r="0" b="0"/>
          <a:stretch/>
        </p:blipFill>
        <p:spPr>
          <a:xfrm>
            <a:off x="4106880" y="4751280"/>
            <a:ext cx="1973160" cy="41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0" t="36371" r="0" b="43375"/>
          <a:stretch/>
        </p:blipFill>
        <p:spPr>
          <a:xfrm>
            <a:off x="4106880" y="4032360"/>
            <a:ext cx="1973160" cy="36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0" t="-4073" r="0" b="63629"/>
          <a:stretch/>
        </p:blipFill>
        <p:spPr>
          <a:xfrm>
            <a:off x="4106880" y="3311640"/>
            <a:ext cx="1973160" cy="71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0" b="70178"/>
          <a:stretch/>
        </p:blipFill>
        <p:spPr>
          <a:xfrm>
            <a:off x="1187280" y="3409920"/>
            <a:ext cx="1079640" cy="5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rcRect l="0" t="29780" r="0" b="54605"/>
          <a:stretch/>
        </p:blipFill>
        <p:spPr>
          <a:xfrm>
            <a:off x="1187280" y="3959280"/>
            <a:ext cx="1079640" cy="28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rcRect l="0" t="41457" r="0" b="35105"/>
          <a:stretch/>
        </p:blipFill>
        <p:spPr>
          <a:xfrm>
            <a:off x="1187280" y="4176720"/>
            <a:ext cx="1079640" cy="43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rcRect l="0" t="64874" r="0" b="0"/>
          <a:stretch/>
        </p:blipFill>
        <p:spPr>
          <a:xfrm>
            <a:off x="1187280" y="4608360"/>
            <a:ext cx="1079640" cy="6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0" r="0" b="71706"/>
          <a:stretch/>
        </p:blipFill>
        <p:spPr>
          <a:xfrm>
            <a:off x="5975280" y="3262320"/>
            <a:ext cx="1535040" cy="623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87280" y="3409920"/>
            <a:ext cx="1079640" cy="184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rcRect l="0" t="28274" r="0" b="45629"/>
          <a:stretch/>
        </p:blipFill>
        <p:spPr>
          <a:xfrm>
            <a:off x="5977080" y="3887640"/>
            <a:ext cx="153504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rcRect l="0" t="54351" r="0" b="19562"/>
          <a:stretch/>
        </p:blipFill>
        <p:spPr>
          <a:xfrm>
            <a:off x="5977080" y="4464000"/>
            <a:ext cx="153504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rcRect l="0" t="73894" r="0" b="0"/>
          <a:stretch/>
        </p:blipFill>
        <p:spPr>
          <a:xfrm>
            <a:off x="5977080" y="4896000"/>
            <a:ext cx="1535040" cy="57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51824" t="0" r="0" b="66365"/>
          <a:stretch/>
        </p:blipFill>
        <p:spPr>
          <a:xfrm>
            <a:off x="7343640" y="3592440"/>
            <a:ext cx="936720" cy="584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975280" y="3262320"/>
            <a:ext cx="1535040" cy="2208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87280" y="3409920"/>
            <a:ext cx="1079640" cy="1844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rcRect l="0" t="29477" r="38887" b="0"/>
          <a:stretch/>
        </p:blipFill>
        <p:spPr>
          <a:xfrm>
            <a:off x="6372360" y="3995640"/>
            <a:ext cx="1187280" cy="1224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rcRect l="74050" t="33614" r="0" b="0"/>
          <a:stretch/>
        </p:blipFill>
        <p:spPr>
          <a:xfrm>
            <a:off x="7775640" y="4176720"/>
            <a:ext cx="503280" cy="115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rcRect l="59233" t="29477" r="22226" b="0"/>
          <a:stretch/>
        </p:blipFill>
        <p:spPr>
          <a:xfrm>
            <a:off x="7488360" y="3995640"/>
            <a:ext cx="36036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335640" y="3592440"/>
            <a:ext cx="1944720" cy="1735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975280" y="3262320"/>
            <a:ext cx="1535040" cy="2208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187280" y="3409920"/>
            <a:ext cx="1079640" cy="1844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rcRect l="0" t="0" r="0" b="45669"/>
          <a:stretch/>
        </p:blipFill>
        <p:spPr>
          <a:xfrm>
            <a:off x="5508720" y="3532320"/>
            <a:ext cx="649080" cy="426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rcRect l="0" t="54233" r="0" b="0"/>
          <a:stretch/>
        </p:blipFill>
        <p:spPr>
          <a:xfrm>
            <a:off x="5508720" y="3959280"/>
            <a:ext cx="64908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335640" y="3592440"/>
            <a:ext cx="1944720" cy="1735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975280" y="3262320"/>
            <a:ext cx="1535040" cy="2208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187280" y="3409920"/>
            <a:ext cx="1079640" cy="184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rcRect l="48979" t="0" r="0" b="0"/>
          <a:stretch/>
        </p:blipFill>
        <p:spPr>
          <a:xfrm>
            <a:off x="2735280" y="3535200"/>
            <a:ext cx="898560" cy="1757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5508720" y="3532320"/>
            <a:ext cx="649080" cy="787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rcRect l="0" t="0" r="53031" b="0"/>
          <a:stretch/>
        </p:blipFill>
        <p:spPr>
          <a:xfrm>
            <a:off x="1979640" y="3535200"/>
            <a:ext cx="826920" cy="17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836720"/>
            <a:ext cx="10080720" cy="388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84360" y="283536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7T07:44:01Z</dcterms:created>
  <dc:creator/>
  <dc:description/>
  <dc:language>en-US</dc:language>
  <cp:lastModifiedBy/>
  <dcterms:modified xsi:type="dcterms:W3CDTF">2015-12-14T11:39:49Z</dcterms:modified>
  <cp:revision>7</cp:revision>
  <dc:subject/>
  <dc:title/>
</cp:coreProperties>
</file>