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88D-22DC-48A7-A69F-5DE0B755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4C2-E2F8-4DD3-B77D-908C4D08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4EC-5589-4BF8-8080-803D8CF0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FE6-0E17-4DE8-999B-888F3B22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D21-D5A6-46CE-8E70-A6705D96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24E-A360-4034-B749-01FDC13F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99F-B935-4DE9-B42A-3DCFF9C2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BBE-F93E-4254-B948-3E2E701A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D16-D462-4B12-AC1E-B9AD7C9A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5E8-3080-4DF9-A437-8F81A05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E18-8A8D-40B5-A1DF-9557695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95B-6639-49DC-8B4E-C95B9C7D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51A-81AB-4BFC-B0B2-5947D1A141F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5148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ff99"/>
                </a:solidFill>
                <a:latin typeface="Times New Roman"/>
              </a:rPr>
              <a:t>ДАНИЕ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6720" y="475920"/>
            <a:ext cx="3889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Гурбетте Рабб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сесини ишит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Аллах адам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787320"/>
            <a:ext cx="8101080" cy="6070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rebuchet MS"/>
              </a:rPr>
              <a:t>Бабил Емператорлу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13080" y="981000"/>
            <a:ext cx="5146560" cy="1557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Бабил касабасъ бугюнкю ИРАК девлетинде булунуйор. Бурада Америкалъ аскерлер турист оларак Бабил’и гезийор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044960" cy="549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4057560" cy="5491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99"/>
                </a:solidFill>
                <a:latin typeface="Arial Narrow"/>
              </a:rPr>
              <a:t>Даниелин заманънда башка пейгамбер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000" y="592452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99cc"/>
                </a:solidFill>
                <a:latin typeface="Arial"/>
              </a:rPr>
              <a:t>ЙЕРЕМЯ – Йерушалим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0360" y="595008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99cc"/>
                </a:solidFill>
                <a:latin typeface="Arial"/>
              </a:rPr>
              <a:t>ХЕЗЕКИЕЛ – Бабил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cc00"/>
                </a:solidFill>
                <a:latin typeface="Arial"/>
              </a:rPr>
              <a:t>ЙЕРУШАЛИМ’ин йъкълъш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33cc"/>
                </a:solidFill>
                <a:latin typeface="Trebuchet MS"/>
              </a:rPr>
              <a:t>БАБИЛ сюргюнлю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143240" cy="5950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43280" y="907920"/>
            <a:ext cx="4105440" cy="5950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3440" y="5116680"/>
            <a:ext cx="7672680" cy="1557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Юч  айръ далга: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605 сенесинде </a:t>
            </a: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(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Даниел</a:t>
            </a: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 бу заман гьотюрюлд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597 сенесинде </a:t>
            </a: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(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Хезекиел</a:t>
            </a: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 бу заман гьотюрюлд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586 сенесинде </a:t>
            </a: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(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Йерушалим</a:t>
            </a: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 касабасъ йъкълд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Trebuchet MS"/>
              </a:rPr>
              <a:t>БАБИЛ сюргюнлю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23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1" lang="bg-BG" sz="3600" spc="-1" strike="noStrike">
                <a:solidFill>
                  <a:srgbClr val="0033cc"/>
                </a:solidFill>
                <a:latin typeface="Trebuchet MS"/>
              </a:rPr>
              <a:t>Бабил суларънда”</a:t>
            </a:r>
            <a:r>
              <a:rPr b="1" lang="tr-TR" sz="3600" spc="-1" strike="noStrike">
                <a:solidFill>
                  <a:srgbClr val="0033cc"/>
                </a:solidFill>
                <a:latin typeface="Trebuchet MS"/>
              </a:rPr>
              <a:t> – </a:t>
            </a:r>
            <a:r>
              <a:rPr b="1" lang="bg-BG" sz="3600" spc="-1" strike="noStrike">
                <a:solidFill>
                  <a:srgbClr val="0033cc"/>
                </a:solidFill>
                <a:latin typeface="Trebuchet MS"/>
              </a:rPr>
              <a:t>Мезмур 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058480"/>
            <a:ext cx="7921800" cy="445104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Бабил ърмакларънън кенарънд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Сион’у хатърлардък,</a:t>
            </a: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отуруп а</a:t>
            </a: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лардъ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етрафтаки сьоют аачларъна,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асардък сазларъмъз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Орада, бизи тутуклу оларак гьотюренлер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бизден илахилер истедилер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джеллатларъмъз да, нешели шаркъла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Бир Сион илахиси сьойлейин бизе!” дердил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Насъл сьойлейебилирд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РАБ’бин бир илахисини</a:t>
            </a: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ябанджъ топракт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Йерушалим, унутурсам сени,</a:t>
            </a: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курусун са</a:t>
            </a:r>
            <a:r>
              <a:rPr b="1" lang="bg-BG" sz="22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 ели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Япъшсън дамаъма дили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егер сени дюшюнмез олурса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егер Йерушалим’и хер севинчтен юстюн тутмаз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Ески Антлашманън къса Тари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092400"/>
            <a:ext cx="122400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брахим  Исхак Яку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усу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3092400"/>
            <a:ext cx="144000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у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ъкъ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Йешу Хаким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3305160"/>
            <a:ext cx="143964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аул Давут Сюлей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9080" y="3209760"/>
            <a:ext cx="129528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абил сю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4073400"/>
            <a:ext cx="122400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зра Нехе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54720" y="4121280"/>
            <a:ext cx="924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5050"/>
                </a:solidFill>
                <a:latin typeface="Arial"/>
              </a:rPr>
              <a:t>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869000"/>
            <a:ext cx="1081080" cy="50472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2" y="0"/>
                </a:lnTo>
                <a:lnTo>
                  <a:pt x="21600" y="10800"/>
                </a:lnTo>
                <a:lnTo>
                  <a:pt x="186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4960" y="6165720"/>
            <a:ext cx="85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2200       -1850            -1400       -1050   -930     -721  -586  -538  -430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4869000"/>
            <a:ext cx="1439640" cy="50472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68" y="0"/>
                </a:lnTo>
                <a:lnTo>
                  <a:pt x="21600" y="10800"/>
                </a:lnTo>
                <a:lnTo>
                  <a:pt x="196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869000"/>
            <a:ext cx="1008360" cy="504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78" y="0"/>
                </a:lnTo>
                <a:lnTo>
                  <a:pt x="21600" y="10800"/>
                </a:lnTo>
                <a:lnTo>
                  <a:pt x="179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4869000"/>
            <a:ext cx="502920" cy="504720"/>
          </a:xfrm>
          <a:custGeom>
            <a:avLst/>
            <a:gdLst>
              <a:gd name="textAreaLeft" fmla="*/ 0 w 502920"/>
              <a:gd name="textAreaRight" fmla="*/ 503280 w 502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4869000"/>
            <a:ext cx="865440" cy="504720"/>
          </a:xfrm>
          <a:custGeom>
            <a:avLst/>
            <a:gdLst>
              <a:gd name="textAreaLeft" fmla="*/ 0 w 865440"/>
              <a:gd name="textAreaRight" fmla="*/ 865800 w 865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7" y="0"/>
                </a:lnTo>
                <a:lnTo>
                  <a:pt x="21600" y="10800"/>
                </a:lnTo>
                <a:lnTo>
                  <a:pt x="176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4869000"/>
            <a:ext cx="576000" cy="504720"/>
          </a:xfrm>
          <a:custGeom>
            <a:avLst/>
            <a:gdLst>
              <a:gd name="textAreaLeft" fmla="*/ 0 w 576000"/>
              <a:gd name="textAreaRight" fmla="*/ 576000 w 576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4869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4869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3280" y="4869000"/>
            <a:ext cx="1692360" cy="50472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40" y="0"/>
                </a:lnTo>
                <a:lnTo>
                  <a:pt x="21600" y="10800"/>
                </a:lnTo>
                <a:lnTo>
                  <a:pt x="185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1280" y="5661000"/>
            <a:ext cx="7993080" cy="358920"/>
            <a:chOff x="611280" y="5661000"/>
            <a:chExt cx="7993080" cy="358920"/>
          </a:xfrm>
        </p:grpSpPr>
        <p:sp>
          <p:nvSpPr>
            <p:cNvPr id="61" name=""/>
            <p:cNvSpPr/>
            <p:nvPr/>
          </p:nvSpPr>
          <p:spPr>
            <a:xfrm>
              <a:off x="611280" y="5877000"/>
              <a:ext cx="799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128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9236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6072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4036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4508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0872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8472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2000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436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43640" y="56610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476360" y="3524400"/>
            <a:ext cx="144000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ъсър’да Кьоле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3857760"/>
            <a:ext cx="100800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сур сю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96660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19280" y="1125360"/>
            <a:ext cx="110340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16360" y="1125360"/>
            <a:ext cx="115092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284720" y="1125360"/>
            <a:ext cx="107928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580000" y="112536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07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Бабил Емператорлу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13080" y="765000"/>
            <a:ext cx="4930920" cy="609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11640" cy="321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4211640" cy="295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79640" y="765000"/>
            <a:ext cx="6985080" cy="1557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Бабил касабасънън дуваръ 18 км узун, 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0 </a:t>
            </a: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м йюксек ве 10 м калън иди. Бунун аркасън-да ики дувар даха вардъ. Топлам 250 куле ве бакърла каплъ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100 тане капъ вардъ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5169" t="6157" r="3459" b="7305"/>
          <a:stretch/>
        </p:blipFill>
        <p:spPr>
          <a:xfrm>
            <a:off x="826920" y="1195560"/>
            <a:ext cx="7632720" cy="5113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Бабил Емператорлу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Бабил Емператорлу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472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Бабил Емператорлу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533840" cy="612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00720" y="3254400"/>
            <a:ext cx="4643280" cy="3603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4643280" cy="2502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080" y="893880"/>
            <a:ext cx="5146560" cy="1557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Бабил дюнянън ен бюйюк ве гелишмиш касабасъ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8000"/>
                </a:solidFill>
                <a:latin typeface="Arial"/>
              </a:rPr>
              <a:t>Сарайдаки “асълъ бахчелер” 7 дюня харикаларънън бирий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rebuchet MS"/>
              </a:rPr>
              <a:t>Бабил Емператорлу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6200" y="765000"/>
            <a:ext cx="4537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ШТАР” капъ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14</a:t>
            </a:r>
            <a:r>
              <a:rPr b="0" lang="bg-BG" sz="2000" spc="-1" strike="noStrike">
                <a:solidFill>
                  <a:srgbClr val="cc0066"/>
                </a:solidFill>
                <a:latin typeface="Arial"/>
              </a:rPr>
              <a:t> м йюксек, 30 м гениш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cc0066"/>
                </a:solidFill>
                <a:latin typeface="Arial"/>
              </a:rPr>
              <a:t>Мави фаянсларла сюсленми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cc0066"/>
                </a:solidFill>
                <a:latin typeface="Arial"/>
              </a:rPr>
              <a:t>Аслан, ьокюз ве еждер ресимл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1"/>
                            </p:stCondLst>
                            <p:childTnLst>
                              <p:par>
                                <p:cTn id="1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rebuchet MS"/>
              </a:rPr>
              <a:t>Бабил Емператорлу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59280" y="2543040"/>
            <a:ext cx="2555640" cy="43149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914560" y="765000"/>
            <a:ext cx="2881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ШТАР” капъ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cc0066"/>
                </a:solidFill>
                <a:latin typeface="Arial"/>
              </a:rPr>
              <a:t>Мави фаянсларла, аслан, ьокюз ве еждер ресимлери иле сюсленмиш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3419640" cy="609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4840200"/>
            <a:ext cx="2952720" cy="2017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765000"/>
            <a:ext cx="2952720" cy="165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2492280"/>
            <a:ext cx="29527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1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601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101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601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rebuchet MS"/>
              </a:rPr>
              <a:t>Бабил Емператорлу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765000"/>
            <a:ext cx="2881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ШТАР” капъ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cc0066"/>
                </a:solidFill>
                <a:latin typeface="Arial"/>
              </a:rPr>
              <a:t>Мави фаянсларла, аслан, ьокюз ве еждер ресимлери иле сюсленмиш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32360" y="4048200"/>
            <a:ext cx="37209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6:31:09Z</dcterms:created>
  <dc:creator>asd</dc:creator>
  <dc:description/>
  <dc:language>en-US</dc:language>
  <cp:lastModifiedBy>asd</cp:lastModifiedBy>
  <dcterms:modified xsi:type="dcterms:W3CDTF">2008-11-24T18:49:53Z</dcterms:modified>
  <cp:revision>74</cp:revision>
  <dc:subject/>
  <dc:title>ДАНИЕЛ</dc:title>
</cp:coreProperties>
</file>