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23A-EF26-455B-928C-7E4FE707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77D-CA26-4B3E-8DCD-B136FC19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61B-0EC0-4E9C-B4C1-99309819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7BA-959B-4CE8-942A-530AC13D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208-B7D1-4511-A5A6-2ED155B2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332-5BE5-4BC6-A252-8E03318F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879-F2A3-4086-B376-7ADA5066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54B-0B1E-4647-BA1C-4FF699E8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87E-02E6-4222-A704-AEA505D9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A94-B705-4960-A4AE-07D5BBC8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C6B-FFBB-4A3F-93EB-FE2C1E6C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11D-B1FF-4C48-A2A3-9B3C0E6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C839-540C-4C15-A2D7-4B81FCA56634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езмур 2: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1773360"/>
            <a:ext cx="6697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Б’бин ферманънъ яяджа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 бана шьойле деди: “Сен беним Олумсу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н бенден бугюн олдун.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езмур 104: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42560" y="1628280"/>
            <a:ext cx="6697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Япарсън кендине хаберджи рюзгярларъ,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ве де кендине хизметчи, алевлери.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езмур 45:7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560" y="1125360"/>
            <a:ext cx="770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Сен дорулуу северсин,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ьотюлюктен нефрет едерсин;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Бунун ичин Аллах, сенин Аллахън,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сени аркадашларъдан даха чок севди,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башъна севинч яъ сюрдю.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Гийсилеринден кокулу сакъзлар, отлар ве пуллар акъйор,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филдиши сарайларда сазларън сеслери сени севиндирийор.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Ибранилер 1:6-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Ве Аллах, Илк Доанъ дюняя гетириркен гене шьойле дийор: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"Аллахън бютюн мелеклери Она тапсънлар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Ама мелеклерден ичин шьойле конушуйор: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"О, кенди мелеклерини рюзгярлар япъйор, хизметчилерини атеш ялънларъ япъйор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Ибранилер 1:8-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99640" y="119664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Оула гене, шьойле конушуйор: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"Сенин краллък искемлен, ей Аллах, сонсузлара кадар дураджак,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Сенин краллък денеин дорулуктур.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Дорулуу севдин ве хаксъзлъктан азлашмадъ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Онун ичин, сенин Аллахън олан Аллах сени севинч яъ иле месхетти, сени сенинкилеринден даха йюксек кълдъ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Ибранилер 5: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128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Айнъ онун гиби, Месих де кенди кендини йюкселтирмеди башгьоревли олсун. Хайър, ким Она деди, 'Сен беним Олумсун, бугюн бен сана Баба олдум', иште О Месихи бу иш ичин йюкселтирд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2. Петрус 1: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15640" y="1483920"/>
            <a:ext cx="6985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Чюнкю О, не вакът Баба Аллахтан сайгънлък ве шанлълък алдъ, Она ен йюксек ве ен шанлъ Оландан шьойле бир сес гелди: "Бу беним севгили Олумдур, Ондан мемнунум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Ромалълар 1:1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26920" y="1339560"/>
            <a:ext cx="7561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Бен Павлус, Месих Иса'нън бир хизметчисийим. Аллахън ийи хабери ичин сечилмиш бир апостолум.</a:t>
            </a: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Аллах бу ийи хаберден ичин ьонджеден пейгамберлерин аазъйла Кутсал Китапта сьоз вермиш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Ромалълар 1:3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186920" y="1197000"/>
            <a:ext cx="6985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Бу ийи хабер, Онун кенди Олу'ндан ичиндир: О, бедене гьоре Давуд'ун сойундан доду. Ама кутсаллък рухуна гьоре кувветле ве ьолюлерден дирилмекле Аллахън Олу оларак илан едилди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Колоселилер 1: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02920" y="1628280"/>
            <a:ext cx="6697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Ве 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- гьорюнмез </a:t>
            </a:r>
            <a:r>
              <a:rPr b="1" i="1" lang="tr-TR" sz="3600" spc="-1" strike="noStrike">
                <a:solidFill>
                  <a:srgbClr val="000000"/>
                </a:solidFill>
                <a:latin typeface="Arial"/>
              </a:rPr>
              <a:t>Аллахън гьорюнтюсюдюр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- бютюн ярадълъшън </a:t>
            </a:r>
            <a:r>
              <a:rPr b="1" i="1" lang="tr-TR" sz="3600" spc="-1" strike="noStrike">
                <a:solidFill>
                  <a:srgbClr val="000000"/>
                </a:solidFill>
                <a:latin typeface="Arial"/>
              </a:rPr>
              <a:t>илк доанъдър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Йешая 9:5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1341000"/>
            <a:ext cx="7490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авашта гийилен чизмелери ве кана буланмъш гийсилери якъладжак, атеше йем оладж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Чюнкю бизе бир чоджук доаджак, бизе бир оул вериледжек. йьонетим онун омузларънда оладжак. Онун адъ Харика Ьоютчю, Гючлю Танръ, Ебеди Баба, Есенлик Ьондери оладжак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Йуханна 1:31-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4000" y="1196640"/>
            <a:ext cx="784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Ве иште, гебе каладжан. Сенин бир чоджуун оладжак. Онун адънъ да Иса кояджаксън. О бюйюк оладжак, 'Ен йюксек Олан‘ън Олу' дийе чааръладжак. Раб Аллах да Она дедеси крал Давуд'ун искем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лесини вереджек. Якуп сойу юзерине сонсуза кадар краллък сюреджек, краллъънън сону хич гелмейеджек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Мерйем мелее шьойле деди: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"Ама бу насъл оладжак ки? Бен ел демемиш бир къзъм.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Йуханна 1:35-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125000"/>
            <a:ext cx="7704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Мелек де она джевап верип деди 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"Кутсал Рух сенин юзерине геледжек. 'Ен йюксек Олан'ън куввети, сенин юзерине гьолге саладжак. Иште, там онун ичин доаджак евладъна 'Кутсал' дийеджеклер, 'Аллахън Олу' дийеджек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Бак, сенин хъсъмларъндан Елизабет вар я. О да яшлълъънда гебе калдъ, онун бир олу оладжак. Късър дедиклери кадън шимди алтънджъ айънд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атта 3: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6920" y="1844640"/>
            <a:ext cx="6985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Ве иште, гьоктен бир сес деди 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"Бу беним севгили Олумдур. Онунла ферахланъйорум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Ап. Иш. 13: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560" y="1773360"/>
            <a:ext cx="6697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Бизим ичин, хани онларън евлатларъ ичин, Иса'йъ дирилтирмекле Аллах бу сьозю йерине гетирди. Айнъ икинджи Мезмур'да язълдъъ гиб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'Сен беним олумсун. Бугюн бен сана баба олдум.‘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 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2. Самуел 7: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58560" y="1483920"/>
            <a:ext cx="6697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Бен она баба оладжаъм, о да бана оул оладжак. Кьотюлюк япънджа, ону инсанларън денеийле, инсанларън вурушларъйла йола гетиреджеим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Ибранилер 1: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15640" y="1557360"/>
            <a:ext cx="6985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Чюнкю Аллах</a:t>
            </a:r>
            <a:r>
              <a:rPr b="1" i="1" lang="tr-T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 мелеклерин хангисине ханги вакътта шьойле конушту: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"Сен беним Олумсун, бугюн сана Баба олдум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ве гене: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"Бен Она Баба оладжам, о да бана Оул оладжак."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езмур 97: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32000" y="1700280"/>
            <a:ext cx="6697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Утансън бютюн пута тапанлар,</a:t>
            </a: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бош шейлерле ьовюненл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Сежде един онун ьонюнде сиз, ей бютюн танръла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5:11:20Z</dcterms:created>
  <dc:creator>asd</dc:creator>
  <dc:description/>
  <dc:language>en-US</dc:language>
  <cp:lastModifiedBy>asd</cp:lastModifiedBy>
  <dcterms:modified xsi:type="dcterms:W3CDTF">2009-05-23T13:07:14Z</dcterms:modified>
  <cp:revision>20</cp:revision>
  <dc:subject/>
  <dc:title>Матта 11:27</dc:title>
</cp:coreProperties>
</file>