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C00-C42E-4C66-9F8C-A496830E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1CA-23B0-4499-B9FA-A167B72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74B-B9C0-4B2C-8308-61F8A1DC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F37-BD53-4DA8-9C52-92C76945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586-EE72-4067-9D59-F9D3C137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C7D-39E4-4F1A-A2CA-D5933AB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858-C3B7-4676-8F19-22D8FED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512-3B83-4669-ABCE-56C6395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3D5-93D8-4E14-B69A-04FA7BD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245-6A95-4ECA-BCCD-A491ED0F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92F-0901-42F8-85AD-9E0C010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435-9CB8-48EC-AC75-FB98E9A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689-AF82-4E98-8FFF-4A62ACAFAF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92720" y="3933720"/>
            <a:ext cx="4751280" cy="292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965160"/>
            <a:ext cx="4788000" cy="304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44118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97440" y="134136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умран, ЬОлю Дениз’е бакан тепелерде мааралард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944720" cy="367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3859200" cy="587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51280" y="4594320"/>
            <a:ext cx="1944720" cy="22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796000" y="981000"/>
            <a:ext cx="3348000" cy="223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96000" y="3029040"/>
            <a:ext cx="3348000" cy="16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7893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са’нън заманънда бир Яхуди еркек манастъръ 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6920" y="6093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Маараларда ески текстлери гьомерд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2060640"/>
            <a:ext cx="3635280" cy="1511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125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рхеологлар каз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501336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24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484360" y="98100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16360" y="981000"/>
            <a:ext cx="4427640" cy="315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0" t="3252" r="0" b="3488"/>
          <a:stretch/>
        </p:blipFill>
        <p:spPr>
          <a:xfrm>
            <a:off x="4716360" y="3787920"/>
            <a:ext cx="4427640" cy="309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484360" y="335772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0" y="2349360"/>
            <a:ext cx="2484360" cy="450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496080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асабалардан узак калъп Ески Антлашма текстлерини копя едерд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120" y="3284640"/>
            <a:ext cx="2239920" cy="338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6000" y="1116000"/>
            <a:ext cx="255564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84720" y="2448000"/>
            <a:ext cx="2799000" cy="4221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43280" y="11253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1947 сенесинде бир арап чобан о маараларъ ве илк текстлери бу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256536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ркасъндан тексти бюйюк парая парча парча археологлара сатмая башлад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059280" y="4067280"/>
            <a:ext cx="259236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181240" cy="302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1089000"/>
            <a:ext cx="2952720" cy="241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230040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806480" cy="286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1840" y="112536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рап чобанлар тексти бьойле сатт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950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н уфак парча биле чок къйметли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08560" y="35002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арчалар бьойле бирлештири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365112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юнянън ен бюйюк пъзъл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419640" y="1125360"/>
            <a:ext cx="2808000" cy="237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68360" y="356220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</a:rPr>
              <a:t>Текстин парчаларънъ ресторе еттил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12536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Хер парчая бир нумара вери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2665440" cy="236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2000" y="5956200"/>
            <a:ext cx="28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Хазър текст джамлар аркасънда коруну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32360" y="1136520"/>
            <a:ext cx="3780000" cy="2652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3440" y="1123920"/>
            <a:ext cx="385128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1640" y="4076640"/>
            <a:ext cx="3924360" cy="258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4086360"/>
            <a:ext cx="3816360" cy="2582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3441600"/>
            <a:ext cx="4608360" cy="155628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Шимди Йерушалимде бир мюзейде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н ьо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2076" r="3353" b="2745"/>
          <a:stretch/>
        </p:blipFill>
        <p:spPr>
          <a:xfrm>
            <a:off x="5700600" y="1268280"/>
            <a:ext cx="2256120" cy="26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32360" y="3933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Кумрандан ьонд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ен ески КК Ибранидже тексти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900 сенесинден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сонра калма 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3024000" cy="263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98560" y="393372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умран’даки ен ески ферманлар И.ЬО. 200 сенелеринден калмад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52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9080" y="594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25320" y="595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30880" y="595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680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7440" y="595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336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40" y="5950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486900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6200" y="4941720"/>
            <a:ext cx="433440" cy="1440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5805360"/>
            <a:ext cx="453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34360" y="53928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100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сене ф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901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н ьо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076" r="3353" b="2745"/>
          <a:stretch/>
        </p:blipFill>
        <p:spPr>
          <a:xfrm>
            <a:off x="7308720" y="3716280"/>
            <a:ext cx="1281240" cy="15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4360" y="5300640"/>
            <a:ext cx="1584360" cy="1382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052640"/>
            <a:ext cx="66960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Times New Roman"/>
              </a:rPr>
              <a:t>КУМРАН ел язъларъ гьостерийор, Е.А.’нън </a:t>
            </a:r>
            <a:r>
              <a:rPr b="1" i="1" lang="bg-BG" sz="2400" spc="-1" strike="noStrike" u="sng">
                <a:solidFill>
                  <a:srgbClr val="ff0000"/>
                </a:solidFill>
                <a:uFillTx/>
                <a:latin typeface="Times New Roman"/>
              </a:rPr>
              <a:t>тексти гювенилир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.А.’нън сон китапчъкларъ -450 сенелеринде язълд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Ама ескиден елимизде олан ен ески ел язъсъ И.С.900 сенелеринден калма иди – демек: асъл язълъшъндан 1350 сене сон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умран’даки ел язълърънън ен ескилери И.ЬО.200 сенелеринден калмадър – демек: ен ески ел язъларъндан 1100 сене даха ески ве асъл язълъшъндан саде 250 сене сон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Кумрандаки ел язъларъ иле И.С.900 сенесинден калма ел язъларънъ каршълаштърдълар – текстин айнъ олдууну фарк етти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емек 1100 сене бойунджа текст хич деишмем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1457280" cy="182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718760" y="1773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- 45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70160" y="3710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37ff"/>
                </a:solidFill>
                <a:latin typeface="Arial"/>
              </a:rPr>
              <a:t>11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13800" y="5300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- 2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3:31:21Z</dcterms:created>
  <dc:creator>Windows XP</dc:creator>
  <dc:description/>
  <dc:language>en-US</dc:language>
  <cp:lastModifiedBy>asd</cp:lastModifiedBy>
  <dcterms:modified xsi:type="dcterms:W3CDTF">2009-06-19T11:26:15Z</dcterms:modified>
  <cp:revision>62</cp:revision>
  <dc:subject/>
  <dc:title>Ескиден шьойле язълърдъ:</dc:title>
</cp:coreProperties>
</file>