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13.jpeg" ContentType="image/jpeg"/>
  <Override PartName="/ppt/media/image23.png" ContentType="image/png"/>
  <Override PartName="/ppt/media/image27.jpeg" ContentType="image/jpeg"/>
  <Override PartName="/ppt/media/image6.jpeg" ContentType="image/jpeg"/>
  <Override PartName="/ppt/media/image10.png" ContentType="image/png"/>
  <Override PartName="/ppt/media/image3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9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11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562-46B0-4D5E-801E-05C5562F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8DAA-5A8A-4FD5-B1AD-5B19950F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BFA-71A3-4C81-80BE-CA4E4710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4EE8-A93D-46B0-BF96-8BF77C1B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DE71-F562-48C9-A42E-4D8D4270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478-22ED-47EB-9710-56ABCDE0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8126-5D11-485B-96F2-564F004E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AFD2-10CD-4D0C-AD63-C5ACB806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0BD2-26F9-4B4A-8562-A94E03D7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1DEF-3758-4960-ABC3-CC9F37DE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8D59-4800-43EA-A11A-2E2B8907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04C-B611-4FD5-81A7-416E64F8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9CF5-718F-48A7-8441-987C1284D0C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1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576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Кадън</a:t>
            </a:r>
            <a:r>
              <a:rPr b="1" lang="bg-BG" sz="4000" spc="-1" strike="noStrike">
                <a:solidFill>
                  <a:srgbClr val="000000"/>
                </a:solidFill>
                <a:latin typeface="Goudy Stout"/>
              </a:rPr>
              <a:t> </a:t>
            </a: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ве гебе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413000"/>
            <a:ext cx="756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cc6600"/>
                </a:solidFill>
                <a:latin typeface="Arial"/>
              </a:rPr>
              <a:t>Сизе бир </a:t>
            </a:r>
            <a:r>
              <a:rPr b="1" i="1" lang="tr-TR" sz="2400" spc="-1" strike="noStrike">
                <a:solidFill>
                  <a:srgbClr val="cc6600"/>
                </a:solidFill>
                <a:latin typeface="Arial"/>
              </a:rPr>
              <a:t>СОРУ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cc6600"/>
                </a:solidFill>
                <a:latin typeface="Arial"/>
              </a:rPr>
              <a:t>Сиздже, инсанън хаятъ не заман башлъй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ccff"/>
                </a:solidFill>
                <a:latin typeface="Arial"/>
                <a:ea typeface="Arial"/>
              </a:rPr>
              <a:t>►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бебек додуу заман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мъ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ccff"/>
                </a:solidFill>
                <a:latin typeface="Arial"/>
              </a:rPr>
              <a:t>►</a:t>
            </a:r>
            <a:r>
              <a:rPr b="0" lang="bg-BG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къзан харекет етмейе башлайънджа</a:t>
            </a: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мъ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ccff"/>
                </a:solidFill>
                <a:latin typeface="Arial"/>
              </a:rPr>
              <a:t>►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къзанън бейини мейдана гелдии заман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мъ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ccff"/>
                </a:solidFill>
                <a:latin typeface="Arial"/>
              </a:rPr>
              <a:t>►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видеозонда гьорюндюю заман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мъ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ccff"/>
                </a:solidFill>
                <a:latin typeface="Arial"/>
              </a:rPr>
              <a:t>►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тестте гебелик анлашълдъъ заман</a:t>
            </a: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мъ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5013360"/>
            <a:ext cx="1436760" cy="1511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24000" y="5013360"/>
            <a:ext cx="1436760" cy="1511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237440" y="501336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819600" y="5013360"/>
            <a:ext cx="1401840" cy="151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5508720" y="5013360"/>
            <a:ext cx="1476360" cy="1511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492280"/>
            <a:ext cx="9144000" cy="4365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2360" y="2852640"/>
            <a:ext cx="2232000" cy="2232000"/>
          </a:xfrm>
          <a:prstGeom prst="octagon">
            <a:avLst>
              <a:gd name="adj" fmla="val 29287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 u="sng">
                <a:solidFill>
                  <a:srgbClr val="ffffff"/>
                </a:solidFill>
                <a:uFillTx/>
                <a:latin typeface="Arial"/>
              </a:rPr>
              <a:t>Джевап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ХЕПС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ЯНЛЪ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3244680"/>
            <a:ext cx="49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 u="sng">
                <a:solidFill>
                  <a:srgbClr val="99cc00"/>
                </a:solidFill>
                <a:uFillTx/>
                <a:latin typeface="Arial"/>
              </a:rPr>
              <a:t>дору джевап</a:t>
            </a:r>
            <a:r>
              <a:rPr b="1" i="1" lang="tr-TR" sz="2400" spc="-1" strike="noStrike">
                <a:solidFill>
                  <a:srgbClr val="99cc00"/>
                </a:solidFill>
                <a:latin typeface="Arial"/>
              </a:rPr>
              <a:t>: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йумурта иле сперма бирлишиндже даха илк сааттен бери там инсандър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6156360" y="2781360"/>
            <a:ext cx="267156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753000" y="1125360"/>
            <a:ext cx="4851360" cy="5445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3478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Бир бучук айлъ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2313000"/>
            <a:ext cx="37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5 милиметре олму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йюрек, караджиер, кемиклери мейда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еллери, аякларъ ге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лишти, харекет ед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йюрек бир даккада 140-150 дефа ат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бебеин канъ анасъ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нън канъндан айр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332000" y="1198440"/>
            <a:ext cx="7127640" cy="539928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2195640" y="1630440"/>
            <a:ext cx="1655640" cy="1077840"/>
            <a:chOff x="2195640" y="1630440"/>
            <a:chExt cx="1655640" cy="1077840"/>
          </a:xfrm>
        </p:grpSpPr>
        <p:sp>
          <p:nvSpPr>
            <p:cNvPr id="173" name=""/>
            <p:cNvSpPr/>
            <p:nvPr/>
          </p:nvSpPr>
          <p:spPr>
            <a:xfrm>
              <a:off x="2195640" y="2133720"/>
              <a:ext cx="1295280" cy="57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56000" y="1630440"/>
              <a:ext cx="1295280" cy="57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1197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Юч айлъ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2200" y="2421000"/>
            <a:ext cx="4033800" cy="3020040"/>
          </a:xfrm>
          <a:prstGeom prst="rect">
            <a:avLst/>
          </a:prstGeom>
          <a:solidFill>
            <a:srgbClr val="000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9 см ве 15 г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уйуйор, башън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ъ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дьон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дю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рюп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азънъ ачъйо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ьоксюрюйор, пармак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ларънъ емийор, каш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ларънъ чат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кърдан бир сес гелди ми, ону хисседийо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rcRect l="1431" t="0" r="8670" b="0"/>
          <a:stretch/>
        </p:blipFill>
        <p:spPr>
          <a:xfrm>
            <a:off x="2627280" y="1197000"/>
            <a:ext cx="5977080" cy="540072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2771640" y="1414440"/>
            <a:ext cx="1655640" cy="1077840"/>
            <a:chOff x="2771640" y="1414440"/>
            <a:chExt cx="1655640" cy="1077840"/>
          </a:xfrm>
        </p:grpSpPr>
        <p:sp>
          <p:nvSpPr>
            <p:cNvPr id="180" name=""/>
            <p:cNvSpPr/>
            <p:nvPr/>
          </p:nvSpPr>
          <p:spPr>
            <a:xfrm>
              <a:off x="2771640" y="1917720"/>
              <a:ext cx="1295280" cy="57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32000" y="1414440"/>
              <a:ext cx="1295280" cy="57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1268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Юч бучук айлъ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2365200"/>
            <a:ext cx="324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6 см ол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гьозлерини капайъп ач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еллери бир шейи тутаби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търнаклар мейдана гел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бундан сонра саде бюйюмейе девам едед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266920" y="1268280"/>
            <a:ext cx="6337440" cy="5329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119700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Дьорт бучук айлъ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2874960"/>
            <a:ext cx="302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8 см ол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еллерини уза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търъйор, кафа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сънъ калдъръ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ишемейе баш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лъйо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1419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Беш айлъ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2874960"/>
            <a:ext cx="302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8 см ол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еллерини уза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търъйор, кафа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сънъ калдъръйо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ишемейе баш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лъйо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rcRect l="0" t="0" r="4080" b="0"/>
          <a:stretch/>
        </p:blipFill>
        <p:spPr>
          <a:xfrm>
            <a:off x="3492360" y="1413000"/>
            <a:ext cx="507708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7020000" cy="53978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1197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Алтъ айлъ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213372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24 см ол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08360" y="1197000"/>
            <a:ext cx="187164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1341360"/>
            <a:ext cx="792000" cy="57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132000" y="126828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119700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Йени доумуш беб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" y="2874960"/>
            <a:ext cx="302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24 см ол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еллерини уза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търъйор, кафа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сънъ калдъръйо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ишемейе баш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лъйо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6490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0000"/>
                </a:solidFill>
                <a:latin typeface="Goudy Stout"/>
              </a:rPr>
              <a:t>Абор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000" y="121608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66"/>
                </a:solidFill>
                <a:latin typeface="Arial"/>
              </a:rPr>
              <a:t>Не ичин аборт япълъй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78520" y="124308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66"/>
                </a:solidFill>
                <a:latin typeface="Arial"/>
              </a:rPr>
              <a:t>Аллах буна не дий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186372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99ccff"/>
                </a:solidFill>
                <a:latin typeface="Arial"/>
              </a:rPr>
              <a:t>- Ама затен чок фазла чоджукларъм вар! Бир танесине даа бакамам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2200" y="2637000"/>
            <a:ext cx="390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99ff"/>
                </a:solidFill>
                <a:latin typeface="Arial"/>
              </a:rPr>
              <a:t>- Ама бен ишлийорум; ишими бъракамам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6080" y="3319560"/>
            <a:ext cx="448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9ccff"/>
                </a:solidFill>
                <a:latin typeface="Arial"/>
              </a:rPr>
              <a:t>- Ама евимиз чок дар – хич йер йок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393372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6699ff"/>
                </a:solidFill>
                <a:latin typeface="Arial"/>
              </a:rPr>
              <a:t>- Артък яшландъм, бебее бакмак бана чок зор геледжек 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479736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99ccff"/>
                </a:solidFill>
                <a:latin typeface="Arial"/>
              </a:rPr>
              <a:t>- Бен истийорум, ама коджам истемий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2200" y="5518080"/>
            <a:ext cx="43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99ff"/>
                </a:solidFill>
                <a:latin typeface="Arial"/>
              </a:rPr>
              <a:t>Бир даа чоджуа бакаджак парамъз й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40360" y="186372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9ccff"/>
                </a:solidFill>
                <a:latin typeface="Arial"/>
              </a:rPr>
              <a:t>- Пеки, онун ичин инсан мъ ьолдюреджен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6440" y="6200640"/>
            <a:ext cx="42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9ccff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99ccff"/>
                </a:solidFill>
                <a:latin typeface="Arial"/>
              </a:rPr>
              <a:t>Бу яшта доурамам - утанъйорум</a:t>
            </a:r>
            <a:r>
              <a:rPr b="0" lang="tr-TR" sz="2000" spc="-1" strike="noStrike">
                <a:solidFill>
                  <a:srgbClr val="99c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40360" y="258300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99ff"/>
                </a:solidFill>
                <a:latin typeface="Arial"/>
              </a:rPr>
              <a:t>- Пеки, онун ичин инсан мъ ьолдюреджен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40360" y="330372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9ccff"/>
                </a:solidFill>
                <a:latin typeface="Arial"/>
              </a:rPr>
              <a:t>- Пеки, онун ичин инсан мъ ьолдюреджен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76720" y="402264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99ff"/>
                </a:solidFill>
                <a:latin typeface="Arial"/>
              </a:rPr>
              <a:t>- Пеки, онун ичин инсан мъ ьолдюреджен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76720" y="474336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9ccff"/>
                </a:solidFill>
                <a:latin typeface="Arial"/>
              </a:rPr>
              <a:t>- Пеки, онун ичин инсан мъ ьолдюреджен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544500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99ff"/>
                </a:solidFill>
                <a:latin typeface="Arial"/>
              </a:rPr>
              <a:t>- Пеки, онун ичин инсан мъ ьолдюреджен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76720" y="611172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9ccff"/>
                </a:solidFill>
                <a:latin typeface="Arial"/>
              </a:rPr>
              <a:t>- Пеки, онун ичин инсан мъ ьолдюреджен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1125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 u="sng">
                <a:solidFill>
                  <a:srgbClr val="ffff66"/>
                </a:solidFill>
                <a:uFillTx/>
                <a:latin typeface="Arial"/>
              </a:rPr>
              <a:t>Чок ьонемли</a:t>
            </a: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: Саде аборту ясак етмейелим, кадънлар хич гебе калмасънлар дийе урашалъм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3295800"/>
            <a:ext cx="432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Бугюн чок гелишмиш методлар вар, артък истемейерек гебе калмак зорунда деи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Бу темада конушмая утанмаялъ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Кадън еркек конушуп айнъ фикирде олсун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133960" y="2276640"/>
            <a:ext cx="3398760" cy="2512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5651640" y="4208400"/>
            <a:ext cx="338436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1628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ПРЕЗЕРВА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2565360"/>
            <a:ext cx="432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чок индже гумадан япълан биртър. Еркек ятълък япмадан ьондже ону такъй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Спермлер йумуртая улашамъйор, бебек мейдана гелмий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Онун ичин иманлълар ичин уйгун бир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724360" y="4243320"/>
            <a:ext cx="2891160" cy="2276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5724360" y="1268280"/>
            <a:ext cx="2916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Кадън органларъ ве гебе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125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cc6600"/>
                </a:solidFill>
                <a:latin typeface="Arial"/>
              </a:rPr>
              <a:t>Кадън органларънъ ве онларън ишлерини ьоренел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71640" y="1835280"/>
            <a:ext cx="7434000" cy="5022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66520" y="3716280"/>
            <a:ext cx="13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уте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(ана ятаъ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34920" y="271620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умурталъ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(яйч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7240" y="19954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умур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бору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3240" y="4508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серв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7600" y="573408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ва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2360" y="4568760"/>
            <a:ext cx="3743280" cy="201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УМУРТА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оуштан бери йумурталъкта хепси  хазър дулунуйорлар - ама хенюз олгун де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Хер ай бирер тане олгунлашъ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онра йумурта борусуна гирип орада илерл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843280" y="3213000"/>
            <a:ext cx="0" cy="151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95640" y="321300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4583160"/>
            <a:ext cx="3671640" cy="201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УМУРТА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Йумурта ана ятаъна гир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гебелик йокса онун дуваръна япъшмъ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уваръндаки сюмюк ве йумур-та канла дъшаръ атълъйор (айбашъ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00720" y="2998800"/>
            <a:ext cx="864720" cy="934920"/>
            <a:chOff x="4500720" y="2998800"/>
            <a:chExt cx="864720" cy="934920"/>
          </a:xfrm>
        </p:grpSpPr>
        <p:sp>
          <p:nvSpPr>
            <p:cNvPr id="65" name=""/>
            <p:cNvSpPr/>
            <p:nvPr/>
          </p:nvSpPr>
          <p:spPr>
            <a:xfrm rot="5400000">
              <a:off x="4191120" y="3335400"/>
              <a:ext cx="907920" cy="288720"/>
            </a:xfrm>
            <a:custGeom>
              <a:avLst/>
              <a:gdLst>
                <a:gd name="textAreaLeft" fmla="*/ 164520 w 907920"/>
                <a:gd name="textAreaRight" fmla="*/ 1072800 w 907920"/>
                <a:gd name="textAreaTop" fmla="*/ 119160 h 288720"/>
                <a:gd name="textAreaBottom" fmla="*/ 16956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16" y="4459"/>
                  </a:moveTo>
                  <a:cubicBezTo>
                    <a:pt x="9158" y="-11337"/>
                    <a:pt x="16358" y="20255"/>
                    <a:pt x="21600" y="4459"/>
                  </a:cubicBezTo>
                  <a:lnTo>
                    <a:pt x="17684" y="17141"/>
                  </a:lnTo>
                  <a:cubicBezTo>
                    <a:pt x="12442" y="32937"/>
                    <a:pt x="5242" y="1345"/>
                    <a:pt x="0" y="17141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4766760" y="3308040"/>
              <a:ext cx="907920" cy="289080"/>
            </a:xfrm>
            <a:custGeom>
              <a:avLst/>
              <a:gdLst>
                <a:gd name="textAreaLeft" fmla="*/ 164520 w 907920"/>
                <a:gd name="textAreaRight" fmla="*/ 1072800 w 90792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16" y="4459"/>
                  </a:moveTo>
                  <a:cubicBezTo>
                    <a:pt x="9158" y="-11337"/>
                    <a:pt x="16358" y="20255"/>
                    <a:pt x="21600" y="4459"/>
                  </a:cubicBezTo>
                  <a:lnTo>
                    <a:pt x="17684" y="17141"/>
                  </a:lnTo>
                  <a:cubicBezTo>
                    <a:pt x="12442" y="32937"/>
                    <a:pt x="5242" y="1345"/>
                    <a:pt x="0" y="17141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635280" y="2276640"/>
            <a:ext cx="216000" cy="215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63 -0.00116 C 0.00052 0.01018 -0.03125 0.06065 -0.05469 0.06782 C -0.07813 0.07523 -0.11389 0.06111 -0.12934 0.04213 C -0.14462 0.02338 -0.14809 -0.01597 -0.14722 -0.04491 C -0.14635 -0.07384 -0.13646 -0.11157 -0.12396 -0.13195 C -0.11163 -0.15232 -0.09792 -0.16157 -0.07274 -0.16736 C -0.0474 -0.17315 -0.01076 -0.17269 0.0276 -0.16736 C 0.06597 -0.16204 0.13056 -0.14167 0.15764 -0.13495 E">
                                      <p:cBhvr>
                                        <p:cTn id="177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evt="end">
                                        <p:tn val="176"/>
                                      </p:cond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5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9.62963E-006 C 0.03334 0.00162 0.06667 0.00324 0.08576 0.02222 C 0.10487 0.0412 0.10799 0.0868 0.11424 0.11435 C 0.12049 0.14189 0.12292 0.15069 0.12379 0.18726 C 0.12466 0.22384 0.11945 0.25509 0.1191 0.33333 C 0.11876 0.41157 0.12101 0.60324 0.12136 0.65717 E">
                                      <p:cBhvr>
                                        <p:cTn id="215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42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3.61111E-006 0.17454 L -3.61111E-006 0.50787 E">
                                      <p:cBhvr>
                                        <p:cTn id="222" dur="26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1628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СПИРАЛА  (И.У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5640" y="2421000"/>
            <a:ext cx="432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10 см узун бир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Анаятаънън ичинде усул усул илач салъйор, о да енгел олуйор йумуртан ана ятаъна япъшсъ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Бьойлеликле бебек ьолдюрюлюйор = бизим ичин уйгун деилд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Кими спиралалар йумур-танън олгунлашмасънъ енгел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508720" y="1268280"/>
            <a:ext cx="3564000" cy="2522520"/>
            <a:chOff x="5508720" y="1268280"/>
            <a:chExt cx="3564000" cy="252252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5508720" y="1268280"/>
              <a:ext cx="335736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508720" y="1333440"/>
              <a:ext cx="35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Бакър      Илачлъ найло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300720" y="3914640"/>
            <a:ext cx="2519280" cy="2835360"/>
            <a:chOff x="6300720" y="3914640"/>
            <a:chExt cx="2519280" cy="2835360"/>
          </a:xfrm>
        </p:grpSpPr>
        <p:pic>
          <p:nvPicPr>
            <p:cNvPr id="237" name="" descr=""/>
            <p:cNvPicPr/>
            <p:nvPr/>
          </p:nvPicPr>
          <p:blipFill>
            <a:blip r:embed="rId3"/>
            <a:stretch/>
          </p:blipFill>
          <p:spPr>
            <a:xfrm>
              <a:off x="6300720" y="3914640"/>
              <a:ext cx="2500560" cy="28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300720" y="6381720"/>
              <a:ext cx="2519280" cy="368280"/>
            </a:xfrm>
            <a:prstGeom prst="rect">
              <a:avLst/>
            </a:prstGeom>
            <a:solidFill>
              <a:srgbClr val="99cc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Утеруса такълъ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1268280"/>
            <a:ext cx="41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ХОРМОНЛУ ИЛАЧЛАР - хапл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640" y="2421000"/>
            <a:ext cx="511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  Кадънън йумурталамасъна енгел олуйор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  Онун ичин ен баштан инсан мейдана гелмез = иманлълар ичин уйгу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  Лазъм чок диккатле хер гюн алънсъ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  Санки кадънън беденини ал-датъръйорлар: сен гебес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  Ян ефектлери олабилир: шишманламак, синирли олм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012000" y="4260960"/>
            <a:ext cx="2881080" cy="23367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012000" y="1413000"/>
            <a:ext cx="2879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71640" y="1268280"/>
            <a:ext cx="41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ХОРМОНЛУ ИЛАЧЛАР – башка методл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2421000"/>
            <a:ext cx="511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99ccff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99ccff"/>
                </a:solidFill>
                <a:latin typeface="Arial"/>
              </a:rPr>
              <a:t>ДЕПО ПРОВЕРА”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инжексияс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Айнъ илачлар йутулмуйор, колуна инджекция япъл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Юч ай чалъш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99ccff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99ccff"/>
                </a:solidFill>
                <a:latin typeface="Arial"/>
              </a:rPr>
              <a:t>НОРПЛАНТ”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чубуклар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Бирер кибрит кадар бюйюктюр – алтъ тане колда деринин алтъна сокулу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Беш сене чалъшъйор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326280" y="1484280"/>
            <a:ext cx="2349360" cy="2376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rcRect l="11329" t="0" r="11207" b="0"/>
          <a:stretch/>
        </p:blipFill>
        <p:spPr>
          <a:xfrm>
            <a:off x="6013440" y="4129200"/>
            <a:ext cx="29512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71640" y="126828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ЕРТЕСИ САБАХ ХАПЪ”</a:t>
            </a:r>
            <a:r>
              <a:rPr b="1" lang="de-DE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(РУ 48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2421000"/>
            <a:ext cx="45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Ятълък япълдъктан сонра алънъ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Сперм иле йумуртанън бирлешмесине енгел олмуйор, ама бебеин ана ятаънън йерлешмесине енгел олу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Онун ичин хазър бебек ьолдюрюлю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491080" y="3030480"/>
            <a:ext cx="36180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71640" y="1268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КЪСЪРЛАШТЪРМАК  (ерк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98560" y="2571840"/>
            <a:ext cx="45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Еркеин ташакларъндан чъкан каналлар кеси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Саде ‘местна отпойка’ лазъ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Не заман истенилирсе каналлар йениден бирлештирилебил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Кесин бир методд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>
            <a:lum contrast="36000"/>
          </a:blip>
          <a:srcRect l="8696" t="13981" r="23185" b="5739"/>
          <a:stretch/>
        </p:blipFill>
        <p:spPr>
          <a:xfrm>
            <a:off x="5508720" y="2492280"/>
            <a:ext cx="3238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71640" y="1268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КЪСЪРЛАШТЪРМАК  (кадъ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6920" y="206064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Кадънън йумурта боруларъ кесилий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‘пълна отпойка’ лазъ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Йениден  бирлештирмек зорд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Кесин б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методд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780000" y="3359160"/>
            <a:ext cx="510192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0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Кадън органларъ ве гебе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125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cc6600"/>
                </a:solidFill>
                <a:latin typeface="Arial"/>
              </a:rPr>
              <a:t>Кадън органларънъ ве онларън ишлерини ьоренел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71640" y="1835280"/>
            <a:ext cx="7434000" cy="5022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66520" y="3716280"/>
            <a:ext cx="13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уте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(ана ятаъ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34920" y="271620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умурталъ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(яйч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07240" y="19954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умур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бору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3240" y="4508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серв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7600" y="573408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ва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0" y="4365720"/>
            <a:ext cx="410364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ЕБЕ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Йумурта олгунлашъй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ркеин спермлери ана ятаъна ги-рип йумурта боруларънда илерл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гер биринджи гюнде йумурта иле бирлеширселер, бебек мейдана гел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321300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27640" y="6019920"/>
            <a:ext cx="864720" cy="1081080"/>
            <a:chOff x="4427640" y="6019920"/>
            <a:chExt cx="864720" cy="1081080"/>
          </a:xfrm>
        </p:grpSpPr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4427640" y="623592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" name=""/>
            <p:cNvGrpSpPr/>
            <p:nvPr/>
          </p:nvGrpSpPr>
          <p:grpSpPr>
            <a:xfrm>
              <a:off x="4499280" y="6019920"/>
              <a:ext cx="793080" cy="1081080"/>
              <a:chOff x="4499280" y="6019920"/>
              <a:chExt cx="793080" cy="1081080"/>
            </a:xfrm>
          </p:grpSpPr>
          <p:pic>
            <p:nvPicPr>
              <p:cNvPr id="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99280" y="6525000"/>
                <a:ext cx="576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16360" y="6380280"/>
                <a:ext cx="576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99280" y="6019920"/>
                <a:ext cx="576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572000" y="6309000"/>
                <a:ext cx="57564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643280" y="6164640"/>
                <a:ext cx="576000" cy="57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6" name=""/>
          <p:cNvGrpSpPr/>
          <p:nvPr/>
        </p:nvGrpSpPr>
        <p:grpSpPr>
          <a:xfrm>
            <a:off x="4284720" y="2276640"/>
            <a:ext cx="1081080" cy="792000"/>
            <a:chOff x="4284720" y="2276640"/>
            <a:chExt cx="1081080" cy="792000"/>
          </a:xfrm>
        </p:grpSpPr>
        <p:pic>
          <p:nvPicPr>
            <p:cNvPr id="87" name="" descr=""/>
            <p:cNvPicPr/>
            <p:nvPr/>
          </p:nvPicPr>
          <p:blipFill>
            <a:blip r:embed="rId9"/>
            <a:stretch/>
          </p:blipFill>
          <p:spPr>
            <a:xfrm rot="16200000">
              <a:off x="4500720" y="249264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 rot="16200000">
              <a:off x="4789440" y="2421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1"/>
            <a:stretch/>
          </p:blipFill>
          <p:spPr>
            <a:xfrm rot="16200000">
              <a:off x="4284720" y="234936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2"/>
            <a:stretch/>
          </p:blipFill>
          <p:spPr>
            <a:xfrm rot="16200000">
              <a:off x="4573440" y="2276640"/>
              <a:ext cx="576360" cy="57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" descr=""/>
          <p:cNvPicPr/>
          <p:nvPr/>
        </p:nvPicPr>
        <p:blipFill>
          <a:blip r:embed="rId13"/>
          <a:stretch/>
        </p:blipFill>
        <p:spPr>
          <a:xfrm>
            <a:off x="1042920" y="1989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>
            <a:off x="1189080" y="2421000"/>
            <a:ext cx="861840" cy="9367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4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4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4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4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77778E-007 7.40741E-007 C -0.01059 0.01134 -0.0401 0.06458 -0.06146 0.06898 C -0.08281 0.07338 -0.11424 0.03565 -0.12813 0.02685 E">
                                      <p:cBhvr>
                                        <p:cTn id="24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-3.61111E-006 -0.58403 E">
                                      <p:cBhvr>
                                        <p:cTn id="25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evt="end">
                                        <p:tn val="258"/>
                                      </p:cond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C -0.05382 -0.02176 -0.10746 -0.04329 -0.15034 -0.05625 C -0.19288 -0.06922 -0.22205 -0.07732 -0.25659 -0.07801 C -0.29114 -0.07848 -0.34132 -0.06343 -0.35816 -0.06065 E">
                                      <p:cBhvr>
                                        <p:cTn id="26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evt="end">
                                        <p:tn val="265"/>
                                      </p:cond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500"/>
                            </p:stCondLst>
                            <p:childTnLst>
                              <p:par>
                                <p:cTn id="2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8.14815E-006 C -0.00452 0.0139 -0.00886 0.02802 -0.01441 0.04121 C -0.01997 0.0544 -0.03212 0.06366 -0.03334 0.0794 C -0.03455 0.09515 -0.02813 0.11575 -0.02153 0.13635 E">
                                      <p:cBhvr>
                                        <p:cTn id="27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9" dur="1" fill="hold"/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Кадън органларъ ве гебе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125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cc6600"/>
                </a:solidFill>
                <a:latin typeface="Arial"/>
              </a:rPr>
              <a:t>Кадън органларънъ ве онларън ишлерини ьоренел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71640" y="1835280"/>
            <a:ext cx="7434000" cy="5022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66520" y="3716280"/>
            <a:ext cx="13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уте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(ана ятаъ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34920" y="271620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умурталъ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(яйч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07240" y="19954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умур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бору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83240" y="4508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серв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67600" y="573408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ва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20" y="4365720"/>
            <a:ext cx="4103640" cy="201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ЕБЕ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ерм йумурта иле бирлештиктен сонра клеткалар чоалмая башлъ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у клеткалар йумурта борусунун ичинде илерл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на ятаънън дуваръна япъшъйор ве бебек бюйюмейе башлъ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042920" y="2276640"/>
            <a:ext cx="286920" cy="360360"/>
            <a:chOff x="1042920" y="2276640"/>
            <a:chExt cx="286920" cy="360360"/>
          </a:xfrm>
        </p:grpSpPr>
        <p:sp>
          <p:nvSpPr>
            <p:cNvPr id="103" name=""/>
            <p:cNvSpPr/>
            <p:nvPr/>
          </p:nvSpPr>
          <p:spPr>
            <a:xfrm>
              <a:off x="1114200" y="2276640"/>
              <a:ext cx="144000" cy="2160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85480" y="2349720"/>
              <a:ext cx="144360" cy="2160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42920" y="2349720"/>
              <a:ext cx="144360" cy="2160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14200" y="2421000"/>
              <a:ext cx="144000" cy="2160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627280" y="2060640"/>
            <a:ext cx="432000" cy="360360"/>
            <a:chOff x="2627280" y="2060640"/>
            <a:chExt cx="432000" cy="360360"/>
          </a:xfrm>
        </p:grpSpPr>
        <p:grpSp>
          <p:nvGrpSpPr>
            <p:cNvPr id="108" name=""/>
            <p:cNvGrpSpPr/>
            <p:nvPr/>
          </p:nvGrpSpPr>
          <p:grpSpPr>
            <a:xfrm>
              <a:off x="2627280" y="2060640"/>
              <a:ext cx="286920" cy="360360"/>
              <a:chOff x="2627280" y="2060640"/>
              <a:chExt cx="286920" cy="360360"/>
            </a:xfrm>
          </p:grpSpPr>
          <p:sp>
            <p:nvSpPr>
              <p:cNvPr id="109" name=""/>
              <p:cNvSpPr/>
              <p:nvPr/>
            </p:nvSpPr>
            <p:spPr>
              <a:xfrm>
                <a:off x="2698560" y="2060640"/>
                <a:ext cx="14400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69840" y="2133720"/>
                <a:ext cx="14436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27280" y="2133720"/>
                <a:ext cx="14436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98560" y="2205000"/>
                <a:ext cx="14400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771640" y="2060640"/>
              <a:ext cx="287640" cy="360360"/>
              <a:chOff x="2771640" y="2060640"/>
              <a:chExt cx="287640" cy="360360"/>
            </a:xfrm>
          </p:grpSpPr>
          <p:sp>
            <p:nvSpPr>
              <p:cNvPr id="114" name=""/>
              <p:cNvSpPr/>
              <p:nvPr/>
            </p:nvSpPr>
            <p:spPr>
              <a:xfrm>
                <a:off x="2843280" y="2060640"/>
                <a:ext cx="14436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914560" y="2133720"/>
                <a:ext cx="14472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771640" y="2133720"/>
                <a:ext cx="14472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43280" y="2205000"/>
                <a:ext cx="14436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4716360" y="2419200"/>
            <a:ext cx="430920" cy="504720"/>
            <a:chOff x="4716360" y="2419200"/>
            <a:chExt cx="430920" cy="504720"/>
          </a:xfrm>
        </p:grpSpPr>
        <p:grpSp>
          <p:nvGrpSpPr>
            <p:cNvPr id="119" name=""/>
            <p:cNvGrpSpPr/>
            <p:nvPr/>
          </p:nvGrpSpPr>
          <p:grpSpPr>
            <a:xfrm>
              <a:off x="4716360" y="2419200"/>
              <a:ext cx="286920" cy="360360"/>
              <a:chOff x="4716360" y="2419200"/>
              <a:chExt cx="286920" cy="360360"/>
            </a:xfrm>
          </p:grpSpPr>
          <p:sp>
            <p:nvSpPr>
              <p:cNvPr id="120" name=""/>
              <p:cNvSpPr/>
              <p:nvPr/>
            </p:nvSpPr>
            <p:spPr>
              <a:xfrm>
                <a:off x="4787640" y="2419200"/>
                <a:ext cx="14400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58920" y="2492280"/>
                <a:ext cx="14436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716360" y="2492280"/>
                <a:ext cx="14436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787640" y="2563560"/>
                <a:ext cx="14400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716360" y="2563560"/>
              <a:ext cx="430920" cy="360360"/>
              <a:chOff x="4716360" y="2563560"/>
              <a:chExt cx="430920" cy="36036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4716360" y="2563560"/>
                <a:ext cx="286560" cy="360360"/>
                <a:chOff x="4716360" y="2563560"/>
                <a:chExt cx="286560" cy="3603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787640" y="2563560"/>
                  <a:ext cx="14364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858920" y="2636640"/>
                  <a:ext cx="14400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716360" y="2636640"/>
                  <a:ext cx="14400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787640" y="2707920"/>
                  <a:ext cx="14364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860360" y="2563560"/>
                <a:ext cx="286920" cy="360360"/>
                <a:chOff x="4860360" y="2563560"/>
                <a:chExt cx="286920" cy="3603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931640" y="2563560"/>
                  <a:ext cx="14400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002920" y="2636640"/>
                  <a:ext cx="14436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60360" y="2636640"/>
                  <a:ext cx="14436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931640" y="2707920"/>
                  <a:ext cx="14400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1116000" y="3500280"/>
            <a:ext cx="216000" cy="216000"/>
            <a:chOff x="1116000" y="3500280"/>
            <a:chExt cx="216000" cy="216000"/>
          </a:xfrm>
        </p:grpSpPr>
        <p:sp>
          <p:nvSpPr>
            <p:cNvPr id="136" name=""/>
            <p:cNvSpPr/>
            <p:nvPr/>
          </p:nvSpPr>
          <p:spPr>
            <a:xfrm>
              <a:off x="1116000" y="3500280"/>
              <a:ext cx="216000" cy="2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8920" y="3500280"/>
              <a:ext cx="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19612200">
            <a:off x="4273560" y="2360160"/>
            <a:ext cx="13064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4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4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4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16667E-006 -3.7037E-007 C -0.00781 -0.00764 -0.01562 -0.01528 -0.02083 -0.02917 C -0.02604 -0.04306 -0.02951 -0.06597 -0.03124 -0.08334 C -0.03298 -0.1007 -0.03559 -0.11783 -0.03124 -0.13334 C -0.0269 -0.14884 -0.01614 -0.16273 -0.0052 -0.17639 E">
                                      <p:cBhvr>
                                        <p:cTn id="321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22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7407E-006 C 0.00364 -0.00834 0.00729 -0.01667 0.01562 -0.02361 C 0.02396 -0.03056 0.03594 -0.03843 0.05 -0.04167 C 0.06406 -0.04491 0.0783 -0.04468 0.1 -0.04306 C 0.1217 -0.04144 0.15087 -0.03681 0.18021 -0.03195 E">
                                      <p:cBhvr>
                                        <p:cTn id="32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evt="end">
                                        <p:tn val="327"/>
                                      </p:cond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85185E-006 C 0.02361 0.00486 0.0474 0.00972 0.06875 0.01389 C 0.09011 0.01806 0.10452 0.01551 0.12813 0.025 C 0.15174 0.03449 0.18108 0.05255 0.21042 0.07084 E">
                                      <p:cBhvr>
                                        <p:cTn id="335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06 0.00787 L -0.06528 0.05533 E">
                                      <p:cBhvr>
                                        <p:cTn id="34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6" dur="3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6490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Кадън</a:t>
            </a:r>
            <a:r>
              <a:rPr b="1" lang="bg-BG" sz="4000" spc="-1" strike="noStrike">
                <a:solidFill>
                  <a:srgbClr val="000000"/>
                </a:solidFill>
                <a:latin typeface="Goudy Stout"/>
              </a:rPr>
              <a:t> </a:t>
            </a: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ве гебе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8720" y="1028880"/>
            <a:ext cx="6048360" cy="5717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tr-TR" sz="2400" spc="-1" strike="noStrike">
                <a:solidFill>
                  <a:srgbClr val="cc6600"/>
                </a:solidFill>
                <a:latin typeface="Arial"/>
              </a:rPr>
              <a:t>Мезмур 139:13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Сенсин ичими ярат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ве ана рахминде бени ьор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Итираф едерим 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сахиден бир муджизейи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яптъкларън хайранлък веридж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Евет, буну чок ийи билир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Гизлилик ичинде япълдъъм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ве йерин деринликлерин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ьорюлдююмд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кемиклерим сенден саклъ деил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Бен бичимсиз бир тохум ик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гьозлерин бени гьорд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ве сенин китабънда бютюн гюнлер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язълъ иди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194600" y="1341360"/>
            <a:ext cx="1625400" cy="1219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7236000" y="5011560"/>
            <a:ext cx="1617480" cy="1225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7236000" y="2925720"/>
            <a:ext cx="13683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8999999761581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060720" y="1268280"/>
            <a:ext cx="5543640" cy="5256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929760" y="385452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66"/>
                </a:solidFill>
                <a:latin typeface="Arial"/>
              </a:rPr>
              <a:t>спе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963840" y="5829480"/>
            <a:ext cx="1436400" cy="45972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66"/>
                </a:solidFill>
                <a:latin typeface="Arial"/>
              </a:rPr>
              <a:t>йуму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628640"/>
            <a:ext cx="388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(1)  ЬОндже еркеин сперми кадънън йумуртасъ иле бирлеш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(2)  Сонра о клетка бьолюнмейе башлъ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24000" y="3778200"/>
            <a:ext cx="3168360" cy="2963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651640" y="1700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биринджи гюнд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7280" y="2492280"/>
            <a:ext cx="144000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11280" y="3500280"/>
            <a:ext cx="0" cy="100836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>
            <a:lum contrast="24000"/>
          </a:blip>
          <a:srcRect l="0" t="12004" r="11765" b="14311"/>
          <a:stretch/>
        </p:blipFill>
        <p:spPr>
          <a:xfrm>
            <a:off x="898560" y="1268280"/>
            <a:ext cx="7561080" cy="51418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790516"/>
                </a:solidFill>
                <a:latin typeface="Arial"/>
              </a:rPr>
              <a:t>2</a:t>
            </a:r>
            <a:r>
              <a:rPr b="1" lang="bg-BG" sz="3600" spc="-1" strike="noStrike">
                <a:solidFill>
                  <a:srgbClr val="790516"/>
                </a:solidFill>
                <a:latin typeface="Arial"/>
              </a:rPr>
              <a:t> гюнлю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2313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летка олму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1042920" y="1197000"/>
            <a:ext cx="7129440" cy="5533920"/>
            <a:chOff x="1042920" y="1197000"/>
            <a:chExt cx="7129440" cy="553392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1042920" y="1197000"/>
              <a:ext cx="7129440" cy="55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573440" y="5805360"/>
              <a:ext cx="2519640" cy="642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Бу бир дикиш ийнеси (микроскоп алтънд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03280" y="1557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790516"/>
                </a:solidFill>
                <a:latin typeface="Arial"/>
              </a:rPr>
              <a:t>3 гюнлю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03280" y="231300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6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летка олму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бебек йумурта бору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ларъна гирмейе башлъйо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rcRect l="0" t="0" r="5971" b="0"/>
          <a:stretch/>
        </p:blipFill>
        <p:spPr>
          <a:xfrm>
            <a:off x="2556000" y="1268280"/>
            <a:ext cx="5976720" cy="5329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347840"/>
            <a:ext cx="3529080" cy="642600"/>
          </a:xfrm>
          <a:prstGeom prst="rect">
            <a:avLst/>
          </a:prstGeom>
          <a:solidFill>
            <a:srgbClr val="0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Юч хафталъ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23130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7:12:53Z</dcterms:created>
  <dc:creator>Windows XP</dc:creator>
  <dc:description/>
  <dc:language>en-US</dc:language>
  <cp:lastModifiedBy>Windows XP</cp:lastModifiedBy>
  <dcterms:modified xsi:type="dcterms:W3CDTF">2006-05-26T11:21:14Z</dcterms:modified>
  <cp:revision>54</cp:revision>
  <dc:subject/>
  <dc:title>Аборт</dc:title>
</cp:coreProperties>
</file>