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78E-C5B7-4F53-88A2-407A4F3B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D94-707E-4C8F-9518-52EF1C16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DBC-0826-4B27-854D-9601DEF7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F38-C733-4C74-AD9E-E96F2261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0284-D06E-4BA4-B9B6-BECE29FA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3AFE-0754-4CB1-97C8-0225292C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EE3A-373F-4F86-B878-44B3D4FF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5EAB-AAE5-47D9-BBEE-7F6FCDF9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128E-19D4-475F-97AA-0CBAE83E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F326-2AB4-41F4-A5F8-0B4B1B6B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8D5A-C54D-4137-BDA9-9E13D509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AF3-B3D4-4211-96CD-324F0830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2371-A946-4FD2-8FBF-4CE3FF0D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4437-00EE-43BC-8886-D7D8A632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FD5B-29F7-4977-966C-1CD29C71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4F8C-17F9-43FD-8936-23FB8976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5391-F78F-4C2B-9892-AF02B7D0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D78-EB2E-4D37-8D4A-E83349C7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D5C-0258-4576-8C7D-6BD32F38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08E-CA0B-420E-B9B2-17FB79D9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F45-FFC2-48C6-9760-0B2E53FA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E44-FF85-42AA-B403-106F08F5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755-4316-4DCA-9915-366943DB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F00-DD51-4267-9BDB-08D45DBF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48A0-A5C0-4FAA-A1DC-A876009B8EF1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9670-807B-4625-ADD2-C6F3A983FBCE}" type="slidenum">
              <a:rPr b="0" lang="de-D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771640" y="574056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33ccff"/>
                </a:solidFill>
                <a:latin typeface="Tahoma"/>
              </a:rPr>
              <a:t>Идването на Иис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50000">
                <a:srgbClr val="808080"/>
              </a:gs>
              <a:gs pos="100000">
                <a:srgbClr val="262626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Язви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2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 –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1:9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50000">
                <a:srgbClr val="808080"/>
              </a:gs>
              <a:gs pos="100000">
                <a:srgbClr val="262626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Язви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2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 –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1:9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1052640"/>
            <a:ext cx="9144000" cy="14655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Другите мъртви не оживяха, докъто не се свършиха хилядата години. Това е първото възкрасение. 6 Блажен и свят онзи, който участва в първото възкрасение. Над такива втората смърт няма да има власт, а те ще бъдат свещени на Бога и на Христос и ще царуват с Него хиляда години.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50000">
                <a:srgbClr val="808080"/>
              </a:gs>
              <a:gs pos="100000">
                <a:srgbClr val="262626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Язви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2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 –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1:9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1052640"/>
            <a:ext cx="9144000" cy="47574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когато се свършат хилядата години, Сатана ще бъде пуснат в неговата тъмниц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8 и ще излезе да мами нациите по четирите краища на земята, Гог и Магог, за да ги събере за война; чието число е като морския пясък. 9 И те разпростряха по цялата ширина на земята и обиколиха стана на светиите и възлюбения град; и огън падна (от Бога) от небето и ги погълна. 10 И дяволът, който ги мамеше, беше хвърлен в езерето  от огън и сяра, където са и звярът, и лъжепророкът; и ше бъде мъчен денем и нощем в цялата вечност. 11 И видях един голям бял престол и Седящият на него, от Чийто лице побягнаха земята и небето и не се намери място за тях. 12 Видях и мъртвите, големи и малки, да стоят пред престола; и се разгънаха едни книги;  и се разгърна друга книга, която е книгата на живота; и мъртвите бяха съдени според написанот в книгите- според делата си. 13 И морето предаде мъртвите, които бяха в него, и смърта и адът предадоха мъртвите, които бяха в тях; и те бяха съдени- всеки според делата си. 14 И смъртта и адът бяха хвърлени в огненото езеро. Това е втората смърт. 15 И ако някой не се намери записан в книгата на живота, той беше хвърлен в огненото езер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50000">
                <a:srgbClr val="808080"/>
              </a:gs>
              <a:gs pos="100000">
                <a:srgbClr val="262626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Язви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2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 –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1:9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052640"/>
            <a:ext cx="9144000" cy="50317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видях ново небе и нова земя; защото първото небе и първата земя преминаха и море няма вече. 2 И видях светия град, новия Ерусалим, да излиза от небето от Бога, приготвен като невяста, украсена за мъжа с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3 И чух силен глас от от престола, който казваше : Ето, скинята на Бога е с хората и Той ще обитава с тях; и те ще бъдат Негов народ и Сам Бог ще бъде с тях- техен Бог. 4 Той ще избърше всяка сълза от учите им и смърт няма да има вече, няма да има вече нито жалеене, нито писък, нито болка; първото премина. 5 И седящият на престола каза: Ето, правя всичко ново. И ми каза: Запиши, защото тези думи са верни и истин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6 И ми каза: Сбъдна се! Аз съм Алфа и Омега, Началото и краят. На жадния ще дам даром от извора на водата на живота. 7 Които победи, ще наследи всичко това И Аз ще му бъда Бог, и той ще Ми бъде син. 8 А колкото за страхливите, невярващите, нечистите, убийците, блудниците, чародеите, идолопоклониците и всички лъжци, техният дял ще бъде в езерото, което гори с огън и сяра. Това е втората смърт. 9 Тогава дойде един от седемте ангела, които държаха седемте чаши, пълни със седемте последни язви, и ми говори, като каза: Ела, ще ти покажа невястата, жената на Агнето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50000">
                <a:srgbClr val="808080"/>
              </a:gs>
              <a:gs pos="100000">
                <a:srgbClr val="262626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Яви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2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 –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1:9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1052640"/>
            <a:ext cx="8207280" cy="31114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1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След това видях небето отворено, и ето, бял кон, и Онзи, който яздеше на него, се наричаше Верен и Истинен</a:t>
            </a:r>
            <a:r>
              <a:rPr b="1" lang="bg-BG" sz="1800" spc="-1" strike="noStrike">
                <a:solidFill>
                  <a:srgbClr val="5b5d6b"/>
                </a:solidFill>
                <a:latin typeface="Tahoma"/>
              </a:rPr>
              <a:t>,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Той съди  и воюва справедливост. 12 Очите Му бяха като огнен пламък и на главата Му бяха много корони, и имаше написано едно име, което никой  не знаше освен Него</a:t>
            </a:r>
            <a:r>
              <a:rPr b="1" lang="bg-BG" sz="1800" spc="-1" strike="noStrike">
                <a:solidFill>
                  <a:srgbClr val="990000"/>
                </a:solidFill>
                <a:latin typeface="Tahoma"/>
              </a:rPr>
              <a:t>.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13 И беше облечен в дреха, натопена в кръв; и Името Му е Божието Слово. 14 И небесните войски Го следваха на бели коне, облечени в бял и чист висон. 15 От устата Му остър меч, с който да порази нациите; и Той ще ги пасе с желязна тояга и ще стъпче лина на яростния гняв на Всемогъщия  Бог. 16 И  на дрехата и на бедрото Му имаше написано име: Цар на Царете и Господар на господарите.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'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50000">
                <a:srgbClr val="808080"/>
              </a:gs>
              <a:gs pos="100000">
                <a:srgbClr val="262626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Язви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2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 –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1:9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1052640"/>
            <a:ext cx="9144000" cy="3682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1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видях небето отворено, и ето, бял кон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63520" y="2924280"/>
            <a:ext cx="2436840" cy="33843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867280" y="3284640"/>
            <a:ext cx="3097440" cy="2849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950760" y="1716120"/>
            <a:ext cx="786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амо царете и генералите използваха кон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ози който има да дойде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е един крал който ще победи враговете с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исус първото си идване се качи на магаре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ри второто си идване ще се качи на бял ко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00360" y="3357720"/>
            <a:ext cx="3166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Евр. 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9: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ака и Христос беше принесен  веднъж, за да понесе греховте на мнозина, и ще се яви втори път, без да има работа с грях, за спасението на онези, които го очаква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50000">
                <a:srgbClr val="808080"/>
              </a:gs>
              <a:gs pos="100000">
                <a:srgbClr val="262626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Язви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2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 –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1:9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1628640"/>
            <a:ext cx="9144000" cy="14655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1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Онзи, който яздеше на него, се наричаше</a:t>
            </a:r>
            <a:r>
              <a:rPr b="1" lang="bg-BG" sz="18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Верен и Истинен</a:t>
            </a:r>
            <a:r>
              <a:rPr b="1" lang="bg-BG" sz="1800" spc="-1" strike="noStrike">
                <a:solidFill>
                  <a:srgbClr val="5b5d6b"/>
                </a:solidFill>
                <a:latin typeface="Tahoma"/>
              </a:rPr>
              <a:t>,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2.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маше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написано едно име, което никой  не знаше освен Него</a:t>
            </a:r>
            <a:r>
              <a:rPr b="1" lang="bg-BG" sz="1800" spc="-1" strike="noStrike">
                <a:solidFill>
                  <a:srgbClr val="990000"/>
                </a:solidFill>
                <a:latin typeface="Tahoma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3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мето Му е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Божието Сло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 на дрехата и на бедрото Му имаше написано име: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Цар на Царете и Господар на господарите. 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'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9600" y="4581360"/>
            <a:ext cx="975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(2)  '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имаше написано едно име, което никой  не знаше освен Него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 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а да даваш име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това означава че си на повисоко ниво от другия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A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ам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ит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2: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мето БОГ и името ИИСУС са святи им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ит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32:29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Яков иска да научи на ангела име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ъди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3:17-18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Маной искаше да научи името на анг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Щом никой не му знае имет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икой няма да може да го контроли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-177120" y="907920"/>
            <a:ext cx="107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ff00"/>
                </a:solidFill>
                <a:latin typeface="Tahoma"/>
              </a:rPr>
              <a:t>4те Имена на Иисус</a:t>
            </a:r>
            <a:r>
              <a:rPr b="0" i="1" lang="tr-TR" sz="1800" spc="-1" strike="noStrike">
                <a:solidFill>
                  <a:srgbClr val="ffff00"/>
                </a:solidFill>
                <a:latin typeface="Tahoma"/>
              </a:rPr>
              <a:t> -  </a:t>
            </a:r>
            <a:r>
              <a:rPr b="0" i="1" lang="bg-BG" sz="2400" spc="-1" strike="noStrike">
                <a:solidFill>
                  <a:srgbClr val="ffff00"/>
                </a:solidFill>
                <a:latin typeface="Tahoma"/>
              </a:rPr>
              <a:t>На сатана 4те имена</a:t>
            </a:r>
            <a:r>
              <a:rPr b="0" i="1" lang="tr-TR" sz="1800" spc="-1" strike="noStrike">
                <a:solidFill>
                  <a:srgbClr val="ffff00"/>
                </a:solidFill>
                <a:latin typeface="Tahoma"/>
              </a:rPr>
              <a:t>  (12:9), </a:t>
            </a:r>
            <a:r>
              <a:rPr b="0" i="1" lang="bg-BG" sz="2000" spc="-1" strike="noStrike">
                <a:solidFill>
                  <a:srgbClr val="ffff00"/>
                </a:solidFill>
                <a:latin typeface="Tahoma"/>
              </a:rPr>
              <a:t>На Вавилон 4те имена</a:t>
            </a:r>
            <a:r>
              <a:rPr b="0" i="1" lang="tr-TR" sz="1800" spc="-1" strike="noStrike">
                <a:solidFill>
                  <a:srgbClr val="ffff00"/>
                </a:solidFill>
                <a:latin typeface="Tahoma"/>
              </a:rPr>
              <a:t>(17: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6240" y="3284640"/>
            <a:ext cx="35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(1)  ‘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Верен  и истинен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'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Е синоним на думата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'A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мин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'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Откр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3:14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ерен свидет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прочети-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2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Ko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р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: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50000">
                <a:srgbClr val="808080"/>
              </a:gs>
              <a:gs pos="100000">
                <a:srgbClr val="262626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Язви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2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 –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1:9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1052640"/>
            <a:ext cx="9144000" cy="1739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14 И небесните войски Го следваха на бели коне, облечени в бял и чист висон. 15 От устата Му остър меч, с който да порази нациите; и Той ще ги пасе с желязна тояга и ще стъпче лина на яростния гняв на Всемогъщия  Бог. 16 И  на дрехата и на бедрото Му имаше написано име: Цар на Царете и Господар на господарите.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'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>
            <a:lum bright="6000"/>
          </a:blip>
          <a:srcRect l="0" t="2303" r="0" b="0"/>
          <a:stretch/>
        </p:blipFill>
        <p:spPr>
          <a:xfrm>
            <a:off x="6877080" y="3024360"/>
            <a:ext cx="19810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50000">
                <a:srgbClr val="808080"/>
              </a:gs>
              <a:gs pos="100000">
                <a:srgbClr val="262626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Язви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2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 –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1:9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052640"/>
            <a:ext cx="9144000" cy="1739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видях един друг ангел, който стоеше в слънцето, и извика със силен глас, като каза на всички птици, които летят посред небето: Елате и съберете за великата Божия вечеря, 18 за да ядете месата на царе и месата военачалници, месата на юнаци и месата на коне, и на онези, които яздят на тях, и месата на всички  хора, свободни и роби, малки и големи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!"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39640" y="407664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3851280" y="4791240"/>
            <a:ext cx="2543040" cy="20667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1295280" cy="19144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6227640" y="3789360"/>
            <a:ext cx="2514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50000">
                <a:srgbClr val="808080"/>
              </a:gs>
              <a:gs pos="100000">
                <a:srgbClr val="262626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Язви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2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 –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1:9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1052640"/>
            <a:ext cx="9144000" cy="2288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видях звяра и земните царе, и войските им, събрани да воюват  против Яздещия на коня и против Неговото войнство. 20 и звярът беше хванат и с него и лъжепророкът,който беше вършил  пред него знамения, с които измами онези, които бяха приели белега на звяра и които се покланяха на неговия образ. Те двамата бяха хвърлени  живи в огнено езеро, което гори със сяра. 21 А останалите бяха избити с меча на Яздещия на коня, с меча, който излизаше от устата Му. И всичките птици се наситиха с месата им.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042920" y="4210200"/>
            <a:ext cx="3241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50000">
                <a:srgbClr val="808080"/>
              </a:gs>
              <a:gs pos="100000">
                <a:srgbClr val="262626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Язви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2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 –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1:9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1052640"/>
            <a:ext cx="9144000" cy="1739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видях, че слизаше от небето един ангел, който държеше в ръката си ключа на бездната и една голяма верига. 2 Той улови змея, старовремената змия, която е дяволът и Сатана, и го върза за хиляда години, 3 и го хвърли, и я заключи, и я запечата над него, за да не мами вече нациите, докъто се свършат хилядата години, след което той трябва да бъде пуснат за малко време.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6516720" y="3068640"/>
            <a:ext cx="22478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50000">
                <a:srgbClr val="808080"/>
              </a:gs>
              <a:gs pos="100000">
                <a:srgbClr val="262626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Язви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2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 –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1:9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1052640"/>
            <a:ext cx="9144000" cy="14655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видях престоли; и седнаха на тях, и им се даде да съдят. Видях душите на онези, които бяха обезглавени заради Иисусовото свидетелство и заради Божието слово и които не бяха се поклонили на звяра, нито на неговоия образ, и не бяха приели белега на челото си и на ръката си. И те оживяха и царуваха с Христос хиляда години.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18:15Z</dcterms:created>
  <dc:creator>Windows XP</dc:creator>
  <dc:description/>
  <dc:language>en-US</dc:language>
  <cp:lastModifiedBy>Admin</cp:lastModifiedBy>
  <dcterms:modified xsi:type="dcterms:W3CDTF">2009-06-07T11:25:50Z</dcterms:modified>
  <cp:revision>625</cp:revision>
  <dc:subject/>
  <dc:title>Yedi Mühür açılıyor (bölüm 6)</dc:title>
</cp:coreProperties>
</file>