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9FB-39F1-4C95-B512-12E6FF7F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BA3-BF83-4898-9EB9-C924CDA1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445-9599-4D95-A1AD-C127E2D8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769-4BBD-4FB3-9982-13062539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815FD-4DE1-4B3E-A649-8A70D644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232B6-B94C-42CF-9FFB-B492034B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C94E3-497F-48EF-9294-541B9A9E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E023F-64F7-49E4-93C2-73330819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2C2B9-0945-4E95-80CA-6E669B6C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A7EE6-B34D-49F1-B669-1B25E03D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77814-6831-4DA9-A941-89BA2E11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C22-7283-454C-9551-785AF981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A6803-7DC7-4350-BACE-6F0F2928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92617-7B9A-4BED-9262-AEAABC68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3AC4A-8551-420C-BEA5-857A5F99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E0D58-A987-4BC4-B213-B01966BD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6E23F-06D0-4451-8B4E-0442ED2D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C24-A34D-42D1-A9F1-F853E2DF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022-19F7-4E66-A436-7D389518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B1B-E666-4A01-9863-5F077F95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A52-D450-48F5-9B25-5501F03A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1B6-7CE1-42CE-BFFB-99851664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490-560C-452F-90BD-EA078A20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523-0832-427B-818B-4ED2E4B8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DB91-B865-429D-9378-5021ECDD34FD}" type="slidenum"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8C63-E7AC-424C-9B42-31A7AD5E0D0D}" type="slidenum"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49745" t="51436" r="2806" b="1911"/>
          <a:stretch/>
        </p:blipFill>
        <p:spPr>
          <a:xfrm>
            <a:off x="6084720" y="4149720"/>
            <a:ext cx="2953080" cy="2592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2320" t="50959" r="50231" b="1911"/>
          <a:stretch/>
        </p:blipFill>
        <p:spPr>
          <a:xfrm>
            <a:off x="2987640" y="414972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rcRect l="49774" t="5083" r="2806" b="47755"/>
          <a:stretch/>
        </p:blipFill>
        <p:spPr>
          <a:xfrm>
            <a:off x="6084720" y="1341360"/>
            <a:ext cx="2951280" cy="266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rcRect l="2320" t="5083" r="50231" b="47755"/>
          <a:stretch/>
        </p:blipFill>
        <p:spPr>
          <a:xfrm>
            <a:off x="2987640" y="1341360"/>
            <a:ext cx="2952720" cy="2665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2920" y="1484280"/>
            <a:ext cx="2700360" cy="4969080"/>
          </a:xfrm>
          <a:prstGeom prst="rect">
            <a:avLst/>
          </a:prstGeom>
          <a:gradFill rotWithShape="0">
            <a:gsLst>
              <a:gs pos="0">
                <a:srgbClr val="00ffff">
                  <a:alpha val="90196"/>
                </a:srgbClr>
              </a:gs>
              <a:gs pos="100000">
                <a:srgbClr val="007575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1) Хер ай йумурталъкларда бир тане йумурта олгунлашъй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2) сонра борулардан ана рахмине гирий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на рахминин дуварларънда чок сюмюк бирикий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3) еркекле о заман бирлеширсе, гебе калабилий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4) йокса йумурта сюмюк ве канла бирликте дъшаръ атълъй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0920" y="83664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Кадънларда айбаш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129320"/>
            <a:ext cx="8497800" cy="58140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669900"/>
                </a:solidFill>
                <a:latin typeface="Tahoma"/>
              </a:rPr>
              <a:t>МЕНОПОЗ</a:t>
            </a:r>
            <a:r>
              <a:rPr b="1" i="1" lang="bg-BG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bg-BG" sz="3200" spc="-1" strike="noStrike">
                <a:solidFill>
                  <a:srgbClr val="ffcc00"/>
                </a:solidFill>
                <a:latin typeface="Tahoma"/>
              </a:rPr>
              <a:t>- </a:t>
            </a:r>
            <a:r>
              <a:rPr b="1" i="1" lang="tr-TR" sz="3200" spc="-1" strike="noStrike">
                <a:solidFill>
                  <a:srgbClr val="ffcc00"/>
                </a:solidFill>
                <a:latin typeface="Tahoma"/>
              </a:rPr>
              <a:t>кадън кендини бракмасъ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138400"/>
            <a:ext cx="8497800" cy="157428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18252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0000"/>
                </a:solidFill>
                <a:latin typeface="Arial"/>
              </a:rPr>
              <a:t>(1) ДЮШЮНДЖЕД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4680" indent="-182520">
              <a:spcAft>
                <a:spcPts val="1100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'кадън оларак хаятъм битти' дийе дюшюнмеси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4680" indent="-182520">
              <a:spcAft>
                <a:spcPts val="9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“Аармъш сачлар шерефли бир тачтър, дору яшайъшла казанълър”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Сюл.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ЬОзд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 16:3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900840" y="4149720"/>
            <a:ext cx="1992240" cy="270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2104920" cy="2708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556000" y="4149720"/>
            <a:ext cx="2016000" cy="2708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716360" y="4149720"/>
            <a:ext cx="2016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199999995529652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129320"/>
            <a:ext cx="8497800" cy="58140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669900"/>
                </a:solidFill>
                <a:latin typeface="Tahoma"/>
              </a:rPr>
              <a:t>МЕНОПОЗ</a:t>
            </a:r>
            <a:r>
              <a:rPr b="1" i="1" lang="bg-BG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bg-BG" sz="3200" spc="-1" strike="noStrike">
                <a:solidFill>
                  <a:srgbClr val="ffcc00"/>
                </a:solidFill>
                <a:latin typeface="Tahoma"/>
              </a:rPr>
              <a:t>- </a:t>
            </a:r>
            <a:r>
              <a:rPr b="1" i="1" lang="tr-TR" sz="3200" spc="-1" strike="noStrike">
                <a:solidFill>
                  <a:srgbClr val="ffcc00"/>
                </a:solidFill>
                <a:latin typeface="Tahoma"/>
              </a:rPr>
              <a:t>кадън кендини бракмасъ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229120"/>
            <a:ext cx="8497800" cy="76428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18252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bg-BG" sz="2200" spc="-1" strike="noStrike">
                <a:solidFill>
                  <a:srgbClr val="cc0000"/>
                </a:solidFill>
                <a:latin typeface="Arial"/>
              </a:rPr>
              <a:t>) ДЪШ ГЬОРЮНЮШ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4680" indent="-18252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200" spc="-1" strike="noStrike">
                <a:solidFill>
                  <a:srgbClr val="ffffff"/>
                </a:solidFill>
                <a:latin typeface="Tahoma"/>
              </a:rPr>
              <a:t>килоларъна</a:t>
            </a: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bg-BG" sz="2200" spc="-1" strike="noStrike">
                <a:solidFill>
                  <a:srgbClr val="ffffff"/>
                </a:solidFill>
                <a:latin typeface="Tahoma"/>
              </a:rPr>
              <a:t>юстю </a:t>
            </a: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башъна диккат етси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45080" y="3357720"/>
            <a:ext cx="3313080" cy="3240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33130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199999995529652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129320"/>
            <a:ext cx="8497800" cy="58140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669900"/>
                </a:solidFill>
                <a:latin typeface="Tahoma"/>
              </a:rPr>
              <a:t>МЕНОПОЗ</a:t>
            </a:r>
            <a:r>
              <a:rPr b="1" i="1" lang="bg-BG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bg-BG" sz="3200" spc="-1" strike="noStrike">
                <a:solidFill>
                  <a:srgbClr val="ffcc00"/>
                </a:solidFill>
                <a:latin typeface="Tahoma"/>
              </a:rPr>
              <a:t>- </a:t>
            </a:r>
            <a:r>
              <a:rPr b="1" i="1" lang="tr-TR" sz="3200" spc="-1" strike="noStrike">
                <a:solidFill>
                  <a:srgbClr val="ffcc00"/>
                </a:solidFill>
                <a:latin typeface="Tahoma"/>
              </a:rPr>
              <a:t>кадън кендини бракмасъ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2200" y="2092680"/>
            <a:ext cx="8497800" cy="204912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5040" indent="-27288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0000"/>
                </a:solidFill>
                <a:latin typeface="Arial"/>
              </a:rPr>
              <a:t>(3) ГЬОР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Tahoma"/>
              </a:rPr>
              <a:t>- Рабде пенсияя чъкмак йо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бу яшта кендине, кенди къзанларъ ве торунларъндан башка бир гьорев булсу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Титус 2:4 </a:t>
            </a:r>
            <a:r>
              <a:rPr b="1" lang="bg-BG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(башка кадънларъ еитмек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116000" y="4292640"/>
            <a:ext cx="2592360" cy="2195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211640" y="4292640"/>
            <a:ext cx="33130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199999995529652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129320"/>
            <a:ext cx="8497800" cy="58140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669900"/>
                </a:solidFill>
                <a:latin typeface="Tahoma"/>
              </a:rPr>
              <a:t>МЕНОПОЗ</a:t>
            </a:r>
            <a:r>
              <a:rPr b="1" i="1" lang="bg-BG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bg-BG" sz="3200" spc="-1" strike="noStrike">
                <a:solidFill>
                  <a:srgbClr val="ffcc00"/>
                </a:solidFill>
                <a:latin typeface="Tahoma"/>
              </a:rPr>
              <a:t>- </a:t>
            </a:r>
            <a:r>
              <a:rPr b="1" i="1" lang="tr-TR" sz="3200" spc="-1" strike="noStrike">
                <a:solidFill>
                  <a:srgbClr val="ffcc00"/>
                </a:solidFill>
                <a:latin typeface="Tahoma"/>
              </a:rPr>
              <a:t>кадън кендини бракмасъ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2200" y="2288520"/>
            <a:ext cx="5329440" cy="389520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5040" indent="-27288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0000"/>
                </a:solidFill>
                <a:latin typeface="Arial"/>
              </a:rPr>
              <a:t>(4) ИЛЕРЛЕМЕ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бу яшларъ кулланалъм даа ьонемли ве бюйюк ишлер ичин:</a:t>
            </a:r>
            <a:r>
              <a:rPr b="1" lang="bg-BG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"И</a:t>
            </a:r>
            <a:r>
              <a:rPr b="1" lang="bg-BG" sz="2200" spc="-1" strike="noStrike">
                <a:solidFill>
                  <a:srgbClr val="ffffff"/>
                </a:solidFill>
                <a:latin typeface="Tahoma"/>
              </a:rPr>
              <a:t>щ</a:t>
            </a: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е, онун ичин йоргунлуктан вазгезмийоруз. Сахи, дъш адамъмъз чюрюйор. </a:t>
            </a:r>
            <a:r>
              <a:rPr b="1" lang="tr-TR" sz="2200" spc="-1" strike="noStrike" u="sng">
                <a:solidFill>
                  <a:srgbClr val="ffffff"/>
                </a:solidFill>
                <a:uFillTx/>
                <a:latin typeface="Tahoma"/>
              </a:rPr>
              <a:t>Ама ич адамъмъз гюнден гюне йениленийор</a:t>
            </a:r>
            <a:r>
              <a:rPr b="1" lang="bg-BG" sz="2200" spc="-1" strike="noStrike">
                <a:solidFill>
                  <a:srgbClr val="ffffff"/>
                </a:solidFill>
                <a:latin typeface="Tahoma"/>
              </a:rPr>
              <a:t>.” 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(2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Кор 4:16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Aft>
                <a:spcPts val="1100"/>
              </a:spcAft>
              <a:buClr>
                <a:srgbClr val="ffffff"/>
              </a:buClr>
              <a:buFont typeface="Tahoma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Tahoma"/>
              </a:rPr>
              <a:t>артък вактъмъз вар кендимизи бютюн рухсал темалара верели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486560" y="4365720"/>
            <a:ext cx="1657440" cy="2492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940360" y="2133720"/>
            <a:ext cx="2463840" cy="288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724360" y="4827600"/>
            <a:ext cx="19195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199999995529652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523200" y="765000"/>
            <a:ext cx="2585880" cy="388800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rcRect l="2320" t="5083" r="50231" b="47755"/>
          <a:stretch/>
        </p:blipFill>
        <p:spPr>
          <a:xfrm>
            <a:off x="6516720" y="4646520"/>
            <a:ext cx="2592360" cy="221148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4000" y="1203480"/>
            <a:ext cx="6119640" cy="5608080"/>
          </a:xfrm>
          <a:prstGeom prst="rect">
            <a:avLst/>
          </a:prstGeom>
          <a:solidFill>
            <a:srgbClr val="33cc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001"/>
              </a:spcAft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у иш кенди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ли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инден олмуйор: бейинин алтънда кючюк бир орган вар (хипофиз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ъз бюйюйюндже, о башлъйор хормонлар ('сок') салмая. Къзън бедени башлъйор деишмей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О хипофиз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н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SH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дънда бир хормон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салъйор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е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йумурталъкларъна буйрук верийор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йумурталарънъ салсънл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йумурталъклар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естроген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адънда бир хормон салъп ана ятаънъ хазърлъйорл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йбашънън икинджи яръсънда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рогестерон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дънда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бир хормон ортая гелийор. O енгел олуйор, башка бир йумурта олгунлашсън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на ятаъндаки сюмюк чоалъйор, темпертура йюкселийор – прогестерон азалънджа канама олуй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0920" y="692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Кадънларда айбаш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23200" y="765000"/>
            <a:ext cx="2585880" cy="388800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rcRect l="2320" t="5083" r="50231" b="47755"/>
          <a:stretch/>
        </p:blipFill>
        <p:spPr>
          <a:xfrm>
            <a:off x="6516720" y="4646520"/>
            <a:ext cx="2592360" cy="221148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758520"/>
            <a:ext cx="5905440" cy="4344120"/>
          </a:xfrm>
          <a:prstGeom prst="rect">
            <a:avLst/>
          </a:prstGeom>
          <a:gradFill rotWithShape="0">
            <a:gsLst>
              <a:gs pos="0">
                <a:srgbClr val="6699ff">
                  <a:alpha val="90196"/>
                </a:srgbClr>
              </a:gs>
              <a:gs pos="100000">
                <a:srgbClr val="2f4675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у процеси контрол еден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бейин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ир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ъкънтъ, корку, хейеджан я да хасталък варса, бу канама геч олабилир, я да хич олмаябилир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Хормонлар азалънджа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синирли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олуй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беден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ел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деишикликлер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: йоргунлук,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афа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аръсъ, кусмак, сърт аръсъ, карън аръларъ, джанъ кими йемеклери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екебилир. Даа аз иш япабилир, даа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бук хасталанъ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дуйгусал деишикликлер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: колайджа синирлени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йо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р, умутсуз олуйор, ен уфак меселелер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ок б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ю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ю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 проблемлер гиби г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ю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уйор, кенди кендини беенмийо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71640" y="5229360"/>
            <a:ext cx="1263600" cy="1496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788000" y="5229360"/>
            <a:ext cx="1028520" cy="1523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340000" y="5229360"/>
            <a:ext cx="233676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1840" y="1712880"/>
            <a:ext cx="2286000" cy="2984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77080" y="1700280"/>
            <a:ext cx="2060640" cy="309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52560" y="962640"/>
            <a:ext cx="3888000" cy="5583960"/>
          </a:xfrm>
          <a:prstGeom prst="rect">
            <a:avLst/>
          </a:prstGeom>
          <a:solidFill>
            <a:srgbClr val="33cc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ff00"/>
                </a:solidFill>
                <a:latin typeface="Tahoma"/>
              </a:rPr>
              <a:t>МЕНОПО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10199"/>
                </a:solidFill>
                <a:latin typeface="Arial"/>
              </a:rPr>
              <a:t>Кадън </a:t>
            </a:r>
            <a:r>
              <a:rPr b="1" i="1" lang="bg-BG" sz="2000" spc="-1" strike="noStrike">
                <a:solidFill>
                  <a:srgbClr val="010199"/>
                </a:solidFill>
                <a:latin typeface="Arial"/>
              </a:rPr>
              <a:t>40 </a:t>
            </a:r>
            <a:r>
              <a:rPr b="1" i="1" lang="tr-TR" sz="2000" spc="-1" strike="noStrike">
                <a:solidFill>
                  <a:srgbClr val="010199"/>
                </a:solidFill>
                <a:latin typeface="Arial"/>
              </a:rPr>
              <a:t>яшъндан сонра бу ики хормон чок азалъйор, канама дуруйо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 u="sng">
                <a:solidFill>
                  <a:srgbClr val="010199"/>
                </a:solidFill>
                <a:uFillTx/>
                <a:latin typeface="Arial"/>
              </a:rPr>
              <a:t>Резултатлар</a:t>
            </a:r>
            <a:r>
              <a:rPr b="1" i="1" lang="tr-TR" sz="20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кадънларън 60% хич бир деишиклик хиссетмий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башкалар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ън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да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съкънт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йкусузл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афа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арълар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дериде деишиклик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унутканл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дуйгусал далгалан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джинсел арзулар чоалъй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85920" y="1127160"/>
            <a:ext cx="476244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174680" y="1224000"/>
            <a:ext cx="3024360" cy="3373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Баш аъръсъ ве съджакл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1700280"/>
            <a:ext cx="229536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Дишлер ве диш ети зайъфлъй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2421000"/>
            <a:ext cx="2224440" cy="82404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Калп хасталъкларъ чоалъй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3308400"/>
            <a:ext cx="1863720" cy="3373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Сърт аърълар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4292640"/>
            <a:ext cx="222408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Къллар даа калън ве койу олуй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5516640"/>
            <a:ext cx="287964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Кемиклер зайъфлъйор, даа колай кърълъй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1268280"/>
            <a:ext cx="229572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Саялар даа сейрек ве индже олуй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1989000"/>
            <a:ext cx="229536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Гьоюслер саркмая башлъй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2637000"/>
            <a:ext cx="187164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Томурджуклар уфалъй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3495600"/>
            <a:ext cx="229536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Дери даа куру ве серт олуй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4221000"/>
            <a:ext cx="287964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Каръндаки мускуллар гевшек олуй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4941720"/>
            <a:ext cx="222408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Даа сък ишемейе ихтияч дуйулуй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5656320"/>
            <a:ext cx="259272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entury Gothic"/>
              </a:rPr>
              <a:t>Вагина даа куру олуйор ве кашънъй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403800" cy="398772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11280" y="1916280"/>
            <a:ext cx="4031640" cy="3974760"/>
            <a:chOff x="611280" y="1916280"/>
            <a:chExt cx="4031640" cy="3974760"/>
          </a:xfrm>
        </p:grpSpPr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611280" y="1916280"/>
              <a:ext cx="40118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848680" y="2377080"/>
              <a:ext cx="179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99"/>
                  </a:solidFill>
                  <a:latin typeface="Tahoma"/>
                </a:rPr>
                <a:t>КРИТИ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99"/>
                  </a:solidFill>
                  <a:latin typeface="Tahoma"/>
                </a:rPr>
                <a:t>ЧЕСКИ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788000" y="6021000"/>
            <a:ext cx="41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Хатидже серинлемек ичин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кендине йени бир метод бул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6002280"/>
            <a:ext cx="3264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Критически яшлар нереден анлашълъ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5882760"/>
            <a:ext cx="41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Хатърлъйорум... Бурада бир йерде шоколад вардъ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59280" y="2066760"/>
            <a:ext cx="4033800" cy="37926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324000" y="1635120"/>
            <a:ext cx="4338360" cy="4876920"/>
            <a:chOff x="324000" y="1635120"/>
            <a:chExt cx="4338360" cy="487692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324000" y="1635120"/>
              <a:ext cx="43383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82200" y="2124360"/>
              <a:ext cx="2089080" cy="8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10199"/>
                  </a:solidFill>
                  <a:latin typeface="Tahoma"/>
                </a:rPr>
                <a:t>Бу съджаклъклар ичин лазъм кендини бактърасън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000760" y="1844640"/>
            <a:ext cx="3668400" cy="4537080"/>
            <a:chOff x="5000760" y="1844640"/>
            <a:chExt cx="3668400" cy="453708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000760" y="1844640"/>
              <a:ext cx="366840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011560" y="2122560"/>
              <a:ext cx="3232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10199"/>
                  </a:solidFill>
                  <a:latin typeface="Arial"/>
                </a:rPr>
                <a:t>Анладъм, уйкун тутмуйор. Ама юч саат дама ойнадък, йетер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8640" y="1844640"/>
            <a:ext cx="3699000" cy="4572000"/>
            <a:chOff x="728640" y="1844640"/>
            <a:chExt cx="3699000" cy="457200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728640" y="1844640"/>
              <a:ext cx="3699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28640" y="2060640"/>
              <a:ext cx="194472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10199"/>
                  </a:solidFill>
                  <a:latin typeface="Arial"/>
                </a:rPr>
                <a:t>Синирин каклктъ мъ, гит бир соук су ич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КРИТИЧЕСКИ ЯШЛ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46560" y="2060640"/>
            <a:ext cx="3370320" cy="3876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915840" y="2060640"/>
            <a:ext cx="3511800" cy="3867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87480" y="5816880"/>
            <a:ext cx="33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Илач истемийорум. Бана бир ХИЗМЕТЧИ лазъм !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27240" y="6092640"/>
            <a:ext cx="39661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Бирденбире ааламак гелий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04:58:45Z</dcterms:created>
  <dc:creator>PC</dc:creator>
  <dc:description/>
  <dc:language>en-US</dc:language>
  <cp:lastModifiedBy>asd</cp:lastModifiedBy>
  <dcterms:modified xsi:type="dcterms:W3CDTF">2009-04-27T14:08:28Z</dcterms:modified>
  <cp:revision>50</cp:revision>
  <dc:subject/>
  <dc:title>КРИТИЧЕСКИ ЯШЛАР</dc:title>
</cp:coreProperties>
</file>