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88C-EA97-47B4-A447-5E9C3077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385-1F7B-479F-95B4-B53964ED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C80-B5ED-4D08-8399-220BA5E3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AEF-49B7-470A-9144-1BA93864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938-89EE-4873-8006-782E5E80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B2C-C3E4-42A0-8A28-63BF4D19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553-4EA7-4586-B908-C499433F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680-CAB3-4BF5-B8DD-B56DC325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4CE-4504-40F3-B938-0D9A4674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932-C573-4C47-B34B-779BA8A1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2C5-DDE1-4FE5-9F02-0C2125C3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776-F256-4AB0-84D4-113FC781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3152-3030-4FD5-A204-84BB807C26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76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</a:t>
            </a:r>
            <a:r>
              <a:rPr b="1" lang="bg-BG" sz="4000" spc="-1" strike="noStrike">
                <a:solidFill>
                  <a:srgbClr val="000000"/>
                </a:solidFill>
                <a:latin typeface="Goudy Stout"/>
              </a:rPr>
              <a:t> </a:t>
            </a: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41300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Сизе бир </a:t>
            </a: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СОРУ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Сиздже, инсанън хаятъ не заман башлъ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  <a:ea typeface="Arial"/>
              </a:rPr>
              <a:t>►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бебек додуу заман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bg-BG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къзан харекет етмейе башлайънджа</a:t>
            </a: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къзанън бейини мейдана гелдии заман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видеозонда гьорюндюю заман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мъ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ccff"/>
                </a:solidFill>
                <a:latin typeface="Arial"/>
              </a:rPr>
              <a:t>►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99"/>
                </a:solidFill>
                <a:latin typeface="Arial"/>
              </a:rPr>
              <a:t>тестте гебелик анлашълдъъ заман</a:t>
            </a: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мъ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5013360"/>
            <a:ext cx="143676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24000" y="5013360"/>
            <a:ext cx="143676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237440" y="50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819600" y="5013360"/>
            <a:ext cx="1401840" cy="151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508720" y="5013360"/>
            <a:ext cx="147636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2852640"/>
            <a:ext cx="2232000" cy="2232000"/>
          </a:xfrm>
          <a:prstGeom prst="octagon">
            <a:avLst>
              <a:gd name="adj" fmla="val 29287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ffffff"/>
                </a:solidFill>
                <a:uFillTx/>
                <a:latin typeface="Arial"/>
              </a:rPr>
              <a:t>Джевап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ХЕП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ЯНЛЪ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3244680"/>
            <a:ext cx="49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 u="sng">
                <a:solidFill>
                  <a:srgbClr val="99cc00"/>
                </a:solidFill>
                <a:uFillTx/>
                <a:latin typeface="Arial"/>
              </a:rPr>
              <a:t>дору джевап</a:t>
            </a:r>
            <a:r>
              <a:rPr b="1" i="1" lang="tr-TR" sz="24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йумурта иле сперма бирлишиндже даха илк сааттен бери там инсандър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156360" y="2781360"/>
            <a:ext cx="26715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042920" y="1197000"/>
            <a:ext cx="7129440" cy="5533920"/>
            <a:chOff x="1042920" y="1197000"/>
            <a:chExt cx="7129440" cy="553392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1042920" y="1197000"/>
              <a:ext cx="7129440" cy="55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3440" y="5805360"/>
              <a:ext cx="2519640" cy="64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Бу бир дикиш ийнеси (микроскоп алтънд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155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790516"/>
                </a:solidFill>
                <a:latin typeface="Arial"/>
              </a:rPr>
              <a:t>3 гюнлю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2313000"/>
            <a:ext cx="30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летка олму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бебек йумурта боруларъна гирмейе башл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rcRect l="0" t="0" r="5971" b="0"/>
          <a:stretch/>
        </p:blipFill>
        <p:spPr>
          <a:xfrm>
            <a:off x="2556000" y="1268280"/>
            <a:ext cx="5976720" cy="5329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347840"/>
            <a:ext cx="3529080" cy="642600"/>
          </a:xfrm>
          <a:prstGeom prst="rect">
            <a:avLst/>
          </a:prstGeom>
          <a:solidFill>
            <a:srgbClr val="0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Юч хафта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313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0 мм олму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рганлар мейдана ге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753000" y="1125360"/>
            <a:ext cx="4851360" cy="5445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3478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Бир бучук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2313000"/>
            <a:ext cx="37450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5 милиметре олму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йюрек, караджиер, кемиклери мейд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, аякларъ ге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ишти, харекет ед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йюрек бир даккада 140-150 дефа ат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бебеин канъ анасъ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нън канъндан айр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32000" y="1198440"/>
            <a:ext cx="7127640" cy="539928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2195640" y="1630440"/>
            <a:ext cx="1655640" cy="1077840"/>
            <a:chOff x="2195640" y="1630440"/>
            <a:chExt cx="1655640" cy="1077840"/>
          </a:xfrm>
        </p:grpSpPr>
        <p:sp>
          <p:nvSpPr>
            <p:cNvPr id="183" name=""/>
            <p:cNvSpPr/>
            <p:nvPr/>
          </p:nvSpPr>
          <p:spPr>
            <a:xfrm>
              <a:off x="2195640" y="213372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56000" y="163044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197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Юч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2200" y="2421000"/>
            <a:ext cx="4033800" cy="3363480"/>
          </a:xfrm>
          <a:prstGeom prst="rect">
            <a:avLst/>
          </a:prstGeom>
          <a:solidFill>
            <a:srgbClr val="0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9 см ве 15 г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уйуйор, башън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дьон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дю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юп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азънъ ачъй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ьоксюрюйор, пармак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арънъ емийор, каш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арънъ чат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кърдан бир сес гелди ми, ону хисседи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rcRect l="1431" t="0" r="8670" b="0"/>
          <a:stretch/>
        </p:blipFill>
        <p:spPr>
          <a:xfrm>
            <a:off x="2627280" y="1197000"/>
            <a:ext cx="5977080" cy="540072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771640" y="1414440"/>
            <a:ext cx="1655640" cy="1077840"/>
            <a:chOff x="2771640" y="1414440"/>
            <a:chExt cx="1655640" cy="1077840"/>
          </a:xfrm>
        </p:grpSpPr>
        <p:sp>
          <p:nvSpPr>
            <p:cNvPr id="190" name=""/>
            <p:cNvSpPr/>
            <p:nvPr/>
          </p:nvSpPr>
          <p:spPr>
            <a:xfrm>
              <a:off x="2771640" y="191772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32000" y="1414440"/>
              <a:ext cx="1295280" cy="57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1268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Юч бучук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2365200"/>
            <a:ext cx="32400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2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гьозлерини капайъп ач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 бир шейи тутаби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търнаклар мейдана гел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ундан сонра саде бюйюмейе девам едед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66920" y="1268280"/>
            <a:ext cx="6337440" cy="5329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197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Дьорт бучук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2874960"/>
            <a:ext cx="244764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8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ни узатъръйор, кафасънъ калдър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шемейе башл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2560" y="1419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Беш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874960"/>
            <a:ext cx="302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0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ллерини узатъръйор, кафасънъ калдър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шемейе баш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лъйо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92360" y="1413000"/>
            <a:ext cx="50770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7020000" cy="5397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Алтъ айлъ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2133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4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1197000"/>
            <a:ext cx="187164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1341360"/>
            <a:ext cx="792000" cy="57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132000" y="126828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1197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Йени доумуш беб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28749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50 см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 органларъ 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12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Кадън органларънъ ве онларън ишлерини ьоренел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71640" y="1835280"/>
            <a:ext cx="7434000" cy="502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6520" y="371628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уте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(ана ята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34920" y="271620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(яйч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7240" y="1995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бор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3240" y="4508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ерв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7600" y="5734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а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360" y="4568760"/>
            <a:ext cx="374328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МУРТ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уштан бери йумурталъкта хепси  хазър дулунуйорлар - ама хенюз олгун де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ер ай бирер тане олгунлаш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онра йумурта борусуна гирип орада илер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843280" y="3213000"/>
            <a:ext cx="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3213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583160"/>
            <a:ext cx="36716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МУРТ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Йумурта ана ятаъна гир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ебелик йокса онун дуваръна япъшм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уваръндаки сюмюк ве йумур-та канла дъшаръ атълъйор (айбаш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00720" y="2998800"/>
            <a:ext cx="864720" cy="934920"/>
            <a:chOff x="4500720" y="2998800"/>
            <a:chExt cx="864720" cy="934920"/>
          </a:xfrm>
        </p:grpSpPr>
        <p:sp>
          <p:nvSpPr>
            <p:cNvPr id="65" name=""/>
            <p:cNvSpPr/>
            <p:nvPr/>
          </p:nvSpPr>
          <p:spPr>
            <a:xfrm rot="5400000">
              <a:off x="4191120" y="3335400"/>
              <a:ext cx="907920" cy="288720"/>
            </a:xfrm>
            <a:custGeom>
              <a:avLst/>
              <a:gdLst>
                <a:gd name="textAreaLeft" fmla="*/ 164520 w 907920"/>
                <a:gd name="textAreaRight" fmla="*/ 1072800 w 907920"/>
                <a:gd name="textAreaTop" fmla="*/ 119160 h 288720"/>
                <a:gd name="textAreaBottom" fmla="*/ 16956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6" y="4459"/>
                  </a:moveTo>
                  <a:cubicBezTo>
                    <a:pt x="9158" y="-11337"/>
                    <a:pt x="16358" y="20255"/>
                    <a:pt x="21600" y="4459"/>
                  </a:cubicBezTo>
                  <a:lnTo>
                    <a:pt x="17684" y="17141"/>
                  </a:lnTo>
                  <a:cubicBezTo>
                    <a:pt x="12442" y="32937"/>
                    <a:pt x="5242" y="1345"/>
                    <a:pt x="0" y="17141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4766760" y="3308040"/>
              <a:ext cx="907920" cy="289080"/>
            </a:xfrm>
            <a:custGeom>
              <a:avLst/>
              <a:gdLst>
                <a:gd name="textAreaLeft" fmla="*/ 164520 w 907920"/>
                <a:gd name="textAreaRight" fmla="*/ 1072800 w 90792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6" y="4459"/>
                  </a:moveTo>
                  <a:cubicBezTo>
                    <a:pt x="9158" y="-11337"/>
                    <a:pt x="16358" y="20255"/>
                    <a:pt x="21600" y="4459"/>
                  </a:cubicBezTo>
                  <a:lnTo>
                    <a:pt x="17684" y="17141"/>
                  </a:lnTo>
                  <a:cubicBezTo>
                    <a:pt x="12442" y="32937"/>
                    <a:pt x="5242" y="1345"/>
                    <a:pt x="0" y="17141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635280" y="2276640"/>
            <a:ext cx="216000" cy="21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00116 C 0.00052 0.01018 -0.03125 0.06065 -0.05469 0.06782 C -0.07813 0.07523 -0.11389 0.06111 -0.12934 0.04213 C -0.14462 0.02338 -0.14809 -0.01597 -0.14722 -0.04491 C -0.14635 -0.07384 -0.13646 -0.11157 -0.12396 -0.13195 C -0.11163 -0.15232 -0.09792 -0.16157 -0.07274 -0.16736 C -0.0474 -0.17315 -0.01076 -0.17269 0.0276 -0.16736 C 0.06597 -0.16204 0.13056 -0.14167 0.15764 -0.13495 E">
                                      <p:cBhvr>
                                        <p:cTn id="177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6"/>
                                      </p:cond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9.62963E-006 C 0.03334 0.00162 0.06667 0.00324 0.08576 0.02222 C 0.10487 0.0412 0.10799 0.0868 0.11424 0.11435 C 0.12049 0.14189 0.12292 0.15069 0.12379 0.18726 C 0.12466 0.22384 0.11945 0.25509 0.1191 0.33333 C 0.11876 0.41157 0.12101 0.60324 0.12136 0.65717 E">
                                      <p:cBhvr>
                                        <p:cTn id="215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3.61111E-006 0.17454 L -3.61111E-006 0.50787 E">
                                      <p:cBhvr>
                                        <p:cTn id="222" dur="26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 органларъ 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12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Кадън органларънъ ве онларън ишлерини ьоренел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71640" y="1835280"/>
            <a:ext cx="7434000" cy="5022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66520" y="371628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уте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(ана ята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34920" y="271620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(яйч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7240" y="1995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бор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3240" y="4508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ерв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7600" y="5734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а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0" y="4365720"/>
            <a:ext cx="410364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ЕБЕ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Йумурта олгунлашъй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ркеин спермлери ана ятаъна ги-рип йумурта боруларънда илер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гер биринджи гюнде йумурта иле бирлеширселер, бебек мейдана ге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3213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27640" y="6019920"/>
            <a:ext cx="864720" cy="1081080"/>
            <a:chOff x="4427640" y="6019920"/>
            <a:chExt cx="864720" cy="108108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4427640" y="623592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4499280" y="6019920"/>
              <a:ext cx="793080" cy="1081080"/>
              <a:chOff x="4499280" y="6019920"/>
              <a:chExt cx="793080" cy="1081080"/>
            </a:xfrm>
          </p:grpSpPr>
          <p:pic>
            <p:nvPicPr>
              <p:cNvPr id="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99280" y="6525000"/>
                <a:ext cx="576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16360" y="6380280"/>
                <a:ext cx="576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9280" y="6019920"/>
                <a:ext cx="576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572000" y="6309000"/>
                <a:ext cx="57564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6164640"/>
                <a:ext cx="576000" cy="57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6" name=""/>
          <p:cNvGrpSpPr/>
          <p:nvPr/>
        </p:nvGrpSpPr>
        <p:grpSpPr>
          <a:xfrm>
            <a:off x="4284720" y="2276640"/>
            <a:ext cx="1081080" cy="792000"/>
            <a:chOff x="4284720" y="2276640"/>
            <a:chExt cx="1081080" cy="79200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4500720" y="249264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4789440" y="2421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 rot="16200000">
              <a:off x="4284720" y="234936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4573440" y="2276640"/>
              <a:ext cx="57636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042920" y="1989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1189080" y="2421000"/>
            <a:ext cx="861840" cy="9367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4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4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77778E-007 7.40741E-007 C -0.01059 0.01134 -0.0401 0.06458 -0.06146 0.06898 C -0.08281 0.07338 -0.11424 0.03565 -0.12813 0.02685 E">
                                      <p:cBhvr>
                                        <p:cTn id="24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3.61111E-006 -0.58403 E">
                                      <p:cBhvr>
                                        <p:cTn id="25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-0.05382 -0.02176 -0.10746 -0.04329 -0.15034 -0.05625 C -0.19288 -0.06922 -0.22205 -0.07732 -0.25659 -0.07801 C -0.29114 -0.07848 -0.34132 -0.06343 -0.35816 -0.06065 E">
                                      <p:cBhvr>
                                        <p:cTn id="26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14815E-006 C -0.00452 0.0139 -0.00886 0.02802 -0.01441 0.04121 C -0.01997 0.0544 -0.03212 0.06366 -0.03334 0.0794 C -0.03455 0.09515 -0.02813 0.11575 -0.02153 0.13635 E">
                                      <p:cBhvr>
                                        <p:cTn id="27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9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 органларъ 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12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cc6600"/>
                </a:solidFill>
                <a:latin typeface="Arial"/>
              </a:rPr>
              <a:t>Кадън органларънъ ве онларън ишлерини ьоренел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1835280"/>
            <a:ext cx="7434000" cy="502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66520" y="371628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уте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(ана ята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34920" y="271620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(яйч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07240" y="1995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Йуму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бор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3240" y="4508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серв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7600" y="5734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ва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0" y="4365720"/>
            <a:ext cx="41036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ЕБЕ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ерм йумурта иле бирлештиктен сонра клеткалар чоалмая башл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у клеткалар йумурта борусунун ичинде илер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а ятаънън дуваръна япъшъйор ве бебек бюйюмейе башлъ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42920" y="2276640"/>
            <a:ext cx="286920" cy="360360"/>
            <a:chOff x="1042920" y="2276640"/>
            <a:chExt cx="286920" cy="360360"/>
          </a:xfrm>
        </p:grpSpPr>
        <p:sp>
          <p:nvSpPr>
            <p:cNvPr id="103" name=""/>
            <p:cNvSpPr/>
            <p:nvPr/>
          </p:nvSpPr>
          <p:spPr>
            <a:xfrm>
              <a:off x="1114200" y="2276640"/>
              <a:ext cx="14400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85480" y="2349720"/>
              <a:ext cx="14436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42920" y="2349720"/>
              <a:ext cx="14436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14200" y="2421000"/>
              <a:ext cx="144000" cy="216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627280" y="2060640"/>
            <a:ext cx="432000" cy="360360"/>
            <a:chOff x="2627280" y="2060640"/>
            <a:chExt cx="432000" cy="360360"/>
          </a:xfrm>
        </p:grpSpPr>
        <p:grpSp>
          <p:nvGrpSpPr>
            <p:cNvPr id="108" name=""/>
            <p:cNvGrpSpPr/>
            <p:nvPr/>
          </p:nvGrpSpPr>
          <p:grpSpPr>
            <a:xfrm>
              <a:off x="2627280" y="2060640"/>
              <a:ext cx="286920" cy="360360"/>
              <a:chOff x="2627280" y="2060640"/>
              <a:chExt cx="286920" cy="360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698560" y="206064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69840" y="213372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27280" y="213372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8560" y="220500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771640" y="2060640"/>
              <a:ext cx="287640" cy="360360"/>
              <a:chOff x="2771640" y="2060640"/>
              <a:chExt cx="287640" cy="360360"/>
            </a:xfrm>
          </p:grpSpPr>
          <p:sp>
            <p:nvSpPr>
              <p:cNvPr id="114" name=""/>
              <p:cNvSpPr/>
              <p:nvPr/>
            </p:nvSpPr>
            <p:spPr>
              <a:xfrm>
                <a:off x="2843280" y="206064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14560" y="2133720"/>
                <a:ext cx="14472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71640" y="2133720"/>
                <a:ext cx="14472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43280" y="220500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4716360" y="2419200"/>
            <a:ext cx="430920" cy="504720"/>
            <a:chOff x="4716360" y="2419200"/>
            <a:chExt cx="430920" cy="504720"/>
          </a:xfrm>
        </p:grpSpPr>
        <p:grpSp>
          <p:nvGrpSpPr>
            <p:cNvPr id="119" name=""/>
            <p:cNvGrpSpPr/>
            <p:nvPr/>
          </p:nvGrpSpPr>
          <p:grpSpPr>
            <a:xfrm>
              <a:off x="4716360" y="2419200"/>
              <a:ext cx="286920" cy="360360"/>
              <a:chOff x="4716360" y="2419200"/>
              <a:chExt cx="286920" cy="360360"/>
            </a:xfrm>
          </p:grpSpPr>
          <p:sp>
            <p:nvSpPr>
              <p:cNvPr id="120" name=""/>
              <p:cNvSpPr/>
              <p:nvPr/>
            </p:nvSpPr>
            <p:spPr>
              <a:xfrm>
                <a:off x="4787640" y="241920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58920" y="249228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16360" y="2492280"/>
                <a:ext cx="14436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87640" y="2563560"/>
                <a:ext cx="144000" cy="216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716360" y="2563560"/>
              <a:ext cx="430920" cy="360360"/>
              <a:chOff x="4716360" y="2563560"/>
              <a:chExt cx="430920" cy="36036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4716360" y="2563560"/>
                <a:ext cx="286560" cy="360360"/>
                <a:chOff x="4716360" y="2563560"/>
                <a:chExt cx="286560" cy="3603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787640" y="2563560"/>
                  <a:ext cx="14364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858920" y="263664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16360" y="263664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787640" y="2707920"/>
                  <a:ext cx="14364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860360" y="2563560"/>
                <a:ext cx="286920" cy="360360"/>
                <a:chOff x="4860360" y="2563560"/>
                <a:chExt cx="286920" cy="360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931640" y="256356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002920" y="2636640"/>
                  <a:ext cx="14436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60360" y="2636640"/>
                  <a:ext cx="14436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31640" y="2707920"/>
                  <a:ext cx="144000" cy="21600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1116000" y="3500280"/>
            <a:ext cx="216000" cy="216000"/>
            <a:chOff x="1116000" y="3500280"/>
            <a:chExt cx="216000" cy="216000"/>
          </a:xfrm>
        </p:grpSpPr>
        <p:sp>
          <p:nvSpPr>
            <p:cNvPr id="136" name=""/>
            <p:cNvSpPr/>
            <p:nvPr/>
          </p:nvSpPr>
          <p:spPr>
            <a:xfrm>
              <a:off x="1116000" y="35002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8920" y="3500280"/>
              <a:ext cx="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19612200">
            <a:off x="4273560" y="2360160"/>
            <a:ext cx="13064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4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4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4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3.7037E-007 C -0.00781 -0.00764 -0.01562 -0.01528 -0.02083 -0.02917 C -0.02604 -0.04306 -0.02951 -0.06597 -0.03124 -0.08334 C -0.03298 -0.1007 -0.03559 -0.11783 -0.03124 -0.13334 C -0.0269 -0.14884 -0.01614 -0.16273 -0.0052 -0.17639 E">
                                      <p:cBhvr>
                                        <p:cTn id="32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C 0.00364 -0.00834 0.00729 -0.01667 0.01562 -0.02361 C 0.02396 -0.03056 0.03594 -0.03843 0.05 -0.04167 C 0.06406 -0.04491 0.0783 -0.04468 0.1 -0.04306 C 0.1217 -0.04144 0.15087 -0.03681 0.18021 -0.03195 E">
                                      <p:cBhvr>
                                        <p:cTn id="32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evt="end">
                                        <p:tn val="327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C 0.02361 0.00486 0.0474 0.00972 0.06875 0.01389 C 0.09011 0.01806 0.10452 0.01551 0.12813 0.025 C 0.15174 0.03449 0.18108 0.05255 0.21042 0.07084 E">
                                      <p:cBhvr>
                                        <p:cTn id="33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06 0.00787 L -0.06528 0.05533 E">
                                      <p:cBhvr>
                                        <p:cTn id="34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3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49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Кадън</a:t>
            </a:r>
            <a:r>
              <a:rPr b="1" lang="bg-BG" sz="4000" spc="-1" strike="noStrike">
                <a:solidFill>
                  <a:srgbClr val="000000"/>
                </a:solidFill>
                <a:latin typeface="Goudy Stout"/>
              </a:rPr>
              <a:t> </a:t>
            </a: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ве гебе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8720" y="1028880"/>
            <a:ext cx="6048360" cy="5717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tr-TR" sz="2400" spc="-1" strike="noStrike">
                <a:solidFill>
                  <a:srgbClr val="cc6600"/>
                </a:solidFill>
                <a:latin typeface="Arial"/>
              </a:rPr>
              <a:t>Мезмур 139:13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Сенсин ичими ярат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ве ана рахминде бени ьо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Итираф едерим 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сахиден бир муджизей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яптъкларън хайранлък веридж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Евет, буну чок ийи били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Гизлилик ичинде япълдъъм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ве йерин деринликлерин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ьорюлдююм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кемиклерим сенден саклъ деил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Бен бичимсиз бир тохум ик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гьозлерин бени гьорд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ве сенин китабънда бютюн гюнлер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язълъ иди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194600" y="1341360"/>
            <a:ext cx="1625400" cy="1219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236000" y="5011560"/>
            <a:ext cx="1617480" cy="122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236000" y="2925720"/>
            <a:ext cx="13683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8999999761581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8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1573200"/>
            <a:ext cx="6264000" cy="466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е, евлатлар Раб'ден мирастър; рахмин мейвасъ О'ндан бир бахшиштир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r-TR" sz="2000" spc="-1" strike="noStrike">
                <a:solidFill>
                  <a:srgbClr val="333399"/>
                </a:solidFill>
                <a:latin typeface="Arial"/>
              </a:rPr>
              <a:t>(Мезмур 127: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Сенин еллерин хер янъмдан бана бичим верди. бени яраттъ... сен балчък гиби бана бичим вердин... Бени сют гиби дьокмедин ми ? Ве бени пейнир гиби катълаштърмадън мъ ? Бана дери ве ет гийдирдин. Кемиклерле ве синирлерле бени ьордюн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r-TR" sz="2000" spc="-1" strike="noStrike">
                <a:solidFill>
                  <a:srgbClr val="333399"/>
                </a:solidFill>
                <a:latin typeface="Arial"/>
              </a:rPr>
              <a:t>(Ейуб 10:8-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Бен ана рахминдейкен Раб бени чаърдъ. Анамън карнънда икен адъмъ андъ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tr-TR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Йе</a:t>
            </a:r>
            <a:r>
              <a:rPr b="1" lang="tr-TR" sz="2000" spc="-1" strike="noStrike">
                <a:solidFill>
                  <a:srgbClr val="333399"/>
                </a:solidFill>
                <a:latin typeface="Arial"/>
              </a:rPr>
              <a:t>шая 49: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194600" y="1488960"/>
            <a:ext cx="16254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236000" y="5011560"/>
            <a:ext cx="1617480" cy="1225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236000" y="2986200"/>
            <a:ext cx="1368360" cy="1666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77080" cy="107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99ff"/>
                </a:solidFill>
                <a:latin typeface="Goudy Stout"/>
              </a:rPr>
              <a:t>Аллахън Сьозю </a:t>
            </a:r>
            <a:br>
              <a:rPr sz="3200"/>
            </a:br>
            <a:r>
              <a:rPr b="1" lang="bg-BG" sz="3200" spc="-1" strike="noStrike">
                <a:solidFill>
                  <a:srgbClr val="6699ff"/>
                </a:solidFill>
                <a:latin typeface="Goudy Stout"/>
              </a:rPr>
              <a:t>домамъш бебеклер ичин не дий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899999976158142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79201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9201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9701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80201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80701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1201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77080" cy="107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99ff"/>
                </a:solidFill>
                <a:latin typeface="Goudy Stout"/>
              </a:rPr>
              <a:t>Аллахън Сьозю </a:t>
            </a:r>
            <a:br>
              <a:rPr sz="3200"/>
            </a:br>
            <a:r>
              <a:rPr b="1" lang="bg-BG" sz="3200" spc="-1" strike="noStrike">
                <a:solidFill>
                  <a:srgbClr val="6699ff"/>
                </a:solidFill>
                <a:latin typeface="Goudy Stout"/>
              </a:rPr>
              <a:t>домамъш бебеклер ичин не дий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8720" y="1662120"/>
            <a:ext cx="6048360" cy="436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Аллах бени анамън карнъндан бери айърдъ ве кенди мерхамети иле бени чаърдъ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000" spc="-1" strike="noStrike">
                <a:solidFill>
                  <a:srgbClr val="333399"/>
                </a:solidFill>
                <a:latin typeface="Arial"/>
              </a:rPr>
              <a:t>Гал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tr-TR" sz="2000" spc="-1" strike="noStrike">
                <a:solidFill>
                  <a:srgbClr val="333399"/>
                </a:solidFill>
                <a:latin typeface="Arial"/>
              </a:rPr>
              <a:t> 1:15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Ана карнънда сана бичим вермеден ьондже сени танъдъм. Ве сен домадан ьондже сени кутсал кълдъм. Сени миллетлере пейгамбер еттим.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000" spc="-1" strike="noStrike">
                <a:solidFill>
                  <a:srgbClr val="333399"/>
                </a:solidFill>
                <a:latin typeface="Arial"/>
              </a:rPr>
              <a:t>Йеремя 1:5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Ве е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ер адамлар кавга едип бир гебе кадъна чарпарларса. ве онун чоджуу дюшерсе, ве бир зарар олмазса, киши джеза ьодейеджек. Факат зарар олурса о заман джан йерине джан вереджексин.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”  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2000" spc="-1" strike="noStrike">
                <a:solidFill>
                  <a:srgbClr val="333399"/>
                </a:solidFill>
                <a:latin typeface="Arial"/>
              </a:rPr>
              <a:t>Чъкъш 21:22-23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194600" y="1562040"/>
            <a:ext cx="1625400" cy="1219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236000" y="5011560"/>
            <a:ext cx="1617480" cy="122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7236000" y="2986200"/>
            <a:ext cx="13683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899999976158142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81201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83201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5201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7201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60720" y="1268280"/>
            <a:ext cx="5543640" cy="525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29760" y="38545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66"/>
                </a:solidFill>
                <a:latin typeface="Arial"/>
              </a:rPr>
              <a:t>спе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63840" y="5829480"/>
            <a:ext cx="1436400" cy="459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66"/>
                </a:solidFill>
                <a:latin typeface="Arial"/>
              </a:rPr>
              <a:t>йуму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628640"/>
            <a:ext cx="388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1)  ЬОндже еркеин сперми кадънън йумуртасъ иле бирлеш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2)  Сонра о клетка бьолюнмейе башл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24000" y="3778200"/>
            <a:ext cx="3168360" cy="2963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651640" y="1700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6600"/>
                </a:solidFill>
                <a:latin typeface="Arial"/>
              </a:rPr>
              <a:t>биринджи гюн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492280"/>
            <a:ext cx="144000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3500280"/>
            <a:ext cx="0" cy="100836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98560" y="1268280"/>
            <a:ext cx="7561080" cy="5141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64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99ff"/>
                </a:solidFill>
                <a:latin typeface="Goudy Stout"/>
              </a:rPr>
              <a:t>Бебеин гелиш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790516"/>
                </a:solidFill>
                <a:latin typeface="Arial"/>
              </a:rPr>
              <a:t>2</a:t>
            </a:r>
            <a:r>
              <a:rPr b="1" lang="bg-BG" sz="3600" spc="-1" strike="noStrike">
                <a:solidFill>
                  <a:srgbClr val="790516"/>
                </a:solidFill>
                <a:latin typeface="Arial"/>
              </a:rPr>
              <a:t> гюнлю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23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летка олму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7:12:53Z</dcterms:created>
  <dc:creator>Windows XP</dc:creator>
  <dc:description/>
  <dc:language>en-US</dc:language>
  <cp:lastModifiedBy>Tomas OTTO</cp:lastModifiedBy>
  <dcterms:modified xsi:type="dcterms:W3CDTF">2007-03-17T03:10:15Z</dcterms:modified>
  <cp:revision>60</cp:revision>
  <dc:subject/>
  <dc:title>Аборт</dc:title>
</cp:coreProperties>
</file>