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5DD-22EB-46C0-BDD9-5C895ECE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230-51DE-4B14-A39E-29EA403B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CF7-6F2B-477D-B3B0-E538AA22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049-BEF5-4D33-A5F8-F61B86F6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F66-9A1D-42B5-83B8-248468A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454-D7AE-4C4C-A8E5-58D0324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4EE-8381-4D99-A265-8562FC9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8E0-DE56-4B01-A179-9724BD2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481-3D3E-431E-BF9B-D1E7E2C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7A3-D072-430D-B94B-D043AE75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301-1642-47B8-8773-D419EEB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1E2-6EF9-4F36-BAD2-1A30D30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AC2-704B-4AA1-A1DA-C2B83474091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ом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- Куртул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13084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. 3:23-24 чок гюзел анлатъйор, курбан аслънда недир ве Иса Месих насъл куртулу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етирди: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67280" y="1052640"/>
            <a:ext cx="2952720" cy="23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79640" y="1089000"/>
            <a:ext cx="3024000" cy="22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1640" y="115560"/>
            <a:ext cx="161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- Куртулуш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14800"/>
            <a:ext cx="147636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692280"/>
            <a:ext cx="3167280" cy="429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1) ФИДЙ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692280"/>
            <a:ext cx="3168720" cy="429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2) КЕФАР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87480" y="3716280"/>
            <a:ext cx="3189240" cy="429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3) БАРЪШТЪ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3645000"/>
            <a:ext cx="3203640" cy="429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4) ЙЕР ДЕИШТИ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rcRect l="1106" t="0" r="1748" b="0"/>
          <a:stretch/>
        </p:blipFill>
        <p:spPr>
          <a:xfrm>
            <a:off x="1763640" y="4146480"/>
            <a:ext cx="3529080" cy="2038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940360" y="4076640"/>
            <a:ext cx="27687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105444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"Харун кендиси ичин гюнах сунусу оларак боайъ гетиреджек. Бьойледже кендисинин ве аилесинин гюнахларънъ баъшлатаджак. Бу гюнах сунусуну кендиси ичин кеседж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'бин хузурунда булунан сунаън юзериндеки корларъ бухурдана койуп ики авуч долусу индже ьоютюлмюш гюзел кокулу бухурла перденин аркасъна гечедж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рада, РАБ'бин хузурунда бухуру корларън юзерине кояджак; бухурун думанъ Антлашма Левхаларъ'нън юзериндеки Баъшланма Капаъ'нъ каплаяджак. Ьойле ки, Харун ьолмес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нра боанън канънъ алъп пармаъйла капаън юзерине, доуя дору серпеджек. Капаън ьонюнде йеди кез буну йинелейедж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"Бундан сонра, халк ичин гюнах сунусу оларак текейи кеседжек. Канънъ перденин аркасъна гьотюреджек. Боанън канъйла яптъъ гиби текенин канънъ да Баъшланма Капаъ'нън юзерине ве ьонюне серпедж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ьойледже Ен Кутсал Йер’и Исраил халкънън кирлиликлеринден, исянларъндан, бютюн гюнахларъндан аръндъраджак. Булушма Чадъръ ичин де айнъ шейи япаджак. Чюнкю кирли инсанларън арасънда булунуй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5400" y="404640"/>
            <a:ext cx="36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Левилилер 16:11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414440"/>
            <a:ext cx="820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арун кендиси, аилеси ве бютюн Исраил топлулуунун гюнахларънъ баъшлатмак ичин Ен Кутсал Йер'е гирдиинде, дъшаръ чъкънджая кадар Булушма Чадъръ'нда хич кимсе булунмаядж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арун РАБ'бин хузурунда булунан сунаа чъкъп сунаъ аръндъраджак, боанън ве текенин канънъ сунаън бойнузларъна чепечевре сюредж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нъ пармаъйла йеди кез сунаа серпеджек. Бьойледже сунаъ Исраил халкънън кирлилиинден аръндъръп кутсал къладж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"Харун Ен Кутсал Йер’и, Булушма Чадъръ'нъ, сунаъ аръндърдъктан сонра, джанлъ текейи сунадж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ки елини текенин башъна кояджак, Исраил халкънън бютюн сучларънъ, исянларънъ, гюнахларънъ ачъклаярак бунларъ текенин башъна актараджак. Сонра бу иш ичин атанан бир адамла текейи чьоле гьондередж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ке Исраил халкънън бютюн сучларънъ йюкленерек ъссъз бир юлкейе ташъяджак. Адам текейи чьоле саладж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5400" y="404640"/>
            <a:ext cx="36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Левилилер 16:11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71640" y="115560"/>
            <a:ext cx="161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- Куртулуш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619200"/>
            <a:ext cx="691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576440"/>
            <a:ext cx="678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фидйе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а.24)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Грекче: ‘аполуо’ - чьоз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лънда: бир кьоле ичин пара ьодейип ону сербест къл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лил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елил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б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нил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:15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3465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71640" y="115560"/>
            <a:ext cx="161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- Куртулуш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619200"/>
            <a:ext cx="691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9120" y="1576440"/>
            <a:ext cx="678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bg-BG" sz="3200" spc="-1" strike="noStrike">
                <a:solidFill>
                  <a:srgbClr val="ff0000"/>
                </a:solidFill>
                <a:latin typeface="Arial"/>
              </a:rPr>
              <a:t>кефарет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а.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Грекче: ‘хиластерион’ – Антлашма Сандъънън кап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лънда: аслънда: гюнах йюзюнден Аллахън кутсаллъъ лекеленди. Курбанън канъйла кутсаллъъ йениден тамамланъ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вилилер 1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Йух. 2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1.Йух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91440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62720" y="404640"/>
            <a:ext cx="32572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нтлашма сандъъ ве кефарет ьортюс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57592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1640" y="115560"/>
            <a:ext cx="161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- Куртулуш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619200"/>
            <a:ext cx="691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1268280"/>
            <a:ext cx="67899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. 5:18-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bg-BG" sz="3200" spc="-1" strike="noStrike">
                <a:solidFill>
                  <a:srgbClr val="ff0000"/>
                </a:solidFill>
                <a:latin typeface="Arial"/>
              </a:rPr>
              <a:t>баръштърма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. 5: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Грекче: ‘каталасо’ – фарклъ къл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лънда: фаркъ капаттърмак; ики фиятън арасъндаки фаркънъ ьодем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. 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71640" y="115560"/>
            <a:ext cx="161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- Куртулуш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619200"/>
            <a:ext cx="691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262160"/>
            <a:ext cx="6789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. 5:18-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bg-BG" sz="3200" spc="-1" strike="noStrike">
                <a:solidFill>
                  <a:srgbClr val="ff0000"/>
                </a:solidFill>
                <a:latin typeface="Arial"/>
              </a:rPr>
              <a:t>йер деиштирме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. 5: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лънда: сучсуз олан, сучлунун йерине гечийор ве канунун истедии джезайъ ьод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Й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ая 53:4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лъл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: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71640" y="115560"/>
            <a:ext cx="161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21-3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- Куртулуш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619200"/>
            <a:ext cx="691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а’нън яптъъ ичин 4 айръ фикир в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84464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х Исраил халкънъ бу куртулуш ичин узун сенелерден бери хазърладъ - Левилилер 16:11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Ашаъдаки айетлерде Иса Месих'ле ханги бензерликлери гьорюйорсу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4:25:47Z</dcterms:created>
  <dc:creator>asd</dc:creator>
  <dc:description/>
  <dc:language>en-US</dc:language>
  <cp:lastModifiedBy>asd</cp:lastModifiedBy>
  <dcterms:modified xsi:type="dcterms:W3CDTF">2009-07-08T15:37:54Z</dcterms:modified>
  <cp:revision>29</cp:revision>
  <dc:subject/>
  <dc:title>Ром. 3:21-31 - Куртулуш</dc:title>
</cp:coreProperties>
</file>