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170C0-3B73-4C14-A344-4C5F878FE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AE992-0FA0-4CD1-8DE8-B4253073B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628FD-A8A2-4244-90F1-CBBB09747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8858D-4B03-4499-A4AB-646FBD281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66C9E-E16B-48A5-8D7F-9BC881B46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FC241-2DE5-4BC2-9887-3EA31F7D2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8FFDF-54D0-44CA-A765-1FE4237AE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964B7-97C8-431C-9B4C-B997B315E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79866-2A52-41E8-B2AF-9F3FBE873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EE34C-376B-4C7B-BD12-63CFACBEA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D0A1-5320-4717-B0E7-3FB87BBBF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464E8-1372-427E-A5EA-1E9A33544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1D176-068D-4E19-83B9-21229FDDA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36A50-C7AE-4010-8769-F075C5568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6C99C-87AE-419F-94FA-B0EE4555E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9C8A5-BB4C-48EA-B77A-17F182CAB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2B380-86F4-45FC-86E3-5225BE9F5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F368D-1017-4D7B-BF25-32D7601A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395F5-D1AE-4875-BAB4-1CB5C750A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71EB1-4540-43D4-870C-0A1AD3009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0B16-3EDB-46D6-BC53-1980D978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C6F38-1942-4BC6-8A4B-5F5F5B25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D55C-B70D-441B-A26E-ECB4F7B02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2034-2706-4D02-B3DB-638E8AA8B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55CF-CA09-4F69-AEF0-C16997CD1E90}"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14B7-E71E-44FB-893F-EC3F44AD97D3}"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4932360" y="5950080"/>
            <a:ext cx="36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33ccff"/>
                </a:solidFill>
                <a:latin typeface="Tahoma"/>
              </a:rPr>
              <a:t>Yeni Yeruşalim</a:t>
            </a:r>
            <a:endParaRPr b="0" lang="en-US" sz="3600" spc="-1" strike="noStrike">
              <a:solidFill>
                <a:srgbClr val="ffffff"/>
              </a:solidFill>
              <a:latin typeface="Arial"/>
            </a:endParaRPr>
          </a:p>
        </p:txBody>
      </p:sp>
      <p:sp>
        <p:nvSpPr>
          <p:cNvPr id="384"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21</a:t>
            </a:r>
            <a:r>
              <a:rPr b="0" lang="de-DE" sz="2400" spc="-1" strike="noStrike">
                <a:solidFill>
                  <a:srgbClr val="ffff00"/>
                </a:solidFill>
                <a:latin typeface="Tahoma"/>
              </a:rPr>
              <a:t>:</a:t>
            </a:r>
            <a:r>
              <a:rPr b="0" lang="tr-TR" sz="2400" spc="-1" strike="noStrike">
                <a:solidFill>
                  <a:srgbClr val="ffff00"/>
                </a:solidFill>
                <a:latin typeface="Tahoma"/>
              </a:rPr>
              <a:t>9</a:t>
            </a:r>
            <a:r>
              <a:rPr b="0" lang="de-DE" sz="2400" spc="-1" strike="noStrike">
                <a:solidFill>
                  <a:srgbClr val="ffff00"/>
                </a:solidFill>
                <a:latin typeface="Tahoma"/>
              </a:rPr>
              <a:t> – </a:t>
            </a:r>
            <a:r>
              <a:rPr b="0" lang="tr-TR" sz="2400" spc="-1" strike="noStrike">
                <a:solidFill>
                  <a:srgbClr val="ffff00"/>
                </a:solidFill>
                <a:latin typeface="Tahoma"/>
              </a:rPr>
              <a:t>22:5</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402"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03" name=""/>
          <p:cNvSpPr/>
          <p:nvPr/>
        </p:nvSpPr>
        <p:spPr>
          <a:xfrm>
            <a:off x="0" y="1052640"/>
            <a:ext cx="914400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5 Ve onun kapıları gündüz hiç kapanmayacak. Ama orada gece zaten hiç olmayacak. 26 Milletlerin şanını ve saygınlığını oraya getirecekler. 27 Ve mundarlık getiren şeyler, ya da iğrenç şeyler yapan ya da yalan söyleyen kişiler oraya asla giremeyecekler. Sade kimin adı Kuzu'nun yaşam kitabında yazılı ise, onlar oraya girecekler.</a:t>
            </a:r>
            <a:r>
              <a:rPr b="1" lang="de-DE"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404"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05" name=""/>
          <p:cNvSpPr/>
          <p:nvPr/>
        </p:nvSpPr>
        <p:spPr>
          <a:xfrm>
            <a:off x="0" y="1052640"/>
            <a:ext cx="914400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 Ve bana yaşam suyundan bir ırmak gösterdi. Kristal gibi şıllak idi. Allahın ve Kuzu'nun kral iskemlesinden çıkıp, 2 kasabadaki sokağın ortasında akardı. </a:t>
            </a:r>
            <a:endParaRPr b="0" lang="en-US" sz="1800" spc="-1" strike="noStrike">
              <a:solidFill>
                <a:srgbClr val="ffffff"/>
              </a:solidFill>
              <a:latin typeface="Arial"/>
            </a:endParaRPr>
          </a:p>
        </p:txBody>
      </p:sp>
      <p:pic>
        <p:nvPicPr>
          <p:cNvPr id="406" name="" descr=""/>
          <p:cNvPicPr/>
          <p:nvPr/>
        </p:nvPicPr>
        <p:blipFill>
          <a:blip r:embed="rId1"/>
          <a:stretch/>
        </p:blipFill>
        <p:spPr>
          <a:xfrm>
            <a:off x="684360" y="2637000"/>
            <a:ext cx="2685960" cy="352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407"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08" name=""/>
          <p:cNvSpPr/>
          <p:nvPr/>
        </p:nvSpPr>
        <p:spPr>
          <a:xfrm>
            <a:off x="0" y="1052640"/>
            <a:ext cx="914400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Irmağın her iki tarafında yaşam ağacı dururdu. O ağaç, oniki türlü yemiş veriyor. Her bir ay için yemişini veriyor. Ağacın yaprakları gene milletleri şifalamak içindir. 3 Ve artık hiç bir lanet kalmayacak.</a:t>
            </a:r>
            <a:r>
              <a:rPr b="0" lang="tr-TR" sz="1800" spc="-1" strike="noStrike">
                <a:solidFill>
                  <a:srgbClr val="ffffff"/>
                </a:solidFill>
                <a:latin typeface="Tahoma"/>
              </a:rPr>
              <a:t> </a:t>
            </a:r>
            <a:endParaRPr b="0" lang="en-US" sz="1800" spc="-1" strike="noStrike">
              <a:solidFill>
                <a:srgbClr val="ffffff"/>
              </a:solidFill>
              <a:latin typeface="Arial"/>
            </a:endParaRPr>
          </a:p>
        </p:txBody>
      </p:sp>
      <p:pic>
        <p:nvPicPr>
          <p:cNvPr id="409" name="" descr=""/>
          <p:cNvPicPr/>
          <p:nvPr/>
        </p:nvPicPr>
        <p:blipFill>
          <a:blip r:embed="rId1"/>
          <a:srcRect l="33758" t="8328" r="18765" b="0"/>
          <a:stretch/>
        </p:blipFill>
        <p:spPr>
          <a:xfrm>
            <a:off x="250920" y="2205000"/>
            <a:ext cx="2976480" cy="443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410"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11" name=""/>
          <p:cNvSpPr/>
          <p:nvPr/>
        </p:nvSpPr>
        <p:spPr>
          <a:xfrm>
            <a:off x="0" y="1052640"/>
            <a:ext cx="914400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3 Allahın ve Kuzu'nun kral iskemlesi o kasabanın içinde olacak. Onun hizmetçileri de Ona hizmet edecekler. 4 Onun yüzünü görecekler ve Onun adı onların alınlarında olacak. </a:t>
            </a:r>
            <a:endParaRPr b="0" lang="en-US" sz="1800" spc="-1" strike="noStrike">
              <a:solidFill>
                <a:srgbClr val="ffffff"/>
              </a:solidFill>
              <a:latin typeface="Arial"/>
            </a:endParaRPr>
          </a:p>
        </p:txBody>
      </p:sp>
      <p:pic>
        <p:nvPicPr>
          <p:cNvPr id="412" name="" descr=""/>
          <p:cNvPicPr/>
          <p:nvPr/>
        </p:nvPicPr>
        <p:blipFill>
          <a:blip r:embed="rId1"/>
          <a:stretch/>
        </p:blipFill>
        <p:spPr>
          <a:xfrm>
            <a:off x="250920" y="2220840"/>
            <a:ext cx="5833800" cy="437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14" name=""/>
          <p:cNvSpPr/>
          <p:nvPr/>
        </p:nvSpPr>
        <p:spPr>
          <a:xfrm>
            <a:off x="0" y="1052640"/>
            <a:ext cx="914400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5 Ve gece artık olmayacak. Bir lambanın aydınlığına, ya da güneşin aydınlığına hiç ihtiyaçları olmayacak. Çünkü Rab Allah onların üzerine şafak verecek. Ve sonsuzlara kadar krallık sürecekler.</a:t>
            </a:r>
            <a:r>
              <a:rPr b="1" lang="de-DE"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385"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86" name=""/>
          <p:cNvSpPr/>
          <p:nvPr/>
        </p:nvSpPr>
        <p:spPr>
          <a:xfrm>
            <a:off x="0" y="1052640"/>
            <a:ext cx="9144000" cy="11912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0 Beni ruhta kocaman, yüksek bir balkana getirdi. Ve bana kutsal kasabayı, hani gökten, Allahın yanından inen Yeruşalim'i gösterdi. 11 Allahın şanlılığı ondaydı. Onun şıllaklığı çok kıymetli taşların şıllaklığına benzerdi; sanki yeşil kristal gibi. </a:t>
            </a:r>
            <a:endParaRPr b="0" lang="en-US" sz="1800" spc="-1" strike="noStrike">
              <a:solidFill>
                <a:srgbClr val="ffffff"/>
              </a:solidFill>
              <a:latin typeface="Arial"/>
            </a:endParaRPr>
          </a:p>
        </p:txBody>
      </p:sp>
      <p:pic>
        <p:nvPicPr>
          <p:cNvPr id="387" name="" descr=""/>
          <p:cNvPicPr/>
          <p:nvPr/>
        </p:nvPicPr>
        <p:blipFill>
          <a:blip r:embed="rId1"/>
          <a:srcRect l="0" t="16353" r="0" b="0"/>
          <a:stretch/>
        </p:blipFill>
        <p:spPr>
          <a:xfrm>
            <a:off x="179280" y="2376360"/>
            <a:ext cx="4415040" cy="44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388"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89" name=""/>
          <p:cNvSpPr/>
          <p:nvPr/>
        </p:nvSpPr>
        <p:spPr>
          <a:xfrm>
            <a:off x="0" y="1052640"/>
            <a:ext cx="9144000" cy="11912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2 Onun kocaman yüksek bir duvarı, onun da oniki kapısı vardı. Kapılarında oniki melek dururdu ve adlar yazılıydı. Onlar da İsrail'in oniki cinsinin adları idi: 13 gündoğusunda üç kapı, kuzey tarafında üç kapı, güney tarafında üç kapı, ve günbatısında üç kapı.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390"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91" name=""/>
          <p:cNvSpPr/>
          <p:nvPr/>
        </p:nvSpPr>
        <p:spPr>
          <a:xfrm>
            <a:off x="0" y="1052640"/>
            <a:ext cx="914400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4 Kasabanın duvarında oniki temel kayası var. Onların üstünde Kuzu'nun oniki apostolunun adları var.</a:t>
            </a:r>
            <a:r>
              <a:rPr b="0" lang="tr-TR"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392"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93" name=""/>
          <p:cNvSpPr/>
          <p:nvPr/>
        </p:nvSpPr>
        <p:spPr>
          <a:xfrm>
            <a:off x="0" y="1052640"/>
            <a:ext cx="914400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5 Kim benimle konuştu, onda altından bir ölçmek çubuğu vardı. Öyle ki, kasabayı, onun kapılarını ve onun duvarını ölçsün. 16 Kasaba da dörtköşelidir: onun genişliği ve uzunluğu aynıdır. Ve kasabayı o çubukla ölçtü: oniki bin durak kadar idi. Evet, onun genişliği, uzunluğu ve yüksekliği hepsi aynıdır. 17 Duvarını da ölçtü: yüz kırk dört adım idi (insanın ölçüsüne göre, ki o da meleklerin ölçüsüyle bir gidiyo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394"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95" name=""/>
          <p:cNvSpPr/>
          <p:nvPr/>
        </p:nvSpPr>
        <p:spPr>
          <a:xfrm>
            <a:off x="0" y="1052640"/>
            <a:ext cx="9144000" cy="42087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8 Duvar yeşil bir kıymetli taştan yapılma idi. Kasaba gene saf altından, sanki camdan idi. 19 Kasaba duvarının temel kayaları türlü çeşit kıymetli taşlarla süslenmişt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birinci temel kayası yeşil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ikincisi koyu mavi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üçüncüsü kül rengi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dördüncüsü açık yeşil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0</a:t>
            </a:r>
            <a:r>
              <a:rPr b="1" lang="tr-TR" sz="1800" spc="-1" strike="noStrike">
                <a:solidFill>
                  <a:srgbClr val="ffffff"/>
                </a:solidFill>
                <a:latin typeface="Tahoma"/>
              </a:rPr>
              <a:t>	</a:t>
            </a:r>
            <a:r>
              <a:rPr b="1" lang="tr-TR" sz="1800" spc="-1" strike="noStrike">
                <a:solidFill>
                  <a:srgbClr val="ffffff"/>
                </a:solidFill>
                <a:latin typeface="Tahoma"/>
              </a:rPr>
              <a:t>beşincisi kahverengi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altıncısı kırmızı ve beyaz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yedincisi sarı ve yeşil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sekizincisi renksiz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dokuzuncusu sarı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onuncusu yeşil ve altın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onbirincisi kırmızı idi,</a:t>
            </a:r>
            <a:endParaRPr b="0" lang="en-US" sz="1800" spc="-1" strike="noStrike">
              <a:solidFill>
                <a:srgbClr val="ffffff"/>
              </a:solidFill>
              <a:latin typeface="Arial"/>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onikincisi mor id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396"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97" name=""/>
          <p:cNvSpPr/>
          <p:nvPr/>
        </p:nvSpPr>
        <p:spPr>
          <a:xfrm>
            <a:off x="0" y="1052640"/>
            <a:ext cx="914400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1 Oniki kapı da oniki sedef boncuğu idi - her bir kapı birer sedef boncuğundan yapılma idi. Kasabanın sokağı da saf altından, sanki renksiz camdan id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99" name=""/>
          <p:cNvSpPr/>
          <p:nvPr/>
        </p:nvSpPr>
        <p:spPr>
          <a:xfrm>
            <a:off x="0" y="1052640"/>
            <a:ext cx="914400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2 Ama kasabada Allahevi görmedim. Çünkü herşeyi güden Rab Allahın kendisi, hem de Kuzu, onun Allahevi oluyo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383b3"/>
            </a:gs>
            <a:gs pos="100000">
              <a:srgbClr val="433c52"/>
            </a:gs>
          </a:gsLst>
          <a:lin ang="5400000"/>
        </a:gradFill>
      </p:bgPr>
    </p:bg>
    <p:spTree>
      <p:nvGrpSpPr>
        <p:cNvPr id="1" name=""/>
        <p:cNvGrpSpPr/>
        <p:nvPr/>
      </p:nvGrpSpPr>
      <p:grpSpPr>
        <a:xfrm>
          <a:off x="0" y="0"/>
          <a:ext cx="0" cy="0"/>
          <a:chOff x="0" y="0"/>
          <a:chExt cx="0" cy="0"/>
        </a:xfrm>
      </p:grpSpPr>
      <p:sp>
        <p:nvSpPr>
          <p:cNvPr id="400" name=""/>
          <p:cNvSpPr/>
          <p:nvPr/>
        </p:nvSpPr>
        <p:spPr>
          <a:xfrm>
            <a:off x="0" y="0"/>
            <a:ext cx="9144000" cy="765000"/>
          </a:xfrm>
          <a:prstGeom prst="rect">
            <a:avLst/>
          </a:prstGeom>
          <a:gradFill rotWithShape="0">
            <a:gsLst>
              <a:gs pos="0">
                <a:srgbClr val="2e000f"/>
              </a:gs>
              <a:gs pos="50000">
                <a:srgbClr val="990033"/>
              </a:gs>
              <a:gs pos="100000">
                <a:srgbClr val="2e000f"/>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3</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01" name=""/>
          <p:cNvSpPr/>
          <p:nvPr/>
        </p:nvSpPr>
        <p:spPr>
          <a:xfrm>
            <a:off x="0" y="1052640"/>
            <a:ext cx="9144000" cy="11912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3 Kasabanın ne güneşe, ne de aya ihtiyacı var, ona aydınlık versinler. Çünkü Allahın şanlılığı ona şafak veriyor. Kuzu da onun lambasıdır. 24 Ve milletler o kasabanın aydınlığında yürüyecekler. Dünyanın kralları da kendi şanını oraya getirecekl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asd</cp:lastModifiedBy>
  <dcterms:modified xsi:type="dcterms:W3CDTF">2008-06-03T11:57:57Z</dcterms:modified>
  <cp:revision>619</cp:revision>
  <dc:subject/>
  <dc:title>Yedi Mühür açılıyor (bölüm 6)</dc:title>
</cp:coreProperties>
</file>