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BE89-B065-47F7-B6AB-DA12F4E84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D69F-3303-43B5-98ED-0184020D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3099-BA79-473E-999E-71617949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89C9-5447-479D-8E2A-729482606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43FA-89FD-4E75-BD2A-B0805678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F93A-1ECD-4F1C-8A71-3D94C0B8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6397-9646-45A3-99BA-9D95B699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7559-0D01-4F53-8981-99D6F34E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A348-2795-4AC0-96F2-1D2F11A5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98B4-4110-41B7-9707-76B5301D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79DA-891A-4AF3-9CBD-21B8218C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06EC-C904-4E40-8FCE-1E9F91D6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BB36-FA59-4DB5-8497-D484B86F30B5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65080"/>
          </a:xfrm>
          <a:prstGeom prst="rect">
            <a:avLst/>
          </a:prstGeom>
          <a:solidFill>
            <a:srgbClr val="808080"/>
          </a:solidFill>
          <a:ln w="381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ahoma"/>
              </a:rPr>
              <a:t>СЕВИНЧЛЕ КАДЪН ОЛМ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000" y="901800"/>
            <a:ext cx="55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99ff"/>
                </a:solidFill>
                <a:latin typeface="Arial"/>
              </a:rPr>
              <a:t>Б</a:t>
            </a:r>
            <a:r>
              <a:rPr b="1" lang="tr-TR" sz="2400" spc="-1" strike="noStrike">
                <a:solidFill>
                  <a:srgbClr val="0099ff"/>
                </a:solidFill>
                <a:latin typeface="Arial"/>
              </a:rPr>
              <a:t>ен еркек кадар къйметли мийи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99ff"/>
                </a:solidFill>
                <a:latin typeface="Arial"/>
              </a:rPr>
              <a:t>Беним асъл ишим неди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692160"/>
            <a:ext cx="6984720" cy="11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000000"/>
                </a:solidFill>
                <a:latin typeface="Arial"/>
              </a:rPr>
              <a:t>1. Махалледе чо</a:t>
            </a:r>
            <a:r>
              <a:rPr b="1" i="1" lang="bg-BG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i="1" lang="tr-TR" sz="2000" spc="-1" strike="noStrike">
                <a:solidFill>
                  <a:srgbClr val="000000"/>
                </a:solidFill>
                <a:latin typeface="Arial"/>
              </a:rPr>
              <a:t> кадън, кадън олмактан бъктъла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- доум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уйкусузлук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нлашмамазлък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в ишлери, евде кавга, коджасънъ ичкиджил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27640" y="4869000"/>
            <a:ext cx="2376360" cy="1858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0400" y="1878120"/>
            <a:ext cx="2449440" cy="1838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71480" y="1878120"/>
            <a:ext cx="2381400" cy="1838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290760" y="1878120"/>
            <a:ext cx="2376720" cy="1836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2122560" y="4869000"/>
            <a:ext cx="2087640" cy="1844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7164360" y="3933720"/>
            <a:ext cx="17874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4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4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3715920"/>
            <a:ext cx="75614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000000"/>
                </a:solidFill>
                <a:latin typeface="Arial"/>
              </a:rPr>
              <a:t>2. Кадънлар еркеклере каршъ не дуйгу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- я нефрет, иренмек ве ашаълък дюшюнджелер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я да кенди кендилерини хор гьорм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евги чок сейрек булуну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506560" y="4724280"/>
            <a:ext cx="2305440" cy="2017800"/>
            <a:chOff x="5506560" y="4724280"/>
            <a:chExt cx="2305440" cy="2017800"/>
          </a:xfrm>
        </p:grpSpPr>
        <p:pic>
          <p:nvPicPr>
            <p:cNvPr id="52" name="" descr=""/>
            <p:cNvPicPr/>
            <p:nvPr/>
          </p:nvPicPr>
          <p:blipFill>
            <a:blip r:embed="rId2"/>
            <a:srcRect l="12950" t="0" r="9288" b="0"/>
            <a:stretch/>
          </p:blipFill>
          <p:spPr>
            <a:xfrm>
              <a:off x="5506920" y="4724280"/>
              <a:ext cx="2303640" cy="200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3" name=""/>
            <p:cNvSpPr/>
            <p:nvPr/>
          </p:nvSpPr>
          <p:spPr>
            <a:xfrm>
              <a:off x="5506920" y="4724280"/>
              <a:ext cx="230508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5506560" y="4797360"/>
              <a:ext cx="230508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65080"/>
          </a:xfrm>
          <a:prstGeom prst="rect">
            <a:avLst/>
          </a:prstGeom>
          <a:solidFill>
            <a:srgbClr val="808080"/>
          </a:solidFill>
          <a:ln w="381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ahoma"/>
              </a:rPr>
              <a:t>СЕВИНЧЛЕ КАДЪН ОЛМ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18800" y="1013040"/>
            <a:ext cx="55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99ff"/>
                </a:solidFill>
                <a:latin typeface="Arial"/>
              </a:rPr>
              <a:t>Б</a:t>
            </a:r>
            <a:r>
              <a:rPr b="1" lang="tr-TR" sz="2400" spc="-1" strike="noStrike">
                <a:solidFill>
                  <a:srgbClr val="0099ff"/>
                </a:solidFill>
                <a:latin typeface="Arial"/>
              </a:rPr>
              <a:t>ен еркек кадар къйметли мийи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99ff"/>
                </a:solidFill>
                <a:latin typeface="Arial"/>
              </a:rPr>
              <a:t>Беним асъл ишим неди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843280" y="1916280"/>
            <a:ext cx="1512720" cy="1733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506840" y="1916280"/>
            <a:ext cx="1533600" cy="1728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541440" y="1925640"/>
            <a:ext cx="2158920" cy="17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6156360" y="191628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rcRect l="12950" t="0" r="9288" b="0"/>
          <a:stretch/>
        </p:blipFill>
        <p:spPr>
          <a:xfrm>
            <a:off x="5508720" y="4735440"/>
            <a:ext cx="2303280" cy="200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65080"/>
          </a:xfrm>
          <a:prstGeom prst="rect">
            <a:avLst/>
          </a:prstGeom>
          <a:solidFill>
            <a:srgbClr val="808080"/>
          </a:solidFill>
          <a:ln w="381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ahoma"/>
              </a:rPr>
              <a:t>СЕВИНЧЛЕ КАДЪН ОЛМ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4866840"/>
            <a:ext cx="5327640" cy="17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bg-BG" sz="2000" spc="-1" strike="noStrike">
                <a:solidFill>
                  <a:srgbClr val="000000"/>
                </a:solidFill>
                <a:latin typeface="Arial"/>
              </a:rPr>
              <a:t>Йешая</a:t>
            </a:r>
            <a:r>
              <a:rPr b="1" i="1" lang="tr-TR" sz="2000" spc="-1" strike="noStrike">
                <a:solidFill>
                  <a:srgbClr val="000000"/>
                </a:solidFill>
                <a:latin typeface="Arial"/>
              </a:rPr>
              <a:t> 49:1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- Аллах кендини бир чоджук доуран кадъна бензеттирийор, О доум аръларъ недир анлаябилир, кадънларън хер бир проблемини анлаябил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18800" y="1013040"/>
            <a:ext cx="55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99ff"/>
                </a:solidFill>
                <a:latin typeface="Arial"/>
              </a:rPr>
              <a:t>Б</a:t>
            </a:r>
            <a:r>
              <a:rPr b="1" lang="tr-TR" sz="2400" spc="-1" strike="noStrike">
                <a:solidFill>
                  <a:srgbClr val="0099ff"/>
                </a:solidFill>
                <a:latin typeface="Arial"/>
              </a:rPr>
              <a:t>ен еркек кадар къйметли мийи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99ff"/>
                </a:solidFill>
                <a:latin typeface="Arial"/>
              </a:rPr>
              <a:t>Беним асъл ишим неди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227640" y="1989000"/>
            <a:ext cx="2403720" cy="2449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2200" y="1844280"/>
            <a:ext cx="5905440" cy="20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bg-BG" sz="2000" spc="-1" strike="noStrike">
                <a:solidFill>
                  <a:srgbClr val="000000"/>
                </a:solidFill>
                <a:latin typeface="Arial"/>
              </a:rPr>
              <a:t>Яратълъш</a:t>
            </a:r>
            <a:r>
              <a:rPr b="1" i="1" lang="tr-TR" sz="2000" spc="-1" strike="noStrike">
                <a:solidFill>
                  <a:srgbClr val="000000"/>
                </a:solidFill>
                <a:latin typeface="Arial"/>
              </a:rPr>
              <a:t> 1:2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Аллах инсанъ кендине бензер оларак яратт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узак деил, сана якъндъ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хем де еркек ве диши оларак яраттъ. Демек, Аллахън карактери хем еркек, хем де кадън гиби. О сени бир кадън оларак анлаябили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68360" y="4076640"/>
            <a:ext cx="28494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65080"/>
          </a:xfrm>
          <a:prstGeom prst="rect">
            <a:avLst/>
          </a:prstGeom>
          <a:solidFill>
            <a:srgbClr val="808080"/>
          </a:solidFill>
          <a:ln w="381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ahoma"/>
              </a:rPr>
              <a:t>СЕВИНЧЛЕ КАДЪН ОЛМ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1827360"/>
            <a:ext cx="547200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marL="174600" indent="-174600">
              <a:spcAft>
                <a:spcPts val="751"/>
              </a:spcAft>
              <a:tabLst>
                <a:tab algn="l" pos="0"/>
                <a:tab algn="l" pos="45720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bg-BG" sz="2000" spc="-1" strike="noStrike">
                <a:solidFill>
                  <a:srgbClr val="000000"/>
                </a:solidFill>
                <a:latin typeface="Arial"/>
              </a:rPr>
              <a:t>Мюслюманлъкта</a:t>
            </a:r>
            <a:r>
              <a:rPr b="1" i="1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bg-BG" sz="2000" spc="-1" strike="noStrike">
                <a:solidFill>
                  <a:srgbClr val="000000"/>
                </a:solidFill>
                <a:latin typeface="Arial"/>
              </a:rPr>
              <a:t>кадъна сайгъ гьостерилмийор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Aft>
                <a:spcPts val="751"/>
              </a:spcAft>
              <a:tabLst>
                <a:tab algn="l" pos="0"/>
                <a:tab algn="l" pos="45720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Еркек Аллаха якън, кадън шейтандандър, дийорла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Aft>
                <a:spcPts val="751"/>
              </a:spcAft>
              <a:tabLst>
                <a:tab algn="l" pos="0"/>
                <a:tab algn="l" pos="45720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кими мюслюман китапларда: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“К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адън шейтанън гьоюс кемиинден яратмъштър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махкемелерде кадънън шахитлии гечми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дженнет саде еркеклер ичиндир: бахчелер, ичкилер, къзла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бир еркек хошуна гиден бир, ики, юч я да дьорт каръ алабили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Ама Инджил'де: бир кадън, бир еркек хаят бойунджа ев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18800" y="1013040"/>
            <a:ext cx="55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99ff"/>
                </a:solidFill>
                <a:latin typeface="Arial"/>
              </a:rPr>
              <a:t>Б</a:t>
            </a:r>
            <a:r>
              <a:rPr b="1" lang="tr-TR" sz="2400" spc="-1" strike="noStrike">
                <a:solidFill>
                  <a:srgbClr val="0099ff"/>
                </a:solidFill>
                <a:latin typeface="Arial"/>
              </a:rPr>
              <a:t>ен еркек кадар къйметли мийи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99ff"/>
                </a:solidFill>
                <a:latin typeface="Arial"/>
              </a:rPr>
              <a:t>Беним асъл ишим неди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6300720" y="4221000"/>
            <a:ext cx="2309760" cy="2519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300720" y="1916280"/>
            <a:ext cx="2303640" cy="22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65080"/>
          </a:xfrm>
          <a:prstGeom prst="rect">
            <a:avLst/>
          </a:prstGeom>
          <a:solidFill>
            <a:srgbClr val="808080"/>
          </a:solidFill>
          <a:ln w="381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ahoma"/>
              </a:rPr>
              <a:t>СЕВИНЧЛЕ КАДЪН ОЛМ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1844640"/>
            <a:ext cx="5400720" cy="48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marL="174600" indent="-174600">
              <a:spcAft>
                <a:spcPts val="1001"/>
              </a:spcAft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tr-TR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bg-BG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tr-TR" sz="2000" spc="-1" strike="noStrike">
                <a:solidFill>
                  <a:srgbClr val="000000"/>
                </a:solidFill>
                <a:latin typeface="Arial"/>
              </a:rPr>
              <a:t>ен </a:t>
            </a:r>
            <a:r>
              <a:rPr b="1" i="1" lang="bg-BG" sz="2000" spc="-1" strike="noStrike">
                <a:solidFill>
                  <a:srgbClr val="000000"/>
                </a:solidFill>
                <a:latin typeface="Arial"/>
              </a:rPr>
              <a:t>Аллаха,</a:t>
            </a:r>
            <a:r>
              <a:rPr b="1" i="1" lang="tr-TR" sz="2000" spc="-1" strike="noStrike">
                <a:solidFill>
                  <a:srgbClr val="000000"/>
                </a:solidFill>
                <a:latin typeface="Arial"/>
              </a:rPr>
              <a:t> бир кадън оларак</a:t>
            </a:r>
            <a:r>
              <a:rPr b="1" i="1" lang="bg-BG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tr-TR" sz="2000" spc="-1" strike="noStrike">
                <a:solidFill>
                  <a:srgbClr val="000000"/>
                </a:solidFill>
                <a:latin typeface="Arial"/>
              </a:rPr>
              <a:t> чок къйметлисин.</a:t>
            </a:r>
            <a:r>
              <a:rPr b="1" i="1" lang="bg-BG" sz="2000" spc="-1" strike="noStrike">
                <a:solidFill>
                  <a:srgbClr val="000000"/>
                </a:solidFill>
                <a:latin typeface="Arial"/>
              </a:rPr>
              <a:t> – О </a:t>
            </a:r>
            <a:r>
              <a:rPr b="1" i="1" lang="tr-TR" sz="2000" spc="-1" strike="noStrike">
                <a:solidFill>
                  <a:srgbClr val="000000"/>
                </a:solidFill>
                <a:latin typeface="Arial"/>
              </a:rPr>
              <a:t>сени чок спе</a:t>
            </a:r>
            <a:r>
              <a:rPr b="1" i="1" lang="bg-BG" sz="20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1" i="1" lang="tr-TR" sz="2000" spc="-1" strike="noStrike">
                <a:solidFill>
                  <a:srgbClr val="000000"/>
                </a:solidFill>
                <a:latin typeface="Arial"/>
              </a:rPr>
              <a:t>ял оларак яптъ, сен насъл исен, Аллах сени ьойле япт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-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Мезмур 139:1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"Сана шюкюр едерим, чюнкю шанлъ ве шашъладжак бир бичимде яратълдъм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- мадем Аллах сени кабул етмек истийор, сен де кенди кендини кабул едебилирси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- джинсийетини (еркек деил де, кадън олдуун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- гьорюнюшюню (сач, бой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..)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- яшън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- айбашъ ве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гебел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18800" y="1013040"/>
            <a:ext cx="55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99ff"/>
                </a:solidFill>
                <a:latin typeface="Arial"/>
              </a:rPr>
              <a:t>Б</a:t>
            </a:r>
            <a:r>
              <a:rPr b="1" lang="tr-TR" sz="2400" spc="-1" strike="noStrike">
                <a:solidFill>
                  <a:srgbClr val="0099ff"/>
                </a:solidFill>
                <a:latin typeface="Arial"/>
              </a:rPr>
              <a:t>ен еркек кадар къйметли мийи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99ff"/>
                </a:solidFill>
                <a:latin typeface="Arial"/>
              </a:rPr>
              <a:t>Беним асъл ишим неди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867280" y="2205000"/>
            <a:ext cx="304164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3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3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65080"/>
          </a:xfrm>
          <a:prstGeom prst="rect">
            <a:avLst/>
          </a:prstGeom>
          <a:solidFill>
            <a:srgbClr val="808080"/>
          </a:solidFill>
          <a:ln w="381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ahoma"/>
              </a:rPr>
              <a:t>СЕВИНЧЛЕ КАДЪН ОЛМ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905480"/>
            <a:ext cx="5616360" cy="47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i="1" lang="tr-TR" sz="2000" spc="-1" strike="noStrike">
                <a:solidFill>
                  <a:srgbClr val="000000"/>
                </a:solidFill>
                <a:latin typeface="Arial"/>
              </a:rPr>
              <a:t>. Аллах кадънлара о кадар бюйюк сайгънлък гьостерийор ки, кенди олуну бир кадънън беденинден доуртур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Гал 4: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Ама заман долунджа, Аллах кенди Олуну йолладъ. О, бир кадъндан доду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Лука 1: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Мелек де она джевап верип деди ки,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"Кутсал Рух сенин юзерине геледжек. 'Ен йюксек Олан'ън куввети, сенин юзерине гьолге саладжак. Иште, там онун ичин доаджак евладъна 'Кутсал' дийеджеклер, 'Аллахън Олу' дийеджекл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18800" y="1013040"/>
            <a:ext cx="55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99ff"/>
                </a:solidFill>
                <a:latin typeface="Arial"/>
              </a:rPr>
              <a:t>Б</a:t>
            </a:r>
            <a:r>
              <a:rPr b="1" lang="tr-TR" sz="2400" spc="-1" strike="noStrike">
                <a:solidFill>
                  <a:srgbClr val="0099ff"/>
                </a:solidFill>
                <a:latin typeface="Arial"/>
              </a:rPr>
              <a:t>ен еркек кадар къйметли мийи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99ff"/>
                </a:solidFill>
                <a:latin typeface="Arial"/>
              </a:rPr>
              <a:t>Беним асъл ишим неди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867280" y="2060640"/>
            <a:ext cx="307188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"/>
                            </p:stCondLst>
                            <p:childTnLst>
                              <p:par>
                                <p:cTn id="3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2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2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"/>
                            </p:stCondLst>
                            <p:childTnLst>
                              <p:par>
                                <p:cTn id="3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0:10:01Z</dcterms:created>
  <dc:creator>PC</dc:creator>
  <dc:description/>
  <dc:language>en-US</dc:language>
  <cp:lastModifiedBy>asd</cp:lastModifiedBy>
  <dcterms:modified xsi:type="dcterms:W3CDTF">2009-04-27T14:06:41Z</dcterms:modified>
  <cp:revision>35</cp:revision>
  <dc:subject/>
  <dc:title>СЕВИНЧЛЕ КАДЪН ОЛМАК</dc:title>
</cp:coreProperties>
</file>