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png" ContentType="image/png"/>
  <Override PartName="/ppt/media/image48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E49-B0A5-4867-83B6-97D7F63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0F9-2A63-4FBF-A715-E4D25AFD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9B1-0C0A-4A9A-A160-C04D1C32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806-4AEB-4856-ACC4-A58AFEF9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DF9A-EC2B-472E-ACAA-F3B3392E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2547-2859-4E48-90AB-29AAF575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C650-02AE-4B72-91F5-7750E0C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0FC7-82B7-45F5-B27D-313C812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3AF-EEB2-4F28-9860-074A8012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BBF0-043E-43CD-994B-9D46BF4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72A-3F28-4C99-AEB4-D86B8843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88D-115C-4B63-9EFF-3F91201A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4041-0745-4461-9C71-136D2B12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727A-008F-4325-908B-7E51204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3F0A-9EE6-4D9F-B013-CCAC396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D5BA-7C06-4F74-AADB-282933B2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5F6A-4FA4-4FFA-B80B-420F3EB3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AC7-7C36-406D-9D7D-E96D96C0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E7F-9644-41E8-BCB4-641704B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5F8-7A53-4B81-BB53-6C90C14F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5B3-5787-4B7B-A136-170169C9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9EC-A0D0-40F8-A913-F4104073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B28-4BDC-4C2F-82B8-12E06868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6F0-9040-43D0-BA9F-C245A2A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7B1-FA3F-420D-AA0B-E43B761CCFDF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4a3d"/>
            </a:gs>
            <a:gs pos="100000">
              <a:srgbClr val="090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09BE-095E-404C-B7DF-A32EFEEC0C58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470560" y="5013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ab</a:t>
            </a:r>
            <a:r>
              <a:rPr b="1" lang="tr-TR" sz="3600" spc="-1" strike="noStrike">
                <a:solidFill>
                  <a:srgbClr val="ffff00"/>
                </a:solidFill>
                <a:latin typeface="Tahoma"/>
              </a:rPr>
              <a:t>il'in yıkılmas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Ve dünyanın tücarları onun üzerine ağlayıp yas tutuyorlar. Çünkü artık kimse onların mallarını almıyor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61480" y="1706400"/>
            <a:ext cx="259164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KOKULU ODUN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95640" y="1700280"/>
            <a:ext cx="10080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TÜTÜ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01880" y="1700280"/>
            <a:ext cx="12553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PARFÜ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07920" y="1700280"/>
            <a:ext cx="10008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TÜTS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58640" y="2349360"/>
            <a:ext cx="4257720" cy="3192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1476360" y="3519360"/>
            <a:ext cx="3949560" cy="33656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6445080" y="4292640"/>
            <a:ext cx="2374920" cy="2413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795920" y="2276640"/>
            <a:ext cx="28717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Ve dünyanın tücarları onun üzerine ağlayıp yas tutuyorlar. Çünkü artık kimse onların mallarını almıyor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59240" y="1706400"/>
            <a:ext cx="9990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ŞAR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32000" y="1700280"/>
            <a:ext cx="1944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ZEYTİNYAĞ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05120" y="1700280"/>
            <a:ext cx="12567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İNCE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85160" y="1700280"/>
            <a:ext cx="125064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BÜĞ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524040" cy="3646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2938320" cy="2801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427640" y="2417760"/>
            <a:ext cx="3454200" cy="25956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5102280" y="4108320"/>
            <a:ext cx="3933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Ve dünyanın tücarları onun üzerine ağlayıp yas tutuyorlar. Çünkü artık kimse onların mallarını almıyor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47880" y="1700280"/>
            <a:ext cx="12535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İNEK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627280" y="1700280"/>
            <a:ext cx="1944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KOYUN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58640" y="1700280"/>
            <a:ext cx="155844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BEYGİR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48000" y="1700280"/>
            <a:ext cx="153108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ARABA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429080" cy="33307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960720" cy="2592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4681440" y="2349360"/>
            <a:ext cx="4283280" cy="30243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4572000" y="3789360"/>
            <a:ext cx="45720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Ve dünyanın tücarları onun üzerine ağlayıp yas tutuyorlar. Çünkü artık kimse onların mallarını almıyor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50600" y="1700280"/>
            <a:ext cx="16545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ve KÖLE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7280" y="1700280"/>
            <a:ext cx="5184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... evet, İNSANLARIN CANLARI b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539640" y="2403360"/>
            <a:ext cx="4464000" cy="29336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067280" y="3425760"/>
            <a:ext cx="47289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080" y="981000"/>
            <a:ext cx="867564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5 Bu şeylerle uğraşan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Tahoma"/>
              </a:rPr>
              <a:t>tücarlar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o kasabanın sırtından zengin oldular, ve onun çektiği çekisinden korkacaklar. Uzakta durup onun üzerine ağlayıp yas tutacaklar. 16 Şöyle diyecekle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Vay, vay o büyük kasabaya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İnce keten, mor ve kırmızı rubalar giyiyerdin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ltınlarla, kıymetli taşlarla ve sedef boncuklarıyla süslenird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7 Bunca zenginlik nasıl da bir saat içinde yok oldu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89080" y="981000"/>
            <a:ext cx="8675640" cy="2837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Ve bütün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Tahoma"/>
              </a:rPr>
              <a:t>kaptanlar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, bütün deniz yolcuları, bütün gemiciler, kim denizlerde çalışıyor, onların hepsi uzakta durdular. 18 Ve o kasabanın yangınından çıkan dumanı görünce bağırdılar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Bu büyük kasaba gibi başka kasaba var mı?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9 Ve kafalarına toz attılar, ağlayıp yas tuttular. Şöyle bağırdıla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Vay, vay o büyük kasabaya. Kimin gemisi vardı, onlar hepsi o kasabanın varlığın dan zengin oldular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Nasıl da bir saat içinde yok oldu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0 Ey gökyüzü, ey kutsallar, apostollar ve peygamberler,  o kasabadan için sevinin.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Çünkü Allah onu davalayıp sizin hakkınızı ondan aldı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2376360" cy="2357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3419640" y="4076640"/>
            <a:ext cx="1895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981000"/>
            <a:ext cx="4284720" cy="25628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1 Ve kuvvetli bir melek kocaman bir kaya, sanki değirmen taşı gibi, aldı ve denizin içine attı. Dedi k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Babil, o büyük kasaba d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ynı bunun gibi hızlı aşağı atılacak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ve onun yeri bir daha hiç bulunmayacak.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1752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981000"/>
            <a:ext cx="914400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2 Gitaracıların, muzikacıların,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zurnacıların ve borazancıların sesi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rtık senin içinde duymayacak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3 Lambaların ışığı artık senin içinde parlamayaca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Güveyi ile gelinin sesi artık senin içinde duyulmayac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250920" y="320508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411280" y="3206880"/>
            <a:ext cx="2232000" cy="1528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6659640" y="3205080"/>
            <a:ext cx="2303280" cy="15112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643280" y="32050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4716360" y="4735440"/>
            <a:ext cx="2881440" cy="20066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1476360" y="4716360"/>
            <a:ext cx="3240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981000"/>
            <a:ext cx="914400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23b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Senin tücarların dünyanın büyük insanları id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Ve senin yaptığın büyülerine bütün milletler aldanırd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4 Peygamberlerin ve kutsalların kan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ünyada her kim öldürülmüşt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ların kanı senin içinde bulunurdu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84360" y="2563920"/>
            <a:ext cx="2052360" cy="2736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92240" y="4365720"/>
            <a:ext cx="1715760" cy="24922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276720" y="27097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700360" y="5219640"/>
            <a:ext cx="2476440" cy="1638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084720" y="2781360"/>
            <a:ext cx="2495880" cy="18763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6012000" y="4807080"/>
            <a:ext cx="2735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4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 Bu meselelerden sonra gökte öyle bir ses işittim, sanki çok büyük bir kalabalığın sesi. Dedil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Haleluy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Kurtuluş ve şanlılık ve kuvvet Allahımızınd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2 Çünkü Onun davalaması hakikat ve doğrud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 büyük orospuyu davalad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 da, zinasıyla bütün dünyayı bozard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llah da kendi hizmetçilerinin kanı için ondan intikam aldı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3 Ve ikinci defa dediler: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Haleluya!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nun dumanı sonsuzlara kadar yükseliyor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 Ve yirmi dört ihtiyar, hem de dört malük yere kapanıp kral iskemlesinde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turan Allaha taptılar.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Amin! Haleluya!" dedi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5 Kral iskemlesinden bir ses çıktı. Dedi k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Küçük olsun, büyük olsu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ey Allahımızın bütün hizmetçiler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Her kim Ondan korkars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nu övün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9080" y="981000"/>
            <a:ext cx="8675640" cy="1465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 Bu meselelerden sonra gökten gelen başka bir melek gördüm. Onun kuvveti çok büyük idi, ve dünya onun şanlılığıyla aydınlandı. 2 Ve yüksek sesle şöyle bağırdı: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Ah, yıkıldı! O büyük Babil kasabası yıkıldı...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796000" y="4041720"/>
            <a:ext cx="3025800" cy="2268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64040" y="4076640"/>
            <a:ext cx="512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ölü</a:t>
            </a: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m 17 – </a:t>
            </a: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Babil = yolsuz kadı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Bölüm 18 – Babil = tüccarların kasab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Bölüm 19 – Yeruşalim = sadikan kadı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Bölüm 21 – Yeruşalim = gökteki kasa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37160" y="2781360"/>
            <a:ext cx="71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99ff"/>
                </a:solidFill>
                <a:latin typeface="Tahoma"/>
              </a:rPr>
              <a:t>17:1-17          Yuhanna Babilin sonunu </a:t>
            </a:r>
            <a:r>
              <a:rPr b="1" lang="tr-TR" sz="2400" spc="-1" strike="noStrike" u="sng">
                <a:solidFill>
                  <a:srgbClr val="ff99ff"/>
                </a:solidFill>
                <a:uFillTx/>
                <a:latin typeface="Tahoma"/>
              </a:rPr>
              <a:t>görü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99ff"/>
                </a:solidFill>
                <a:latin typeface="Tahoma"/>
              </a:rPr>
              <a:t>18:1 – 19:10   Yuhanna Babilin sonunu </a:t>
            </a:r>
            <a:r>
              <a:rPr b="1" lang="tr-TR" sz="2400" spc="-1" strike="noStrike" u="sng">
                <a:solidFill>
                  <a:srgbClr val="ff99ff"/>
                </a:solidFill>
                <a:uFillTx/>
                <a:latin typeface="Tahoma"/>
              </a:rPr>
              <a:t>duyu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981000"/>
            <a:ext cx="9144000" cy="2837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 Ve öyle bir ses işittim, sanki büyük bir kalabalığın sesi, ya da harıl harıl akan suların sesi, ya da kuvvetli gök gürüldemelerinin sesi. Dedi k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Haleluy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Her şeyi güden Rab Allahımız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krallık sürüy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7 Sevinelim, coşalım, Ona şan getireli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Çünkü Kuzu'nun düğünü geldi artı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nun gelini kendini hazırlad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 Ve ona verildi, temiz ve parlak ince keten rubaları giyisin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(Keten rubaları da kutsalların doğru işleridir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854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981000"/>
            <a:ext cx="9144000" cy="25628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9 Ve bana ded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Yaz! Ne mutlu o kişiler, Kuzu'nun düğün sofrasına davetlidirler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Hem de bana dedi: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Bunlar Allahın hakikat sözleridir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0 Ben de onun ayaklarının önüne düştüm, ona tapayım diye. Ama bana dedi: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Sakın yapma! Ben senin ve senin kardeşlerinin hizmetçi arkadaşıyı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nlar ki, İsa'nın şahitliğini tutuyorlar. Sen Allaha tap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Çünkü İsa'dan için şahitlik yapmak, asıl peygamberlik bud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4000" y="4076640"/>
            <a:ext cx="3671640" cy="703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(1) Her imanlı </a:t>
            </a:r>
            <a:r>
              <a:rPr b="1" lang="tr-TR" sz="2000" spc="-1" strike="noStrike" u="sng">
                <a:solidFill>
                  <a:srgbClr val="ffff00"/>
                </a:solidFill>
                <a:uFillTx/>
                <a:latin typeface="Tahoma"/>
              </a:rPr>
              <a:t>dünyaya</a:t>
            </a: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 karşı peygamberlik yapı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35640" y="4076640"/>
            <a:ext cx="4608360" cy="703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(2) ama kimi imanlılar toplulu</a:t>
            </a: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kta </a:t>
            </a:r>
            <a:r>
              <a:rPr b="1" lang="tr-TR" sz="2000" spc="-1" strike="noStrike" u="sng">
                <a:solidFill>
                  <a:srgbClr val="ffff00"/>
                </a:solidFill>
                <a:uFillTx/>
                <a:latin typeface="Tahoma"/>
              </a:rPr>
              <a:t>kiliseye</a:t>
            </a: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 peygamberlik yapı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71640" y="3716280"/>
            <a:ext cx="367200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İki tür peygamberlik v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5435640" y="5079960"/>
            <a:ext cx="2449440" cy="17780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42920" y="5049720"/>
            <a:ext cx="25034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89080" y="981000"/>
            <a:ext cx="8675640" cy="31114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 Bu meselelerden sonra gökten gelen başka bir melek gördüm. Onun kuvveti çok büyük idi, ve dünya onun şanlılığıyla aydınlandı. 2 Ve yüksek sesle şöyle bağırdı: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Ah, yıkıldı! O büyük Babil kasabası yıkıldı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Kötü ruhlar için saklanacak yer oldu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Her türlü mundar ruh için mapus oldu.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Her türlü mundar ve iğrenç kuşa mapus oldu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3 Çünkü bütün milletler onun azgın zina şarabından içtiler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Ve dünyanın kralları onunla zina ettiler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ünyanın tücarları da onun aşırı lüks yaşamından zengin oldular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149640" cy="2230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2262240" cy="2346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564000" y="5516640"/>
            <a:ext cx="158436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981000"/>
            <a:ext cx="9144000" cy="2014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4 Ve gökten başka bir ses işittim, şöyle de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Ey benim halkım, siz o kasabadan dışarı çıkın!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Öyle ki, onun günahlarına ortak olmayasınız,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ve onun belalarından almayasınız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5 Çünkü onun günahları göke kadar yığıldı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Ve Allah onun haksızlıklarını andı.”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587680" cy="3238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708360" y="3213000"/>
            <a:ext cx="502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Tahoma"/>
              </a:rPr>
              <a:t>Luka 17:32  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-  "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Lut'un karısını hatırlayın!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Tahoma"/>
              </a:rPr>
              <a:t>Yar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 19:15</a:t>
            </a:r>
            <a:r>
              <a:rPr b="0" lang="de-DE" sz="1800" spc="-1" strike="noStrike">
                <a:solidFill>
                  <a:srgbClr val="ffff00"/>
                </a:solidFill>
                <a:latin typeface="Tahoma"/>
              </a:rPr>
              <a:t>-17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an ağarırken melekler Lut'a, "Karınla iki kızını al, hemen buradan uzaklaş" diye üstelediler, "Yoksa kent cezasını bulurken sen de canından olursun."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Lut ağır davrandı, ama RAB ona acıdı. Adamlar Lut'la karısının ve iki kızının elinden tutup onları kentin dışına çıkardılar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Kent dışına çıkınca, adamlardan biri Lut'a, "Kaç, canını kurtar, arkana bakma" dedi, "Bu ovanın hiçbir yerinde durma. Dağa kaç, yoksa ölür gidersin."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89080" y="981000"/>
            <a:ext cx="5506920" cy="53060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6 Kendisi nasıl verdiyse, şimdi ona öyle verin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Hem de onun yaptğının iki katını ona verin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 nasıl içirmek için kadeh doldurmuşt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siz onun kadehini iki kat daha fazla doldurun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7 O kendini ne kadar yükseltirdiy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ve ne kadar lüks yaşadıysa,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z ona o kadar çeki ve ağlamak verin.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Çünkü o, yüreğinde şöyle diyor: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'Ben kraliçe gibi oturuyorum,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ul kadın değilim,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e asla ağlamak görmeyecem.'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8 İşte, onun için senin bel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bir saat içinde senin üzerine geldi;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Evet, ölüm ve ağlamak ve açlık.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Ateşle yakılacak,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Çünkü Rab Allah onu davalamıştı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e O kuvvetlidir."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29280" y="958680"/>
            <a:ext cx="293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ahoma"/>
              </a:rPr>
              <a:t>Yasa </a:t>
            </a:r>
            <a:r>
              <a:rPr b="1" lang="bg-BG" sz="1800" spc="-1" strike="noStrike">
                <a:solidFill>
                  <a:srgbClr val="ffff00"/>
                </a:solidFill>
                <a:latin typeface="Tahoma"/>
              </a:rPr>
              <a:t>28:5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Aranızda en yumuşak, en duyarlı kadın -yumuşaklığından ve duyarlılığından ayağının tabanını yere basmak istemeyen kadın- bile sevdiği kocasından, öz oğlundan, kızından, plasentayı ve doğuracağı çocukları esirgeyecek. Çünkü kuşatma sırasında düşmanın kentlerinizde size vereceği sıkıntıdan, yokluktan onları gizlice yiyecek.</a:t>
            </a:r>
            <a:r>
              <a:rPr b="0" lang="bg-BG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89080" y="981000"/>
            <a:ext cx="867564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9 Dünyanın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Tahoma"/>
              </a:rPr>
              <a:t>kralları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da onun yangınından çıkan dumanı görünce onun için ağlayacaklar, ağlayıp çitmelenecekler. Onunla zina ederdiler, lüks yaşam yaşardılar. 10 Onun gördüğü çekisinden için uzakta durup diyecekl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"Vay, vay, o büyük kasabaya, Kuvvetli Babil kasabası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Çünkü tek bir saatte senin davalaman geldi."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84360" y="2917800"/>
            <a:ext cx="41036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Ve dünyanın tücarları onun üzerine ağlayıp yas tutuyorlar. Çünkü artık kimse onların mallarını almıyor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95280" y="2347920"/>
            <a:ext cx="3816360" cy="3529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042920" y="3978360"/>
            <a:ext cx="4321080" cy="2692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861080" y="2311560"/>
            <a:ext cx="3743280" cy="31334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867280" y="3645000"/>
            <a:ext cx="3097440" cy="309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12040" y="1706400"/>
            <a:ext cx="143964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ALTIN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35280" y="1700280"/>
            <a:ext cx="15843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GÜMÜŞ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56160" y="1700280"/>
            <a:ext cx="239508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KIYMETLİ TAŞ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82360" y="1700280"/>
            <a:ext cx="269064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SEDEF BONCUKL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Ve dünyanın tücarları onun üzerine ağlayıp yas tutuyorlar. Çünkü artık kimse onların mallarını almıyor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1280" y="1700280"/>
            <a:ext cx="2808360" cy="703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türlü çeşit KOKULU AĞAÇ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64000" y="1700280"/>
            <a:ext cx="2448000" cy="703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türlü çeşit FİLDİŞİ eşya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19720" y="1700280"/>
            <a:ext cx="2600280" cy="703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PAHALI AĞAÇtan yapılma eşya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68360" y="2638440"/>
            <a:ext cx="3959280" cy="2719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447920" y="4221000"/>
            <a:ext cx="4132080" cy="24782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859280" y="2709720"/>
            <a:ext cx="3960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89080" y="981000"/>
            <a:ext cx="86756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11 Ve dünyanın tücarları onun üzerine ağlayıp yas tutuyorlar. Çünkü artık kimse onların mallarını almıyor: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cc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7 tas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serisi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tr-T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 ekleme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de-DE" sz="2400" spc="-1" strike="noStrike">
                <a:solidFill>
                  <a:srgbClr val="ffff00"/>
                </a:solidFill>
                <a:latin typeface="Tahoma"/>
              </a:rPr>
              <a:t>17:1 – 19:10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5120" y="2292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1700280"/>
            <a:ext cx="280836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BAKIRd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64000" y="1700280"/>
            <a:ext cx="244800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DEMİ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19720" y="1700280"/>
            <a:ext cx="2600280" cy="703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CG Times"/>
              </a:rPr>
              <a:t>MERMER taşından yapılan eşya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3672000" cy="3289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340000" y="4148280"/>
            <a:ext cx="3744720" cy="2665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Tomas OTTO</cp:lastModifiedBy>
  <dcterms:modified xsi:type="dcterms:W3CDTF">2006-10-26T09:58:59Z</dcterms:modified>
  <cp:revision>605</cp:revision>
  <dc:subject/>
  <dc:title>Yedi Mühür açılıyor (bölüm 6)</dc:title>
</cp:coreProperties>
</file>