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401A-3AB0-40A1-8378-3D4DCAE93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98CB-AD3F-4419-B268-B6E85FE0D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C191-D3FA-4942-B4F2-B2AB8555E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8FA9-52FA-4041-9546-04CEC9703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3EAA2-0812-46E8-B8B8-01B841567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20548-AFCC-473A-992D-A15FA0763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4063A-7CDA-42A5-9691-1173AB5C3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A21D9-10EA-412E-BE6D-059FACD10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A272C-8CDD-45A9-861B-B02629F4F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28241-DD23-4B7A-A08D-FE6039A5C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F32C0-11EF-4069-9FD1-50CF2B58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38BB-5FD5-42E5-A14A-50B413D7C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9CA4E-BC98-4887-B3F4-31DCE179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463D7-7815-4B74-9F0D-7D35F1A6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73CC4-13DD-4925-9662-A6799C5A6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A3FFE-E39A-40BB-A291-40F055005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939CE-F664-492D-A4FC-AF41920A4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F358-0A79-4FBD-9866-F58C571E9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9AC6-8DFC-4AA2-B67F-9C8998FB5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BEA9-1507-4E34-98FC-FBF4D1732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AF03-C1FF-4E97-A956-09162CD1A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61EE-874A-4E7F-93C2-ADA881C6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768C-1E9D-440B-8188-B2C930F9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E014-CD58-4959-AFD0-F49EEE3B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19FAF-FA7C-45AA-9687-6C91DEF0FA92}" type="slidenum">
              <a:rPr b="0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838EC-502F-44EC-B4F3-60FB0B03FCFF}" type="slidenum">
              <a:rPr b="0" lang="de-DE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5292720" y="595008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9966ff"/>
                </a:solidFill>
                <a:latin typeface="Tahoma"/>
              </a:rPr>
              <a:t>Son Sözl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Son Sözler 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22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: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6-21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ccff"/>
            </a:gs>
            <a:gs pos="100000">
              <a:srgbClr val="17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0" y="1052640"/>
            <a:ext cx="9144000" cy="173988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6 Ve bana dedi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"İşte, bunlar sadikan ve hakikat sözlerdi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Peygamberlerde olan ruhların Allahı Rabdır. O, kendi meleğini gönderdi. İstiyor, hizmetçilerine göstersin, tezlerde neler lazım olsun.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7 "Bakın, ben çabucak geliyorum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Ne mutlu o kişiye ki, bu kitabın peygamberlik sözlerini tutuyor."</a:t>
            </a:r>
            <a:r>
              <a:rPr b="1" lang="de-DE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Son Sözler 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22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: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6-21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ccff"/>
            </a:gs>
            <a:gs pos="100000">
              <a:srgbClr val="17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0" y="1052640"/>
            <a:ext cx="9144000" cy="20142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8 Ben Yuhanna, bu şeyleri kendim işittim ve gördüm. Ve ne zaman bu şeyleri işittim ve gördüm, bana bunları gösteren meleğin ayaklarının önünde yüzüstü düştü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9 Ama bana dedi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"Sakın yapma! Ben senin hizmetçi arkadaşınım. Hem de senin kardeşlerinin, hani peygamberlerin ve bu kitaptaki sözleri tutanların hizmetçi arkadaşıyım. Sen Allaha tap!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Son Sözler 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22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: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6-21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ccff"/>
            </a:gs>
            <a:gs pos="100000">
              <a:srgbClr val="17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0" y="1052640"/>
            <a:ext cx="9144000" cy="14655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10 Ve bana dedi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"Bu kitabın peygamberlik sözlerini mühürleme. Çünkü artık vakıt yakındı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11 Haksızlık eden, gene haksızlık etsin.Mundarlık yapan, gene mundarlık yapsı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Doğru olan, gene doğruluk işlesin.Kutsal olan, gene kutsal kalsın.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Son Sözler 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22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: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6-21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ccff"/>
            </a:gs>
            <a:gs pos="100000">
              <a:srgbClr val="17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0" y="1052640"/>
            <a:ext cx="9144000" cy="311148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12 "Bakın, ben tezlerde gelec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Bahşişim de yanımdadır, öyle ki, herkese yaptıklarına göre karşılık vereyi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13 Alfa ve Omega, birinci ve sonuncu, baş ve son ben'im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14 Ne mutlu o kişiler, hani rubalarını yıkamışla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Onların hakkı olacak yaşam ağacına. Ve hakları olacak, kapılardan geçip kasabaya girsinl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15 Dışarıda kalacak o köpekler, büyücüler, zinacılar, katiller, putlara tapanlar ve her kim yalanları sevip söyler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16 Ben, İsa, meleğimi yolladım, size bu meselelerden için şahitlik yapsın, öyle ki, topluluklara fayda olsun.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Son Sözler 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22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: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6-21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ccff"/>
            </a:gs>
            <a:gs pos="100000">
              <a:srgbClr val="17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0" y="1052640"/>
            <a:ext cx="9144000" cy="6426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17 Ruh ve gelin "Gel" diyorlar, ve kim işitirse de "Gel" desin. Kim susamışsa gelsin. Kim isterse, yaşam suyunu bola gani alsı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Son Sözler 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22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: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6-21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ccff"/>
            </a:gs>
            <a:gs pos="100000">
              <a:srgbClr val="17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0" y="1052640"/>
            <a:ext cx="9144000" cy="228852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18 Her kim bu kitabın peygamberlik sözlerini işitirse, ona kesin olarak şunu söyleyeyim: Eger bir kişi bunlara bir şey katarsa, Allah da ona bu kitapta anlatırılan belalardan katacak. 19 Eger bir kişi bu peygamberlik kitabının sözlerinden bir şey alırsa, Allah da o kişinin payını alacak, hani bu kitapta yazılı olan yaşam ağacından ve kutsal kasabadan.</a:t>
            </a:r>
            <a:r>
              <a:rPr b="1" lang="de-DE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20 Bu meselelere şahitlik yapan Kişi, "Evet, ben tezlerde gelecem." diyo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Amin, gel Rab İsa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21 Rab İsa'nın merhameti hepinizle birlikte olsun.</a:t>
            </a:r>
            <a:r>
              <a:rPr b="1" lang="de-DE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Son Sözler 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22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: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6-21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08:18:15Z</dcterms:created>
  <dc:creator>Windows XP</dc:creator>
  <dc:description/>
  <dc:language>en-US</dc:language>
  <cp:lastModifiedBy>Windows XP</cp:lastModifiedBy>
  <dcterms:modified xsi:type="dcterms:W3CDTF">2006-08-08T06:54:45Z</dcterms:modified>
  <cp:revision>618</cp:revision>
  <dc:subject/>
  <dc:title>Yedi Mühür açılıyor (bölüm 6)</dc:title>
</cp:coreProperties>
</file>