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790-99FD-4AA9-B850-29094B5E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C6C-71E5-403E-BB72-C2719339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F95-B52C-4473-B295-F5913A73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443-5F3D-4D2B-BA52-EA429FE6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A75-7D43-458D-9084-549321A8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DA6-F050-4E36-A2C6-78BB45EC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9D9-BA53-4A38-863D-2ECE159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792-27D5-4B70-97A2-22929A57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B4D-F076-46A2-A7F5-340762FA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FCA-5FD3-4299-957D-5C46C4A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65C-F12E-4427-9285-499D032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51B-DA85-4571-BB41-BD3E01C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507A-39A1-47E6-BB2A-21D58C5D82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4221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хсал йетк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5589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ъл казанълър?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080" y="90792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674720"/>
            <a:ext cx="842472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зайълъкларънъ анладъ: корку – каръсъ хаккънда ялан сьойледи (Яр 12:12-13) – сонра бебек ичин каръсъна бойун ейди (Яр 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син итаат ьоренди: Раб она конушуйор, хемен ертеси гюн ону йерине гетирийор (Яр 22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ски баалантъларънъ кесмейе ьоренди: касаба, джинс кьок, ана ба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ерйюзюнде ябанджъ олдууну анладъ: Филистинде бир каръш топрак йокту – саде каръсъна мезар ичин бир маара ал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ренди ки, сенин каршълъън олмаяджак: Раб жаат етти, ама Ибрахим онун герчеклешмесини гьормеди – гюдюджю де ‘каршълък’ беклемеден ураш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сеченеи Лут’а брактъ (Яр 13: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0360" y="9079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74720"/>
            <a:ext cx="84247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уса алчалтълдъ: сарайдан хайванларън янъна – хем де буна карар верди (Ибранилер 11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нлар беним кардешлерим” дийе карар верди, утанмадъ (Ибр 11: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Хайванларла анлашъркен, кенди хакънън табийетини ьоренди: койунлар гиби акълсъз ве кечилер гиби инат – сабър ьоре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карактери деишти: ьондже синирли ве ьофкели иди – сонра дюнянън ен алчакгьонюллю адамъ олду (Сай 12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бюйюк рисклере гирмейе хазър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800" y="9079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674720"/>
            <a:ext cx="8424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хачтъндаки путларъ кърмайъ ьоренди (Хак 6:26-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коркусуну йенмейи ьоре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300 киши = елимиздеки матерял ьонемли деил, Раб елимиздеки азънъ да кулланабил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0360" y="90792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674720"/>
            <a:ext cx="842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абърла беклемейи ьоренди: месхедилдиктен сонра 10 сенеден фазла сюрдю крал олсун. Краллъъ кенди елийле казанмадъ, Раб она ве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зайъфлъкларънъ анладъ: Авигаъл олай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.Сам 25 (ьофке ве гурур); Зиглаг олайъ, 1.Сам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курназлъ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ьотюлюе каршъ кьотюлюк чпмамайъ ьоренди: Саулу ьолдюребилирди,а ма япмадъ – Ен-Геди маарасънда (1.Сам 24:7) –Хакила маарасънда 1.Сам 26:9 - ве гене ьолдюктен сонра (2.Сам 1: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савашта дьовюшмейи ьоренди: Саул’ун силахларънъ кълланмадъ, 5 чакълла дьовюштю (1.Сам 17: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Голята бакмадъ, рухсал хакикатлара бактъ (“О сюннетсиз адам кимдир ки, Раббин ордуларънъ ашаълъйор – 1.Сам 17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00" y="90792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674720"/>
            <a:ext cx="84247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арактер деишиклии гьордю: адъ да деишти Симун -&gt; Петрус (Яхуди аддан, Грек адъна – ланетли, аджъмасъз кишиден, сарсълма ка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гьоктен куввет алдъ, деил инсанлардан: Пентикост гюню ичин 10 гюн беклемек, саде д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иманла яшамайъ ьоренди: хеп Исая якън олмак истеди (суйун юстюнде йюрюмек, Мат 17 “Сана чардаклар япалъм”, Йух 13 аяк йъкамада, Йух 21 гьоле атлам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00" y="9079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674720"/>
            <a:ext cx="842472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кенди зайъфлъкларънъ анламая башладъ: Ром 7:18 “Ичимде ийилик йок” – 1.Тим 1: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хер дурумда мутлу олмайъ ьоренди: Фил 4:12 – Раббе хизмет етмек ичин шарт кошмадъ (“ЬОндже лазъм .... олсун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куртулушу херкестен даа дерин оларак анладъ: канун ве мерхамет – санки бир акумулаторун ики полй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160" y="941400"/>
            <a:ext cx="864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(авторитет) инсанджа ьолчюлем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кишинин ел коймасъ 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общинадан гелен мектуп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офислер, печатлар я да араба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баърмак, чъър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3160" y="3997440"/>
            <a:ext cx="83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неди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конушуйоруз ве инсанлар бизи с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зорбаджълък япмадан иманлъларъ рухсал иште чалъштър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836640"/>
            <a:ext cx="8646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казанмак ичин КК’тан 6 ьор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Раббин халкънън ен бюйюк ьондерлери насъл рухсал йетки казандъл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бизим ичин ьонемли: ьондже ьобюр иманлъларла бир дередже идик, шимди гюдюджю ол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9440" y="41482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5440" y="50115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58831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3800" y="501804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720" y="4148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50640" y="58752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440" y="10526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81944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 бабасъндан айрълмадъ, бабасъ ону Харан касабасъна гетирди (Яр 11: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44956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аб иле пазарлък япъйор (Яр 18:22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3357720"/>
            <a:ext cx="1571760" cy="26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720" y="105264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ени ким арамъзда яргъч яптъ?’ (Чъкъш 2: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ютюн халкъ харекете гечирийор (Чък 4:29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333960" cy="254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67200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6160" y="10526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81944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елек она конушуркен аалашъйор “Ен кючюк джинстеним” (Хакимлер 6:12-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7280" y="1916280"/>
            <a:ext cx="38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00 аскерле коджаман дюшман ордусуну йенийор (Хакимлер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4046400"/>
            <a:ext cx="3166920" cy="237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16360" y="4049640"/>
            <a:ext cx="3600720" cy="23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080" y="105264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81944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аде хайванларън юзерине йеткиси вардъ (1.Сам 17: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ютюн халк тарафъндан крал сечилийор (2.Сам 5:1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1968840" cy="2982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7280" y="3429000"/>
            <a:ext cx="1990800" cy="28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720" y="1052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анлайъшъ биле йокту - Иса она “Шейтан” дийор (Матта 16: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айрам гюнюнде бютюн халка конушуйор (Апо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022560" cy="22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3765600"/>
            <a:ext cx="3313080" cy="22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360" y="10526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– ьоренджилер ону кабул етмийорлар (Апо 9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67280" y="1916280"/>
            <a:ext cx="38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ве ьобюр апостоллар она саа елини узатъръйор (Гал 2: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1984320" cy="25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0113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3:04:37Z</dcterms:modified>
  <cp:revision>331</cp:revision>
  <dc:subject/>
  <dc:title>Иса иле килисе ичин бензетмелер</dc:title>
</cp:coreProperties>
</file>