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7.png" ContentType="image/png"/>
  <Override PartName="/ppt/media/image43.jpeg" ContentType="image/jpeg"/>
  <Override PartName="/ppt/media/image34.png" ContentType="image/png"/>
  <Override PartName="/ppt/media/image1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F2B-DFD3-41BB-9B79-F11AA9CE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F71-50E2-4FFC-B867-123AA930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8AC-4B2C-4994-85C9-7441D7D2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50F-9CFD-4565-BB06-6DA33CC0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0CC7-F4F2-46DD-A600-11365F51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C5C6-7692-4364-86B6-80D016F1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6911-CF8E-4F82-817D-D36070D2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C801-1ABF-4D23-B4E0-D5B48061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C58D-632A-467E-AFE4-CD48F11C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0DEC-74EC-4A0A-981D-ECE38ADB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FFB8-FA64-496F-8D78-AEC50DD6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8E7-C4CC-4B17-99A0-44C4900E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06DD-0EB6-41F7-8173-BA26B18F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F610-86D9-4C6B-A9AE-261A4785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70B9-63A6-4200-B0E7-9419539C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BB06-C9FD-4158-AF23-9D3DD140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C69A-E303-4EDD-8178-757E1EE3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975-9F86-4814-B2CF-326BA4FE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2B8-84DC-417D-97AD-AF2082C1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DCD-8F8E-4E02-B7BA-8FC8B394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7FD-19AC-48EF-9C59-EBEA95CC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88E-CE3C-44A0-8387-8C33E426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9C6-7C63-4AC3-837C-1D4F2867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FD5-BB3C-4FDA-9933-4F21B7A3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D444-3766-4C0F-8672-5C94331FBE98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8226-2577-4F2B-A095-471BCF7366B5}" type="slidenum">
              <a:rPr b="0" lang="de-D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5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9:1-1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503280" y="982800"/>
            <a:ext cx="8029440" cy="14961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затръби петия ангел; и видях една звезда, паднала от небето на земята, на която се даде ключа от кладенеца на безднат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2 И тя отвори кладенеца на бездната и от кладенеца се издигна дим както дим от голяма пещ; и слънцето и въздухът потъмняха от дима на кладенец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276720" y="3849840"/>
            <a:ext cx="4140000" cy="27478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804000" y="2276640"/>
            <a:ext cx="2873520" cy="2530440"/>
          </a:xfrm>
          <a:prstGeom prst="rect">
            <a:avLst/>
          </a:prstGeom>
          <a:ln w="9360">
            <a:solidFill>
              <a:srgbClr val="336699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582480" y="4176720"/>
            <a:ext cx="2260800" cy="13460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582480" y="2714760"/>
            <a:ext cx="2260800" cy="13460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-324000" y="5661000"/>
            <a:ext cx="391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Звездата която падна=ангел</a:t>
            </a: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1:20; </a:t>
            </a: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Лука</a:t>
            </a: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 10:18; </a:t>
            </a: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Йоан</a:t>
            </a: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 12:31-32) </a:t>
            </a: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показва с точн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987640" y="285912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Димът, който излезе от кладенеца на бездната. Слънцето (истината) потъм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96360" y="5589720"/>
            <a:ext cx="182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Юда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1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ука синджирите за един миг се отвързв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6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= 2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ГОРКО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9:13-2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61088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Ено време така смятаха, че изглежда земя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равнина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около всички планини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нататък безкрайно мо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rcRect l="6647" t="6622" r="10587" b="5111"/>
          <a:stretch/>
        </p:blipFill>
        <p:spPr>
          <a:xfrm>
            <a:off x="7093080" y="1125360"/>
            <a:ext cx="1800000" cy="2880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050920" y="1125360"/>
            <a:ext cx="4826160" cy="4650120"/>
          </a:xfrm>
          <a:prstGeom prst="rect">
            <a:avLst/>
          </a:prstGeom>
          <a:ln w="0">
            <a:noFill/>
          </a:ln>
        </p:spPr>
      </p:pic>
      <p:grpSp>
        <p:nvGrpSpPr>
          <p:cNvPr id="457" name=""/>
          <p:cNvGrpSpPr/>
          <p:nvPr/>
        </p:nvGrpSpPr>
        <p:grpSpPr>
          <a:xfrm>
            <a:off x="395280" y="1125360"/>
            <a:ext cx="2447640" cy="1586160"/>
            <a:chOff x="395280" y="1125360"/>
            <a:chExt cx="2447640" cy="1586160"/>
          </a:xfrm>
        </p:grpSpPr>
        <p:pic>
          <p:nvPicPr>
            <p:cNvPr id="458" name="" descr=""/>
            <p:cNvPicPr/>
            <p:nvPr/>
          </p:nvPicPr>
          <p:blipFill>
            <a:blip r:embed="rId3"/>
            <a:stretch/>
          </p:blipFill>
          <p:spPr>
            <a:xfrm>
              <a:off x="395280" y="1125360"/>
              <a:ext cx="1064520" cy="12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4"/>
            <a:stretch/>
          </p:blipFill>
          <p:spPr>
            <a:xfrm>
              <a:off x="1100520" y="1247760"/>
              <a:ext cx="1064520" cy="12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5"/>
            <a:stretch/>
          </p:blipFill>
          <p:spPr>
            <a:xfrm>
              <a:off x="1778400" y="1453320"/>
              <a:ext cx="1064520" cy="125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1" name="" descr=""/>
          <p:cNvPicPr/>
          <p:nvPr/>
        </p:nvPicPr>
        <p:blipFill>
          <a:blip r:embed="rId6"/>
          <a:stretch/>
        </p:blipFill>
        <p:spPr>
          <a:xfrm>
            <a:off x="324000" y="3357720"/>
            <a:ext cx="2447640" cy="24476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7"/>
          <a:stretch/>
        </p:blipFill>
        <p:spPr>
          <a:xfrm>
            <a:off x="6588000" y="3860640"/>
            <a:ext cx="180036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6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= 2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горко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9:13-2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287280" y="866880"/>
            <a:ext cx="8532720" cy="20448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7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така видях във видението конете и яздещите на тях: те носеха нагръдници  като от огън, яцинт и сяра; и главите на конете бяха като глави на лъвове и от устата им излизаше огън, дим и сяра. 18 От тези три язви- от огъня, от дима и от сярата, които излизаха от устата им- беше избита трета част от хората. 19. Защото властта на конете е в устата им и в опашките им; понеже опашките им приличат на змии и имат глави, с тях поврежда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68360" y="609300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Устата като на лъв</a:t>
            </a: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опашка като зм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rcRect l="8504" t="0" r="9284" b="5826"/>
          <a:stretch/>
        </p:blipFill>
        <p:spPr>
          <a:xfrm>
            <a:off x="250920" y="2781360"/>
            <a:ext cx="3887640" cy="3025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500720" y="2637000"/>
            <a:ext cx="442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Malükler farklı türlerden meydana gelmiş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къкалцит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– a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=скорпио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о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лъв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ч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о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лъв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м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Бог още в  началото създад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секи вид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поред неговия вид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Yara 1:1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ова смесване на родовете са методи на сат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5796000" y="5014800"/>
            <a:ext cx="1685880" cy="18432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7504200" y="5300640"/>
            <a:ext cx="16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‘</a:t>
            </a: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Един звяр на име Амсо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6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= 2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ГОРКО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9:13-2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50920" y="866880"/>
            <a:ext cx="8785080" cy="2319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7 .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така видях във видението конете и яздещите на тях: те носеха нагръдници  като от огън, яцинт и сяра; и главите на конете бяха като глави на лъвове и от устата им излизаше огън, дим и сяра. 18 От тези три язви- от огъня, от дима и от сярата, които излизаха от устата им- беше избита трета част от хората. 19. Защото властта на конете е в устата им и в опашките им; понеже опашките им приличат на змии и имат глави, с тях поврежда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95640" y="455616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Две оръжия</a:t>
            </a: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 – </a:t>
            </a: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два метода</a:t>
            </a: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:</a:t>
            </a: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 лъв и зм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на хората на тялот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на душите ще донесе смъ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ъс  страх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с лъжи ще ги унищо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6516720" y="2820960"/>
            <a:ext cx="1800360" cy="14716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971640" y="2781360"/>
            <a:ext cx="55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3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цвята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– 3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бели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черве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огъ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  -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и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им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 -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жъл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агръд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акто е станало в Содом и Гомор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ит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19:2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320760" y="4394160"/>
            <a:ext cx="1658880" cy="241956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7216920" y="4221000"/>
            <a:ext cx="16761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77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3" dur="770" fill="hold"/>
                                        <p:tgtEl>
                                          <p:spTgt spid="4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5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4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50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6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= 2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ГОРКО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9:13-2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87280" y="1052640"/>
            <a:ext cx="8532720" cy="14961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20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А останалите хора, които не бяха избити от тези язви, не се покаяха  от делата на ръцете си, да не се да не се кланят на демони и на златни, сребърни, бронзови, каменни и дървени идоли, които не могат нито да виждат,  нито да чуват, нито да ходят; 21 и не се покаяха от убийствата си нито от блудствата си, нито от кражбите с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63640" y="3108240"/>
            <a:ext cx="648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9900"/>
                </a:solidFill>
                <a:latin typeface="Tahoma"/>
              </a:rPr>
              <a:t>КРАЯТ НА ТЕЗИ НАКАЗАНИЯ</a:t>
            </a:r>
            <a:r>
              <a:rPr b="1" lang="tr-TR" sz="4000" spc="-1" strike="noStrike">
                <a:solidFill>
                  <a:srgbClr val="ff9900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bg-BG" sz="4000" spc="-1" strike="noStrike">
                <a:solidFill>
                  <a:srgbClr val="ff9900"/>
                </a:solidFill>
                <a:latin typeface="Tahoma"/>
              </a:rPr>
              <a:t>НЯМА ИЗПОВЕД</a:t>
            </a:r>
            <a:r>
              <a:rPr b="1" lang="tr-TR" sz="4000" spc="-1" strike="noStrike">
                <a:solidFill>
                  <a:srgbClr val="ff9900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9900"/>
                </a:solidFill>
                <a:latin typeface="Tahoma"/>
              </a:rPr>
              <a:t>МЯСТО ЗА ИДОЛОПОКЛОНСТВО</a:t>
            </a:r>
            <a:r>
              <a:rPr b="1" lang="tr-TR" sz="4000" spc="-1" strike="noStrike">
                <a:solidFill>
                  <a:srgbClr val="ff9900"/>
                </a:solidFill>
                <a:latin typeface="Tahoma"/>
              </a:rPr>
              <a:t> 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00"/>
                </a:solidFill>
                <a:latin typeface="Tahoma"/>
              </a:rPr>
              <a:t>6ТА ТРЪБА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- </a:t>
            </a:r>
            <a:r>
              <a:rPr b="0" lang="bg-BG" sz="4000" spc="-1" strike="noStrike">
                <a:solidFill>
                  <a:srgbClr val="ffff00"/>
                </a:solidFill>
                <a:latin typeface="Tahoma"/>
              </a:rPr>
              <a:t>ИДОЛОПОКЛОНСТВ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6337440" y="1197000"/>
            <a:ext cx="2806560" cy="20178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rcRect l="12608" t="0" r="11775" b="4025"/>
          <a:stretch/>
        </p:blipFill>
        <p:spPr>
          <a:xfrm>
            <a:off x="3924360" y="1125360"/>
            <a:ext cx="2160360" cy="3745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rcRect l="22771" t="2597" r="0" b="0"/>
          <a:stretch/>
        </p:blipFill>
        <p:spPr>
          <a:xfrm>
            <a:off x="5867280" y="3897360"/>
            <a:ext cx="2952720" cy="27716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755640" y="1052640"/>
            <a:ext cx="2730600" cy="17906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539640" y="4292640"/>
            <a:ext cx="2121120" cy="22352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1692360" y="3213000"/>
            <a:ext cx="1571400" cy="24321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7"/>
          <a:stretch/>
        </p:blipFill>
        <p:spPr>
          <a:xfrm>
            <a:off x="3492360" y="3789360"/>
            <a:ext cx="1737000" cy="28414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038120" y="1268280"/>
            <a:ext cx="1720080" cy="368280"/>
          </a:xfrm>
          <a:prstGeom prst="rect">
            <a:avLst/>
          </a:prstGeom>
          <a:solidFill>
            <a:srgbClr val="3366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66"/>
                </a:solidFill>
                <a:latin typeface="Tahoma"/>
              </a:rPr>
              <a:t>ИНДИЙЦ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107840" y="6165720"/>
            <a:ext cx="1567440" cy="368280"/>
          </a:xfrm>
          <a:prstGeom prst="rect">
            <a:avLst/>
          </a:prstGeom>
          <a:solidFill>
            <a:srgbClr val="3366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66"/>
                </a:solidFill>
                <a:latin typeface="Tahoma"/>
              </a:rPr>
              <a:t>БУДИСТ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71120" y="6165720"/>
            <a:ext cx="1905840" cy="368280"/>
          </a:xfrm>
          <a:prstGeom prst="rect">
            <a:avLst/>
          </a:prstGeom>
          <a:solidFill>
            <a:srgbClr val="3366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66"/>
                </a:solidFill>
                <a:latin typeface="Tahoma"/>
              </a:rPr>
              <a:t>ХРИСТИЯН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70040" y="2637000"/>
            <a:ext cx="2199960" cy="368280"/>
          </a:xfrm>
          <a:prstGeom prst="rect">
            <a:avLst/>
          </a:prstGeom>
          <a:solidFill>
            <a:srgbClr val="3366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66"/>
                </a:solidFill>
                <a:latin typeface="Tahoma"/>
              </a:rPr>
              <a:t>МЮСЮЛМАН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33920" y="6237360"/>
            <a:ext cx="1181880" cy="368280"/>
          </a:xfrm>
          <a:prstGeom prst="rect">
            <a:avLst/>
          </a:prstGeom>
          <a:solidFill>
            <a:srgbClr val="3366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66"/>
                </a:solidFill>
                <a:latin typeface="Tahoma"/>
              </a:rPr>
              <a:t>ЕВРЕ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706080" y="2781360"/>
            <a:ext cx="1768680" cy="368280"/>
          </a:xfrm>
          <a:prstGeom prst="rect">
            <a:avLst/>
          </a:prstGeom>
          <a:solidFill>
            <a:srgbClr val="3366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66"/>
                </a:solidFill>
                <a:latin typeface="Tahoma"/>
              </a:rPr>
              <a:t>БЕЗБОЖН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5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9:1-1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503280" y="836640"/>
            <a:ext cx="8532720" cy="11912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3. И от дима излязоха скакалци по земята; и им се даде власт, като властта, която имат земните скорпиони. 4. И им се каза да не повреждат тревата по земята, нито някое зелено растение, нито някое дърво, а само такива хора,  които нямат Божия печат на челата с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2847960" cy="18860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208080" y="3573360"/>
            <a:ext cx="1771560" cy="27529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940360" y="2421000"/>
            <a:ext cx="2975040" cy="3914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148360" y="2205000"/>
            <a:ext cx="3333600" cy="25052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4184640" y="4221000"/>
            <a:ext cx="1539720" cy="22766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4172040" y="2260440"/>
            <a:ext cx="14079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5та 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9:1-1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503280" y="982800"/>
            <a:ext cx="8532720" cy="12218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им се даде да не ги убиват, а да ги мъчат пет месеца; и мъчението им беше като мъчение от скорпион, когато ужили човек. 6. През онези дни хората ще потърсят смъртта, но няма да я нямерят;  и ще пожелаят да умрат, но смърта ще побегне от тях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1790640" cy="267948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250920" y="5438880"/>
            <a:ext cx="3673440" cy="733320"/>
            <a:chOff x="250920" y="5438880"/>
            <a:chExt cx="3673440" cy="733320"/>
          </a:xfrm>
        </p:grpSpPr>
        <p:sp>
          <p:nvSpPr>
            <p:cNvPr id="404" name=""/>
            <p:cNvSpPr/>
            <p:nvPr/>
          </p:nvSpPr>
          <p:spPr>
            <a:xfrm>
              <a:off x="1187280" y="54388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0920" y="5805360"/>
              <a:ext cx="3673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564000" y="2562120"/>
            <a:ext cx="5400360" cy="4035240"/>
            <a:chOff x="3564000" y="2562120"/>
            <a:chExt cx="5400360" cy="4035240"/>
          </a:xfrm>
        </p:grpSpPr>
        <p:pic>
          <p:nvPicPr>
            <p:cNvPr id="407" name="" descr=""/>
            <p:cNvPicPr/>
            <p:nvPr/>
          </p:nvPicPr>
          <p:blipFill>
            <a:blip r:embed="rId2"/>
            <a:stretch/>
          </p:blipFill>
          <p:spPr>
            <a:xfrm>
              <a:off x="6804000" y="4938480"/>
              <a:ext cx="17366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3"/>
            <a:stretch/>
          </p:blipFill>
          <p:spPr>
            <a:xfrm>
              <a:off x="3564000" y="2706480"/>
              <a:ext cx="1993680" cy="16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4"/>
            <a:stretch/>
          </p:blipFill>
          <p:spPr>
            <a:xfrm>
              <a:off x="7092720" y="2719080"/>
              <a:ext cx="1871640" cy="16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5"/>
            <a:stretch/>
          </p:blipFill>
          <p:spPr>
            <a:xfrm>
              <a:off x="5364000" y="2562120"/>
              <a:ext cx="158112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6"/>
            <a:stretch/>
          </p:blipFill>
          <p:spPr>
            <a:xfrm>
              <a:off x="3924360" y="4578120"/>
              <a:ext cx="2133360" cy="201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925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1925" fill="hold"/>
                                        <p:tgtEl>
                                          <p:spTgt spid="4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1925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1925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5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9:1-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324000" y="982800"/>
            <a:ext cx="8532720" cy="20448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на вид скакалците приличаха на коне, приготвени за война, и на главите си имаха нещо подобно на венци  като злато, и лицата им бяха като човешки лица. 8. И имаха коса като коса на жените и зъбите им бяха като зъби на лъв. 9 И имаха нагръдници като нагръдници от желязо и шумът на крилата им беше като шум от колесници с много коне, когато тичат за бой. Имаха и опашки като скорпиони и жилата им бяха в опашките им; и имаха власт да повреждат пет месеца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 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1771920" cy="27525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2419560" y="3359160"/>
            <a:ext cx="7774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На главите си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– </a:t>
            </a: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подобно на венци</a:t>
            </a: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 = </a:t>
            </a: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на тях се даде побе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лицата им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– </a:t>
            </a: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като човешки лица</a:t>
            </a: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 = </a:t>
            </a: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умно се отнас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косите им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– </a:t>
            </a: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като коса на жените</a:t>
            </a: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 = </a:t>
            </a: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войниц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зъбите </a:t>
            </a: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– </a:t>
            </a: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като зъб на лъв</a:t>
            </a: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 = </a:t>
            </a: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дере, разкъс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Нагръдници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– </a:t>
            </a: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от желязо</a:t>
            </a: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= </a:t>
            </a: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твърди и </a:t>
            </a: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ненадмина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Шумът на крилата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– </a:t>
            </a: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шум от колесници</a:t>
            </a: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 = </a:t>
            </a: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не могат да се сп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Опашки, жила</a:t>
            </a: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– </a:t>
            </a: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като скорпиони</a:t>
            </a: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= </a:t>
            </a: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без да се усетиш те удр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71640" y="57340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1:13-16 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Сравни вижданията с Иис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ащо Йоан толкова подробно говори за скакалцит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зимат сила от антихриста и са негово коп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5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9:1-1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503280" y="982800"/>
            <a:ext cx="8245440" cy="6732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жилата им бяха в опашките  им; и имаха власт  да повреждат хората пет месец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 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84360" y="1557360"/>
            <a:ext cx="770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2200" y="1628640"/>
            <a:ext cx="786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c99ff"/>
                </a:solidFill>
                <a:latin typeface="Tahoma"/>
              </a:rPr>
              <a:t>Лука </a:t>
            </a:r>
            <a:r>
              <a:rPr b="0" lang="tr-TR" sz="1800" spc="-1" strike="noStrike">
                <a:solidFill>
                  <a:srgbClr val="cc99ff"/>
                </a:solidFill>
                <a:latin typeface="Tahoma"/>
              </a:rPr>
              <a:t>21:25,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c99ff"/>
                </a:solidFill>
                <a:latin typeface="Tahoma"/>
              </a:rPr>
              <a:t>И ще станат знамения в слънцето, в луната и в звездите, а по земята бедствие на народите, които ще бъдат в недоумение поради бученето на морето и вълните. Хората ще примират от страх и от очакване на онова, което ще постигне вселената, защото небесните сили ще се разклатя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c99ff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84360" y="3578400"/>
            <a:ext cx="1927080" cy="2376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881080" cy="21225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349680" y="6230880"/>
            <a:ext cx="26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сяка годин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3143160" y="3284640"/>
            <a:ext cx="2581200" cy="21081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497400" y="55166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2001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ю Йо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1619280" y="4659480"/>
            <a:ext cx="1084320" cy="15332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3059280" y="5950080"/>
            <a:ext cx="29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00"/>
                </a:solidFill>
                <a:latin typeface="Tahoma"/>
              </a:rPr>
              <a:t>Злите духове се радват на човешкия страх и горчив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5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= 1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горко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9:1-1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503280" y="982800"/>
            <a:ext cx="8101080" cy="9169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И имаха над себе си цар- ангелът на бездната, който на еврейски се нарича  Авадон, а на Гръцки името му е Аполион. Едното горко мина, но ето, още две горки идват след 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000" y="5478480"/>
            <a:ext cx="462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АБАДОН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/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АПОЛИОН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=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унищожит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Йов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26:6;28:22;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ритчи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. 15:11;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с.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88: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мястото на мърт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ук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одачът на злите дух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248360" cy="3186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6035760" y="2205000"/>
            <a:ext cx="2128680" cy="3240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5184720" y="555156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A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полион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 = A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по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ъздателят на светлинат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kültü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6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= 2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горко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9:13-16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431640" y="981000"/>
            <a:ext cx="8317080" cy="6732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3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затръби шестият ангел; и чух един глас от четирите рога на златния олтар, който беше пред Бог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84720" y="4653000"/>
            <a:ext cx="53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Рогът на олтара</a:t>
            </a:r>
            <a:r>
              <a:rPr b="1" lang="de-DE" sz="1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=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най-важното мяс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роля се кръв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Левит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4: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мястото за милост стана място за съд (като яростта на агнец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а петия печат дава отговор на молитв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rcRect l="0" t="0" r="5065" b="1090"/>
          <a:stretch/>
        </p:blipFill>
        <p:spPr>
          <a:xfrm>
            <a:off x="1258920" y="4221000"/>
            <a:ext cx="1523880" cy="21607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rcRect l="12489" t="0" r="12489" b="0"/>
          <a:stretch/>
        </p:blipFill>
        <p:spPr>
          <a:xfrm>
            <a:off x="1258920" y="234792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4500720" y="1943280"/>
            <a:ext cx="401940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6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= 2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горко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9:13-2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503280" y="836640"/>
            <a:ext cx="8532720" cy="17704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4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ойто казваше на шестия ангел, който тръжеше тръбата: Развържи четирите ангела, които са вързани  при голямата река Ефрат, 15. И четирите ангела, които бяха приготвени  за този час и ден, и месец, и година, се развързаха,  за да убият третата част от хората. 16. И числото на конните войски беше два пъти по десет хиляди по десет хиляди: и аз чух числото им. 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4219560" y="3357720"/>
            <a:ext cx="4313160" cy="3235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50480" y="2565360"/>
            <a:ext cx="595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три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‘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горко 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’, 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Мязат на трите книги на Йо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какалц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оне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3. Божият д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най- важната мисъл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Йоил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2:12-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атов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‘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една от трит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’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9120" y="4843440"/>
            <a:ext cx="333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9900"/>
                </a:solidFill>
                <a:latin typeface="Tahoma"/>
              </a:rPr>
              <a:t>и аз чух числото им</a:t>
            </a:r>
            <a:r>
              <a:rPr b="1" lang="tr-TR" sz="1800" spc="-1" strike="noStrike">
                <a:solidFill>
                  <a:srgbClr val="ff99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2 x 10.000 x 1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5:11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обрите анг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якаш броят на лошите е два пъти повеч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6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= 2. </a:t>
            </a: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ГОРКО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9:13-2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0" t="0" r="0" b="1725"/>
          <a:stretch/>
        </p:blipFill>
        <p:spPr>
          <a:xfrm>
            <a:off x="539640" y="1125360"/>
            <a:ext cx="8209080" cy="474516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3851280" y="2708280"/>
            <a:ext cx="3438000" cy="2233440"/>
            <a:chOff x="3851280" y="2708280"/>
            <a:chExt cx="3438000" cy="2233440"/>
          </a:xfrm>
        </p:grpSpPr>
        <p:pic>
          <p:nvPicPr>
            <p:cNvPr id="448" name="" descr=""/>
            <p:cNvPicPr/>
            <p:nvPr/>
          </p:nvPicPr>
          <p:blipFill>
            <a:blip r:embed="rId2"/>
            <a:stretch/>
          </p:blipFill>
          <p:spPr>
            <a:xfrm>
              <a:off x="3851280" y="2708280"/>
              <a:ext cx="1495080" cy="17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3"/>
            <a:stretch/>
          </p:blipFill>
          <p:spPr>
            <a:xfrm>
              <a:off x="4841640" y="2881080"/>
              <a:ext cx="14950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4"/>
            <a:stretch/>
          </p:blipFill>
          <p:spPr>
            <a:xfrm>
              <a:off x="5794200" y="3170160"/>
              <a:ext cx="1495080" cy="177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"/>
          <p:cNvSpPr/>
          <p:nvPr/>
        </p:nvSpPr>
        <p:spPr>
          <a:xfrm>
            <a:off x="6875640" y="134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554a3d"/>
                </a:solidFill>
                <a:latin typeface="Tahoma"/>
              </a:rPr>
              <a:t>Partların okçuluğ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9760" y="6108840"/>
            <a:ext cx="79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Efrat ırmağı Roma ile Part emperatorluklarının arasındaki sınırı i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6. borazanın cezası biraz Partların okçularına benzi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3.33333E-006 L 0.16545 -0.12338 E">
                                      <p:cBhvr>
                                        <p:cTn id="296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18:15Z</dcterms:created>
  <dc:creator>Windows XP</dc:creator>
  <dc:description/>
  <dc:language>en-US</dc:language>
  <cp:lastModifiedBy>asd</cp:lastModifiedBy>
  <dcterms:modified xsi:type="dcterms:W3CDTF">2009-06-16T21:32:05Z</dcterms:modified>
  <cp:revision>293</cp:revision>
  <dc:subject/>
  <dc:title>Yedi Mühür açılıyor (bölüm 6)</dc:title>
</cp:coreProperties>
</file>