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2F3-33DE-4CF5-B7C5-544D26AF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9FC-D5BA-49E3-A32F-26E9F6BD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684-733B-4D90-B952-C6E9F928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238-2D0A-41D9-B9DA-E0CBB6EC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863-83FA-464F-A3FC-ADA44350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4A7-8838-43B9-92E8-EBA62E57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84E-043E-42FE-BF95-C368E92C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476-B9C4-448D-9990-2576DF2B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745-4941-4E07-9425-CEEB5AD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576-EBF9-460E-8A73-195A244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FE6-85AC-4DCA-B35F-0476F9D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7E3-7A0C-4A7A-8DC6-3E1D5EB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C554-3B16-41C4-8BA5-FDB843544F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55308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1268280"/>
          <a:ext cx="8136000" cy="1368720"/>
        </p:xfrm>
        <a:graphic>
          <a:graphicData uri="http://schemas.openxmlformats.org/drawingml/2006/table">
            <a:tbl>
              <a:tblPr/>
              <a:tblGrid>
                <a:gridCol w="862200"/>
                <a:gridCol w="649080"/>
                <a:gridCol w="6624720"/>
              </a:tblGrid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ждането му в град Мекк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ядо му Абд-ал Мутталиб: посвещава бащата на Моххамед Абдулах на идола Хобал - Баща му Абдулах умира малко преди раждането на Мохамм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" name=""/>
          <p:cNvGrpSpPr/>
          <p:nvPr/>
        </p:nvGrpSpPr>
        <p:grpSpPr>
          <a:xfrm>
            <a:off x="611280" y="5734080"/>
            <a:ext cx="8229600" cy="863640"/>
            <a:chOff x="611280" y="5734080"/>
            <a:chExt cx="8229600" cy="863640"/>
          </a:xfrm>
        </p:grpSpPr>
        <p:sp>
          <p:nvSpPr>
            <p:cNvPr id="45" name=""/>
            <p:cNvSpPr/>
            <p:nvPr/>
          </p:nvSpPr>
          <p:spPr>
            <a:xfrm>
              <a:off x="61128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429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68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64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84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08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596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348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0108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55640" y="6237360"/>
            <a:ext cx="504720" cy="504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46280"/>
          <a:ext cx="5111640" cy="1782720"/>
        </p:xfrm>
        <a:graphic>
          <a:graphicData uri="http://schemas.openxmlformats.org/drawingml/2006/table">
            <a:tbl>
              <a:tblPr/>
              <a:tblGrid>
                <a:gridCol w="863640"/>
                <a:gridCol w="792000"/>
                <a:gridCol w="3456000"/>
              </a:tblGrid>
              <a:tr h="17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ира майка му Еми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остава в пустинята при едно номадско семейство (случката с двата 'ангела' - сура 94:1-3)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68360" y="5734080"/>
            <a:ext cx="8229600" cy="863640"/>
            <a:chOff x="468360" y="5734080"/>
            <a:chExt cx="8229600" cy="863640"/>
          </a:xfrm>
        </p:grpSpPr>
        <p:sp>
          <p:nvSpPr>
            <p:cNvPr id="60" name=""/>
            <p:cNvSpPr/>
            <p:nvPr/>
          </p:nvSpPr>
          <p:spPr>
            <a:xfrm>
              <a:off x="46836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0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254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10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16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18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658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16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056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5816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900000" y="6380280"/>
            <a:ext cx="1008000" cy="217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405080"/>
          <a:ext cx="4751280" cy="4019400"/>
        </p:xfrm>
        <a:graphic>
          <a:graphicData uri="http://schemas.openxmlformats.org/drawingml/2006/table">
            <a:tbl>
              <a:tblPr/>
              <a:tblGrid>
                <a:gridCol w="677520"/>
                <a:gridCol w="610920"/>
                <a:gridCol w="346284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чо му Абу Талиб го взима със себе си, за да работи с керванит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ава Си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енва се за богата вдовица на име Хатид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аждат се 4 дъщери, 2 сина (по-късно синовете му умира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опитва се да стане ханиф, търси изход от идолопоклоничество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117600" cy="33559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611280" y="5734080"/>
            <a:ext cx="8229600" cy="863640"/>
            <a:chOff x="611280" y="5734080"/>
            <a:chExt cx="8229600" cy="863640"/>
          </a:xfrm>
        </p:grpSpPr>
        <p:sp>
          <p:nvSpPr>
            <p:cNvPr id="75" name=""/>
            <p:cNvSpPr/>
            <p:nvPr/>
          </p:nvSpPr>
          <p:spPr>
            <a:xfrm>
              <a:off x="61128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429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68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64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592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84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08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596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348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108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42920" y="6381720"/>
            <a:ext cx="3384720" cy="21600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91" y="0"/>
                </a:lnTo>
                <a:lnTo>
                  <a:pt x="21600" y="10800"/>
                </a:lnTo>
                <a:lnTo>
                  <a:pt x="19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397160"/>
          <a:ext cx="4751280" cy="3989160"/>
        </p:xfrm>
        <a:graphic>
          <a:graphicData uri="http://schemas.openxmlformats.org/drawingml/2006/table">
            <a:tbl>
              <a:tblPr/>
              <a:tblGrid>
                <a:gridCol w="659160"/>
                <a:gridCol w="593280"/>
                <a:gridCol w="3498840"/>
              </a:tblGrid>
              <a:tr h="40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ава първите си стихове (сура 96:1-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лучката с 'Гавраил' в пещерата Хи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жена му Хатидже и братовчед й Варака стават първите вярва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Мохаммед прави опит за самоубий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през първите 3 години само 40 души го приемат за пророк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170160" cy="41432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11280" y="5734080"/>
            <a:ext cx="8229600" cy="863640"/>
            <a:chOff x="611280" y="5734080"/>
            <a:chExt cx="8229600" cy="863640"/>
          </a:xfrm>
        </p:grpSpPr>
        <p:sp>
          <p:nvSpPr>
            <p:cNvPr id="90" name=""/>
            <p:cNvSpPr/>
            <p:nvPr/>
          </p:nvSpPr>
          <p:spPr>
            <a:xfrm>
              <a:off x="61128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429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68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64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592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84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08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596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348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0108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116000" y="6381720"/>
            <a:ext cx="4968720" cy="216000"/>
          </a:xfrm>
          <a:custGeom>
            <a:avLst/>
            <a:gdLst>
              <a:gd name="textAreaLeft" fmla="*/ 0 w 4968720"/>
              <a:gd name="textAreaRight" fmla="*/ 4969080 w 4968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75" y="0"/>
                </a:lnTo>
                <a:lnTo>
                  <a:pt x="21600" y="10800"/>
                </a:lnTo>
                <a:lnTo>
                  <a:pt x="202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081080"/>
          <a:ext cx="5111640" cy="4870440"/>
        </p:xfrm>
        <a:graphic>
          <a:graphicData uri="http://schemas.openxmlformats.org/drawingml/2006/table">
            <a:tbl>
              <a:tblPr/>
              <a:tblGrid>
                <a:gridCol w="671400"/>
                <a:gridCol w="605160"/>
                <a:gridCol w="3835080"/>
              </a:tblGrid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искът от страна на Кореишит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една група мюсюлмани бягат в Етиоп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лучката с 'дяволските' стихове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ира Хатид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лед това се оженва за Севда и Ай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общо Мохаммед взима 9-11 же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чкат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аж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 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ътешествието от Мекка до Йерусалим и към небет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0360" y="1700280"/>
            <a:ext cx="2914560" cy="3645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611280" y="5734080"/>
            <a:ext cx="8229600" cy="863640"/>
            <a:chOff x="611280" y="5734080"/>
            <a:chExt cx="8229600" cy="863640"/>
          </a:xfrm>
        </p:grpSpPr>
        <p:sp>
          <p:nvSpPr>
            <p:cNvPr id="105" name=""/>
            <p:cNvSpPr/>
            <p:nvPr/>
          </p:nvSpPr>
          <p:spPr>
            <a:xfrm>
              <a:off x="61128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29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8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4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592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84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8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596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348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1042920" y="6381720"/>
            <a:ext cx="6265800" cy="216000"/>
          </a:xfrm>
          <a:custGeom>
            <a:avLst/>
            <a:gdLst>
              <a:gd name="textAreaLeft" fmla="*/ 0 w 6265800"/>
              <a:gd name="textAreaRight" fmla="*/ 6266160 w 626580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9" y="0"/>
                </a:lnTo>
                <a:lnTo>
                  <a:pt x="21600" y="10800"/>
                </a:lnTo>
                <a:lnTo>
                  <a:pt x="205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1125360"/>
          <a:ext cx="5256360" cy="3989520"/>
        </p:xfrm>
        <a:graphic>
          <a:graphicData uri="http://schemas.openxmlformats.org/drawingml/2006/table">
            <a:tbl>
              <a:tblPr/>
              <a:tblGrid>
                <a:gridCol w="703800"/>
                <a:gridCol w="577800"/>
                <a:gridCol w="3974760"/>
              </a:tblGrid>
              <a:tr h="40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чката 'хиджра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юсюлманите бягат от град Мекка в град Ятриб (Меди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чредява се ислямската държава (началото на ислямското летобро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опит за спечелване на юдеите в град Медина (сменя се посоката на поклон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гони две от трите юдейски племена и изцяло унищожава третото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1720" y="1484280"/>
            <a:ext cx="2781360" cy="338472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611280" y="5734080"/>
            <a:ext cx="8229600" cy="863640"/>
            <a:chOff x="611280" y="5734080"/>
            <a:chExt cx="8229600" cy="863640"/>
          </a:xfrm>
        </p:grpSpPr>
        <p:sp>
          <p:nvSpPr>
            <p:cNvPr id="120" name=""/>
            <p:cNvSpPr/>
            <p:nvPr/>
          </p:nvSpPr>
          <p:spPr>
            <a:xfrm>
              <a:off x="61128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429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68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4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92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4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8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596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348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0108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42920" y="6381720"/>
            <a:ext cx="6842160" cy="216000"/>
          </a:xfrm>
          <a:custGeom>
            <a:avLst/>
            <a:gdLst>
              <a:gd name="textAreaLeft" fmla="*/ 0 w 6842160"/>
              <a:gd name="textAreaRight" fmla="*/ 6842520 w 6842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9" y="0"/>
                </a:lnTo>
                <a:lnTo>
                  <a:pt x="21600" y="10800"/>
                </a:lnTo>
                <a:lnTo>
                  <a:pt x="205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268280"/>
          <a:ext cx="8207280" cy="1727280"/>
        </p:xfrm>
        <a:graphic>
          <a:graphicData uri="http://schemas.openxmlformats.org/drawingml/2006/table">
            <a:tbl>
              <a:tblPr/>
              <a:tblGrid>
                <a:gridCol w="718920"/>
                <a:gridCol w="648000"/>
                <a:gridCol w="6840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йните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др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, '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ху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'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ендек' (озн. Окоп)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лючва се договорът с куреишите в 'Худабия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хората от целия Арабски полуостров могат свободно да идват при Мохамме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3600720" cy="23396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11280" y="5734080"/>
            <a:ext cx="8229600" cy="863640"/>
            <a:chOff x="611280" y="5734080"/>
            <a:chExt cx="8229600" cy="863640"/>
          </a:xfrm>
        </p:grpSpPr>
        <p:sp>
          <p:nvSpPr>
            <p:cNvPr id="135" name=""/>
            <p:cNvSpPr/>
            <p:nvPr/>
          </p:nvSpPr>
          <p:spPr>
            <a:xfrm>
              <a:off x="61128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429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68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64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592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4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08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596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348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0108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042920" y="6381720"/>
            <a:ext cx="7274160" cy="21600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9" y="0"/>
                </a:lnTo>
                <a:lnTo>
                  <a:pt x="21600" y="10800"/>
                </a:lnTo>
                <a:lnTo>
                  <a:pt x="205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341360"/>
          <a:ext cx="4824360" cy="3319560"/>
        </p:xfrm>
        <a:graphic>
          <a:graphicData uri="http://schemas.openxmlformats.org/drawingml/2006/table">
            <a:tbl>
              <a:tblPr/>
              <a:tblGrid>
                <a:gridCol w="650880"/>
                <a:gridCol w="717480"/>
                <a:gridCol w="3456000"/>
              </a:tblGrid>
              <a:tr h="33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реишите нарушават споразумението от Худаб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охаммед навлиза в Мекка с 10 хил войн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нищожава идолите в Кааба, но не посяга на сгра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целия народ го приема за пророк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887920" cy="338436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611280" y="5734080"/>
            <a:ext cx="8229600" cy="863640"/>
            <a:chOff x="611280" y="5734080"/>
            <a:chExt cx="8229600" cy="863640"/>
          </a:xfrm>
        </p:grpSpPr>
        <p:sp>
          <p:nvSpPr>
            <p:cNvPr id="150" name=""/>
            <p:cNvSpPr/>
            <p:nvPr/>
          </p:nvSpPr>
          <p:spPr>
            <a:xfrm>
              <a:off x="61128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29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68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64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92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84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8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596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348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0108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42920" y="6381720"/>
            <a:ext cx="7274160" cy="21600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9" y="0"/>
                </a:lnTo>
                <a:lnTo>
                  <a:pt x="21600" y="10800"/>
                </a:lnTo>
                <a:lnTo>
                  <a:pt x="205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Животът на Мохаммед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557360"/>
          <a:ext cx="4103640" cy="3070080"/>
        </p:xfrm>
        <a:graphic>
          <a:graphicData uri="http://schemas.openxmlformats.org/drawingml/2006/table">
            <a:tbl>
              <a:tblPr/>
              <a:tblGrid>
                <a:gridCol w="726480"/>
                <a:gridCol w="728280"/>
                <a:gridCol w="2648880"/>
              </a:tblGrid>
              <a:tr h="114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жда се синът му Ибрахим (умира на 10 месечна възраст)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х. умира в град Медина (отровен преди 2 години в резултат на което получава болест, от която умира)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44960" y="1557360"/>
            <a:ext cx="3659400" cy="38941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611280" y="5734080"/>
            <a:ext cx="8229600" cy="863640"/>
            <a:chOff x="611280" y="5734080"/>
            <a:chExt cx="8229600" cy="863640"/>
          </a:xfrm>
        </p:grpSpPr>
        <p:sp>
          <p:nvSpPr>
            <p:cNvPr id="165" name=""/>
            <p:cNvSpPr/>
            <p:nvPr/>
          </p:nvSpPr>
          <p:spPr>
            <a:xfrm>
              <a:off x="611280" y="6381720"/>
              <a:ext cx="8208720" cy="216000"/>
            </a:xfrm>
            <a:custGeom>
              <a:avLst/>
              <a:gdLst>
                <a:gd name="textAreaLeft" fmla="*/ 0 w 8208720"/>
                <a:gd name="textAreaRight" fmla="*/ 8209080 w 820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99" y="0"/>
                  </a:lnTo>
                  <a:lnTo>
                    <a:pt x="21600" y="10800"/>
                  </a:lnTo>
                  <a:lnTo>
                    <a:pt x="21199" y="21600"/>
                  </a:lnTo>
                  <a:lnTo>
                    <a:pt x="0" y="21600"/>
                  </a:lnTo>
                  <a:lnTo>
                    <a:pt x="401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29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836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400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5928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4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0872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59640" y="623736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480" y="575316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01080" y="57340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6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042920" y="6381720"/>
            <a:ext cx="7416720" cy="216000"/>
          </a:xfrm>
          <a:custGeom>
            <a:avLst/>
            <a:gdLst>
              <a:gd name="textAreaLeft" fmla="*/ 0 w 7416720"/>
              <a:gd name="textAreaRight" fmla="*/ 7417080 w 7416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9" y="0"/>
                </a:lnTo>
                <a:lnTo>
                  <a:pt x="21600" y="10800"/>
                </a:lnTo>
                <a:lnTo>
                  <a:pt x="205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4:06:51Z</dcterms:created>
  <dc:creator>Windows XP</dc:creator>
  <dc:description/>
  <dc:language>en-US</dc:language>
  <cp:lastModifiedBy>asd</cp:lastModifiedBy>
  <dcterms:modified xsi:type="dcterms:W3CDTF">2009-06-20T12:38:23Z</dcterms:modified>
  <cp:revision>29</cp:revision>
  <dc:subject/>
  <dc:title>Схема на ислямската вяра </dc:title>
</cp:coreProperties>
</file>