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479-1384-4544-A194-0EC8AB93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BD1-B08B-4588-9C24-1EF16C4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CA3-F1F6-4B72-9575-D97B151C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843-52B5-43A3-BB3D-0CF07281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4A9-BBF9-4E13-8F1E-81CA3725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189-6EAE-426A-BD5D-998D43A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0F0-0C69-4CC6-9A6B-ECAC0D2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08E-5341-492C-97E7-ACD15C1B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A72-AAFA-468A-B9EE-B09C925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CF4-E20C-4CE6-B43F-B8B8F06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8ED-2F74-4E77-9676-8A85662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77C-A145-4E6D-B4A1-6DD7FF8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72C-2D09-4D8C-A90B-D5F05BA472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 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продължение 7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48040" y="1328760"/>
            <a:ext cx="3856320" cy="505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909" r="0" b="1658"/>
          <a:stretch/>
        </p:blipFill>
        <p:spPr>
          <a:xfrm>
            <a:off x="1547640" y="2708280"/>
            <a:ext cx="26546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960" y="1347840"/>
            <a:ext cx="53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ЧЕТИРИТЕ ВРЕТ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АТО ЧЕТИРИТЕ КОНЯ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ожиите на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7 печа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981000"/>
            <a:ext cx="748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48428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исъл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ЪЛЧАНИЕТО Е НАЙ- ГОЛЯМОТО НА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ог, ако се бори с хорат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й го прави, за да ги доведе до покаяние и до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 един път замълчи ли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ече за хората няма възможност за пока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ловин час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 едно идващата серия е знак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лед тов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яма да се покайвате, нямя да имате възможност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414324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407664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им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1:24 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ог ги предаде на нечистота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им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1:26  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това Бог ги предаде на срамни страсти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им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1:28  “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ог ги прададе на развратен ум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05264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9900"/>
                </a:solidFill>
                <a:uFillTx/>
                <a:latin typeface="Arial"/>
              </a:rPr>
              <a:t>Настана мълчание на небето за около половин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7 печа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981000"/>
            <a:ext cx="748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844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Мисъл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В началото Бог създаде земята с думи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ега с тези наказания с мълчание ше унищожи свет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(евреи 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.  1:3 “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държейки всичко чрез словото на Своята мо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3913200" cy="263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51240" y="98100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9900"/>
                </a:solidFill>
                <a:uFillTx/>
                <a:latin typeface="Arial"/>
              </a:rPr>
              <a:t>Настана мълчание на небето за около половин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аст 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" y="11970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ЗАПЕЧАТ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1108080"/>
            <a:ext cx="5688000" cy="419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080" y="1700280"/>
            <a:ext cx="305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осподарят пишеше едно име на слугата на челото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ва означава че е собственик на господаря с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който се допре до човека който има печат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яга на господаря 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зи който има печата господаря му го паз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ищо не могат да му направят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Hezekiel 9: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5040" y="5883120"/>
            <a:ext cx="81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авел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за какво използва думата печат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  (2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.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1:22; E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фес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1:13; 4:3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 Тука в какъв смисъл го използ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ас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395280" y="1755720"/>
            <a:ext cx="6481800" cy="426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203720"/>
            <a:ext cx="4319640" cy="1727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971720"/>
            <a:ext cx="4319640" cy="172728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3122640"/>
            <a:ext cx="792000" cy="1584360"/>
          </a:xfrm>
          <a:custGeom>
            <a:avLst/>
            <a:gdLst>
              <a:gd name="textAreaLeft" fmla="*/ 257760 w 792000"/>
              <a:gd name="textAreaRight" fmla="*/ 574560 w 792000"/>
              <a:gd name="textAreaTop" fmla="*/ 963000 h 1584360"/>
              <a:gd name="textAreaBottom" fmla="*/ 1149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9060"/>
                </a:moveTo>
                <a:lnTo>
                  <a:pt x="13130" y="19060"/>
                </a:lnTo>
                <a:lnTo>
                  <a:pt x="13130" y="7034"/>
                </a:lnTo>
                <a:lnTo>
                  <a:pt x="7200" y="7034"/>
                </a:lnTo>
                <a:lnTo>
                  <a:pt x="14400" y="0"/>
                </a:lnTo>
                <a:lnTo>
                  <a:pt x="21600" y="7034"/>
                </a:lnTo>
                <a:lnTo>
                  <a:pt x="15670" y="7034"/>
                </a:lnTo>
                <a:lnTo>
                  <a:pt x="156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6021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44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.000”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на земят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Бог беше ги преброил вс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преди голямата скръ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8571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ff99ff"/>
                </a:solidFill>
                <a:latin typeface="Arial"/>
              </a:rPr>
              <a:t>Големият народ</a:t>
            </a:r>
            <a:r>
              <a:rPr b="1" lang="tr-TR" sz="1800" spc="-1" strike="noStrike">
                <a:solidFill>
                  <a:srgbClr val="ff99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на небето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човек не би могъл да пребр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след голямата скръ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4840" y="3573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1700280"/>
            <a:ext cx="21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44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=12х 12 х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= Израил х израил х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= Израилтяните са станали чисто нов народ; една нация която идва от всички на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= нов храктер= 12 х 1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народ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 – 144.000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440" y="907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Тази една група ли са или различна група</a:t>
            </a:r>
            <a:r>
              <a:rPr b="1" lang="de-DE" sz="24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5351400"/>
            <a:ext cx="1871640" cy="150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8720" y="4149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Рим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11:17-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Израелския вярващ народ са единственото маслено дър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5229360"/>
            <a:ext cx="187164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04520" y="4221000"/>
            <a:ext cx="33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Рим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2:29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; 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Фил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3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Евреиския народ е обря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-вярващите за обря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84280"/>
            <a:ext cx="29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Гал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3:29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Вярващите са потомство на Авраам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(M</a:t>
            </a: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ат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3: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31120" y="1268280"/>
            <a:ext cx="26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Гал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6:16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Божият израелски народ е божият новороден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308720" y="2565360"/>
            <a:ext cx="1308240" cy="170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00560" y="1557360"/>
            <a:ext cx="29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Откр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2:9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: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3:9‘ 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Рим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9:6-8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bbe0e3"/>
                </a:solidFill>
                <a:latin typeface="Arial"/>
              </a:rPr>
              <a:t>По плът тези които са израилтяни не са израилтя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2781360"/>
            <a:ext cx="1600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част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 – 144.000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6443640" y="2392200"/>
            <a:ext cx="223200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432080"/>
            <a:ext cx="867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дин свят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зход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’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Второзакония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7:6 -  1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Петр.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9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Мат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21:43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;</a:t>
            </a: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1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Петр.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5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дин от избраните на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зход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  — 1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Петр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5, 9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Откр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. 1:6;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:4;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5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збран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зход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1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Пет.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ожият народ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Осия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9,10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Рим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. 9:6-8 — 1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Пет.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дин народ по наследств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Второзаконие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4:20 — E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фес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ожият 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Левит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6:11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Йоан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Бог върви между 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Левит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6:12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2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K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ор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6:16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а Яков 12те сина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а Иисус 12те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2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ации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12 племена които навлизат в народа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(Ya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Христос е младоженецът на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сая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. 54:5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Еремия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3:14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Осия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19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Еремия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6:2; 31:32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a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4:4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Ефес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5:23-33; 2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Кор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1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5040" y="981000"/>
            <a:ext cx="72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9900"/>
                </a:solidFill>
                <a:latin typeface="Arial"/>
              </a:rPr>
              <a:t>Истинския Израил и църквата са е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част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– 144.000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5003640" y="1049400"/>
            <a:ext cx="223236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8200" y="2774880"/>
            <a:ext cx="192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Рув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име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Л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İsa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Заву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Г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Нефта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ос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ениа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05680" y="2774880"/>
            <a:ext cx="191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Рув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Г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Ас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Нефта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Mana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имме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Л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İsa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Заву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ос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ениа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1957320" cy="1450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79840" y="115884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1" lang="bg-BG" sz="1800" spc="-1" strike="noStrike" u="sng">
                <a:solidFill>
                  <a:srgbClr val="ff9999"/>
                </a:solidFill>
                <a:uFillTx/>
                <a:latin typeface="Arial"/>
              </a:rPr>
              <a:t>Бит</a:t>
            </a:r>
            <a:r>
              <a:rPr b="1" lang="de-DE" sz="1800" spc="-1" strike="noStrike" u="sng">
                <a:solidFill>
                  <a:srgbClr val="ff9999"/>
                </a:solidFill>
                <a:uFillTx/>
                <a:latin typeface="Arial"/>
              </a:rPr>
              <a:t>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99"/>
                </a:solidFill>
                <a:latin typeface="Arial"/>
              </a:rPr>
              <a:t>Яков благославя 12те си 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1197000"/>
            <a:ext cx="16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1" lang="bg-BG" sz="1800" spc="-1" strike="noStrike" u="sng">
                <a:solidFill>
                  <a:srgbClr val="ff9999"/>
                </a:solidFill>
                <a:uFillTx/>
                <a:latin typeface="Arial"/>
              </a:rPr>
              <a:t>Откр.</a:t>
            </a:r>
            <a:r>
              <a:rPr b="1" lang="tr-TR" sz="1800" spc="-1" strike="noStrike" u="sng">
                <a:solidFill>
                  <a:srgbClr val="ff9999"/>
                </a:solidFill>
                <a:uFillTx/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3800" y="2708280"/>
            <a:ext cx="273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bbe0e3"/>
                </a:solidFill>
                <a:uFillTx/>
                <a:latin typeface="Arial"/>
              </a:rPr>
              <a:t>ДАН И ЕФРАИМ ГИ Н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Дан 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Той започна пръв идолопоклонството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Съдии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18)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символ на годината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Бит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49: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фраим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 –</a:t>
            </a: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Все против Давид беше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звестиха на пророците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в дните на Христос това разделение ще свърши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сая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11:13;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Езекиел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37: 15-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3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част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– 144.000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96000" y="1052640"/>
            <a:ext cx="2879640" cy="1944720"/>
            <a:chOff x="5796000" y="1052640"/>
            <a:chExt cx="2879640" cy="1944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2478" t="0" r="0" b="5843"/>
            <a:stretch/>
          </p:blipFill>
          <p:spPr>
            <a:xfrm>
              <a:off x="5796000" y="1052640"/>
              <a:ext cx="287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019920" y="2168640"/>
              <a:ext cx="1919160" cy="7873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1150920"/>
              <a:ext cx="1919160" cy="787320"/>
            </a:xfrm>
            <a:prstGeom prst="ellipse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83200" y="1675800"/>
              <a:ext cx="351720" cy="722160"/>
            </a:xfrm>
            <a:custGeom>
              <a:avLst/>
              <a:gdLst>
                <a:gd name="textAreaLeft" fmla="*/ 114480 w 351720"/>
                <a:gd name="textAreaRight" fmla="*/ 255240 w 351720"/>
                <a:gd name="textAreaTop" fmla="*/ 438840 h 722160"/>
                <a:gd name="textAreaBottom" fmla="*/ 52416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060"/>
                  </a:moveTo>
                  <a:lnTo>
                    <a:pt x="13130" y="19060"/>
                  </a:lnTo>
                  <a:lnTo>
                    <a:pt x="13130" y="7034"/>
                  </a:lnTo>
                  <a:lnTo>
                    <a:pt x="7200" y="7034"/>
                  </a:lnTo>
                  <a:lnTo>
                    <a:pt x="14400" y="0"/>
                  </a:lnTo>
                  <a:lnTo>
                    <a:pt x="21600" y="7034"/>
                  </a:lnTo>
                  <a:lnTo>
                    <a:pt x="15670" y="7034"/>
                  </a:lnTo>
                  <a:lnTo>
                    <a:pt x="156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31360" y="18813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40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96800" y="2513160"/>
            <a:ext cx="60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КОГА ЩЕ Е ГОЛЯМАТА СКРЪБ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РОЧЕТЕТЕ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Дан.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12:1; M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т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24:21;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Откр.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2:22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1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197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Тези са хората след голямата скръб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. </a:t>
            </a:r>
            <a:r>
              <a:rPr b="1" lang="bg-BG" sz="1800" spc="-1" strike="noStrike">
                <a:solidFill>
                  <a:srgbClr val="33cccc"/>
                </a:solidFill>
                <a:latin typeface="Arial"/>
              </a:rPr>
              <a:t>Изпраха дрехите си в гръвта на агнеца и станаха чисто бели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.  (7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364500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ВЯРВАЩИТЕ ЩЕ МИНАТ ЛИ ПРЕЗ ТАЗИ СКРЪБ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ИЛИ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: ‘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ПЕЧАТИТЕ, ОПАЗВАНЕТО КАКВО ОЗНАЧАВАТ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Ще видят трудност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” (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им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3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о те няма да се откажат от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обедата на вярващия не е спокйствие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,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не да унищожи врага си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да унищожи злото с добро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Рим.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2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4635" t="3030" r="2955" b="5256"/>
          <a:stretch/>
        </p:blipFill>
        <p:spPr>
          <a:xfrm>
            <a:off x="539640" y="4292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7 печа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981000"/>
            <a:ext cx="84596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9900"/>
                </a:solidFill>
                <a:uFillTx/>
                <a:latin typeface="Arial"/>
              </a:rPr>
              <a:t>Настана мълчание на небето за около половин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В книгата Откровение: е едно шумно мя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Всички мълч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3227400"/>
            <a:ext cx="33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Мисъл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дготовка за тръб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ървата серия преминаха наказаният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. -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ега по страшно наказани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сичкото творение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ред Бога стоят с вълнение и със 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362480" y="2781360"/>
            <a:ext cx="45306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7 ПЕЧА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8720" y="98100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557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Мисал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ЗЕМЯТА ХАОС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НЕБЕТО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ма една буря  има един мир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коло него всичко се унищож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ва значи всички, които са на небето са в спокойствие (дори мъртвите свидетел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468520" cy="177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448000" cy="173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43640" y="2844720"/>
            <a:ext cx="2479680" cy="180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411280" y="3141720"/>
            <a:ext cx="44658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44720" y="1197000"/>
            <a:ext cx="748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22880" y="98100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ff9900"/>
                </a:solidFill>
                <a:uFillTx/>
                <a:latin typeface="Arial"/>
              </a:rPr>
              <a:t>Настана мълчание на небето за около половин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7T03:45:24Z</dcterms:modified>
  <cp:revision>193</cp:revision>
  <dc:subject/>
  <dc:title>Yedi Mühür açılıyor (bölüm 6)</dc:title>
</cp:coreProperties>
</file>