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750-873C-4CA9-88D7-0C7F7760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5EB-95F7-4ABB-8DC8-1D286623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116-24B6-44A0-BC71-D9D59E75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9AB-801E-4365-975F-C73226C4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6F2-9C5B-463D-A2FA-C15E6FB1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C30-BB11-488F-A6E5-FEB4C6B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730-2C75-4AD5-8AC7-4D88A39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997-796B-4EFB-92DA-EE154D4A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3AC-9BC8-42AE-8DB0-DB105745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D86-8C02-4771-A582-7439CF8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5C6-42AB-440E-B831-FCD3EF9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54B-2398-4EE2-AF16-8B2E1F1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1182-EE8A-4425-B707-597CCB155A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125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66"/>
                </a:solidFill>
                <a:uFillTx/>
                <a:latin typeface="Arial"/>
              </a:rPr>
              <a:t>Чок ьонемли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: Саде аборту ясак етмейелим, кадънлар хич гебе калмасънлар дийе урашалъм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930400"/>
            <a:ext cx="4321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гюн чок гелишмиш методлар вар, артък истемейерек гебе калмак зорунда деи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у темада конушмая утанмая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адън еркек конушуп айнъ фикирде олсун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33960" y="2276640"/>
            <a:ext cx="3398760" cy="251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4208400"/>
            <a:ext cx="3384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62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ПРЕЗЕРВ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565360"/>
            <a:ext cx="4321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чок индже гумадан япълан биртър. Еркек ятълък япмадан ьондже ону т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Спермлер йумуртая улашамъйор, бебек мейдана гелми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Онун ичин иманлълар ичин уйгу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24360" y="4243320"/>
            <a:ext cx="28911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1268280"/>
            <a:ext cx="29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12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СПИРАЛА  (И.У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917720"/>
            <a:ext cx="432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0 см узун бир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наятаънън ичинде усул усул илач салъйор, о да енгел олуйор йумуртан ана ятаъна япъш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ьойлеликле бебек ьолдюрюлюйор = бизим ичин уйгун деилд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ими спиралалар йумур-танън олгунлашмасънъ енгел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08720" y="1268280"/>
            <a:ext cx="3564000" cy="2522520"/>
            <a:chOff x="5508720" y="1268280"/>
            <a:chExt cx="3564000" cy="25225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508720" y="1268280"/>
              <a:ext cx="3357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08720" y="1333440"/>
              <a:ext cx="35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Бакър      Илачлъ найл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300720" y="3914640"/>
            <a:ext cx="2519280" cy="2835360"/>
            <a:chOff x="6300720" y="3914640"/>
            <a:chExt cx="2519280" cy="283536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300720" y="3914640"/>
              <a:ext cx="25005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300720" y="6381720"/>
              <a:ext cx="2519280" cy="36828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Утеруса такълъ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879640" cy="2565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- хап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844640"/>
            <a:ext cx="5111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Кадънън йумурталамасъна енгел олуйор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Онун ичин ен баштан инсан мейдана гелмез = иманлълар ичин уйг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Лазъм чок диккатле хер гюн алънсъ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Санки кадънън беденини ал-датъръйорлар: сен гебе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  Ян ефектлери олабилир: шишманламак, синирли ол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2000" y="4260960"/>
            <a:ext cx="28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26828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ХОРМОНЛУ ИЛАЧЛАР – башка метод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276640"/>
            <a:ext cx="5111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ДЕПО ПРОВЕРА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нжексия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йнъ илачлар йутулмуйор, колуна инджекция япъл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Юч ай чалъш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99ccff"/>
                </a:solidFill>
                <a:latin typeface="Arial"/>
              </a:rPr>
              <a:t>НОРПЛАНТ”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чубукла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ирер кибрит кадар бюйюктюр – алтъ тане колда деринин алтъна соку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Беш сене чалъшъ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3493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13440" y="4129200"/>
            <a:ext cx="29512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2682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ЕРТЕСИ САБАХ ХАПЪ”</a:t>
            </a:r>
            <a:r>
              <a:rPr b="1" lang="de-DE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(РУ 4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421000"/>
            <a:ext cx="4537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Ятълък япълдъктан сонра алън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перм иле йумуртанън бирлешмесине енгел олмуйор, ама бебеин ана ятаънън йерлешмесине енгел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Онун ичин хазър бебек ьолдюрюл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91080" y="3030480"/>
            <a:ext cx="3618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ерк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2565360"/>
            <a:ext cx="496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Еркеин ташакларъндан чъкан каналлар кес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Саде ‘местна о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Не заман истенилирсе каналлар йениден бирлештирил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508720" y="2492280"/>
            <a:ext cx="3238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Гебелии ьонлемек методлар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268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66"/>
                </a:solidFill>
                <a:latin typeface="Arial"/>
              </a:rPr>
              <a:t>КЪСЪРЛАШТЪРМАК  (кадъ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16280"/>
            <a:ext cx="73454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адънън йумурта боруларъ кесили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‘пълна опойка’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Йениден  бирлештирмек зор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Кесин бир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33720" y="3414600"/>
            <a:ext cx="51022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12:53Z</dcterms:created>
  <dc:creator>Windows XP</dc:creator>
  <dc:description/>
  <dc:language>en-US</dc:language>
  <cp:lastModifiedBy>Tomas OTTO</cp:lastModifiedBy>
  <dcterms:modified xsi:type="dcterms:W3CDTF">2007-03-17T02:21:54Z</dcterms:modified>
  <cp:revision>59</cp:revision>
  <dc:subject/>
  <dc:title>Аборт</dc:title>
</cp:coreProperties>
</file>