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31F6-A754-4502-8E21-1BAC1D29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D02A-B3AE-4082-AC9D-EC9EE055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EA8C-3F8E-4000-9222-8D51EFD5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4E0B-A9F5-4386-8F0C-EDC94A3B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2AED-2FF5-4456-8D11-8088CC73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E42C-41BF-4712-92B2-216F60B4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194E-99CE-4381-ABDA-D2411137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97B4-BFA7-414D-9E88-48F0B97B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F20D-10FC-40C8-AB86-912DAB6D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E34-B447-4ACF-B70C-FC87E5FB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3801-6B0F-463C-B7C4-A7F0F465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6F0D-690B-4EB3-87E0-D1ABF79A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3736-368F-4809-98BC-1CBFFE31F38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907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Arial"/>
              </a:rPr>
              <a:t>Кутсал Китабън Китапчъклар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7960" y="1144440"/>
            <a:ext cx="81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Кутсал Китап аслънда бир китап деилдир, кючюк бир библиотекадъ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66 китапчък = 39 ЕА + 27 Й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06064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Ески Антлашма’нън тел. нумарасъ?  5 – 12</a:t>
            </a:r>
            <a:r>
              <a:rPr b="1" lang="tr-TR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–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5 – 5 –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Йени Антлашма’нън тел. нумарасъ?  4 – 1 – 13 – </a:t>
            </a:r>
            <a:r>
              <a:rPr b="1" lang="tr-TR" sz="1800" spc="-1" strike="noStrike">
                <a:solidFill>
                  <a:srgbClr val="99cc00"/>
                </a:solidFill>
                <a:latin typeface="Arial"/>
              </a:rPr>
              <a:t>8</a:t>
            </a: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 –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236000" y="1700280"/>
            <a:ext cx="1439640" cy="124920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1258920" y="3429000"/>
            <a:ext cx="6408720" cy="2663640"/>
            <a:chOff x="1258920" y="3429000"/>
            <a:chExt cx="6408720" cy="2663640"/>
          </a:xfrm>
        </p:grpSpPr>
        <p:sp>
          <p:nvSpPr>
            <p:cNvPr id="46" name=""/>
            <p:cNvSpPr/>
            <p:nvPr/>
          </p:nvSpPr>
          <p:spPr>
            <a:xfrm>
              <a:off x="1328760" y="342900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71680" y="342900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040" y="342900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60760" y="342900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05120" y="342900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38560" y="342900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81480" y="342900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24400" y="342900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68760" y="342900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13120" y="342900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57840" y="342900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00400" y="342900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45120" y="342900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89480" y="342900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33840" y="342900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67280" y="342900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10200" y="342900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54560" y="342900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99280" y="342900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41840" y="342900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75280" y="342900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18200" y="342900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62560" y="342900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07280" y="342900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650200" y="342900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83280" y="342900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26200" y="342900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69120" y="342900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13480" y="342900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58200" y="342900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02560" y="342900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945480" y="342900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89840" y="342900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234200" y="342900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58920" y="494028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01840" y="494028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46200" y="494028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690920" y="494028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73480" y="494028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16400" y="494028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59320" y="494028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03680" y="494028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48400" y="494028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92760" y="494028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35680" y="494028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80040" y="494028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24400" y="494028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69120" y="494028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11680" y="494028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56400" y="494028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00760" y="494028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008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0960" y="494028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3399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75320" y="494028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3399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20040" y="494028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3399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4400" y="494028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3399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08760" y="494028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3399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51680" y="494028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3399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6040" y="494028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3399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40760" y="494028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3399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36000" y="4940280"/>
              <a:ext cx="431640" cy="1152360"/>
            </a:xfrm>
            <a:prstGeom prst="cube">
              <a:avLst>
                <a:gd name="adj" fmla="val 71824"/>
              </a:avLst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82920" y="4940280"/>
              <a:ext cx="432000" cy="1152360"/>
            </a:xfrm>
            <a:prstGeom prst="cube">
              <a:avLst>
                <a:gd name="adj" fmla="val 71824"/>
              </a:avLst>
            </a:prstGeom>
            <a:solidFill>
              <a:srgbClr val="00008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Century Gothic"/>
              </a:rPr>
              <a:t>Ески Антлашманън Китапчък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0328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708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8292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5928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364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800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9236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32781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Яратълъ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85440" y="3298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еш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7800" y="32972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й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1360" y="327816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е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48560" y="32716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Хоше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000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456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892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416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0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3708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0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180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616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7052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0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0252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4508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3272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2144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6436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0872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5344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9780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4072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8508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2520" y="355932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Чъкъ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02160" y="385452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Левили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3600" y="414180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айъ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78040" y="442260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Яасанън Т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82200" y="35654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Хаким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86880" y="3854520"/>
            <a:ext cx="5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Р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76080" y="413532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Саму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76080" y="442260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Саму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85440" y="471168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Крал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5440" y="500544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Крал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86520" y="529416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Тарих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6520" y="558180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Тарих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87600" y="5870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з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86880" y="615168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ех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6880" y="64468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с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87720" y="443088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Дерлемед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7800" y="41418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згил. Ез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6720" y="38480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юл. ЬОз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97800" y="356544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езмур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2080" y="44308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Дани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92440" y="4141800"/>
            <a:ext cx="12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Хезеки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2080" y="38545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ер. Аът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1720" y="35654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е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5240" y="644688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ал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57920" y="61578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еке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35600" y="587052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Хаг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35240" y="558180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ефанъ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35600" y="52941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Хавак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59360" y="500544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ах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58640" y="47181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58640" y="44308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ун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61160" y="41353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вад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44240" y="38545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А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66200" y="355932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о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637280" y="1278720"/>
            <a:ext cx="181080" cy="792000"/>
          </a:xfrm>
          <a:custGeom>
            <a:avLst/>
            <a:gdLst>
              <a:gd name="textAreaLeft" fmla="*/ 115920 w 181080"/>
              <a:gd name="textAreaRight" fmla="*/ 181440 w 181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3168000" y="649080"/>
            <a:ext cx="216000" cy="201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5400000">
            <a:off x="4732920" y="1278720"/>
            <a:ext cx="181080" cy="792000"/>
          </a:xfrm>
          <a:custGeom>
            <a:avLst/>
            <a:gdLst>
              <a:gd name="textAreaLeft" fmla="*/ 115920 w 181080"/>
              <a:gd name="textAreaRight" fmla="*/ 181440 w 181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5740920" y="1278720"/>
            <a:ext cx="181080" cy="792000"/>
          </a:xfrm>
          <a:custGeom>
            <a:avLst/>
            <a:gdLst>
              <a:gd name="textAreaLeft" fmla="*/ 115920 w 181080"/>
              <a:gd name="textAreaRight" fmla="*/ 181440 w 181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5400000">
            <a:off x="7343640" y="64908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9699200">
            <a:off x="1351080" y="11250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М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9426800">
            <a:off x="2823120" y="114444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ТАР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9453200">
            <a:off x="4340520" y="109872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ХИКМ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715400">
            <a:off x="5437440" y="105192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Б. ПЕЙ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9743000">
            <a:off x="6949800" y="105228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К. ПЕЙ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Century Gothic"/>
              </a:rPr>
              <a:t>Йени Антлашманън Китапчък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1600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0328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4764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056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7348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1640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6076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0512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4984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9240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3712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8148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2584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2997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ат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43520" y="301788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Ромалъ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46400" y="645336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Филим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76160" y="422100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Йух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50000" y="299088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Ачъ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6876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1312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5784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8804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240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7676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2148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86584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0876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5312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9748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9308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01800" y="327816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арк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00720" y="357336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02520" y="386064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ух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40640" y="328464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Коринтл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45320" y="35733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Коринтл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34520" y="385452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Галатялъ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4520" y="414180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фесл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46400" y="44308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Филипил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44600" y="472428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Колосел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46040" y="501336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Селаникл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46040" y="530064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Селаникл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48920" y="558972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Тимотей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47120" y="587052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Тимотей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46400" y="616572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Тит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76880" y="393228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Пет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88040" y="364320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Пет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86600" y="33498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Яку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86600" y="3067200"/>
            <a:ext cx="14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Ибран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76160" y="508464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Ях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75800" y="479736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3.Йухан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76160" y="4508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Йух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4000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0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90800" y="2997360"/>
            <a:ext cx="12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Апост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Ишл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1564560" y="1107360"/>
            <a:ext cx="180720" cy="792000"/>
          </a:xfrm>
          <a:custGeom>
            <a:avLst/>
            <a:gdLst>
              <a:gd name="textAreaLeft" fmla="*/ 115560 w 180720"/>
              <a:gd name="textAreaRight" fmla="*/ 181080 w 1807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5400000">
            <a:off x="4248000" y="512640"/>
            <a:ext cx="215640" cy="201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6030360" y="925920"/>
            <a:ext cx="180720" cy="1224000"/>
          </a:xfrm>
          <a:custGeom>
            <a:avLst/>
            <a:gdLst>
              <a:gd name="textAreaLeft" fmla="*/ 115560 w 180720"/>
              <a:gd name="textAreaRight" fmla="*/ 181080 w 180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5400000">
            <a:off x="2590560" y="1376280"/>
            <a:ext cx="215640" cy="289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7200 h 289080"/>
              <a:gd name="textAreaBottom" fmla="*/ 281880 h 2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7345080" y="1376280"/>
            <a:ext cx="215640" cy="289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7200 h 289080"/>
              <a:gd name="textAreaBottom" fmla="*/ 281880 h 2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9160" y="104616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БИ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391120" y="105264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ТАР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97040" y="105264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ПАВЛ. М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65440" y="105264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ГЕНЕЛ М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3240" y="10526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ПЕЙГАМБЕР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000000"/>
                </a:solidFill>
                <a:latin typeface="Century Gothic"/>
              </a:rPr>
              <a:t>Кючюк Пейгамберл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66840" y="2205000"/>
            <a:ext cx="35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Хошафъ йолладъм амдж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63520" y="364500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вакът йумурталар микропланд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650120" y="500688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асъл, хаваданмъ сервира япайъ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34880" y="649116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Хани закусканън малларъ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573440" y="1090440"/>
            <a:ext cx="1440000" cy="10209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373800" y="1111320"/>
            <a:ext cx="1222560" cy="9954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7885080" y="1081080"/>
            <a:ext cx="905040" cy="1052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4832280" y="2637000"/>
            <a:ext cx="887400" cy="9763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6127920" y="2708280"/>
            <a:ext cx="1096920" cy="9208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7711920" y="2565360"/>
            <a:ext cx="790560" cy="1069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789800" y="41497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8"/>
          <a:stretch/>
        </p:blipFill>
        <p:spPr>
          <a:xfrm>
            <a:off x="7308720" y="4149720"/>
            <a:ext cx="1079640" cy="820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872240" y="5661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9"/>
          <a:stretch/>
        </p:blipFill>
        <p:spPr>
          <a:xfrm>
            <a:off x="5651640" y="5462640"/>
            <a:ext cx="1150920" cy="9651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0"/>
          <a:stretch/>
        </p:blipFill>
        <p:spPr>
          <a:xfrm>
            <a:off x="7093080" y="553572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1"/>
          <a:stretch/>
        </p:blipFill>
        <p:spPr>
          <a:xfrm>
            <a:off x="5580000" y="4149720"/>
            <a:ext cx="1295640" cy="8636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2"/>
          <a:stretch/>
        </p:blipFill>
        <p:spPr>
          <a:xfrm>
            <a:off x="826920" y="1773360"/>
            <a:ext cx="29703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000000"/>
                </a:solidFill>
                <a:latin typeface="Century Gothic"/>
              </a:rPr>
              <a:t>Кючюк Пейгамберл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1240" y="1574640"/>
            <a:ext cx="138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Хоше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Йо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А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Овад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Йун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Нах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Хавак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Сефа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Хаг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Зеке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Мал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63200" y="1989000"/>
            <a:ext cx="46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6633"/>
                </a:solidFill>
                <a:latin typeface="Arial"/>
              </a:rPr>
              <a:t>Хошафъ йолладъм амдж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48080" y="2997360"/>
            <a:ext cx="54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6633"/>
                </a:solidFill>
                <a:latin typeface="Arial"/>
              </a:rPr>
              <a:t>Овакът йумурталар микропланд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49520" y="4149720"/>
            <a:ext cx="56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6633"/>
                </a:solidFill>
                <a:latin typeface="Arial"/>
              </a:rPr>
              <a:t>Насъл, хаваданмъ сервира япайъ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21080" y="5203800"/>
            <a:ext cx="44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6633"/>
                </a:solidFill>
                <a:latin typeface="Arial"/>
              </a:rPr>
              <a:t>Хани закусканън малларъ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1856880" y="1915920"/>
            <a:ext cx="1297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1857240" y="2205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857240" y="234792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1855440" y="2997000"/>
            <a:ext cx="1297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855440" y="3286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855800" y="342900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1856880" y="4005000"/>
            <a:ext cx="1297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1857240" y="42940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857240" y="443700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1855440" y="5157360"/>
            <a:ext cx="1297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1855440" y="54468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855800" y="558972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1:39:12Z</dcterms:created>
  <dc:creator>Windows XP</dc:creator>
  <dc:description/>
  <dc:language>en-US</dc:language>
  <cp:lastModifiedBy>Tomas OTTO</cp:lastModifiedBy>
  <dcterms:modified xsi:type="dcterms:W3CDTF">2006-10-26T06:59:47Z</dcterms:modified>
  <cp:revision>38</cp:revision>
  <dc:subject/>
  <dc:title>Кутсал Китабън Китапчъкларъ</dc:title>
</cp:coreProperties>
</file>