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BA3F-878C-4C2F-9F1A-6F2C41EC7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2113-80BB-4A66-90AF-22D9CBD8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A4EC-3796-437D-BCE7-F35210E25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8EC2-4735-47DA-83E2-7268CFCF6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D1E3-C1F5-42C8-948C-F33EA265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DF4B-9A25-4AD4-BA44-294618E4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491B-BDD9-4666-A549-C66F5D76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9DF6-12ED-45FB-BC88-76502FD5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4980-9DA6-41AF-8D65-666C9C3E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A91A-90FE-4CF6-929F-9DA5694D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C942-86C9-4076-9AF5-75240C87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4252-9505-4ACD-880D-93286B00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8DCF-5B1F-46A5-A92F-8CC7C25130EB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628640"/>
            <a:ext cx="4751280" cy="58140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Courier New"/>
              </a:rPr>
              <a:t>1. Обща кул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gradFill rotWithShape="0">
            <a:gsLst>
              <a:gs pos="0">
                <a:srgbClr val="8da9ac"/>
              </a:gs>
              <a:gs pos="50000">
                <a:srgbClr val="bbe0e3"/>
              </a:gs>
              <a:gs pos="100000">
                <a:srgbClr val="8da9a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Arial"/>
              </a:rPr>
              <a:t>Защо да учим за ислям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2560" y="2637000"/>
            <a:ext cx="5472000" cy="58140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cc66"/>
                </a:solidFill>
                <a:latin typeface="Courier New"/>
              </a:rPr>
              <a:t>2. Опознай врага с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69840" y="3716280"/>
            <a:ext cx="7345440" cy="58140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9933"/>
                </a:solidFill>
                <a:latin typeface="Courier New"/>
              </a:rPr>
              <a:t>3. Малцинствата в Бълг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47640" y="4797360"/>
            <a:ext cx="6696360" cy="106884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996600"/>
                </a:solidFill>
                <a:latin typeface="Courier New"/>
              </a:rPr>
              <a:t>4. По-добро разбиране на благовестие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336600"/>
                </a:solidFill>
                <a:latin typeface="Arial"/>
              </a:rPr>
              <a:t>БЪЛГА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317240"/>
            <a:ext cx="762156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66"/>
                </a:solidFill>
                <a:latin typeface="Tahoma"/>
              </a:rPr>
              <a:t>Държава с много комплексна етничеслка структура</a:t>
            </a:r>
            <a:r>
              <a:rPr b="0" lang="de-DE" sz="2800" spc="-1" strike="noStrike">
                <a:solidFill>
                  <a:srgbClr val="000066"/>
                </a:solidFill>
                <a:latin typeface="Tahoma"/>
              </a:rPr>
              <a:t>:</a:t>
            </a:r>
            <a:r>
              <a:rPr b="0" lang="de-DE" sz="2400" spc="-1" strike="noStrike">
                <a:solidFill>
                  <a:srgbClr val="000066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0" lang="bg-BG" sz="2400" spc="-1" strike="noStrike">
                <a:solidFill>
                  <a:srgbClr val="000066"/>
                </a:solidFill>
                <a:latin typeface="Tahoma"/>
              </a:rPr>
              <a:t>има </a:t>
            </a:r>
            <a:r>
              <a:rPr b="0" lang="de-DE" sz="2400" spc="-1" strike="noStrike">
                <a:solidFill>
                  <a:srgbClr val="000066"/>
                </a:solidFill>
                <a:latin typeface="Tahoma"/>
              </a:rPr>
              <a:t>5 </a:t>
            </a:r>
            <a:r>
              <a:rPr b="0" lang="bg-BG" sz="2400" spc="-1" strike="noStrike">
                <a:solidFill>
                  <a:srgbClr val="000066"/>
                </a:solidFill>
                <a:latin typeface="Tahoma"/>
              </a:rPr>
              <a:t>големи и по-вече от 10 малки етно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5784" t="0" r="1446" b="25929"/>
          <a:stretch/>
        </p:blipFill>
        <p:spPr>
          <a:xfrm>
            <a:off x="4019400" y="2779560"/>
            <a:ext cx="1219320" cy="1524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495520" y="2779560"/>
            <a:ext cx="1219320" cy="1524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971640" y="2779560"/>
            <a:ext cx="1218960" cy="1524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543640" y="2779560"/>
            <a:ext cx="1164960" cy="1524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991200" y="2779560"/>
            <a:ext cx="1184400" cy="1524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90720" y="4532400"/>
            <a:ext cx="163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Бълга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.86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 75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04960" y="4532400"/>
            <a:ext cx="120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Тур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75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 1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67280" y="4516560"/>
            <a:ext cx="138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ома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5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 3,5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19600" y="4532400"/>
            <a:ext cx="115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Ро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 5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19280" y="4525920"/>
            <a:ext cx="113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Мил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 5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280" y="5985000"/>
            <a:ext cx="849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Македонци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Арменци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Гърци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336600"/>
                </a:solidFill>
                <a:latin typeface="Arial"/>
              </a:rPr>
              <a:t>Евреи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a50021"/>
                </a:solidFill>
                <a:latin typeface="Arial"/>
              </a:rPr>
              <a:t>Гагаузи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cc0000"/>
                </a:solidFill>
                <a:latin typeface="Arial"/>
              </a:rPr>
              <a:t>Татари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6600"/>
                </a:solidFill>
                <a:latin typeface="Arial"/>
              </a:rPr>
              <a:t>Влахи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500"/>
                            </p:stCondLst>
                            <p:childTnLst>
                              <p:par>
                                <p:cTn id="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000"/>
                            </p:stCondLst>
                            <p:childTnLst>
                              <p:par>
                                <p:cTn id="5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500"/>
                            </p:stCondLst>
                            <p:childTnLst>
                              <p:par>
                                <p:cTn id="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90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3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87280" y="1628640"/>
            <a:ext cx="6840720" cy="58140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Courier New"/>
              </a:rPr>
              <a:t>1. Арабия преди Мохам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gradFill rotWithShape="0">
            <a:gsLst>
              <a:gs pos="0">
                <a:srgbClr val="8da9ac"/>
              </a:gs>
              <a:gs pos="50000">
                <a:srgbClr val="bbe0e3"/>
              </a:gs>
              <a:gs pos="100000">
                <a:srgbClr val="8da9a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6600"/>
                </a:solidFill>
                <a:latin typeface="Arial"/>
              </a:rPr>
              <a:t>Учебен пл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87280" y="2417760"/>
            <a:ext cx="6840720" cy="58140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Courier New"/>
              </a:rPr>
              <a:t>2. Животът на Мохам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3213000"/>
            <a:ext cx="6840720" cy="58140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Courier New"/>
              </a:rPr>
              <a:t>3. Историята на Исля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87280" y="4005360"/>
            <a:ext cx="6840720" cy="58140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Courier New"/>
              </a:rPr>
              <a:t>4. Ислямски 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87280" y="4794120"/>
            <a:ext cx="6840720" cy="58140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Courier New"/>
              </a:rPr>
              <a:t>5. Аргументи за дискусия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08:58:19Z</dcterms:created>
  <dc:creator>PC</dc:creator>
  <dc:description/>
  <dc:language>en-US</dc:language>
  <cp:lastModifiedBy>asd</cp:lastModifiedBy>
  <dcterms:modified xsi:type="dcterms:W3CDTF">2010-02-21T15:54:44Z</dcterms:modified>
  <cp:revision>125</cp:revision>
  <dc:subject/>
  <dc:title>Slide 1</dc:title>
</cp:coreProperties>
</file>