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52.png" ContentType="image/png"/>
  <Override PartName="/ppt/media/image25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58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3.jpeg" ContentType="image/jpeg"/>
  <Override PartName="/ppt/media/image37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55.png" ContentType="image/png"/>
  <Override PartName="/ppt/media/image45.jpeg" ContentType="image/jpeg"/>
  <Override PartName="/ppt/media/image9.jpeg" ContentType="image/jpeg"/>
  <Override PartName="/ppt/media/image30.jpeg" ContentType="image/jpeg"/>
  <Override PartName="/ppt/media/image43.png" ContentType="image/png"/>
  <Override PartName="/ppt/media/image46.png" ContentType="image/png"/>
  <Override PartName="/ppt/media/image51.png" ContentType="image/png"/>
  <Override PartName="/ppt/media/image31.jpeg" ContentType="image/jpeg"/>
  <Override PartName="/ppt/media/image48.jpeg" ContentType="image/jpeg"/>
  <Override PartName="/ppt/media/image53.png" ContentType="image/png"/>
  <Override PartName="/ppt/media/image56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59F-7A03-4408-A3A4-9D55F675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70F-7081-4F6E-87A3-C42A61DF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500-F51C-4C63-A354-0856A481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B72-040C-490C-B5B7-E8C85FD7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AE00-FF3D-46A8-AF91-80ED171B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7626-79A8-4A60-82D3-B99A8385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1563-28BF-4D83-ADB2-8AF72A44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8A7E-3FB0-4A0D-98F1-996DCCC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5E02-8C3C-47C6-BCDA-A7FE6327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66AB-909E-47DF-8A0A-BD7956C4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39B8-E1D2-4D48-AF2B-8D74BD27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E61-AB37-4FB0-A50E-1B8F27EA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1410-BE71-45E1-BDEF-EE6EFF16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3DE5-726D-4458-814B-5A6674FD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422C-2B6A-450C-8B66-60F75225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BFE5-4AFE-4153-9315-BF8E11A8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EC9D-45C9-4F9B-8DA6-535E1832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D5A-C36F-476B-A891-95BE0C70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65E-B072-4499-88DF-D4A2B1BF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35F-DDF3-4512-B2CA-46BD3DA0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9A8-7EFA-4935-ADAF-DD786EFB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6CD-D4A6-42BF-BCE0-1E29E66C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19A-A38D-49AE-BBD7-A3F098CF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61C-763D-4A88-A508-3C230FE5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1549-3DF4-4FA4-9EC5-036563CAF415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E3C8-4888-42CC-A437-CFE78AA54768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470560" y="5013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Tahoma"/>
              </a:rPr>
              <a:t>Срутването на Вавил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7928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оя Е БЛУДНИЦАТА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8360" y="1913040"/>
            <a:ext cx="424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В Новият Завет се расказва същата ист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щото ревнувам за вас с божествената ревност, понеже ви згодих  за един мъж, за да ви представя като чиста девица пред Христос.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"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(2.Ko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1: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ази тайна е голяма; но аз ви казвам това за Христос и за църква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"  (E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фес.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5: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345600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оя Е БЛУДНИЦА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59280" y="2133720"/>
            <a:ext cx="302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Откр.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12 –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бремената ж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Откр.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17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–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блудниц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дната е вярна на БОГА ТОВА Е Е БОЖИЯ НАРОД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-ДРУГАТА Е народа които се отделя от Бога и уидисва на системата на този св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658800" y="1197000"/>
            <a:ext cx="2257560" cy="50180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6300720" y="1197000"/>
            <a:ext cx="25243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981000"/>
            <a:ext cx="8675640" cy="1191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дойде един от седемте ангела които държаха седемте чаши и говори с мен, и каза: ела, ще ти покажа съдъ над голямата блудница, която седи на много води, 2 с която блудстваха земните царе, и земните жители се опиха от виното на нейното блудстване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"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4427640" y="3141720"/>
            <a:ext cx="4465440" cy="3168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8360" y="306864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Йона на кратко каквото беше чул го видя  от близ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Големия град Вавилон се спомена в божието пресъствие тъй че Бог се разгневи и му се даде чаша на гн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9280" y="5229360"/>
            <a:ext cx="376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която седи на много води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лияй на целия свя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ре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51:1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С голямо богат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се Надява се на себе с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сая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47: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89080" y="981000"/>
            <a:ext cx="867564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така, той ме заведе в духа в една постиня. И ВИДЯХ ЖЕНА, СЕДЯЩА НА ЧЕРВЕН ЗВЯР, пълен с богохулни имена, който имаше седем глави и десет рога. 4 Жената беше облечна във пурпорно и червено и позлатена със злато и скъпоцени камани, и бисери, и държеше в ръката си златна чаша, пълна с мръстоии и с нечестотии от нейното блудстване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2525760" cy="3816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949120" y="3156120"/>
            <a:ext cx="6784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ЖЕНА, СЕДЯЩА НА ЧЕРВЕН ЗВЯР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13:1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звяр който излизаше от мор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вата имат обща работа поткрепят се взаим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пурпорно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червено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злато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скъпоцени камани, бисери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 цялото си богаство прави пока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какво има в чашата?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1. пълна с мръсо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2. кръвта на свети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3. Божия гня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307280" y="4821120"/>
            <a:ext cx="12254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на челото и беше написано име, тайна: Вавилон, великата, майка на блудниците и гносутиите на земята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629160" cy="38480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479840" y="2508120"/>
            <a:ext cx="466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тайна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начи това не е само Вавило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ма едни много важен урок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жената и вавилон се съедниха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жената стана Вавил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ъде е тази жен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 пусти мес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 – 12:5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жената там имаше скрито мяс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раилтяните които не вярваха в Иисус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ези които се отръпнаха от Иисус  станаха Вавил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видях. Че жената се беше опила от кръвта на светиите и от кръвта на Иисусовоте свидетели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231840" y="1773360"/>
            <a:ext cx="85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За всичката пролята кръв ще бъдат отговорни Израилтяните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(M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ат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23:35-3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35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за да доийде върху вас всичката праведна кръв, пролята на земята- от кръвта на праведния Авел до кръвта на Захария, Варахиевия син, когото убихте между храма и олтара. 36 Истина ви казвам: всичко това ще доиде върху това поко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видях. Че жената се беше опила от кръвта на светиите и от кръвта на Иисусовоте свидетел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2724120" cy="2790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1258920" y="4363920"/>
            <a:ext cx="1739880" cy="23050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3564000" y="2133720"/>
            <a:ext cx="2962080" cy="3800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5268960" y="5172120"/>
            <a:ext cx="3695760" cy="16858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5"/>
          <a:stretch/>
        </p:blipFill>
        <p:spPr>
          <a:xfrm>
            <a:off x="6084720" y="3041640"/>
            <a:ext cx="2880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видях. Че жената се беше опила от кръвта на светиите и от кръвта на Иисусовоте свидетели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4760" y="2003400"/>
            <a:ext cx="28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aldensiler  (11.-16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ГОД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талия и ФРАН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69840" y="191772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Yan Hus (1369 - 141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6996240" y="2349360"/>
            <a:ext cx="1392120" cy="20894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749160" y="2708280"/>
            <a:ext cx="1951200" cy="15112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6659640" y="5322960"/>
            <a:ext cx="2305080" cy="14191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6994440" y="4659480"/>
            <a:ext cx="16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nabaptist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1525 – 166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12800" y="1916280"/>
            <a:ext cx="26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ziz Bartalmay katliam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25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Август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5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3132000" y="2637000"/>
            <a:ext cx="3267360" cy="34192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81880" y="458784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Engisisyon mahkemele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1184 -183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5">
            <a:lum contrast="24000"/>
          </a:blip>
          <a:srcRect l="0" t="5085" r="0" b="0"/>
          <a:stretch/>
        </p:blipFill>
        <p:spPr>
          <a:xfrm>
            <a:off x="684360" y="5300640"/>
            <a:ext cx="20160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89080" y="981000"/>
            <a:ext cx="867564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7 И ангела ми каза: защо се зачуди аз ще ти кажа тайната на жената и на звяра, който я носи, който има седемте глави и десете рога. 8 звярът, който си видял, беше и го няма, и скоро ще излезе от безната и ще отиде в погибел. И земните жители- всеки, чието име не написано в книгата ба живота от създаването на света- ще се зачудат когато видят, че звярът беше и го няма, и пак ще дойде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76200" y="3587760"/>
            <a:ext cx="6629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Защо ЙОАН СЕ ЧУДИ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Разбра че, изряилтяните и глупавите хора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жената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е станала Вавил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ъшност името Вавилон се използва като град  в Рим  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1.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ет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5:1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Звярът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: 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имаше го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сега го няма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ще излезе и ще се срути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3 ½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 годината копие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 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рем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ремена и половин врем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547640" y="3906720"/>
            <a:ext cx="2675160" cy="29512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89080" y="981000"/>
            <a:ext cx="867564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Тук не е нужен разум който има мъдрост: седемте глави са седем хълма на който седи жената.10 Те са и седем царе, от които пет паднаха единият е сега, а другият още не е дошъл; и когато доиде само малко трябва да остане. 11 И ЗВЯРЪТ  който беше и го няма, сам е осми, както е един от седемте, и отива погибел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2303640" cy="1525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55240" y="2741760"/>
            <a:ext cx="32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c145"/>
                </a:solidFill>
                <a:latin typeface="Tahoma"/>
              </a:rPr>
              <a:t>7 </a:t>
            </a:r>
            <a:r>
              <a:rPr b="1" lang="bg-BG" sz="2800" spc="-1" strike="noStrike">
                <a:solidFill>
                  <a:srgbClr val="a3c145"/>
                </a:solidFill>
                <a:latin typeface="Tahoma"/>
              </a:rPr>
              <a:t>глави</a:t>
            </a:r>
            <a:r>
              <a:rPr b="1" lang="tr-TR" sz="2800" spc="-1" strike="noStrike">
                <a:solidFill>
                  <a:srgbClr val="a3c145"/>
                </a:solidFill>
                <a:latin typeface="Tahoma"/>
              </a:rPr>
              <a:t>= 7</a:t>
            </a:r>
            <a:r>
              <a:rPr b="1" lang="bg-BG" sz="2800" spc="-1" strike="noStrike">
                <a:solidFill>
                  <a:srgbClr val="a3c145"/>
                </a:solidFill>
                <a:latin typeface="Tahoma"/>
              </a:rPr>
              <a:t>хъл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70000" y="2725560"/>
            <a:ext cx="29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c145"/>
                </a:solidFill>
                <a:latin typeface="Tahoma"/>
              </a:rPr>
              <a:t>7 </a:t>
            </a:r>
            <a:r>
              <a:rPr b="1" lang="bg-BG" sz="2800" spc="-1" strike="noStrike">
                <a:solidFill>
                  <a:srgbClr val="a3c145"/>
                </a:solidFill>
                <a:latin typeface="Tahoma"/>
              </a:rPr>
              <a:t>глави</a:t>
            </a:r>
            <a:r>
              <a:rPr b="1" lang="tr-TR" sz="2800" spc="-1" strike="noStrike">
                <a:solidFill>
                  <a:srgbClr val="a3c145"/>
                </a:solidFill>
                <a:latin typeface="Tahoma"/>
              </a:rPr>
              <a:t>= 7</a:t>
            </a:r>
            <a:r>
              <a:rPr b="1" lang="bg-BG" sz="2800" spc="-1" strike="noStrike">
                <a:solidFill>
                  <a:srgbClr val="a3c145"/>
                </a:solidFill>
                <a:latin typeface="Tahoma"/>
              </a:rPr>
              <a:t>ца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5902200" y="3429000"/>
            <a:ext cx="2486160" cy="17146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4"/>
          <a:srcRect l="0" t="7442" r="42535" b="51035"/>
          <a:stretch/>
        </p:blipFill>
        <p:spPr>
          <a:xfrm>
            <a:off x="3564000" y="2708280"/>
            <a:ext cx="2036880" cy="2089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5"/>
          <a:stretch/>
        </p:blipFill>
        <p:spPr>
          <a:xfrm>
            <a:off x="6300720" y="4724280"/>
            <a:ext cx="27720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26920" y="1000080"/>
            <a:ext cx="750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14:8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– 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Срути се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авилон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онзи огромен град се срути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:19 – 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Великият Вавилон беше припомнен пред Бога за да му даде чашата с виното на чроста на неговия гняв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7:1  - 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Ела и ще ти покажа съда над голямата  </a:t>
            </a:r>
            <a:r>
              <a:rPr b="1" lang="bg-BG" sz="1800" spc="-1" strike="noStrike">
                <a:solidFill>
                  <a:srgbClr val="00ccff"/>
                </a:solidFill>
                <a:latin typeface="Tahoma"/>
              </a:rPr>
              <a:t>голямата блудница как ще бъде съден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59240" y="3213000"/>
            <a:ext cx="6622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 да разберем трябва да сравним 17 и 18 глава на Откр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CG Times"/>
              </a:rPr>
              <a:t>ВАВИЛОН</a:t>
            </a:r>
            <a:r>
              <a:rPr b="1" lang="tr-TR" sz="3200" spc="-1" strike="noStrike">
                <a:solidFill>
                  <a:srgbClr val="ffff00"/>
                </a:solidFill>
                <a:latin typeface="CG Times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CG Times"/>
              </a:rPr>
              <a:t>   </a:t>
            </a:r>
            <a:r>
              <a:rPr b="1" lang="bg-BG" sz="3200" spc="-1" strike="noStrike">
                <a:solidFill>
                  <a:srgbClr val="ffffff"/>
                </a:solidFill>
                <a:latin typeface="CG Times"/>
              </a:rPr>
              <a:t>И </a:t>
            </a:r>
            <a:r>
              <a:rPr b="1" lang="de-DE" sz="3200" spc="-1" strike="noStrike">
                <a:solidFill>
                  <a:srgbClr val="ffffff"/>
                </a:solidFill>
                <a:latin typeface="CG Times"/>
              </a:rPr>
              <a:t>    </a:t>
            </a:r>
            <a:r>
              <a:rPr b="1" lang="tr-TR" sz="3200" spc="-1" strike="noStrike">
                <a:solidFill>
                  <a:srgbClr val="ffff00"/>
                </a:solidFill>
                <a:latin typeface="CG Times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CG Times"/>
              </a:rPr>
              <a:t>БЛУДНИЦ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476360" y="4568760"/>
            <a:ext cx="2303640" cy="17146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5219640" y="4508640"/>
            <a:ext cx="2370240" cy="17780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229640" y="486900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600" spc="-1" strike="noStrike">
                <a:solidFill>
                  <a:srgbClr val="9966ff"/>
                </a:solidFill>
                <a:latin typeface="Tahoma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1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501"/>
                            </p:stCondLst>
                            <p:childTnLst>
                              <p:par>
                                <p:cTn id="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1052640"/>
            <a:ext cx="545292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a3c145"/>
                </a:solidFill>
                <a:latin typeface="Tahoma"/>
              </a:rPr>
              <a:t>7 </a:t>
            </a:r>
            <a:r>
              <a:rPr b="1" lang="bg-BG" sz="2400" spc="-1" strike="noStrike">
                <a:solidFill>
                  <a:srgbClr val="a3c145"/>
                </a:solidFill>
                <a:latin typeface="Tahoma"/>
              </a:rPr>
              <a:t>глави</a:t>
            </a:r>
            <a:r>
              <a:rPr b="1" lang="tr-TR" sz="2400" spc="-1" strike="noStrike">
                <a:solidFill>
                  <a:srgbClr val="a3c145"/>
                </a:solidFill>
                <a:latin typeface="Tahoma"/>
              </a:rPr>
              <a:t>= 7 </a:t>
            </a:r>
            <a:r>
              <a:rPr b="1" lang="bg-BG" sz="2400" spc="-1" strike="noStrike">
                <a:solidFill>
                  <a:srgbClr val="a3c145"/>
                </a:solidFill>
                <a:latin typeface="Tahoma"/>
              </a:rPr>
              <a:t>царе= импераорите по времето на Йо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90920" y="1987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6600"/>
                </a:solidFill>
                <a:latin typeface="Tahoma"/>
              </a:rPr>
              <a:t>-</a:t>
            </a:r>
            <a:r>
              <a:rPr b="1" i="1" lang="bg-BG" sz="1800" spc="-1" strike="noStrike">
                <a:solidFill>
                  <a:srgbClr val="ff6600"/>
                </a:solidFill>
                <a:latin typeface="Tahoma"/>
              </a:rPr>
              <a:t>петимата падна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239200" y="235584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33cc33"/>
                </a:solidFill>
                <a:latin typeface="Tahoma"/>
              </a:rPr>
              <a:t>-</a:t>
            </a:r>
            <a:r>
              <a:rPr b="1" i="1" lang="bg-BG" sz="1800" spc="-1" strike="noStrike">
                <a:solidFill>
                  <a:srgbClr val="33cc33"/>
                </a:solidFill>
                <a:latin typeface="Tahoma"/>
              </a:rPr>
              <a:t>единия в момента го 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98720" y="278136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9966ff"/>
                </a:solidFill>
                <a:latin typeface="Tahoma"/>
              </a:rPr>
              <a:t>-</a:t>
            </a:r>
            <a:r>
              <a:rPr b="1" i="1" lang="bg-BG" sz="1800" spc="-1" strike="noStrike">
                <a:solidFill>
                  <a:srgbClr val="9966ff"/>
                </a:solidFill>
                <a:latin typeface="Tahoma"/>
              </a:rPr>
              <a:t>другия все  още не е дошъ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27640" y="8380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Цез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208560" y="12351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Авгу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08560" y="16668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iber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27640" y="20988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Kalig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208560" y="25304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Klavd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08560" y="2925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208560" y="3357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Gal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227640" y="3789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Ot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227640" y="42228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Vitel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227640" y="46544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Vespas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27640" y="50990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i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27640" y="54831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omit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27640" y="59151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Ner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27640" y="63118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ray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12000" y="836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-46-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812000" y="1231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-30-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12000" y="1663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14-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812000" y="2095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37-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812000" y="25272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41-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812000" y="29592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54-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81200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812000" y="37512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812000" y="4221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68-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12000" y="4616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69-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812000" y="5048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79-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812000" y="5479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81-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812000" y="5911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96-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69080" y="63435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98-1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050920" y="3213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7c80"/>
                </a:solidFill>
                <a:latin typeface="Tahoma"/>
              </a:rPr>
              <a:t>-</a:t>
            </a:r>
            <a:r>
              <a:rPr b="1" i="1" lang="bg-BG" sz="1800" spc="-1" strike="noStrike">
                <a:solidFill>
                  <a:srgbClr val="ff7c80"/>
                </a:solidFill>
                <a:latin typeface="Tahoma"/>
              </a:rPr>
              <a:t>самият е осми </a:t>
            </a:r>
            <a:r>
              <a:rPr b="1" i="1" lang="tr-TR" sz="1800" spc="-1" strike="noStrike">
                <a:solidFill>
                  <a:srgbClr val="ff7c80"/>
                </a:solidFill>
                <a:latin typeface="Tahoma"/>
              </a:rPr>
              <a:t>, </a:t>
            </a:r>
            <a:r>
              <a:rPr b="1" i="1" lang="bg-BG" sz="1800" spc="-1" strike="noStrike">
                <a:solidFill>
                  <a:srgbClr val="ff7c80"/>
                </a:solidFill>
                <a:latin typeface="Tahoma"/>
              </a:rPr>
              <a:t>но е от седем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36360" y="5734080"/>
            <a:ext cx="53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ffff00"/>
                </a:solidFill>
                <a:latin typeface="Tahoma"/>
              </a:rPr>
              <a:t>Домитиян е възкръсналия Нерон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но книгата по времето на Веспосиян не беше напис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56360" y="836640"/>
            <a:ext cx="2736720" cy="60213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855720" y="4221000"/>
            <a:ext cx="1195200" cy="14400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3276720" y="4292640"/>
            <a:ext cx="1062000" cy="1297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2124000" y="4869000"/>
            <a:ext cx="10080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47640" y="2781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500"/>
                            </p:stCondLst>
                            <p:childTnLst>
                              <p:par>
                                <p:cTn id="7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1052640"/>
            <a:ext cx="545292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a3c145"/>
                </a:solidFill>
                <a:latin typeface="Tahoma"/>
              </a:rPr>
              <a:t>7 </a:t>
            </a:r>
            <a:r>
              <a:rPr b="1" lang="bg-BG" sz="2400" spc="-1" strike="noStrike">
                <a:solidFill>
                  <a:srgbClr val="a3c145"/>
                </a:solidFill>
                <a:latin typeface="Tahoma"/>
              </a:rPr>
              <a:t>глави</a:t>
            </a:r>
            <a:r>
              <a:rPr b="1" lang="tr-TR" sz="2400" spc="-1" strike="noStrike">
                <a:solidFill>
                  <a:srgbClr val="a3c145"/>
                </a:solidFill>
                <a:latin typeface="Tahoma"/>
              </a:rPr>
              <a:t>= 7 </a:t>
            </a:r>
            <a:r>
              <a:rPr b="1" lang="bg-BG" sz="2400" spc="-1" strike="noStrike">
                <a:solidFill>
                  <a:srgbClr val="a3c145"/>
                </a:solidFill>
                <a:latin typeface="Tahoma"/>
              </a:rPr>
              <a:t>царе= импераорите по времето на Йо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0920" y="19875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24880" y="23558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33cc33"/>
                </a:solidFill>
                <a:latin typeface="Tahoma"/>
              </a:rPr>
              <a:t>единия в момента го 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084760" y="2781360"/>
            <a:ext cx="33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9966ff"/>
                </a:solidFill>
                <a:latin typeface="Tahoma"/>
              </a:rPr>
              <a:t>другия все  още не е дошъ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050920" y="3213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7c80"/>
                </a:solidFill>
                <a:latin typeface="Tahoma"/>
              </a:rPr>
              <a:t>самият е осми </a:t>
            </a:r>
            <a:r>
              <a:rPr b="1" i="1" lang="tr-TR" sz="1800" spc="-1" strike="noStrike">
                <a:solidFill>
                  <a:srgbClr val="ff7c80"/>
                </a:solidFill>
                <a:latin typeface="Tahoma"/>
              </a:rPr>
              <a:t>, </a:t>
            </a:r>
            <a:r>
              <a:rPr b="1" i="1" lang="bg-BG" sz="1800" spc="-1" strike="noStrike">
                <a:solidFill>
                  <a:srgbClr val="ff7c80"/>
                </a:solidFill>
                <a:latin typeface="Tahoma"/>
              </a:rPr>
              <a:t>но е от седемте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tr-TR" sz="1800" spc="-1" strike="noStrike">
                <a:solidFill>
                  <a:srgbClr val="ff7c8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10200" y="12351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bg-BG" sz="2000" spc="-1" strike="noStrike">
                <a:solidFill>
                  <a:srgbClr val="ffffff"/>
                </a:solidFill>
                <a:latin typeface="Tahoma"/>
              </a:rPr>
              <a:t>Егип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010200" y="16635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2. A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10200" y="2095560"/>
            <a:ext cx="23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Tahoma"/>
              </a:rPr>
              <a:t>3. Вавил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10200" y="2565360"/>
            <a:ext cx="23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lang="bg-BG" sz="2000" spc="-1" strike="noStrike">
                <a:solidFill>
                  <a:srgbClr val="ffffff"/>
                </a:solidFill>
                <a:latin typeface="Tahoma"/>
              </a:rPr>
              <a:t>Перси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10200" y="2997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bg-BG" sz="2000" spc="-1" strike="noStrike">
                <a:solidFill>
                  <a:srgbClr val="ffffff"/>
                </a:solidFill>
                <a:latin typeface="Tahoma"/>
              </a:rPr>
              <a:t>Гър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56360" y="34290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bg-BG" sz="2000" spc="-1" strike="noStrike">
                <a:solidFill>
                  <a:srgbClr val="ffffff"/>
                </a:solidFill>
                <a:latin typeface="Tahoma"/>
              </a:rPr>
              <a:t>Идолопоклоници в Р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12000" y="3860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bg-BG" sz="2000" spc="-1" strike="noStrike">
                <a:solidFill>
                  <a:srgbClr val="ffffff"/>
                </a:solidFill>
                <a:latin typeface="Tahoma"/>
              </a:rPr>
              <a:t>Християни в Р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10200" y="4292640"/>
            <a:ext cx="29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1" lang="bg-BG" sz="2000" spc="-1" strike="noStrike">
                <a:solidFill>
                  <a:srgbClr val="ffffff"/>
                </a:solidFill>
                <a:latin typeface="Tahoma"/>
              </a:rPr>
              <a:t>Държавата на антихрист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724360" y="1268280"/>
            <a:ext cx="3059280" cy="367200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5300640"/>
            <a:ext cx="792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ffff00"/>
                </a:solidFill>
                <a:latin typeface="Tahoma"/>
              </a:rPr>
              <a:t>Държавата на антихриста продължава в Рим в идолопоклонство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Но християнияството  в Рим не се задържа малко то продължи повече от хиляда годи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4797360"/>
            <a:ext cx="10080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1838160" cy="18003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2987640" y="3645000"/>
            <a:ext cx="1871640" cy="1849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301920" y="198900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6600"/>
                </a:solidFill>
                <a:latin typeface="Tahoma"/>
              </a:rPr>
              <a:t>петимата падна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500"/>
                            </p:stCondLst>
                            <p:childTnLst>
                              <p:par>
                                <p:cTn id="82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1868400" cy="2060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289080" y="981000"/>
            <a:ext cx="867564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9. Тук не е нужен разум който има мъдрост: седемте глави са седем хълма на който седи жената.10 Те са и седем царе, от които пет паднаха единият е сега, а другият още не е дошъл; и когато доиде само малко трябва да остане. 11 И ЗВЯРЪТ  който беше и го няма, сам е осми, както е един от седемте, и отива погибел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5240" y="2741760"/>
            <a:ext cx="32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c145"/>
                </a:solidFill>
                <a:latin typeface="Tahoma"/>
              </a:rPr>
              <a:t>7 </a:t>
            </a:r>
            <a:r>
              <a:rPr b="1" lang="bg-BG" sz="2800" spc="-1" strike="noStrike">
                <a:solidFill>
                  <a:srgbClr val="a3c145"/>
                </a:solidFill>
                <a:latin typeface="Tahoma"/>
              </a:rPr>
              <a:t>глави</a:t>
            </a:r>
            <a:r>
              <a:rPr b="1" lang="tr-TR" sz="2800" spc="-1" strike="noStrike">
                <a:solidFill>
                  <a:srgbClr val="a3c145"/>
                </a:solidFill>
                <a:latin typeface="Tahoma"/>
              </a:rPr>
              <a:t>= 7</a:t>
            </a:r>
            <a:r>
              <a:rPr b="1" lang="bg-BG" sz="2800" spc="-1" strike="noStrike">
                <a:solidFill>
                  <a:srgbClr val="a3c145"/>
                </a:solidFill>
                <a:latin typeface="Tahoma"/>
              </a:rPr>
              <a:t>хъл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621760" y="2725560"/>
            <a:ext cx="30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c145"/>
                </a:solidFill>
                <a:latin typeface="Tahoma"/>
              </a:rPr>
              <a:t>7 </a:t>
            </a:r>
            <a:r>
              <a:rPr b="1" lang="bg-BG" sz="2800" spc="-1" strike="noStrike">
                <a:solidFill>
                  <a:srgbClr val="a3c145"/>
                </a:solidFill>
                <a:latin typeface="Tahoma"/>
              </a:rPr>
              <a:t>глави</a:t>
            </a:r>
            <a:r>
              <a:rPr b="1" lang="tr-TR" sz="2800" spc="-1" strike="noStrike">
                <a:solidFill>
                  <a:srgbClr val="a3c145"/>
                </a:solidFill>
                <a:latin typeface="Tahoma"/>
              </a:rPr>
              <a:t>= 7 </a:t>
            </a:r>
            <a:r>
              <a:rPr b="1" lang="bg-BG" sz="2800" spc="-1" strike="noStrike">
                <a:solidFill>
                  <a:srgbClr val="a3c145"/>
                </a:solidFill>
                <a:latin typeface="Tahoma"/>
              </a:rPr>
              <a:t>ца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rcRect l="0" t="7442" r="42535" b="51035"/>
          <a:stretch/>
        </p:blipFill>
        <p:spPr>
          <a:xfrm>
            <a:off x="3564000" y="2708280"/>
            <a:ext cx="2036880" cy="20890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5940360" y="3500280"/>
            <a:ext cx="2772000" cy="20797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740880" y="5734080"/>
            <a:ext cx="24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a3c145"/>
                </a:solidFill>
                <a:latin typeface="Tahoma"/>
              </a:rPr>
              <a:t>=</a:t>
            </a:r>
            <a:r>
              <a:rPr b="1" lang="bg-BG" sz="2800" spc="-1" strike="noStrike">
                <a:solidFill>
                  <a:srgbClr val="a3c145"/>
                </a:solidFill>
                <a:latin typeface="Tahoma"/>
              </a:rPr>
              <a:t>целия св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89040" y="5546880"/>
            <a:ext cx="412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a3c145"/>
                </a:solidFill>
                <a:latin typeface="Tahoma"/>
              </a:rPr>
              <a:t>= </a:t>
            </a:r>
            <a:r>
              <a:rPr b="1" lang="bg-BG" sz="2000" spc="-1" strike="noStrike">
                <a:solidFill>
                  <a:srgbClr val="a3c145"/>
                </a:solidFill>
                <a:latin typeface="Tahoma"/>
              </a:rPr>
              <a:t>цялата сила</a:t>
            </a:r>
            <a:r>
              <a:rPr b="1" lang="tr-TR" sz="2000" spc="-1" strike="noStrike">
                <a:solidFill>
                  <a:srgbClr val="a3c145"/>
                </a:solidFill>
                <a:latin typeface="Tahoma"/>
              </a:rPr>
              <a:t>(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a3c145"/>
                </a:solidFill>
                <a:latin typeface="Tahoma"/>
              </a:rPr>
              <a:t>= </a:t>
            </a:r>
            <a:r>
              <a:rPr b="1" lang="bg-BG" sz="2000" spc="-1" strike="noStrike">
                <a:solidFill>
                  <a:srgbClr val="a3c145"/>
                </a:solidFill>
                <a:latin typeface="Tahoma"/>
              </a:rPr>
              <a:t>повечето минаха</a:t>
            </a:r>
            <a:r>
              <a:rPr b="1" lang="tr-TR" sz="2000" spc="-1" strike="noStrike">
                <a:solidFill>
                  <a:srgbClr val="a3c145"/>
                </a:solidFill>
                <a:latin typeface="Tahoma"/>
              </a:rPr>
              <a:t>(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a3c145"/>
                </a:solidFill>
                <a:latin typeface="Tahoma"/>
              </a:rPr>
              <a:t>= </a:t>
            </a:r>
            <a:r>
              <a:rPr b="1" lang="bg-BG" sz="2000" spc="-1" strike="noStrike">
                <a:solidFill>
                  <a:srgbClr val="a3c145"/>
                </a:solidFill>
                <a:latin typeface="Tahoma"/>
              </a:rPr>
              <a:t>сегашния е без значение</a:t>
            </a:r>
            <a:r>
              <a:rPr b="1" lang="tr-TR" sz="2000" spc="-1" strike="noStrike">
                <a:solidFill>
                  <a:srgbClr val="a3c145"/>
                </a:solidFill>
                <a:latin typeface="Tahoma"/>
              </a:rPr>
              <a:t>(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a3c145"/>
                </a:solidFill>
                <a:latin typeface="Tahoma"/>
              </a:rPr>
              <a:t>= 8. </a:t>
            </a:r>
            <a:r>
              <a:rPr b="1" lang="bg-BG" sz="2000" spc="-1" strike="noStrike">
                <a:solidFill>
                  <a:srgbClr val="a3c145"/>
                </a:solidFill>
                <a:latin typeface="Tahoma"/>
              </a:rPr>
              <a:t>всъшност не са различ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289080" y="981000"/>
            <a:ext cx="867564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2 и десетте рога, които си видял, са десет царе, които още не са получили царска власт, но получат власт като царе за един час заедно със звяра. 13 Те са единомислени и предават своята власт и сила на звяра. 14 Те ще воюват срещу агнето и агнето ще ги победи, защото е господар на господарите и цар на царете; също и тези, които са с него, са призвани, избрани и верни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1555920" cy="3355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3132000" y="3213000"/>
            <a:ext cx="1818000" cy="27180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6175440" y="3141720"/>
            <a:ext cx="26445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Каза ми още: водите, които ти видя, там, където стои блудницата, са народи и множества, и нации, и езици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611280" y="2919240"/>
            <a:ext cx="46814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89080" y="981000"/>
            <a:ext cx="867564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десетте рога, които ти видя те и звярътще намрязат блудницата и ще я направят пуста и гола, и ще изядат месата и а нея ще изгорят с огън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613240" cy="15555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451640" y="4265640"/>
            <a:ext cx="1919520" cy="2592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7229520" y="2205000"/>
            <a:ext cx="1914480" cy="20336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3195720"/>
            <a:ext cx="6626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Царе  9:33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-37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  По царски на Езавел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И  той каза хвърлете я долу и те я хвърлиха долу и кръвта и пръстна по стената и по конете и той я стъпка. 34 И той влезе и яде, и пи, и после каза: виште сега тази проклета и я погребете, защото е царска дъщеря. 35 И отидоха да я погребат, но не намерихаот нея нищо освен черепа, стъпалата и дланите на ръцете. 36 И  се върнаха и му съобщиха това, а той каза: това е словото на Господа което той говори чрез слогата си, тесвиетца Илия, като каза: в нивата на езраел кучетата ще изядат месата на Езавел, 37 И трупът на Езавел в нивата на Езраел ще бъде като тор по лицето на полето, така че няма да кажат: това е Езавел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9080" y="981000"/>
            <a:ext cx="867564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десетте рога, които ти видя те и звярътще намрязат блудницата и ще я направят пуста и гола, и ще изядат месата и а нея ще изгорят с огън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0" t="0" r="3427" b="0"/>
          <a:stretch/>
        </p:blipFill>
        <p:spPr>
          <a:xfrm>
            <a:off x="463680" y="2278080"/>
            <a:ext cx="2020680" cy="3095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5724360" y="4508640"/>
            <a:ext cx="3202200" cy="17208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627280" y="2128680"/>
            <a:ext cx="624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Bar-Kohva ayaklanması   (132-13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Yahudi Rabbiler onu Mesih olarak işan ettiler (adının anlamı "Yıldızoğlu") – Bknz.: Sayılar 24: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iki sene 'Mesihin zamanı'nı yaşadı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Emperator Hadrian iki ordu topladı. 580.000 Yahudi öldürüldü, geri kalanlar hepsi köle olarak satıld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Yeruşalim kasabası yeniden kuruldu (adı: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Aelia Capitolina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Yahudiler kovuld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dinleri yasakland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oblastın adı değiştirild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"Iudea" iken "Filistin Suriyesi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ld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4160" y="551664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Emperator Hadr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(117-13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7280" y="630252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Bar Kohva paralar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89080" y="981000"/>
            <a:ext cx="8675640" cy="1191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6 И десетте рога, които ти видя те и звярътще намрязат блудницата и ще я направят пуста и гола, и ще изядат месата и а нея ще изгорят с огън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627280" y="21286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Fransız devrimi (1789-179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8280" y="551664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Император Хадри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(117-13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229440" y="60228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Наполеон сам се короняс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516720" y="2565360"/>
            <a:ext cx="2205000" cy="335268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89080" y="981000"/>
            <a:ext cx="8675640" cy="91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Защото Бог сложи в сърцата им да извършат Неговата воля, като действат едномислено и предат царската си власт на звяра, докато се изпълнят Божиите думи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чаши на божия гняв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добавка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акво е 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1000080"/>
            <a:ext cx="750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Бит. 10:6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-11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6. Синовете  Хам: Хус и Мицраим, и Фут, и Ханаан. 7. синивете на Хус: Сева и Евила,  Савта, и Раама, и Савтека. А синовте на Раама: Сава и Дедан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8  И Хус роди Нимрод.Той пръв стана силен на земята. 9. Той беше гоям ловец пред Господа  за това се казва: като Нимрод, голям ловец пред Господа. 10  И начолото на царството му  беше Вавилон и Ерх, и Акад, и Халне в змята Сена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219640" y="3925800"/>
            <a:ext cx="3529080" cy="23115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735120" y="3948120"/>
            <a:ext cx="441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Създаването на Вавилон е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Нимр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поред Бога водач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ОВЧАР</a:t>
            </a: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 мисли за себе си, храни жовотн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Нимрод беше 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ЛОВЕЦ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ислеше за себе си и убиваше животните за удоволст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акво е 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56000" y="1628640"/>
            <a:ext cx="619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Името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 на Нимрод показва неговия характер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asıl adı Sumer dilinde: Nin-Maradda (Marad kasabasının efendisi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същото име на евреиски означава непокорен ч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 неговото име има едно скрито зна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 неговото време всеки един град беше една държ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Нимрод започна с насил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а превзима градове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а си направи една собствена негова държ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ислите на Нимрод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За да стане голям и властен стои далеч от Б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1895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акво е 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80000" y="1052640"/>
            <a:ext cx="536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Първа мисал</a:t>
            </a:r>
            <a:r>
              <a:rPr b="1" lang="tr-TR" sz="2400" spc="-1" strike="noStrike">
                <a:solidFill>
                  <a:srgbClr val="ffff00"/>
                </a:solidFill>
                <a:latin typeface="Tahoma"/>
              </a:rPr>
              <a:t>–</a:t>
            </a: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Непокорната държава към Бог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ъщност е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авел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значава ‘Вратата на Бога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на евреиски тази дума означава ‘противоречие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ак втората дума има скрито значени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авилонската кул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игора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tapınak piramid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г разбърква изици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birinci Pentikost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ървото срутване на Вавил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25360" y="1649520"/>
            <a:ext cx="3267000" cy="20667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1835280" y="4316400"/>
            <a:ext cx="3313080" cy="22082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6705720" y="4076640"/>
            <a:ext cx="17539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5565600" cy="45324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акво е 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35640" y="98100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Хиляди години по късно</a:t>
            </a:r>
            <a:r>
              <a:rPr b="1" lang="tr-TR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Вавилонска имп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става в  света най- напредналата държ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3674880" cy="4032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3676680" cy="45432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5796000" y="2637000"/>
            <a:ext cx="312264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акво е 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43280" y="981000"/>
            <a:ext cx="63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Втора мисъл</a:t>
            </a:r>
            <a:r>
              <a:rPr b="1" lang="tr-TR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 Царство, което измъчва божия на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İ.Ö. 587 –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крал Навуходносор завзема израелския народ и го поробва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Псалм 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137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230200" cy="3313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3846600" cy="234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2340000" y="4581360"/>
            <a:ext cx="3429000" cy="20480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акво е Вавилон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84360" y="981000"/>
            <a:ext cx="84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Бог даде дума</a:t>
            </a:r>
            <a:r>
              <a:rPr b="1" lang="tr-TR" sz="2400" spc="-1" strike="noStrike">
                <a:solidFill>
                  <a:srgbClr val="ffff00"/>
                </a:solidFill>
                <a:latin typeface="Tahoma"/>
              </a:rPr>
              <a:t>: “</a:t>
            </a:r>
            <a:r>
              <a:rPr b="1" lang="bg-BG" sz="2400" spc="-1" strike="noStrike">
                <a:solidFill>
                  <a:srgbClr val="ffff00"/>
                </a:solidFill>
                <a:latin typeface="Tahoma"/>
              </a:rPr>
              <a:t>Вавилон ще се срути</a:t>
            </a:r>
            <a:r>
              <a:rPr b="1" lang="tr-TR" sz="2400" spc="-1" strike="noStrike">
                <a:solidFill>
                  <a:srgbClr val="ffff00"/>
                </a:solidFill>
                <a:latin typeface="Tahoma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са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:22; 21:9; 43:14;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Йереми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 50:9; 51: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Исая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4:22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Защото  ще стана против тях, заявява Господ на Войнствата. И ще излича от Вавилон име и остатък, и син, и внук, заявява ГОСПОД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724360" y="3645000"/>
            <a:ext cx="3800520" cy="28479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411280" y="3573360"/>
            <a:ext cx="41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ече Вавилон като държава не съществува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неговото име стана на целия  свят един сив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коя Е БЛУДНИЦАТА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84360" y="3681360"/>
            <a:ext cx="1633320" cy="205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292720" y="2852640"/>
            <a:ext cx="3533760" cy="1683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825640" y="3284640"/>
            <a:ext cx="1344600" cy="25336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68360" y="981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Свърската между Израил и Господ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=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както са мъж и ж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сая 54:5: Защото твоят съпруг е Творецът ти, Господ на Войнствата е Името му. И Изкупителят ти е Светият Израилев, Той ще се нарече Бог на цялата зем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Като се кланяше на чужди Богове  ставаше блудница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сая1:21: Как стана блудница верния град! Той беше пълен с правосъдие, правда убитавше в него а сега- убийц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44720" y="587700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ASTARTE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д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5280" y="58770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Блудницата която вика младещ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00720" y="4740120"/>
            <a:ext cx="47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ъв височините се кланяха на ид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Йеремия 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3:2 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дигни очите си към голите височини и виш къде не са блудствали с теб? По пътищата си си седяла  за тях  като арабин в пустинята и си осквернила земята с блидството си и със злото си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sd</cp:lastModifiedBy>
  <dcterms:modified xsi:type="dcterms:W3CDTF">2009-06-16T21:33:55Z</dcterms:modified>
  <cp:revision>632</cp:revision>
  <dc:subject/>
  <dc:title>Yedi Mühür açılıyor (bölüm 6)</dc:title>
</cp:coreProperties>
</file>