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06E-17F2-428E-925E-5EC1CF93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DD0-DA98-42EE-91F4-A34E9A3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CAC-AE35-4BBF-8C3E-C65813C6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608-7F18-44FD-B00E-3D1A6FA2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807-84D0-499E-84D2-A94B05F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851-3B21-4593-BB0E-9DA44FA8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B4D-3FE4-4B06-98F4-2F41F62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808-A0F8-4913-A9D8-5637AEB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114-3256-4C20-AC6A-2D75CD6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E07-3D9F-4D8C-BA84-1537FBF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698-C581-4D31-980E-5193B6F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0FB-118A-46E4-8949-CF92495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B67-A148-4D03-8BD2-109637B7CD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çası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 ve kalaba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48040" y="1328760"/>
            <a:ext cx="3856320" cy="505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909" r="0" b="1658"/>
          <a:stretch/>
        </p:blipFill>
        <p:spPr>
          <a:xfrm>
            <a:off x="1547640" y="2708280"/>
            <a:ext cx="26546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560" y="1347840"/>
            <a:ext cx="467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DÖRT RÜZ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- dört beygir gibi, Rabbin cezalandırıc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edinci mühür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981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9900"/>
                </a:solidFill>
                <a:uFillTx/>
                <a:latin typeface="Arial"/>
              </a:rPr>
              <a:t>Gökte yarım saat sessizlik ol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8428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3. Fikir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ESSİZLİK EN BÜYÜK CEZA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-    Allah insanlarla uğraşırsa, onları tövbeye ve hayata getirmek için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ma bir kere sustu mu, artık insanlara tövbe fırsatı kalmı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Yarım saat: sanki gelecek seri için bir uyarma: “Bundan sonra tövbe etmezseniz, artık fırsatınız olmayaca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07664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om 1:24 “Allah onları pisliğe terk ett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om 1:26  “Bu sebeple, Allah onları iğrenç isteklere teslim ett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om 1:28  “Allah onları aşağılık düşüncelerine terk ett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edinci mühür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981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9900"/>
                </a:solidFill>
                <a:uFillTx/>
                <a:latin typeface="Arial"/>
              </a:rPr>
              <a:t>Gökte yarım saat sessizlik ol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62864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4. Fikir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KOSMOS’TAN KAOS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En başta Allah dünyayı konuşmakla yarattı; karışıklıktan sıra yarattı (kaostan kosmo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Şimdi de ceza olarak yarattığı dünyayı susmakla yok ediyor (bknz.: İbr.  1:3 “Kendi kuvvetli sözüyle her şeyi ayakta tutuy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39132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çası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 ve kalaba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360" y="11970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MÜHÜRLEN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1108080"/>
            <a:ext cx="5688000" cy="419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080" y="1700280"/>
            <a:ext cx="3058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sahibi kölenin alnına bir ad yazardı = artık o kişi kendisinin değil onun malıd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 mühürlenen kişiyi dokunursa, efendisine saldırmış olu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mühürlenen korunuyor, ona bir şey olmu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Hezekiel 9: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920" y="5883120"/>
            <a:ext cx="87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Pavlus ‘mühürlenmek’ sözünü ne için kullanıyor   (2.Kor 1:22; Efes 1:13; 4:3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Burada ne anlamda kullanılı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çası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 ve kalaba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395280" y="1755720"/>
            <a:ext cx="6481800" cy="426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203720"/>
            <a:ext cx="4319640" cy="1727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971720"/>
            <a:ext cx="4319640" cy="172728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3122640"/>
            <a:ext cx="792000" cy="1584360"/>
          </a:xfrm>
          <a:custGeom>
            <a:avLst/>
            <a:gdLst>
              <a:gd name="textAreaLeft" fmla="*/ 257760 w 792000"/>
              <a:gd name="textAreaRight" fmla="*/ 574560 w 792000"/>
              <a:gd name="textAreaTop" fmla="*/ 963000 h 1584360"/>
              <a:gd name="textAreaBottom" fmla="*/ 1149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9060"/>
                </a:moveTo>
                <a:lnTo>
                  <a:pt x="13130" y="19060"/>
                </a:lnTo>
                <a:lnTo>
                  <a:pt x="13130" y="7034"/>
                </a:lnTo>
                <a:lnTo>
                  <a:pt x="7200" y="7034"/>
                </a:lnTo>
                <a:lnTo>
                  <a:pt x="14400" y="0"/>
                </a:lnTo>
                <a:lnTo>
                  <a:pt x="21600" y="7034"/>
                </a:lnTo>
                <a:lnTo>
                  <a:pt x="15670" y="7034"/>
                </a:lnTo>
                <a:lnTo>
                  <a:pt x="156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6021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44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.000”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= yeryüzünde - Rab hepsini saymıştı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= büyük sıkıntıdan ö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85716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99ff"/>
                </a:solidFill>
                <a:latin typeface="Arial"/>
              </a:rPr>
              <a:t>BÜYÜK KALABALI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= gökte - insan onları sayam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ff"/>
                </a:solidFill>
                <a:latin typeface="Arial"/>
              </a:rPr>
              <a:t>= büyük sıkıntıdan son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4840" y="3573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1700280"/>
            <a:ext cx="2195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44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12 x 12 x 1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İsrail x İsrail x kalabalı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İsrail artık yepyeni bir halk olmuştur; bütün milletlerden gelen bir ha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(= yeni karakter = 12 x 1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= İsrail artık çok daha büyük bir halk ol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(= x 1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çası – 144.000 ve kalabalı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440" y="9079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Arial"/>
              </a:rPr>
              <a:t>Bunlar bir grup mu, farkl</a:t>
            </a:r>
            <a:r>
              <a:rPr b="1" lang="tr-TR" sz="2400" spc="-1" strike="noStrike">
                <a:solidFill>
                  <a:srgbClr val="ff9900"/>
                </a:solidFill>
                <a:latin typeface="Arial"/>
              </a:rPr>
              <a:t>ı</a:t>
            </a:r>
            <a:r>
              <a:rPr b="1" lang="de-DE" sz="2400" spc="-1" strike="noStrike">
                <a:solidFill>
                  <a:srgbClr val="ff9900"/>
                </a:solidFill>
                <a:latin typeface="Arial"/>
              </a:rPr>
              <a:t> gruplar m</a:t>
            </a:r>
            <a:r>
              <a:rPr b="1" lang="tr-TR" sz="2400" spc="-1" strike="noStrike">
                <a:solidFill>
                  <a:srgbClr val="ff9900"/>
                </a:solidFill>
                <a:latin typeface="Arial"/>
              </a:rPr>
              <a:t>ı</a:t>
            </a:r>
            <a:r>
              <a:rPr b="1" lang="de-DE" sz="24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5157720"/>
            <a:ext cx="1871640" cy="150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8720" y="4149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Rom 11:17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Yahudi ve milletlerden iman</a:t>
            </a:r>
            <a:r>
              <a:rPr b="1" lang="de-DE" sz="18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lılar tek bir ‘zeytin ağacı’ olu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5229360"/>
            <a:ext cx="187164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35680" y="422100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Rom 2:29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;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Fil 3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be0e3"/>
                </a:solidFill>
                <a:latin typeface="Arial"/>
              </a:rPr>
              <a:t>Asil 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Yahudi yürekten sünnetli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- imanlılar asıl sünnetlidir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84280"/>
            <a:ext cx="29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Gal 3:29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imanlılar İbrahim’in soyundandırlar (Mat 3: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57080" y="249228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31120" y="126828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Gal 6:16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Allahın İsraili yeniden doğan kişiler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307880" cy="170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00560" y="1557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A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çı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k 2:9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: 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3:9‘ Rom 9:6-8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bedence Yahudi o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l</a:t>
            </a:r>
            <a:r>
              <a:rPr b="1" lang="tr-TR" sz="1800" spc="-1" strike="noStrike">
                <a:solidFill>
                  <a:srgbClr val="bbe0e3"/>
                </a:solidFill>
                <a:latin typeface="Arial"/>
              </a:rPr>
              <a:t>anlar Yahudi değ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048200" y="2565360"/>
            <a:ext cx="16002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çası – 144.000 ve kalabalı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6443640" y="2392200"/>
            <a:ext cx="223200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432080"/>
            <a:ext cx="867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Kutsa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bir h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Çı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asa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7:6 -  1 Pet 2:9; Ma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t 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21:43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;</a:t>
            </a: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1 Pet 1:15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Görevlilerde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bi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h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Çı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  — 1 Pet 2:5, 9;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Açı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. 1:6;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:4;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5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Seçilmiş bir h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Çı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9:5,6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1 Pet 2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Allahı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halkı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Ho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ş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9,10; Rom. 9:6-8 — 1 Pet 2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Mirası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ol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bi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halk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asa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4:20 — E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fes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Allahı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Lev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6:11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uh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Allah onların arasında yürü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Lev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6:12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2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Kor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6:16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Yakubun 12 oğlu – İsa’nın 12 öğrenc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12 cins – milletlerin arasına dağılmış olan 12 cin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(Ya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:1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Mesih, halkının güveyisi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İşa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. 54:5;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er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3:14; Ho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ş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2:19;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er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6:2; 31:32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—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Yak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4:4; E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fes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5:23-33; 2 </a:t>
            </a: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Kor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 11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96960" y="96516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9900"/>
                </a:solidFill>
                <a:latin typeface="Arial"/>
              </a:rPr>
              <a:t>Gerçek İsrail ve kilise bir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178920" cy="863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çası – 144.000 ve kalabalı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478" t="0" r="0" b="5843"/>
          <a:stretch/>
        </p:blipFill>
        <p:spPr>
          <a:xfrm>
            <a:off x="5003640" y="1049400"/>
            <a:ext cx="223236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40000" y="2774880"/>
            <a:ext cx="182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Ru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m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L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Ya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İsa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Zebu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G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Aş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Naf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Yus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ny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84960" y="5751360"/>
            <a:ext cx="11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Efr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Ma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43080" y="5877000"/>
            <a:ext cx="576360" cy="21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43080" y="6094440"/>
            <a:ext cx="57636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07120" y="2774880"/>
            <a:ext cx="182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Ya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Ru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G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Aş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Naf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Mana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m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L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İsa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Zebu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Yus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tr-TR" sz="2000" spc="-1" strike="noStrike">
                <a:solidFill>
                  <a:srgbClr val="ffff00"/>
                </a:solidFill>
                <a:latin typeface="Arial"/>
              </a:rPr>
              <a:t>ny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1957320" cy="1450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79840" y="115884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1" lang="tr-TR" sz="1800" spc="-1" strike="noStrike" u="sng">
                <a:solidFill>
                  <a:srgbClr val="ff9999"/>
                </a:solidFill>
                <a:uFillTx/>
                <a:latin typeface="Arial"/>
              </a:rPr>
              <a:t>Y</a:t>
            </a:r>
            <a:r>
              <a:rPr b="1" lang="de-DE" sz="1800" spc="-1" strike="noStrike" u="sng">
                <a:solidFill>
                  <a:srgbClr val="ff9999"/>
                </a:solidFill>
                <a:uFillTx/>
                <a:latin typeface="Arial"/>
              </a:rPr>
              <a:t>ar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99"/>
                </a:solidFill>
                <a:latin typeface="Arial"/>
              </a:rPr>
              <a:t>Yakup 12 o</a:t>
            </a:r>
            <a:r>
              <a:rPr b="0" lang="tr-TR" sz="1800" spc="-1" strike="noStrike">
                <a:solidFill>
                  <a:srgbClr val="ff9999"/>
                </a:solidFill>
                <a:latin typeface="Arial"/>
              </a:rPr>
              <a:t>ğlunu bereketli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119700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1" lang="tr-TR" sz="1800" spc="-1" strike="noStrike" u="sng">
                <a:solidFill>
                  <a:srgbClr val="ff9999"/>
                </a:solidFill>
                <a:uFillTx/>
                <a:latin typeface="Arial"/>
              </a:rPr>
              <a:t>Açı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99"/>
                </a:solidFill>
                <a:latin typeface="Arial"/>
              </a:rPr>
              <a:t>144.000 kişi ve büyük kalabalı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3800" y="2708280"/>
            <a:ext cx="273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bbe0e3"/>
                </a:solidFill>
                <a:uFillTx/>
                <a:latin typeface="Arial"/>
              </a:rPr>
              <a:t>DAN ve EFRAİM y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Da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En birinci putperestliğe başladı (Hakimler 18) ve sembolu yılandı (Yar 49: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Efraim –</a:t>
            </a:r>
            <a:r>
              <a:rPr b="1" lang="tr-TR" sz="1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hep Davud’a karşı giderdi. Peygamberler bildirdiler ki, Mesih’in günlerinde bu ayrılık bitecek (Yeş 11:13; Hez 37: 15-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500"/>
                            </p:stCondLst>
                            <p:childTnLst>
                              <p:par>
                                <p:cTn id="3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ra pa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çası </a:t>
            </a: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– 144.000 ve kalaba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6000" y="1052640"/>
            <a:ext cx="2879640" cy="1944720"/>
            <a:chOff x="5796000" y="1052640"/>
            <a:chExt cx="2879640" cy="1944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2478" t="0" r="0" b="5843"/>
            <a:stretch/>
          </p:blipFill>
          <p:spPr>
            <a:xfrm>
              <a:off x="5796000" y="1052640"/>
              <a:ext cx="287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019920" y="2168640"/>
              <a:ext cx="1919160" cy="7873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1150920"/>
              <a:ext cx="1919160" cy="787320"/>
            </a:xfrm>
            <a:prstGeom prst="ellipse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3200" y="1675800"/>
              <a:ext cx="351720" cy="722160"/>
            </a:xfrm>
            <a:custGeom>
              <a:avLst/>
              <a:gdLst>
                <a:gd name="textAreaLeft" fmla="*/ 114480 w 351720"/>
                <a:gd name="textAreaRight" fmla="*/ 255240 w 351720"/>
                <a:gd name="textAreaTop" fmla="*/ 438840 h 722160"/>
                <a:gd name="textAreaBottom" fmla="*/ 52416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060"/>
                  </a:moveTo>
                  <a:lnTo>
                    <a:pt x="13130" y="19060"/>
                  </a:lnTo>
                  <a:lnTo>
                    <a:pt x="13130" y="7034"/>
                  </a:lnTo>
                  <a:lnTo>
                    <a:pt x="7200" y="7034"/>
                  </a:lnTo>
                  <a:lnTo>
                    <a:pt x="14400" y="0"/>
                  </a:lnTo>
                  <a:lnTo>
                    <a:pt x="21600" y="7034"/>
                  </a:lnTo>
                  <a:lnTo>
                    <a:pt x="15670" y="7034"/>
                  </a:lnTo>
                  <a:lnTo>
                    <a:pt x="156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31360" y="18813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40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6440" y="2513160"/>
            <a:ext cx="51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BÜYÜK SIKINTI</a:t>
            </a:r>
            <a:r>
              <a:rPr b="1" lang="de-DE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ne zaman ol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bknz.:  Dan 12:1; Mat 24:21; Açık 2:22  ve  1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= bütün ‘3 ½ sene’ zamanında devam edec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197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cccc"/>
                </a:solidFill>
                <a:latin typeface="Arial"/>
              </a:rPr>
              <a:t>"Bunlar, büyük sıkıntıdan geçmiş olan kişilerdir. Rubalarını Kuzu'nun kanında yıkayıp bembeyaz ettiler.  (7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364500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İMANLILAR BU SIKINTIDAN GEÇECEK M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6600"/>
                </a:solidFill>
                <a:latin typeface="Arial"/>
              </a:rPr>
              <a:t>ya da: ‘mühürlemek, korumak’ ne anlama geliy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değil: “zorluk görmeyecekler” (bknz.: 1.Tim 3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ama: onlar Rabden vazgeçmeyece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imanlının yenmesi rahatlık içinde yaşamak değildir,  düşmanlarını yok etmek değildir, </a:t>
            </a:r>
            <a:r>
              <a:rPr b="1" lang="tr-TR" sz="1800" spc="-1" strike="noStrike" u="sng">
                <a:solidFill>
                  <a:srgbClr val="ffff00"/>
                </a:solidFill>
                <a:uFillTx/>
                <a:latin typeface="Arial"/>
              </a:rPr>
              <a:t>kötülüğü iyilikle yok etmektir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(Rom 12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4635" t="3030" r="2955" b="5256"/>
          <a:stretch/>
        </p:blipFill>
        <p:spPr>
          <a:xfrm>
            <a:off x="539640" y="4292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edinci mühür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360" y="981000"/>
            <a:ext cx="8459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9900"/>
                </a:solidFill>
                <a:uFillTx/>
                <a:latin typeface="Arial"/>
              </a:rPr>
              <a:t>Gökte yarım saat sessizlik ol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Açıklama kitabında gök her zaman gürültülü bir yer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Ama şimdi tapınmalar ve ilanlar duruy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560" y="32274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Fiki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BORAZANLARA HAZIR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Birinci seri cezalar geçti. -  Şimdi daha korkunç cezalar bailamadan bütün varlıklar Allahın önünde heyecan ve korku içinde duruyo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362480" y="2781360"/>
            <a:ext cx="45306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edinci mühür – 8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981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9900"/>
                </a:solidFill>
                <a:uFillTx/>
                <a:latin typeface="Arial"/>
              </a:rPr>
              <a:t>Gökte yarım saat sessizlik ol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557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2. Fikir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00"/>
                </a:solidFill>
                <a:latin typeface="Arial"/>
              </a:rPr>
              <a:t>YERYÜZÜNDE KARIŞIKLIK – GÖKTE SAKİNLİ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   Bir fırtınanın gözünde bütün sakinlik var, ama etrafında herşey yok olu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mek, gökte oturanların hepsi rahatlık içinde (ölmüş olan şehitler b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468520" cy="177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916360"/>
            <a:ext cx="2448000" cy="17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43640" y="2844720"/>
            <a:ext cx="2479680" cy="180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411280" y="3141720"/>
            <a:ext cx="4465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18:15Z</dcterms:created>
  <dc:creator>Windows XP</dc:creator>
  <dc:description/>
  <dc:language>en-US</dc:language>
  <cp:lastModifiedBy>asd</cp:lastModifiedBy>
  <dcterms:modified xsi:type="dcterms:W3CDTF">2009-12-27T06:23:15Z</dcterms:modified>
  <cp:revision>187</cp:revision>
  <dc:subject/>
  <dc:title>Yedi Mühür açılıyor (bölüm 6)</dc:title>
</cp:coreProperties>
</file>