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61.jpeg" ContentType="image/jpeg"/>
  <Override PartName="/ppt/media/image12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50.jpeg" ContentType="image/jpeg"/>
  <Override PartName="/ppt/media/image25.jpeg" ContentType="image/jpeg"/>
  <Override PartName="/ppt/media/image24.png" ContentType="image/png"/>
  <Override PartName="/ppt/media/image62.jpeg" ContentType="image/jpeg"/>
  <Override PartName="/ppt/media/image5.jpeg" ContentType="image/jpeg"/>
  <Override PartName="/ppt/media/image18.jpeg" ContentType="image/jpeg"/>
  <Override PartName="/ppt/media/image15.png" ContentType="image/png"/>
  <Override PartName="/ppt/media/image19.jpeg" ContentType="image/jpeg"/>
  <Override PartName="/ppt/media/image26.jpeg" ContentType="image/jpeg"/>
  <Override PartName="/ppt/media/image32.jpeg" ContentType="image/jpeg"/>
  <Override PartName="/ppt/media/image20.jpeg" ContentType="image/jpeg"/>
  <Override PartName="/ppt/media/image49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63.jpeg" ContentType="image/jpeg"/>
  <Override PartName="/ppt/media/image29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2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A5F-9BEC-490D-BB3A-0D7E839D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F18-C3EF-40B1-B1C9-29FD83A9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CDD-8698-4326-B393-AE94206D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71A-577E-4200-B5D1-CE8EA5ED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3DE-6B71-4C23-9B7F-09D60E1D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65F8-C681-4955-B0E5-E188E36A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F5CF-9451-461B-AF82-F4B4974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4C5C-3D33-440B-92DB-DADB1F4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CCE-7DF5-4B4A-9AC8-81F7DAE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ACA2-B6D8-419E-A26D-9E2E35C1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7218-B2E1-4D41-A9DB-75C6346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028-835A-4897-AECA-6492BB58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71CB-95D6-43C5-B808-5FC1F71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4A7-3805-4816-812C-B497256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ECC-1199-4987-B4FB-BADC116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52DA-A510-4B42-B3E2-D2C447AE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9FC7-0539-4AE1-B43B-C160B424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B71-6251-4361-AAAB-4F20CB31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EE7-C7B5-4023-8D30-B3DBF06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BA2-38E2-449B-81A9-6369728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B80-50F4-4522-A2CC-E40A11C6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093-9A99-4DC4-99C7-B32985E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0B4-A2E3-4456-8073-0E2B278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68C-36FB-4BB3-8FF8-B7C4B22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19FA-4989-454B-B4C3-156909C28E26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C0D-D3E3-4CF6-A7FE-AE76C3050A38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470560" y="5013360"/>
            <a:ext cx="36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Tahoma"/>
              </a:rPr>
              <a:t>Срутването на Вави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204480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В Новият Завет се расказва същата ист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щото ревнувам за вас с божествената ревност, понеже ви згодих  за един мъж, за да ви представя като чиста девица пред Христос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"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(2.Ko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1: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ази тайна е голяма; но аз ви казвам това за Христос и за църкв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"  (E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фес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5: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45600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2133720"/>
            <a:ext cx="302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ткр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12 –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ремената ж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ткр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17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лудниц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дната е вярна на БОГА ТОВА Е Е БОЖИЯ НАРОД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-ДРУГАТА Е народа които се отделя от Бога и уидисва на системата на този св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58800" y="1197000"/>
            <a:ext cx="2257560" cy="50180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524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дойде един от седемте ангела които държаха седемте чаши и говори с мен, и каза: ела, ще ти покажа съдъ над голямата блудница, която седи на много води, 2 с която блудстваха земните царе, и земните жители се опиха от виното на нейното блудстван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465440" cy="29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68360" y="3068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Йона на кратко каквото беше чул го видя  от бл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6:18 " Ve büyük Babil kasabası da Allah katında anıldı. Öyle ki, ona Allahın kızgın öfkesiyle dolu kadehi verilsin. 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5084640"/>
            <a:ext cx="37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Çok suların yanında oturuyor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etkisi bütün dünyaya (Yer 51:1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büyük zenginl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kendine güveniyor (Yeş 47: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080" y="981000"/>
            <a:ext cx="867564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ака, той ме заведе в духа в една постиня. И ВИДЯХ ЖЕНА, СЕДЯЩА НА ЧЕРВЕН ЗВЯР, пълен с богохулни имена, който имаше седем глави и десет рога. 4 Жената беше облечна във пурпорно и червено и позлатена със злато и скъпоцени камани, и бисери, и държеше в ръката си златна чаша, пълна с мръстоии и с нечестотии от нейното блудстване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525760" cy="3816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949120" y="3156120"/>
            <a:ext cx="678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ЖЕНА, СЕДЯЩА НА ЧЕРВЕН ЗВЯР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13:1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вяр който излизаше от мор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вата имат обща работа поткрепят се взаим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урпорн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червено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лат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къпоцени камани, бисер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 цялото си богаство прави пока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акво има в чашата?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1. пълна с мръсо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2. кръвта на свети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3. Божия гня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307280" y="4821120"/>
            <a:ext cx="12254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на челото и беше написано име, тайна: Вавилон, великата, майка на блудниците и гносутиите на земят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629160" cy="3848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479840" y="2508120"/>
            <a:ext cx="466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тайн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начи това не е само Вавил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ма едни много важен урок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и вавилон се съедних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стан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ъде е тази же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пусти мес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– 12:5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там имаше скрито мяс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раилтяните които не вярваха в Иисус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които се отръпнаха от Иисус  станах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0920" y="83664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идях. Че жената се беше опила от кръвта на светиите и от кръвта на Иисусовоте свидетел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31840" y="1773360"/>
            <a:ext cx="858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а всичката пролята кръв ще бъдат отговорни Израилтяните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M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ат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23:35-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а да доийде върху вас всичката праведна кръв, пролята на земята- от кръвта на праведния Авел до кръвта на Захария, Варахиевия син, когото убихте между храма и олтара. 36 Истина ви казвам: всичко това ще доиде върху това поко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идях. Че жената се беше опила от кръвта на светиите и от кръвта на Иисусовоте свидетел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724120" cy="2790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258920" y="4363920"/>
            <a:ext cx="1739880" cy="2305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2962080" cy="38005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5268960" y="5172120"/>
            <a:ext cx="369576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6084720" y="3041640"/>
            <a:ext cx="2880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идях. Че жената се беше опила от кръвта на светиите и от кръвта на Иисусовоте свидетел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6480" y="20034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aldensiler  (11.-16. y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İtalya ve Fran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69840" y="191772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Yan Hus (1369 - 14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996240" y="2349360"/>
            <a:ext cx="1392120" cy="2089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49160" y="2708280"/>
            <a:ext cx="1951200" cy="1511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6659640" y="5322960"/>
            <a:ext cx="2305080" cy="14191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994440" y="465948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nabaptist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525 – 16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12800" y="1916280"/>
            <a:ext cx="26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ziz Bartalmay katliam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5. Ağustos 15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3132000" y="2637000"/>
            <a:ext cx="3267360" cy="3419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81880" y="45878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Engisisyon mahkemel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184 -18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684360" y="5300640"/>
            <a:ext cx="20160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89080" y="981000"/>
            <a:ext cx="867564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7 И ангела ми каза: защо се зачуди аз ще ти кажа тайната на жената и на звяра, който я носи, който има седемте глави и десете рога. 8 звярът, който си видял, беше и го няма, и скоро ще излезе от безната и ще отиде в погибел. И земните жители- всеки, чието име не написано в книгата ба живота от създаването на света- ще се зачудат когато видят, че звярът беше и го няма, и пак ще дойд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Тук не е нужен разум който има мъдрост: седемте глави са седем хълма на който седи жената.10 Те са и седем царе, от които пет паднаха единият е сега, а другият още не е дошъл; и когато доиде само малко трябва да остане. 11 И ЗВЯРЪТ  който беше и го няма, сам е осми, както е един от седемте, и отива погиб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6920" y="1000080"/>
            <a:ext cx="750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14:8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–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рути с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авило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онзи огромен град се срути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:19 –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еликият Вавилон беше припомнен пред Бога за да му даде чашата с виното на чроста на неговия гняв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:1  -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Ела и ще ти покажа съда над голямата  </a:t>
            </a:r>
            <a:r>
              <a:rPr b="1" lang="bg-BG" sz="1800" spc="-1" strike="noStrike">
                <a:solidFill>
                  <a:srgbClr val="00ccff"/>
                </a:solidFill>
                <a:latin typeface="Tahoma"/>
              </a:rPr>
              <a:t>голямата блудница как ще бъде съден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2840" y="3213000"/>
            <a:ext cx="662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 да разберем трябва да сравним 17 и 18 глава на Отк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АВИЛОН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БЛУДНИЦАТА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303280" cy="1714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2370240" cy="17780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229640" y="48690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9966ff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1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1"/>
                            </p:stCondLst>
                            <p:childTnLst>
                              <p:par>
                                <p:cTn id="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89080" y="981000"/>
            <a:ext cx="867564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десетте рога, които си видял, са десет царе, които още не са получили царска власт, но получат власт като царе за един час заедно със звяра. 13 Те са единомислени и предават своята власт и сила на звяра. 14 Те ще воюват срещу агнето и агнето ще ги победи, защото е господар на господарите и цар на царете; също и тези, които са с него, са призвани, избрани и верн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Каза ми още: водите, които ти видя, там, където стои блудницата, са народи и множества, и нации, и езиц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десетте рога, които ти видя те и звярътще намрязат блудницата и ще я направят пуста и гола, и ще изядат месата и а нея ще изгорят с огъ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7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Защото Бог сложи в сърцата им да извършат Неговата воля, като действат едномислено и предат царската си власт на звяра, докато се изпълнят Божиите дум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89080" y="981000"/>
            <a:ext cx="8675640" cy="2288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лед това видях друг ангел, който слизаше от небето и имаше голяма власт; и земята се осветли от неговата слава. 2 Той извика със силен глас и каза: падна, падна Вавилон, великата блудница, и стана жилище на демони, затвор на всякакъв нечист дух и затвор на всякаква нечиста и омразна пъица; 3 защото всички нации пиха от виното на гнева на нейното блудстване и земните царе блудцтваха с нея, и земните търговци се обогатиха от могъществото на неиния раскош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572000" y="346248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чух друг глас от небето, който казваше: излесте от нея, народе мой, за да не участвате в греховете и и да не споделяте язвите и; 5 защото греховете и станаха до небето и Бог си спомни нейните беззако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-25236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Отплатете и това, което и тя е отплатила; да, отплатете и двойно на делата и; почерпете и двойно с чашата, с която тя е черпила. 7 Толкова мъка и печал и дайте, колкото се е прославила и живяла разкошно, защото в сърцето си казава: седя като царица и не съм вдовица, и печал няма да вид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8 Затова язвите и ще дойдат в един ден: смърт, печал и глад, и тя ще бъде изгорена с огън; защото могъщ е Господ Бог, който я съд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земните царе който са блудствали и живели разкошно с нея ще заплачат и заридаят за нея, когато видят димът от изгарянето и. 10 Ще стоят на далеч от страх от мъките и о ще казват: горко, горко над теб велики граде Вавилоне, могъши градове, понеже съдът ти в един час дойд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95280" y="2347920"/>
            <a:ext cx="3816360" cy="35290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042920" y="3978360"/>
            <a:ext cx="4321080" cy="2692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4861080" y="2311560"/>
            <a:ext cx="3743280" cy="3133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5867280" y="3645000"/>
            <a:ext cx="3097440" cy="3097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71720" y="1706400"/>
            <a:ext cx="10602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ЗЛА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47640" y="1700280"/>
            <a:ext cx="15843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СРЕБ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46480" y="1700280"/>
            <a:ext cx="30733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СКЪПОЦЕНИ КАМЪ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59640" y="1844640"/>
            <a:ext cx="1728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БИСЕ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1000080"/>
            <a:ext cx="750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ит. 10:6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1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6. Синовете  Хам: Хус и Мицраим, и Фут, и Ханаан. 7. синивете на Хус: Сева и Евила,  Савта, и Раама, и Савтека. А синовте на Раама: Сава и Деда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8  И Хус роди Нимрод.Той пръв стана силен на земята. 9. Той беше гоям ловец пред Господа  за това се казва: като Нимрод, голям ловец пред Господа. 10  И начолото на царството му  беше Вавилон и Ерх, и Акад, и Халне в змята Сена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219640" y="3925800"/>
            <a:ext cx="3529080" cy="2311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735120" y="3948120"/>
            <a:ext cx="441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ъздаването на Вавилон е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им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поред Бога водач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ОВЧАР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мисли за себеси храни жовот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имрод беше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ЛОВЕЦ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ислеше за себеси и убиваше животните за удовол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1700280"/>
            <a:ext cx="280836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БЛАГОУХАННО ДЪР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1700280"/>
            <a:ext cx="2448000" cy="916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ЗДЕЛИЯ ОТ СЛОНОВА К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19720" y="1700280"/>
            <a:ext cx="260028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 всякакви изделия от скъпоцено дър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2638440"/>
            <a:ext cx="3959280" cy="27194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447920" y="4221000"/>
            <a:ext cx="4132080" cy="24782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859280" y="2709720"/>
            <a:ext cx="3960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79280" y="765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1 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1700280"/>
            <a:ext cx="28083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От бакъ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4000" y="1700280"/>
            <a:ext cx="24480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От желяз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19720" y="1700280"/>
            <a:ext cx="260028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МРАМ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672000" cy="3289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2340000" y="4148280"/>
            <a:ext cx="3744720" cy="2665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50920" y="765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5920" y="1706400"/>
            <a:ext cx="30092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БЛАГО УХАНО ДЪР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1700280"/>
            <a:ext cx="100800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ТАМ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78480" y="1700280"/>
            <a:ext cx="13068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парфю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94160" y="1700280"/>
            <a:ext cx="12294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КАН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58640" y="2349360"/>
            <a:ext cx="4257720" cy="31924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476360" y="3519360"/>
            <a:ext cx="3949560" cy="33656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445080" y="4292640"/>
            <a:ext cx="2374920" cy="2413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795920" y="2276640"/>
            <a:ext cx="2871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80840" y="1706400"/>
            <a:ext cx="9579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ВИ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32000" y="1700280"/>
            <a:ext cx="194472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МАСЛИНО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72320" y="1700280"/>
            <a:ext cx="23234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ЧИСТО БРАШ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43240" y="1700280"/>
            <a:ext cx="15645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ПШЕ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524040" cy="36468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2938320" cy="28018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427640" y="2417760"/>
            <a:ext cx="3454200" cy="25956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102280" y="4108320"/>
            <a:ext cx="3933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1 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55000" y="1700280"/>
            <a:ext cx="14439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ДОБИТ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1700280"/>
            <a:ext cx="1944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ОВЦ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50880" y="1700280"/>
            <a:ext cx="118368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КОН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94520" y="1700280"/>
            <a:ext cx="124308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КОЛ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429080" cy="3330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9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681440" y="2349360"/>
            <a:ext cx="4283280" cy="3024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572000" y="3789360"/>
            <a:ext cx="45720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1 И земните търговци ще плачат и жалеят за нея, защото никой вече няма да копува стоките 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18108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17440" y="1700280"/>
            <a:ext cx="9151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РО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1700280"/>
            <a:ext cx="5184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... </a:t>
            </a:r>
            <a:r>
              <a:rPr b="1" lang="bg-BG" sz="2000" spc="-1" strike="noStrike">
                <a:solidFill>
                  <a:srgbClr val="ffff00"/>
                </a:solidFill>
                <a:latin typeface="CG Times"/>
              </a:rPr>
              <a:t>ДАЖЕ  И ЧОВЕШКИТЕ ДУШИ</a:t>
            </a: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539640" y="2403360"/>
            <a:ext cx="4464000" cy="29336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067280" y="3425760"/>
            <a:ext cx="47289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89080" y="981000"/>
            <a:ext cx="867564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Търговците на тези неща които се обогатиха от нея, ще застанат наделеч от страх от мъките и и ще заплачат и ще жалеят, 16 като казват: Горко, горко грдаде велика облчен във висон, пурпор и червено и позлатен със злато, скъпоцени камъни и бисери! 17 Защото за един час беше опустушено такова голямо богатцтво! И всеки морски капитан, 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сички които пътуваха по море моряците и всички, които се препитават от морето, застанаха от далеч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89080" y="981000"/>
            <a:ext cx="8675640" cy="283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секи морски капитан, 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сички които пътуваха по море моряците и всички, които се препитават от морето, застанаха от далеч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8 И викаха, като гледаха дима от нейното изгаряне, и казаха: имеше ли друг град, който да прилича на великия град? 19 И посипаха с пръст главите си и викаха с плач и жалеене и казваха: Горко, горко, на великия град, в който всички, които имаха кораби по морето, се обогатихао от нейното великолепие; защото за един час беше опустошена!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20 Велселете се заради нея, небесан и вия светии, апостоли и пророци защото Бог изпълни пресъдата над нея заради вас. 21 И един силен ангел взе камък,  голям като воденичен камък, хвърли го в морето и каза: Така стремително ще бъде сринат Вавилон, великия град, и няма да се намери веч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468360" y="301464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89080" y="981000"/>
            <a:ext cx="8675640" cy="2562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гласът на арфистите и на певците на сверачите и на тръбачите няма да се чува вече в теб и никакъв худижник от каквото и да било искуство няма да се намери вче в теб, и шум на воденица няма да се чува вече в теб, 23 и светлина на светило няма да свети вече в теб и глас на младоженец и на невяста няма да се чува вече в теб, защото твойте търговци бяха големците на земята, защото чрез твойте чародейства бяха измамамени всичките народи. 24 И в нея беше намерена кръвта на пророците и на светиите, и на всичките обити на земят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56000" y="1484280"/>
            <a:ext cx="59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мето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на Нимрод показва неговия характер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asıl adı Sumer dilinde: Nin-Maradda (Marad kasabasının efendisi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същото име на евреиски означава непокорен ч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неговото име има едно скрито зна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 неговото време всеки един град беше една държ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имрод започна с насил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превзима градове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си направи една собствена негова държ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ислите на Нимр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а да стане голям и властен стои далеч от Б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1895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1052640"/>
            <a:ext cx="53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ърва мисал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–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епокорната държава към Бог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ъщност 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аве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значава ‘Вратата на Бога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а евреиски тази дума означава ‘противоречие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ак втората дума има скрито значен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авилонската кул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игор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tapınak piramid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разбърква изиц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birinci Pentikost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ървото срутване н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5360" y="1649520"/>
            <a:ext cx="3267000" cy="20667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835280" y="431640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705720" y="4076640"/>
            <a:ext cx="17539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5565600" cy="4532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35640" y="9810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Хилядии години по късн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авилонска имп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тава в  света най- напредналата държ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674880" cy="4032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676680" cy="4543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796000" y="2637000"/>
            <a:ext cx="312264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98100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тора мисал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Царство което измъчва божия на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 İ.Ö. 587 –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крал Навуходоносор съвзема израелския народ и го поробва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Псалм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37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230200" cy="3313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3846600" cy="234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3429000" cy="2048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84360" y="981000"/>
            <a:ext cx="84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ог даде дум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: 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авилон ще се срут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:22; 21:9; 43:14;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Йерем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50:9; 51: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сая14:22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Защото  ще стана против тях, заявява Господ на Войнствата. И ще излича от Вавилон име и остатък, и син, и внук, заявява ГОСПО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800520" cy="2847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258920" y="364500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ече Вавилон като държава не съществув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еговото име стана на целия  свят един си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2400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84360" y="3681360"/>
            <a:ext cx="1633320" cy="20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292720" y="2852640"/>
            <a:ext cx="3533760" cy="1683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25640" y="3284640"/>
            <a:ext cx="1344600" cy="25336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68360" y="98100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върската между Израил и Господ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акто са мъж и ж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 54:5: Защото твоят съпруг е Творецът ти, Господ на Войнствата е Името му. И Изкупителят ти е Светият Израилев, Той ще се нарече Бог на цялата зе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Като се кланяше на чужди Богове  ставаше блудница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1:21: Как стана блудница верния град! Той беше пълен с правосъдие, правда убитавше в него а сега- убийц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44720" y="5877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STARTE pu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4740120"/>
            <a:ext cx="47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ъв височините се кланяха на ид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еремия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3:2 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дигни очите си към голите височини и виш къде не са блудствали с теб? По пътищата си си седяла  за тях  като арабин в пустинята и си осквернила земята с блидството си и със злото си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dmin</cp:lastModifiedBy>
  <dcterms:modified xsi:type="dcterms:W3CDTF">2009-05-07T07:44:29Z</dcterms:modified>
  <cp:revision>586</cp:revision>
  <dc:subject/>
  <dc:title>Yedi Mühür açılıyor (bölüm 6)</dc:title>
</cp:coreProperties>
</file>