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B52-1131-42F7-9F3B-BC2F192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CCC-7378-4A8F-B139-EDFA772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B50-D245-4AF5-BBC0-D208770A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7FA-0B63-4CA8-9EDD-8524C7ED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77D-D907-461D-83DC-DF779B38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604-6F5C-46EB-8A1B-814C3C0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D36-27E4-4AF9-ADA6-ED51ECE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C7F-E210-4183-B0C7-458BD8E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C71-C5FD-42E1-8959-F56265CB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743-5A6A-4229-8D12-AF2A8EF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7C5-4A88-434B-9086-A138A06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965-593F-4357-8042-CB6A596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2B3-7D83-47EB-B909-C8E3365A86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76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1300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Сизе бир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ОРУ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издже, инсанън хаятъ не заман башл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бебек додуу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bg-BG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 харекет етмейе башлайънджа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ън бейини мейдана гелдии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видеозонда гьорюндюю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тестте гебелик анлашълдъъ заман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23744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19600" y="5013360"/>
            <a:ext cx="140184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508720" y="5013360"/>
            <a:ext cx="147636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852640"/>
            <a:ext cx="2232000" cy="2232000"/>
          </a:xfrm>
          <a:prstGeom prst="octagon">
            <a:avLst>
              <a:gd name="adj" fmla="val 2928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ff"/>
                </a:solidFill>
                <a:uFillTx/>
                <a:latin typeface="Arial"/>
              </a:rPr>
              <a:t>Джевап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ХЕП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ЯНЛЪ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244680"/>
            <a:ext cx="49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 u="sng">
                <a:solidFill>
                  <a:srgbClr val="99cc00"/>
                </a:solidFill>
                <a:uFillTx/>
                <a:latin typeface="Arial"/>
              </a:rPr>
              <a:t>дору джевап</a:t>
            </a:r>
            <a:r>
              <a:rPr b="1" i="1" lang="tr-TR" sz="24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умурта иле сперма бирлишиндже даха илк сааттен бери там инсандър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56360" y="2781360"/>
            <a:ext cx="2671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53000" y="1125360"/>
            <a:ext cx="4851360" cy="5445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347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31300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5 милиметре олм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, караджиер, кемиклери мейд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, аякларъ ге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ишти, харекет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 бир даккада 140-150 дефа 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ин канъ анасъ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нън канъндан ай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332000" y="1198440"/>
            <a:ext cx="7127640" cy="5399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195640" y="1630440"/>
            <a:ext cx="1655640" cy="1077840"/>
            <a:chOff x="2195640" y="1630440"/>
            <a:chExt cx="1655640" cy="1077840"/>
          </a:xfrm>
        </p:grpSpPr>
        <p:sp>
          <p:nvSpPr>
            <p:cNvPr id="173" name=""/>
            <p:cNvSpPr/>
            <p:nvPr/>
          </p:nvSpPr>
          <p:spPr>
            <a:xfrm>
              <a:off x="2195640" y="2133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6000" y="1630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2421000"/>
            <a:ext cx="4033800" cy="3020040"/>
          </a:xfrm>
          <a:prstGeom prst="rect">
            <a:avLst/>
          </a:prstGeom>
          <a:solidFill>
            <a:srgbClr val="0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9 см ве 15 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уйуйор, башъ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дьо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дю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юп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азънъ ачъй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ьоксюрюйор, пармак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емийор, к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ч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ърдан бир сес гелди ми, ону хисседи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rcRect l="1431" t="0" r="8670" b="0"/>
          <a:stretch/>
        </p:blipFill>
        <p:spPr>
          <a:xfrm>
            <a:off x="2627280" y="1197000"/>
            <a:ext cx="59770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771640" y="1414440"/>
            <a:ext cx="1655640" cy="1077840"/>
            <a:chOff x="2771640" y="1414440"/>
            <a:chExt cx="1655640" cy="1077840"/>
          </a:xfrm>
        </p:grpSpPr>
        <p:sp>
          <p:nvSpPr>
            <p:cNvPr id="180" name=""/>
            <p:cNvSpPr/>
            <p:nvPr/>
          </p:nvSpPr>
          <p:spPr>
            <a:xfrm>
              <a:off x="2771640" y="1917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2000" y="1414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268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36520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6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гьозлерини капайъп ач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 бир шейи тутаб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наклар мейдана гел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ундан сонра саде бюйюмейе девам едед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266920" y="1268280"/>
            <a:ext cx="6337440" cy="5329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Дьорт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19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еш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492360" y="1413000"/>
            <a:ext cx="5077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7020000" cy="5397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Алтъ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21337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4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1197000"/>
            <a:ext cx="1871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1341360"/>
            <a:ext cx="792000" cy="57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Йени доумуш беб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4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Goudy Stout"/>
              </a:rPr>
              <a:t>Або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000" y="12160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Не ичин аборт япъл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12430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Аллах буна не ди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8637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Ама затен чок фазла чоджукларъм вар! Бир танесине даа бакама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2200" y="2637000"/>
            <a:ext cx="39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Ама бен ишлийорум; ишими бъракама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6080" y="331956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Ама евимиз чок дар – хич йер йок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93372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Артък яшландъм, бебее бакмак бана чок зор геледжек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797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Бен истийорум, ама коджам истемий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5518080"/>
            <a:ext cx="43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Бир даа чоджуа бакаджак парамъз й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40360" y="1863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6440" y="6200640"/>
            <a:ext cx="42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99ccff"/>
                </a:solidFill>
                <a:latin typeface="Arial"/>
              </a:rPr>
              <a:t>Бу яшта доурамам - утанъйорум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360" y="2583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40360" y="3303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40226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4743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5445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6111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125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66"/>
                </a:solidFill>
                <a:uFillTx/>
                <a:latin typeface="Arial"/>
              </a:rPr>
              <a:t>Чок ьонемли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: Саде аборту ясак етмейелим, кадънлар хич гебе калмасънлар дийе урашалъм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29580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гюн чок гелишмиш методлар вар, артък истемейерек гебе калмак зорунда деи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 темада конушмая утан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адън еркек конушуп айнъ фикирде олсун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33960" y="2276640"/>
            <a:ext cx="3398760" cy="2512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651640" y="4208400"/>
            <a:ext cx="3384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ПРЕЗЕРВ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2565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чок индже гумадан япълан биртър. Еркек ятълък япмадан ьондже ону т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Спермлер йумуртая улашамъйор, бебек мейдана гелми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Онун ичин иманлълар ичин уйгу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24360" y="4243320"/>
            <a:ext cx="2891160" cy="227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724360" y="1268280"/>
            <a:ext cx="29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4568760"/>
            <a:ext cx="374328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уштан бери йумурталъкта хепси  хазър дулунуйорлар - ама хенюз олгун де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ер ай бирер тане олгунлаш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нра йумурта борусуна гирип ора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43280" y="3213000"/>
            <a:ext cx="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583160"/>
            <a:ext cx="3671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ана ятаъна ги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ебелик йокса онун дуваръна япъшм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уваръндаки сюмюк ве йумур-та канла дъшаръ атълъйор (айбаш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00720" y="2998800"/>
            <a:ext cx="864720" cy="934920"/>
            <a:chOff x="4500720" y="2998800"/>
            <a:chExt cx="864720" cy="934920"/>
          </a:xfrm>
        </p:grpSpPr>
        <p:sp>
          <p:nvSpPr>
            <p:cNvPr id="65" name=""/>
            <p:cNvSpPr/>
            <p:nvPr/>
          </p:nvSpPr>
          <p:spPr>
            <a:xfrm rot="5400000">
              <a:off x="4191120" y="3335400"/>
              <a:ext cx="907920" cy="28872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8720"/>
                <a:gd name="textAreaBottom" fmla="*/ 16956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766760" y="3308040"/>
              <a:ext cx="907920" cy="28908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635280" y="2276640"/>
            <a:ext cx="216000" cy="21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00116 C 0.00052 0.01018 -0.03125 0.06065 -0.05469 0.06782 C -0.07813 0.07523 -0.11389 0.06111 -0.12934 0.04213 C -0.14462 0.02338 -0.14809 -0.01597 -0.14722 -0.04491 C -0.14635 -0.07384 -0.13646 -0.11157 -0.12396 -0.13195 C -0.11163 -0.15232 -0.09792 -0.16157 -0.07274 -0.16736 C -0.0474 -0.17315 -0.01076 -0.17269 0.0276 -0.16736 C 0.06597 -0.16204 0.13056 -0.14167 0.15764 -0.13495 E">
                                      <p:cBhvr>
                                        <p:cTn id="177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9.62963E-006 C 0.03334 0.00162 0.06667 0.00324 0.08576 0.02222 C 0.10487 0.0412 0.10799 0.0868 0.11424 0.11435 C 0.12049 0.14189 0.12292 0.15069 0.12379 0.18726 C 0.12466 0.22384 0.11945 0.25509 0.1191 0.33333 C 0.11876 0.41157 0.12101 0.60324 0.12136 0.65717 E">
                                      <p:cBhvr>
                                        <p:cTn id="215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3.61111E-006 0.17454 L -3.61111E-006 0.50787 E">
                                      <p:cBhvr>
                                        <p:cTn id="222" dur="26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СПИРАЛА  (И.У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421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0 см узун бир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наятаънън ичинде усул усул илач салъйор, о да енгел олуйор йумуртан ана ятаъна япъш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ьойлеликле бебек ьолдюрюлюйор = бизим ичин уйгун деилд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ими спиралалар йумур-танън олгунлашмасънъ енгел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508720" y="1268280"/>
            <a:ext cx="3564000" cy="2522520"/>
            <a:chOff x="5508720" y="1268280"/>
            <a:chExt cx="3564000" cy="252252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5508720" y="1268280"/>
              <a:ext cx="3357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508720" y="1333440"/>
              <a:ext cx="35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Бакър      Илачлъ найл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300720" y="3914640"/>
            <a:ext cx="2519280" cy="2835360"/>
            <a:chOff x="6300720" y="3914640"/>
            <a:chExt cx="2519280" cy="283536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6300720" y="3914640"/>
              <a:ext cx="25005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300720" y="6381720"/>
              <a:ext cx="2519280" cy="36828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Утеруса такълъ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- хап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421000"/>
            <a:ext cx="511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Кадънън йумурталамасъна енгел олуйор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Онун ичин ен баштан инсан мейдана гелмез = иманлълар ичин уйг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Лазъм чок диккатле хер гюн алънсъ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Санки кадънън беденини ал-датъръйорлар: сен гебе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Ян ефектлери олабилир: шишманламак, синирли ол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12000" y="4260960"/>
            <a:ext cx="2881080" cy="2336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012000" y="1413000"/>
            <a:ext cx="287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– башка метод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421000"/>
            <a:ext cx="511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ДЕПО ПРОВЕРА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нжексия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йнъ илачлар йутулмуйор, колуна инджекция япъл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Юч ай чалъ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НОРПЛАНТ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чубу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ирер кибрит кадар бюйюктюр – алтъ тане колда деринин алтъна соку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еш сене чалъшъ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349360" cy="2376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013440" y="4129200"/>
            <a:ext cx="29512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2682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ЕРТЕСИ САБАХ ХАПЪ”</a:t>
            </a:r>
            <a:r>
              <a:rPr b="1" lang="de-DE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(РУ 4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242100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Ятълък япълдъктан сонра алън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перм иле йумуртанън бирлешмесине енгел олмуйор, ама бебеин ана ятаънън йерлешмесине енгел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Онун ичин хазър бебек ьолдюрюл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91080" y="3030480"/>
            <a:ext cx="3618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ерк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257184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Еркеин ташакларъндан чъкан каналлар кес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аде ‘местна от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Не заман истенилирсе каналлар йениден бирлештирил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508720" y="2492280"/>
            <a:ext cx="3238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кадъ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060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адънън йумурта боруларъ кесили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‘пълна от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Йениден  бирлештирмек зор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780000" y="3359160"/>
            <a:ext cx="51019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4365720"/>
            <a:ext cx="410364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олгунлашъ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ркеин спермлери ана ятаъна ги-рип йумурта боруларън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гер биринджи гюнде йумурта иле бирлеширселер, бебек мейдана 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27640" y="6019920"/>
            <a:ext cx="864720" cy="1081080"/>
            <a:chOff x="4427640" y="6019920"/>
            <a:chExt cx="864720" cy="108108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4427640" y="6235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4499280" y="6019920"/>
              <a:ext cx="793080" cy="1081080"/>
              <a:chOff x="4499280" y="6019920"/>
              <a:chExt cx="793080" cy="1081080"/>
            </a:xfrm>
          </p:grpSpPr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9280" y="652500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6360" y="638028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9280" y="601992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6309000"/>
                <a:ext cx="57564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616464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6" name=""/>
          <p:cNvGrpSpPr/>
          <p:nvPr/>
        </p:nvGrpSpPr>
        <p:grpSpPr>
          <a:xfrm>
            <a:off x="4284720" y="2276640"/>
            <a:ext cx="1081080" cy="792000"/>
            <a:chOff x="4284720" y="2276640"/>
            <a:chExt cx="1081080" cy="79200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4500720" y="249264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789440" y="242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4284720" y="2349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4573440" y="227664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042920" y="1989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1189080" y="2421000"/>
            <a:ext cx="861840" cy="9367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4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7.40741E-007 C -0.01059 0.01134 -0.0401 0.06458 -0.06146 0.06898 C -0.08281 0.07338 -0.11424 0.03565 -0.12813 0.02685 E">
                                      <p:cBhvr>
                                        <p:cTn id="2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3.61111E-006 -0.58403 E">
                                      <p:cBhvr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-0.05382 -0.02176 -0.10746 -0.04329 -0.15034 -0.05625 C -0.19288 -0.06922 -0.22205 -0.07732 -0.25659 -0.07801 C -0.29114 -0.07848 -0.34132 -0.06343 -0.35816 -0.06065 E">
                                      <p:cBhvr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14815E-006 C -0.00452 0.0139 -0.00886 0.02802 -0.01441 0.04121 C -0.01997 0.0544 -0.03212 0.06366 -0.03334 0.0794 C -0.03455 0.09515 -0.02813 0.11575 -0.02153 0.13635 E">
                                      <p:cBhvr>
                                        <p:cTn id="27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4365720"/>
            <a:ext cx="4103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рм йумурта иле бирлештиктен сонра клеткалар чоалмая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леткалар йумурта борусунун ичинде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а ятаънън дуваръна япъшъйор ве бебек бюйюмейе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42920" y="2276640"/>
            <a:ext cx="286920" cy="360360"/>
            <a:chOff x="1042920" y="2276640"/>
            <a:chExt cx="286920" cy="360360"/>
          </a:xfrm>
        </p:grpSpPr>
        <p:sp>
          <p:nvSpPr>
            <p:cNvPr id="103" name=""/>
            <p:cNvSpPr/>
            <p:nvPr/>
          </p:nvSpPr>
          <p:spPr>
            <a:xfrm>
              <a:off x="1114200" y="227664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548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292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4200" y="242100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27280" y="2060640"/>
            <a:ext cx="432000" cy="360360"/>
            <a:chOff x="2627280" y="2060640"/>
            <a:chExt cx="432000" cy="360360"/>
          </a:xfrm>
        </p:grpSpPr>
        <p:grpSp>
          <p:nvGrpSpPr>
            <p:cNvPr id="108" name=""/>
            <p:cNvGrpSpPr/>
            <p:nvPr/>
          </p:nvGrpSpPr>
          <p:grpSpPr>
            <a:xfrm>
              <a:off x="2627280" y="2060640"/>
              <a:ext cx="286920" cy="360360"/>
              <a:chOff x="2627280" y="2060640"/>
              <a:chExt cx="286920" cy="360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98560" y="206064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6984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728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560" y="22050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771640" y="2060640"/>
              <a:ext cx="287640" cy="360360"/>
              <a:chOff x="2771640" y="2060640"/>
              <a:chExt cx="287640" cy="360360"/>
            </a:xfrm>
          </p:grpSpPr>
          <p:sp>
            <p:nvSpPr>
              <p:cNvPr id="114" name=""/>
              <p:cNvSpPr/>
              <p:nvPr/>
            </p:nvSpPr>
            <p:spPr>
              <a:xfrm>
                <a:off x="2843280" y="206064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1456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7164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43280" y="220500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4716360" y="2419200"/>
            <a:ext cx="430920" cy="504720"/>
            <a:chOff x="4716360" y="2419200"/>
            <a:chExt cx="430920" cy="504720"/>
          </a:xfrm>
        </p:grpSpPr>
        <p:grpSp>
          <p:nvGrpSpPr>
            <p:cNvPr id="119" name=""/>
            <p:cNvGrpSpPr/>
            <p:nvPr/>
          </p:nvGrpSpPr>
          <p:grpSpPr>
            <a:xfrm>
              <a:off x="4716360" y="2419200"/>
              <a:ext cx="286920" cy="360360"/>
              <a:chOff x="4716360" y="2419200"/>
              <a:chExt cx="286920" cy="360360"/>
            </a:xfrm>
          </p:grpSpPr>
          <p:sp>
            <p:nvSpPr>
              <p:cNvPr id="120" name=""/>
              <p:cNvSpPr/>
              <p:nvPr/>
            </p:nvSpPr>
            <p:spPr>
              <a:xfrm>
                <a:off x="4787640" y="24192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5892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636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87640" y="256356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716360" y="2563560"/>
              <a:ext cx="430920" cy="360360"/>
              <a:chOff x="4716360" y="2563560"/>
              <a:chExt cx="430920" cy="3603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716360" y="2563560"/>
                <a:ext cx="286560" cy="360360"/>
                <a:chOff x="4716360" y="2563560"/>
                <a:chExt cx="286560" cy="360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87640" y="256356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5892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1636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87640" y="270792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0360" y="2563560"/>
                <a:ext cx="286920" cy="360360"/>
                <a:chOff x="4860360" y="2563560"/>
                <a:chExt cx="286920" cy="360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31640" y="256356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0292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6036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31640" y="270792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1116000" y="3500280"/>
            <a:ext cx="216000" cy="216000"/>
            <a:chOff x="1116000" y="3500280"/>
            <a:chExt cx="216000" cy="216000"/>
          </a:xfrm>
        </p:grpSpPr>
        <p:sp>
          <p:nvSpPr>
            <p:cNvPr id="136" name=""/>
            <p:cNvSpPr/>
            <p:nvPr/>
          </p:nvSpPr>
          <p:spPr>
            <a:xfrm>
              <a:off x="1116000" y="35002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19612200">
            <a:off x="4273560" y="2360160"/>
            <a:ext cx="13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4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3.7037E-007 C -0.00781 -0.00764 -0.01562 -0.01528 -0.02083 -0.02917 C -0.02604 -0.04306 -0.02951 -0.06597 -0.03124 -0.08334 C -0.03298 -0.1007 -0.03559 -0.11783 -0.03124 -0.13334 C -0.0269 -0.14884 -0.01614 -0.16273 -0.0052 -0.17639 E">
                                      <p:cBhvr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0.00364 -0.00834 0.00729 -0.01667 0.01562 -0.02361 C 0.02396 -0.03056 0.03594 -0.03843 0.05 -0.04167 C 0.06406 -0.04491 0.0783 -0.04468 0.1 -0.04306 C 0.1217 -0.04144 0.15087 -0.03681 0.18021 -0.03195 E">
                                      <p:cBhvr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C 0.02361 0.00486 0.0474 0.00972 0.06875 0.01389 C 0.09011 0.01806 0.10452 0.01551 0.12813 0.025 C 0.15174 0.03449 0.18108 0.05255 0.21042 0.07084 E">
                                      <p:cBhvr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06 0.00787 L -0.06528 0.05533 E">
                                      <p:cBhvr>
                                        <p:cTn id="3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3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8720" y="1028880"/>
            <a:ext cx="6048360" cy="57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Мезмур 139:13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енсин ичими яра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ана рахминде бени ь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Итираф едерим 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ахиден бир муджизей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птъкларън хайранлък верид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Евет, буну чок ийи били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излилик ичинде япълдъъм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йерин деринликлери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ьорюлдююм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кемиклерим сенден саклъ деил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Бен бичимсиз бир тохум ик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ьозлерин бени гьорд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сенин китабънда бютюн гюнлер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зълъ иди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194600" y="134136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236000" y="5011560"/>
            <a:ext cx="1617480" cy="122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36000" y="2925720"/>
            <a:ext cx="136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60720" y="1268280"/>
            <a:ext cx="5543640" cy="525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29760" y="38545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63840" y="5829480"/>
            <a:ext cx="1436400" cy="459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йуму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38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1)  ЬОндже еркеин сперми кадънън йумуртасъ иле бирлеш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2)  Сонра о клетка бьолюнмейе баш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24000" y="3778200"/>
            <a:ext cx="3168360" cy="2963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51640" y="1700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инджи гюн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492280"/>
            <a:ext cx="144000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3500280"/>
            <a:ext cx="0" cy="1008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98560" y="1268280"/>
            <a:ext cx="7561080" cy="5141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90516"/>
                </a:solidFill>
                <a:latin typeface="Arial"/>
              </a:rPr>
              <a:t>2</a:t>
            </a: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3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042920" y="1197000"/>
            <a:ext cx="7129440" cy="5533920"/>
            <a:chOff x="1042920" y="1197000"/>
            <a:chExt cx="7129440" cy="553392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042920" y="1197000"/>
              <a:ext cx="712944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73440" y="5805360"/>
              <a:ext cx="2519640" cy="64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Бу бир дикиш ийнеси (микроскоп алтънд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3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2313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к йумурта бору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а гирмейе баш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0" t="0" r="5971" b="0"/>
          <a:stretch/>
        </p:blipFill>
        <p:spPr>
          <a:xfrm>
            <a:off x="2556000" y="1268280"/>
            <a:ext cx="5976720" cy="5329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347840"/>
            <a:ext cx="3529080" cy="642600"/>
          </a:xfrm>
          <a:prstGeom prst="rect">
            <a:avLst/>
          </a:prstGeom>
          <a:solidFill>
            <a:srgbClr val="0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хафта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313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12:53Z</dcterms:created>
  <dc:creator>Windows XP</dc:creator>
  <dc:description/>
  <dc:language>en-US</dc:language>
  <cp:lastModifiedBy>Tomas OTTO</cp:lastModifiedBy>
  <dcterms:modified xsi:type="dcterms:W3CDTF">2007-03-15T05:25:32Z</dcterms:modified>
  <cp:revision>56</cp:revision>
  <dc:subject/>
  <dc:title>Аборт</dc:title>
</cp:coreProperties>
</file>