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0C5-5FB6-4AF6-BAD3-B3D11CC7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767-AD65-46CA-A193-547E9705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C0B-D958-4BA2-BDFD-D39BCDDA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98C-CADF-45DF-B031-F8293A18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8384-6964-416A-A319-619C9745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1D8E-07DA-4090-90B0-A1E46782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8EA2-CE42-4D0C-B17A-51777D2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5F63-6948-4EE7-8EE2-082525A7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AFB-383E-41C5-8800-8C6E340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C5F-4A57-4EA3-BAFA-BA70B18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A387-B4B0-4883-B629-AE6A24E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7DF-5632-41F4-9F50-C98753B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AD6F-CA60-4C59-ACEF-1247FEC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8193-446A-451C-8F7E-F808A2B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302-80D1-4651-A85D-DFEFEB0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D900-BD0A-4C55-BC9F-0393E831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8323-ADDA-4C6E-A139-10DA7B3F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DE8-0071-499C-96D4-6618ED86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384-67A9-4568-98E1-454407D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968-4DDE-4A57-8D79-C7D7608C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CEC-5565-4E83-ACF0-7695A6F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BC4-7018-4990-8A68-3B867BB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003-8923-43D1-AEDB-4635AAC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6AC-F7B8-446C-94D6-A7CED7B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84F6-EEFC-4240-90F0-497E33E915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E0B2-7033-4A8B-B7A2-1BF407B3BD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964040" y="1052640"/>
            <a:ext cx="4179960" cy="5805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137628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евлиликлерин чоу ики тема </a:t>
            </a:r>
            <a:r>
              <a:rPr b="1" lang="bg-BG" sz="28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зерине бозулуйорла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lang="tr-TR" sz="2800" spc="-1" strike="noStrike">
                <a:solidFill>
                  <a:srgbClr val="a3c145"/>
                </a:solidFill>
                <a:latin typeface="Tahoma"/>
              </a:rPr>
              <a:t>пара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ве </a:t>
            </a:r>
            <a:r>
              <a:rPr b="1" lang="tr-TR" sz="2800" spc="-1" strike="noStrike">
                <a:solidFill>
                  <a:srgbClr val="66ffff"/>
                </a:solidFill>
                <a:latin typeface="Tahoma"/>
              </a:rPr>
              <a:t>се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6720" y="2705760"/>
            <a:ext cx="619560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1) Аллах секс и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ч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ин не дюшюнуйо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a3c145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a3c145"/>
                </a:solidFill>
                <a:latin typeface="Wingdings"/>
                <a:ea typeface="Wingdings"/>
              </a:rPr>
              <a:t></a:t>
            </a: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пис ве кьотю бир шейд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a3c145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a3c145"/>
                </a:solidFill>
                <a:latin typeface="Wingdings"/>
                <a:ea typeface="Wingdings"/>
              </a:rPr>
              <a:t>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ех, лазъм даяналаъ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a3c145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a3c145"/>
                </a:solidFill>
                <a:latin typeface="Wingdings"/>
                <a:ea typeface="Wingdings"/>
              </a:rPr>
              <a:t>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саде къзанлар япмак </a:t>
            </a: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ичин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кулланълсъ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a3c145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a3c145"/>
                </a:solidFill>
                <a:latin typeface="Wingdings"/>
                <a:ea typeface="Wingdings"/>
              </a:rPr>
              <a:t></a:t>
            </a:r>
            <a:r>
              <a:rPr b="0" lang="tr-TR" sz="28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гюзел ве ийи бир шейд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3400" y="3054240"/>
            <a:ext cx="14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a3c145"/>
                </a:solidFill>
                <a:latin typeface="Wingdings"/>
                <a:ea typeface="Wingdings"/>
              </a:rPr>
              <a:t>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1091520"/>
            <a:ext cx="8209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82520" indent="-18252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2) Хер орган бир ихтияч каршълъй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мадем миде вар, йемек ийи бир шейд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мадем джинсел органларъмъз вар, секс де ийи бир шейд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Аллах истесейди бизи ьойле яратабилирди, хи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дуйгу олмадан къзанларъмъз олсу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чоу хайванлар сенеде саде биркач гюн гебе калабилир,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ама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инсан хер вакъ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39640" y="4941720"/>
            <a:ext cx="2521080" cy="1702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48000" y="4960800"/>
            <a:ext cx="2376360" cy="1692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5940360" y="4971960"/>
            <a:ext cx="25923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rcRect l="1964" t="-370" r="1964" b="8889"/>
          <a:stretch/>
        </p:blipFill>
        <p:spPr>
          <a:xfrm>
            <a:off x="0" y="668160"/>
            <a:ext cx="9144000" cy="6189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1729440"/>
            <a:ext cx="820908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365040" indent="-36504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3) Аллах кендиси буйурду ки, секс ийи бир шейд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ама саде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егер дору дурумларда япълърса: евлилиин ичин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буну гьостермек ичин Кутсал Китапта бизе бир ьо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рнек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брактъ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: Нешиделер Нешидеси (Песен на Песнит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орада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кадън иле еркеин арасъндаки севги ьовю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лю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й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481040"/>
            <a:ext cx="82090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533520" indent="-53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4) О заман неден чок киши бугюн сексе кьотю бир шей оларак бакъйорла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- чюнкю арая гюнах гирди. Гюнах хершейи бозуй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305080" cy="2808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892080" y="3789360"/>
            <a:ext cx="2132280" cy="2808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013440" y="3789360"/>
            <a:ext cx="21589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1773000"/>
            <a:ext cx="309744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а) кадън ен чок гебе калабил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дии гюнлерде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200" spc="-1" strike="noStrike">
                <a:solidFill>
                  <a:srgbClr val="00cc00"/>
                </a:solidFill>
                <a:latin typeface="Arial"/>
                <a:ea typeface="Arial"/>
              </a:rPr>
              <a:t>(а</a:t>
            </a:r>
            <a:r>
              <a:rPr b="1" lang="tr-TR" sz="2200" spc="-1" strike="noStrike">
                <a:solidFill>
                  <a:srgbClr val="00cc00"/>
                </a:solidFill>
                <a:latin typeface="Arial"/>
                <a:ea typeface="Arial"/>
              </a:rPr>
              <a:t>йън ортасънд</a:t>
            </a:r>
            <a:r>
              <a:rPr b="1" lang="bg-BG" sz="2200" spc="-1" strike="noStrike">
                <a:solidFill>
                  <a:srgbClr val="00cc00"/>
                </a:solidFill>
                <a:latin typeface="Arial"/>
                <a:ea typeface="Arial"/>
              </a:rPr>
              <a:t>а)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сексе ихтияч дуйуй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11640" y="3073680"/>
            <a:ext cx="40323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56080" y="1325520"/>
            <a:ext cx="73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5) Кадън ве еркеин арасъндаки фарк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476360" y="4005360"/>
            <a:ext cx="2390760" cy="2448000"/>
            <a:chOff x="1476360" y="4005360"/>
            <a:chExt cx="2390760" cy="244800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rcRect l="0" t="0" r="0" b="11115"/>
            <a:stretch/>
          </p:blipFill>
          <p:spPr>
            <a:xfrm>
              <a:off x="1476360" y="4005360"/>
              <a:ext cx="23907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268360" y="4532400"/>
              <a:ext cx="863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cc"/>
                  </a:solidFill>
                  <a:latin typeface="Tahoma"/>
                </a:rPr>
                <a:t>кана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24000" y="5301000"/>
              <a:ext cx="12254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Tahoma"/>
                </a:rPr>
                <a:t>гебе калабили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364000" y="1920600"/>
            <a:ext cx="30974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>
              <a:spcAft>
                <a:spcPts val="16500"/>
              </a:spcAft>
              <a:buClr>
                <a:srgbClr val="ffffff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ама еркек </a:t>
            </a:r>
            <a:r>
              <a:rPr b="1" lang="tr-TR" sz="2200" spc="-1" strike="noStrike">
                <a:solidFill>
                  <a:srgbClr val="00cc00"/>
                </a:solidFill>
                <a:latin typeface="Arial"/>
                <a:ea typeface="Arial"/>
              </a:rPr>
              <a:t>хер вакът айнъ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иштах исседий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376360" cy="2449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572000" y="213372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39640" y="3429000"/>
            <a:ext cx="1225800" cy="1512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5364000" y="3429000"/>
            <a:ext cx="1224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5111640" y="3073680"/>
            <a:ext cx="40323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6080" y="1325520"/>
            <a:ext cx="73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5) Кадън ве еркеин арасъндаки фарк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71640" y="3851280"/>
            <a:ext cx="3024000" cy="24336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146560" y="3801960"/>
            <a:ext cx="3456000" cy="2505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826920" y="2060640"/>
            <a:ext cx="33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б) кадън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лар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даа фазла </a:t>
            </a:r>
            <a:r>
              <a:rPr b="1" lang="tr-TR" sz="2200" spc="-1" strike="noStrike">
                <a:solidFill>
                  <a:srgbClr val="ff3300"/>
                </a:solidFill>
                <a:latin typeface="Arial"/>
                <a:ea typeface="Arial"/>
              </a:rPr>
              <a:t>дюшюнджелер</a:t>
            </a:r>
            <a:r>
              <a:rPr b="1" lang="bg-BG" sz="2200" spc="-1" strike="noStrike">
                <a:solidFill>
                  <a:srgbClr val="ff3300"/>
                </a:solidFill>
                <a:latin typeface="Arial"/>
                <a:ea typeface="Arial"/>
              </a:rPr>
              <a:t>ин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юзерине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иштахланъ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йор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91280" y="206064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ама еркеклер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200" spc="-1" strike="noStrike">
                <a:solidFill>
                  <a:srgbClr val="ff3300"/>
                </a:solidFill>
                <a:latin typeface="Arial"/>
                <a:ea typeface="Arial"/>
              </a:rPr>
              <a:t>гьозлерин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юзерине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иштахланъйор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213372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754200" y="2064960"/>
            <a:ext cx="4897440" cy="44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82520" indent="-182520">
              <a:lnSpc>
                <a:spcPct val="100000"/>
              </a:lnSpc>
              <a:spcAft>
                <a:spcPts val="1100"/>
              </a:spcAft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Tahoma"/>
              </a:rPr>
              <a:t>Коджаъмъзън гьозлерини юзеримизе чекелим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200" spc="-1" strike="noStrike">
                <a:solidFill>
                  <a:srgbClr val="ffffff"/>
                </a:solidFill>
                <a:latin typeface="Tahoma"/>
              </a:rPr>
              <a:t>чекиджи калалъ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100"/>
              </a:spcAft>
              <a:buClr>
                <a:srgbClr val="ffffff"/>
              </a:buClr>
              <a:buFont typeface="Tahoma"/>
              <a:buChar char="-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Tahoma"/>
              </a:rPr>
              <a:t>кендимизи бракмаялъм, (доумдан сонра,</a:t>
            </a:r>
            <a:r>
              <a:rPr b="0" lang="bg-BG" sz="2200" spc="-1" strike="noStrike">
                <a:solidFill>
                  <a:srgbClr val="ffffff"/>
                </a:solidFill>
                <a:latin typeface="Tahoma"/>
              </a:rPr>
              <a:t> шишманлък, сачлар, гийимек,</a:t>
            </a:r>
            <a:r>
              <a:rPr b="0" lang="tr-TR" sz="2200" spc="-1" strike="noStrike">
                <a:solidFill>
                  <a:srgbClr val="ffffff"/>
                </a:solidFill>
                <a:latin typeface="Tahoma"/>
              </a:rPr>
              <a:t> торунлар олдуктан сонра..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Tahoma"/>
              </a:rPr>
              <a:t>- бир ьорнек: Ибрахим Египт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tr-TR" sz="2200" spc="-1" strike="noStrike">
                <a:solidFill>
                  <a:srgbClr val="ffffff"/>
                </a:solidFill>
                <a:latin typeface="Tahoma"/>
              </a:rPr>
              <a:t>е качаркен, коркту, кишилер каръсъна асълмасънлар, чюнкю о хала чок гюзелди (ама 60 яшънд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5940360" y="2303640"/>
            <a:ext cx="2718000" cy="4078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332000" y="1341360"/>
            <a:ext cx="6335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)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Мадем ьойле, не япабилир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403280" y="1878840"/>
            <a:ext cx="46814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76040" indent="-176040">
              <a:spcAft>
                <a:spcPts val="5499"/>
              </a:spcAft>
              <a:buClr>
                <a:srgbClr val="ffffff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утанмак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- чоу иманлъ кадънлар буну конушмак истемийорлар (санк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рухсал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’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бир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иш деилдир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Aft>
                <a:spcPts val="5499"/>
              </a:spcAft>
              <a:buClr>
                <a:srgbClr val="ffffff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билгисизлик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- кенди анамъз бабамъз бизе дерс вермедилер бу темада; сокактан билги топлама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Aft>
                <a:spcPts val="689"/>
              </a:spcAft>
              <a:buClr>
                <a:srgbClr val="ffffff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уйгун </a:t>
            </a: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йер йок</a:t>
            </a:r>
            <a:r>
              <a:rPr b="0" lang="en-US" sz="2200" spc="-1" strike="noStrike">
                <a:solidFill>
                  <a:srgbClr val="a3c145"/>
                </a:solidFill>
                <a:latin typeface="Arial"/>
                <a:ea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евлеримиз кючюк, херкес айнъ ода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58920" y="1125360"/>
            <a:ext cx="6912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)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Бу темада не гиби енгеллер ва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1727280" cy="1503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300720" y="3741840"/>
            <a:ext cx="1728720" cy="1380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6300720" y="5299200"/>
            <a:ext cx="17272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66ff"/>
          </a:solidFill>
          <a:ln w="255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a3c145"/>
                </a:solidFill>
                <a:latin typeface="Tahoma"/>
              </a:rPr>
              <a:t>Коджа иле анлашмак </a:t>
            </a:r>
            <a:r>
              <a:rPr b="0" lang="bg-BG" sz="3600" spc="-1" strike="noStrike">
                <a:solidFill>
                  <a:srgbClr val="a3c145"/>
                </a:solidFill>
                <a:latin typeface="Tahoma"/>
              </a:rPr>
              <a:t>(1.Кор. 7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826920" y="1964160"/>
            <a:ext cx="45370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76040" indent="-176040">
              <a:spcAft>
                <a:spcPts val="2750"/>
              </a:spcAft>
              <a:buClr>
                <a:srgbClr val="a3c145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ески г</a:t>
            </a:r>
            <a:r>
              <a:rPr b="0" lang="bg-BG" sz="2200" spc="-1" strike="noStrike">
                <a:solidFill>
                  <a:srgbClr val="a3c145"/>
                </a:solidFill>
                <a:latin typeface="Arial"/>
                <a:ea typeface="Arial"/>
              </a:rPr>
              <a:t>ю</a:t>
            </a: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нахлар аф едилмийор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- онун ичин кадън бу темада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кендини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коджасъна веремий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Aft>
                <a:spcPts val="2750"/>
              </a:spcAft>
              <a:buClr>
                <a:srgbClr val="ffffff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гебе калмак коркусу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- корума методларъ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нъ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ьоренел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Aft>
                <a:spcPts val="2750"/>
              </a:spcAft>
              <a:buClr>
                <a:srgbClr val="ffffff"/>
              </a:buClr>
              <a:buFont typeface="Arial"/>
              <a:buChar char="•"/>
              <a:tabLst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кадън буну бир </a:t>
            </a:r>
            <a:r>
              <a:rPr b="0" lang="tr-TR" sz="2200" spc="-1" strike="noStrike">
                <a:solidFill>
                  <a:srgbClr val="a3c145"/>
                </a:solidFill>
                <a:latin typeface="Arial"/>
                <a:ea typeface="Arial"/>
              </a:rPr>
              <a:t>силах гиби кулланъйор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- интикам алмак и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ин; башка конуларда гюджю йокса биле, бу темайъ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бир коз гиби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 кулланъйорлар (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Бенимле ятмак истерсен...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1125360"/>
            <a:ext cx="6912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360360"/>
                <a:tab algn="l" pos="5396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i="1" lang="tr-TR" sz="2800" spc="-1" strike="noStrike">
                <a:solidFill>
                  <a:srgbClr val="ffff00"/>
                </a:solidFill>
                <a:latin typeface="Tahoma"/>
              </a:rPr>
              <a:t>) </a:t>
            </a:r>
            <a:r>
              <a:rPr b="1" i="1" lang="bg-BG" sz="2800" spc="-1" strike="noStrike">
                <a:solidFill>
                  <a:srgbClr val="ffff00"/>
                </a:solidFill>
                <a:latin typeface="Tahoma"/>
              </a:rPr>
              <a:t>Бу темада не гиби енгеллер ва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1467000" cy="2052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452600" cy="20984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364000" y="2133720"/>
            <a:ext cx="1289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21:09:56Z</dcterms:created>
  <dc:creator>Jessica Witmer</dc:creator>
  <dc:description/>
  <dc:language>en-US</dc:language>
  <cp:lastModifiedBy>asd</cp:lastModifiedBy>
  <dcterms:modified xsi:type="dcterms:W3CDTF">2009-04-27T14:07:38Z</dcterms:modified>
  <cp:revision>63</cp:revision>
  <dc:subject/>
  <dc:title>Коджа иле анламак (1.Кор. 7)</dc:title>
</cp:coreProperties>
</file>