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CCF-20E2-46F6-BF7A-54309716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E45-651E-42E4-AE8B-92DDB63C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05A-69FF-4114-882F-6D13CD1A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28F-9F26-4F08-865F-DD8D1FEB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BBB-A8C9-4CEB-AE4C-6B0A5C94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E3A-CE4F-4261-A05F-9824E7E5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56E-DA7B-459D-A45C-732923D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670-B40E-48E1-9979-BC1FAE28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290-CE82-46F3-9C4E-A27FA01D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EEB-B8EC-43FB-8C5D-84B6ACE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433-5E0B-4E58-9BD3-B699A84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2E8-A5F9-4811-BDF1-7E759ADF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B672-9423-499B-ACC1-CD558E7A514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71" t="0" r="19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5280" y="2923920"/>
            <a:ext cx="5473440" cy="10810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3366ff"/>
                </a:solidFill>
                <a:latin typeface="Arial"/>
              </a:rPr>
              <a:t>ИЛЯС’ън Хаят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.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ллар Китапларъндан дерс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3040" y="5157720"/>
            <a:ext cx="907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000" spc="-1" strike="noStrike">
                <a:solidFill>
                  <a:srgbClr val="000099"/>
                </a:solidFill>
                <a:latin typeface="Arial"/>
              </a:rPr>
              <a:t>2. дерс:</a:t>
            </a:r>
            <a:r>
              <a:rPr b="1" i="1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0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1" i="1" lang="bg-BG" sz="3000" spc="-1" strike="noStrike">
                <a:solidFill>
                  <a:srgbClr val="ccff66"/>
                </a:solidFill>
                <a:latin typeface="Arial"/>
              </a:rPr>
              <a:t>Раб кураклък заманънда Иляс’а бакъйор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499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4219920"/>
            <a:ext cx="817236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9-21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ляс, "Олуну бана вер" дийерек чоджуу кадънън куджаъндан алдъ, кенди калдъъ йукаръ одая чъкардъ ве ятаъна ятърд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онра РАБ'бе шьойле ялвардъ: "Я РАБ Танръм, неден янънда калдъъм дул кадънън олуну ьолдюререк она бу кьотюлюю яптън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ляс юч кез чоджуун юзерине капанъп РАБ'бе шьойле дуа етти: "Я РАБ Танръм, бу чоджуа йениден джан вер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260280"/>
            <a:ext cx="4537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муджизе яп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276200"/>
            <a:ext cx="3024360" cy="527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Б Иляс'ън ялваръшънъ дуйду. Чоджук дирилип йениден яшама дьондю. Иляс чоджуу йукаръ одадан индирип аннесине вериркен, "Иште олун яшъйор!" д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унун юзерине кадън, "Шимди анладъм ки, сен Танръ адамъсън ве сьойледиин сьоз герчектен РАБ'бин сьозюдюр" д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89000"/>
            <a:ext cx="30243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муджизе яп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60280"/>
            <a:ext cx="3095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19400" y="0"/>
            <a:ext cx="5124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563480"/>
            <a:ext cx="4105080" cy="4972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О заман РАБ, Иляс'а шьойле сесленди: "Бурадан айръл, доуя гит. Шериа Ърмаъ'нън доусундаки Керит Вадиси'нде гизлен. Дереден су ичеджексин ве буйрук вердиим каргаларън гетирдиклерини йийеджексин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РАБ'бин сьойледиклерини япан Иляс, гидип Керит Вадиси'не йерлешти. Дереден су ичийорду, каргаларън сабах акшам гетирдии ет ве екмекле бесленийор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672000" cy="526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4152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415120"/>
            <a:ext cx="338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хайванларъ да контрол ед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5809320"/>
            <a:ext cx="3672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Каргалар Илъас’ъ беслийорл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148640"/>
            <a:ext cx="4572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Иса, балъкларъ мрежалара йолл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7880" y="0"/>
            <a:ext cx="47577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907920"/>
            <a:ext cx="3168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2560" y="6111000"/>
            <a:ext cx="475128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Сарефат касабасъ, краличе Изебелин мемлекети и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2054160"/>
            <a:ext cx="324036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7-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нджак юлкеде ямур ямадъъ ичин бир сюре сонра дере куру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О заман РАБ, Иляс'а деди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"Шимди калк гит, Сайда якънларъндаки Сарефат касабасъна йерлеш. Орада сана йийеджек сааламасъ ичин дул бир кадъна буйрук вердим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6560" y="379440"/>
            <a:ext cx="576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4397040"/>
            <a:ext cx="7705800" cy="205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Aft>
                <a:spcPts val="1001"/>
              </a:spcAft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333399"/>
                </a:solidFill>
                <a:latin typeface="Arial"/>
              </a:rPr>
              <a:t>Раб, пейгамберини беслемек ичин ен уйгунсуз кишийи кулланъй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Бир ябанджъ - Сарефат касабасъ, краличе Изебелин мемлекети иди (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Лука 4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ул ве фукара бир кадъ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Хем де кендисинин бир еркек чоджуу вар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44599" r="37140" b="0"/>
          <a:stretch/>
        </p:blipFill>
        <p:spPr>
          <a:xfrm>
            <a:off x="826920" y="1197000"/>
            <a:ext cx="218916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32440" t="4629" r="29761" b="21447"/>
          <a:stretch/>
        </p:blipFill>
        <p:spPr>
          <a:xfrm>
            <a:off x="3132000" y="1197000"/>
            <a:ext cx="183204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26460" t="0" r="5500" b="24946"/>
          <a:stretch/>
        </p:blipFill>
        <p:spPr>
          <a:xfrm>
            <a:off x="5148360" y="1197000"/>
            <a:ext cx="367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960720" cy="354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3106800"/>
            <a:ext cx="8532720" cy="37530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арефат'а гиден Иляс кентин капъсъна варънджа, орада дул бир кадънън одун топладъънъ гьордю. Кадъна деди: "Бана ичмек ичин бираз су веребилир мисин?" -  Кадън су гетирмейе гидеркен Иляс йине сесленди: "Лютфен бир парча да екмек гетир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адън джевап верди: "Сенин Танрън яшаян РАБ'бин адъйла ант ичерим, хич екмеим йок. Ялнъз кюпте бир авуч ун, чьомлеин дибинде де азъджък я вар. Гьорюйорсун, бир ики парча одун топлуйорум. Гьотюрюп олумла кендим ичин бир шейлер хазърлаяджаъм. Белки де сон йемеимиз оладжак, ьолюп гидеджеиз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1568880"/>
            <a:ext cx="3816360" cy="1008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адън не япсън – бу ябанджъйъ мъ беслесин, йокса кенди чоджууну 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189000"/>
            <a:ext cx="3348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5608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58760"/>
            <a:ext cx="3097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0920" y="192600"/>
            <a:ext cx="4033800" cy="7038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н олсайдън, сон екмеини вереджек мийд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266480"/>
            <a:ext cx="3816360" cy="5582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ляс кадъна, "Коркма, гит йийеджеини хазърла" деди, "Ялнъз ьондже бана кючюк бир пиде япъп гетир. Сонра олунла кендин ичин япарсъ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сраил'ин Танръсъ РАБ дийор ки: 'Топраа ямур дюшюнджейе дек кюптен ун, чьомлектен я ексилмейеджек.‘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адън гидип Иляс'ън сьойледиклерини яптъ. Хеп бирликте гюнлердже йийип ичтилер. РАБ'бин сьойледии гиби, кюптен ун, чьомлектен яа ексилм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3889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96000" y="0"/>
            <a:ext cx="4284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0920" y="260280"/>
            <a:ext cx="5616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Ен чок нейе диккат едийору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1083240"/>
            <a:ext cx="3313080" cy="21978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tr-TR" sz="2000" spc="-1" strike="noStrike">
                <a:solidFill>
                  <a:srgbClr val="000099"/>
                </a:solidFill>
                <a:latin typeface="Arial"/>
              </a:rPr>
              <a:t>из гене, ен биринджи Онун краллъънън ве Онун дорулуунун пешине дюшюн. О вакът сизе бютюн бу шейлер де вериледж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ек”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(Матта 6: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360" y="630252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ляс’ън заманънда дул кадъ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78080" y="630252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са’ън заманънда 5 екмек, 2 б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907920"/>
            <a:ext cx="3097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624240"/>
            <a:ext cx="4033800" cy="1008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адън бюйюк ийилик яптъ – о заман неден онун башъна бу кьотюлюк гелд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2203560"/>
            <a:ext cx="3816360" cy="405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ир сюре сонра ев сахиби дул кадънън олу гиттикче аърлашан кьотю бир хасталъа якаландъ, сонунда ьолд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адън Иляс'а, "Ей Танръ адамъ, алъп веремедиимиз недир?" деди, "Гюнахларъмъ Танръ'я анъмсатъп олумун ьолюмюне неден олмак ичин ми бурая гелдин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419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40:18Z</dcterms:created>
  <dc:creator>asd</dc:creator>
  <dc:description/>
  <dc:language>en-US</dc:language>
  <cp:lastModifiedBy>asd</cp:lastModifiedBy>
  <dcterms:modified xsi:type="dcterms:W3CDTF">2009-09-03T10:39:55Z</dcterms:modified>
  <cp:revision>82</cp:revision>
  <dc:subject/>
  <dc:title>ИЛЯС’ън Хаятъ</dc:title>
</cp:coreProperties>
</file>