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CE6-4782-40A3-9CB6-D0D5FF31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CF2-31B5-46FE-889A-99A5719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F88-1818-466F-A9C3-58E0975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037-8999-4385-BD58-6121AF84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105-207A-4B8C-8E7D-B61AC2C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064-3318-441A-85A2-E6C0D303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87B-B045-4A4F-815E-DCE5E218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AB9-B34C-410F-8B63-BC04A9A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60-ADF2-4D02-984C-15E8F0F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08C-2E4B-4FC9-A3A9-E2CE664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0D8-F98E-4F47-9A3B-4300CB6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3F5-2D09-474F-BABC-02175FD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F463-A527-4FE6-B094-1BB1060CBD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125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66"/>
                </a:solidFill>
                <a:uFillTx/>
                <a:latin typeface="Arial"/>
              </a:rPr>
              <a:t>Чок ьонемли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: Саде аборту ясак етмейелим, кадънлар хич гебе калмасънлар дийе урашалъм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930400"/>
            <a:ext cx="4321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гюн чок гелишмиш методлар вар, артък истемейерек гебе калмак зорунда деи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 темада конушмая утан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адън еркек конушуп айнъ фикирде олсун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33960" y="2276640"/>
            <a:ext cx="3398760" cy="251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4208400"/>
            <a:ext cx="3384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ПРЕЗЕРВ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205000"/>
            <a:ext cx="4321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чок индже гумадан япълан биртър. Еркек ятълък япмадан ьондже ону т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Спермлер йумуртая улашамъйор, бебек мейдана гелми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Онун ичин иманлълар ичин уйгу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24360" y="4243320"/>
            <a:ext cx="28911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1268280"/>
            <a:ext cx="29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2542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СПИРАЛА  (И.У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917720"/>
            <a:ext cx="432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0 см узун бир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наятаънън ичинде усул усул илач салъйор, о да енгел олуйор йумуртан ана ятаъна япъш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ьойлеликле бебек ьолдюрюлюйор = бизим ичин уйгун деилд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ими спиралалар йумур-танън олгунлашмасънъ енгел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08720" y="1268280"/>
            <a:ext cx="3564000" cy="2522520"/>
            <a:chOff x="5508720" y="1268280"/>
            <a:chExt cx="3564000" cy="25225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508720" y="1268280"/>
              <a:ext cx="3357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08720" y="1333440"/>
              <a:ext cx="35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Бакър      Илачлъ найл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300720" y="3914640"/>
            <a:ext cx="2519280" cy="2835360"/>
            <a:chOff x="6300720" y="3914640"/>
            <a:chExt cx="2519280" cy="283536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300720" y="3914640"/>
              <a:ext cx="25005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300720" y="6381720"/>
              <a:ext cx="2519280" cy="36828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Утеруса такълъ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879640" cy="2565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- хап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844640"/>
            <a:ext cx="5111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адънън йумурталамасъна енгел олуйор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Онун ичин ен баштан инсан мейдана гелмез = иманлълар ичин уйг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Лазъм чок диккатле хер гюн алънсъ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анки кадънън беденини ал-датъръйорлар: сен гебе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Ян ефектлери олабилир: шишманламак, синирли ол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2000" y="4260960"/>
            <a:ext cx="28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 башка метод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417760"/>
            <a:ext cx="51116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ДЕПО ПРОВЕРА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нжексия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йнъ илачлар йутулмуйор, колуна инджекция япъл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Юч ай чалъ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НОРПЛАНТ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чубу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ирер кибрит кадар бюйюктюр – алтъ тане колда деринин алтъна соку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еш сене чалъшъ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3493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13440" y="4129200"/>
            <a:ext cx="29512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2682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ЕРТЕСИ САБАХ ХАПЪ”</a:t>
            </a:r>
            <a:r>
              <a:rPr b="1" lang="de-DE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(РУ 4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421000"/>
            <a:ext cx="4321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Ятълък япълдъктан сонра алън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перм иле йумуртанън бирлешмесине енгел олмуйор, ама бебеин ана ятаънън йерлешмесине енгел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Онун ичин хазър бебек ьолдюрюл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618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3971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ерк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2133720"/>
            <a:ext cx="496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Еркеин ташакларъндан чъкан каналлар кес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аде ‘местна о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Не заман истенилирсе каналлар йениден бирлештирил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508720" y="2205000"/>
            <a:ext cx="3238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кадъ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873080"/>
            <a:ext cx="7345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адънън йумурта боруларъ кесили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‘пълна о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Йениден  бирлештирмек зор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44640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12:53Z</dcterms:created>
  <dc:creator>Windows XP</dc:creator>
  <dc:description/>
  <dc:language>en-US</dc:language>
  <cp:lastModifiedBy>asd</cp:lastModifiedBy>
  <dcterms:modified xsi:type="dcterms:W3CDTF">2009-04-27T14:09:29Z</dcterms:modified>
  <cp:revision>61</cp:revision>
  <dc:subject/>
  <dc:title>Аборт</dc:title>
</cp:coreProperties>
</file>