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130-410A-4E71-8B81-65609108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FE8-5AA8-40E2-8FE8-DADA290C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DA8-A0F4-4E76-9B0A-CAAE648A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E04-3970-4538-A280-02980E4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CE60-B439-4143-80FA-14E327A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7063-7316-4563-A4BB-CFF9D7A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883A-E035-45B6-B156-C32454E8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3E0E-2BC9-4E39-9AEC-B99A34C6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081-4C94-46CE-AAC6-AEF5718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B8B8-0CA9-4928-B957-44DD03CE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74A1-6432-440B-8431-72BFCCD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E3D-19DD-4640-B057-D25248F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E1C4-C106-44BA-A2DA-754BC9C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FCF8-917D-4855-ADA4-CF3166B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7470-5E78-48D1-908D-2ED2A1C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A58-B1E5-4E1E-917F-BEB61562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9B1-6F3D-44BC-839A-2DC6EC88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FE1-A191-4A05-B54F-5727EFBA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FE4-D5E9-4A68-BF2C-D5EA2C5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756-0DCE-484F-B47E-FD25D7C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FEE-C20D-477A-A5A0-A6E7532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ED4-D656-408E-A1D1-BACD02B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377-55C3-4DCE-ACB5-C7C1A39F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A33-208E-432D-9B0F-683ABB72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4DB2-BDC3-4650-A11F-19A6E6CE6CFA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7363-7210-4D58-92BA-BE4D7D48D649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27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0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 10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179280" y="24811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Дава сила на Йо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843120"/>
            <a:ext cx="860400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А на двамата си свидетели ще дам да прорукуват хиляда двеста шестдесет дни облечени в вретищ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9640" y="17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Двама свидетел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–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 понеже не е достатачен един свидет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торозаконие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17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’19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Според законите на Мойсе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големия съд двама свидетели тряб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това Иисус учиниците си ги изпрати по двам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)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(Лу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0: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1) не за подгрепа а за свиде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340668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5076720" y="364644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Вретищ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зпов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ези свидетели викат хората на пока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Цар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9:1; 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етопис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1:16;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а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3:5-6;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н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9:3;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ате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1: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то дрехите на Йоа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ат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3:4)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вестителя дрехите показват каква вест но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" y="907920"/>
            <a:ext cx="860400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Те са двете маслени дървета и двата светилника, които стоят пред Господаря на земята.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7280" y="1976400"/>
            <a:ext cx="25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Двама свидетел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две маслени дър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два свтил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ва е свързано с езекиел 4 та гл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987640" y="1778040"/>
            <a:ext cx="583236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324000" y="915840"/>
            <a:ext cx="860400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Те са двете маслени дървета и двата светилника, които стоят пред Господаря на земят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0360" y="2013120"/>
            <a:ext cx="4932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Захария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41-3, 11,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ва е образец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жия дом беше сруте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пак станаха да го стру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дадоха простр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еру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РА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ИСА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авосвещеник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ъединяват си сил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един огромен светилник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стояно снабдяват с ма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вятия Дух постояно ще държи на крака На Иисус свидете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Тези двама свидели символизират църкав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са тези свидели които ще дойдат на края на с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Мойсей и Илия отново да се върнат на земя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616720" y="1773360"/>
            <a:ext cx="327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 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324000" y="843120"/>
            <a:ext cx="860400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Те са двте маслени дървета и двата светилника, които стоят пред Господаря на земят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7280" y="1976400"/>
            <a:ext cx="25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-Двама свидетел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двама показа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İsa’nın haberini doğrulayan iki büyük ispat 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орукуването в стария за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у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4:27.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еяние на апостол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8: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2)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ъзкръсението на Иис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иян.ап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: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иян.ап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3: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454560" y="1628640"/>
            <a:ext cx="5689080" cy="5076720"/>
            <a:chOff x="3454560" y="1628640"/>
            <a:chExt cx="5689080" cy="50767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3454560" y="1628640"/>
              <a:ext cx="547344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634200" y="1803240"/>
              <a:ext cx="103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Tahoma"/>
                </a:rPr>
                <a:t>Ста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Tahoma"/>
                </a:rPr>
                <a:t>зав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9320" y="17316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Tahoma"/>
                </a:rPr>
                <a:t>Нов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Tahoma"/>
                </a:rPr>
                <a:t>Зав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78040" y="5697360"/>
              <a:ext cx="210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9383b3"/>
                  </a:solidFill>
                  <a:latin typeface="Tahoma"/>
                </a:rPr>
                <a:t>Прорукува за Иису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24360" y="5703480"/>
              <a:ext cx="2519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9383b3"/>
                  </a:solidFill>
                  <a:latin typeface="Tahoma"/>
                </a:rPr>
                <a:t>Свидетели за възкръсението на Иису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324000" y="98748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ако някои иска да го повреди,огън излиза от устата им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поглъща неприятилите им. И ако някои сика  да го повреди, така той трябва да бъде обит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2376360"/>
            <a:ext cx="47530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Огън ще ги изгор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ще довърши враговете с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лий това го направ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Цар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:9-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укашния огън не от неб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еше нещо което излизаше от устата на свидетел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яхните силни дум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видетелите като си вършат работата Бог ще ги па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5364000" y="2089080"/>
            <a:ext cx="34624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857160"/>
            <a:ext cx="860400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Те имат власт да заключват небето, за да не вали никакъе дъжд през времето на тяхното прорукуване, и имат власт над водите, да ги превръщат във кръв и да поразяват земята с всякаква язва, колкото пъти биха поискал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456000" cy="28461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2160720" cy="14860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2243160" cy="1684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6945480" y="2060640"/>
            <a:ext cx="2198520" cy="3024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40000" y="3357720"/>
            <a:ext cx="5256360" cy="3111480"/>
          </a:xfrm>
          <a:prstGeom prst="rect">
            <a:avLst/>
          </a:prstGeom>
          <a:solidFill>
            <a:srgbClr val="ff99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МУЙСЕЙ И ИЛ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бедата на свидетел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ключване на неб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 не вали дъж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Или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Цар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7:1-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евърщането на водата в кръв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Мойсе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7:1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свидетелите силата идва от неб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ези не са двам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казват силата на църкв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то се свидетелства и хората не се подчиняват Бог наказва земя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24000" y="907920"/>
            <a:ext cx="860400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7 И когато те свършат да свидетелстват, звярът, който излиза от бездната , ще воюва против тях, ще ги победи и ще ги убие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2097000"/>
            <a:ext cx="467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СМЪРТА НА СВИДЕТЕ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аботата на църквата ще свърши, кога Бог няма да им даде време за покаяни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11: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гава църквата ще се обие= не всеки вярващ да се оби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църквата вече мъл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видете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Звярът който излиза от безднат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Антихр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во ще стане още незнаем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сле ще се ракай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нтихриста си ги им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3 ½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годи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крито работеш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ървия печ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елият ко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а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:18; 2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олунц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: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292720" y="2363760"/>
            <a:ext cx="3505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324000" y="90792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труповете им ще лежат на улицата на големия град, който духовно се нарича Содом и Египет, къдете беше и разпънат техния Господ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2371680"/>
            <a:ext cx="489564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Труповете им на улицат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най лошото нещо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да нямат право да ги погребв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гребението на Иисус беше един образ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 точно на кръс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разпънатите телата бяха оставени на кучета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т Аримате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сиф и положе Иисус на новия гроб който той направ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Matta 27:57-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ва той като го направи изпълни думите на пророц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53:9; 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 15: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ъщо като него тези двама свидетели бяха оставени на пътя, ама пред Бог са праве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ва не не се извърши тайн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улиц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еки го знаеше и беше съглас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580000" y="3009960"/>
            <a:ext cx="3384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90792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труповете им ще лежат на улицата на големия град, който духовно се нарича Содом и Египет, където беше разпънат и техния Господ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4221000"/>
            <a:ext cx="54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Йерусалим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(=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голям град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) 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Содом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Егип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Една много тешка 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:21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 стана блудница верният град! Той беше пълен с правосъдие, правда  обитаваше в него, а сега- убийц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:9-10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ко ГОСПОД на Войнствата не ни беше оставил малък остатък , като Содом бихме станали, на Гомора бихме се оприлич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097080" cy="20401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77080" y="1844640"/>
            <a:ext cx="1888920" cy="25146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478560" y="4869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Египет</a:t>
            </a:r>
            <a:r>
              <a:rPr b="0" lang="tr-TR" sz="1800" spc="-1" strike="noStrike">
                <a:solidFill>
                  <a:srgbClr val="cc99ff"/>
                </a:solidFill>
                <a:latin typeface="Tahoma"/>
              </a:rPr>
              <a:t> = Allahın halkını esir tutan gü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342900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Содом</a:t>
            </a:r>
            <a:r>
              <a:rPr b="0" lang="tr-TR" sz="1800" spc="-1" strike="noStrike">
                <a:solidFill>
                  <a:srgbClr val="cc99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cc99ff"/>
                </a:solidFill>
                <a:latin typeface="Tahoma"/>
              </a:rPr>
              <a:t>Сила която отдаличава Божия на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955800"/>
            <a:ext cx="860400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 .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мнозина от народите, племената, взиците и нациите ще гледат труповете им три дни и половина и няма да позволят труповете им да бъдат  положени в гроба. И земните жители ще се зарадват за тях, ще се развеселят  и един на друг ще си пратят  подаръци, защото  тези двама пророци са мъчели земните жители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245412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мъчели земните жители 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ли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Цар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8: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уйсе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8:4; 9:28; 10:19; 10: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еки си взима въздох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ме спокойн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(Псалм 105:3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79280" y="3962520"/>
            <a:ext cx="4316400" cy="2895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5076720" y="3835440"/>
            <a:ext cx="3924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9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1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289080" y="98100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идях друг силен ангел,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който слизаше от небето облечен в облак и над главата му имаше дъга, лицето му беше като слънцето  и краката му- като огнени стълб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5120" y="3011400"/>
            <a:ext cx="1042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Защо?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‘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един друг ангел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щото неговата работа е различ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наказ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а милост но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Тоз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силен ангел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как 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се обясняв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?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На кого прилич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блечен в обл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д главата си имаше дъ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3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ицето му беше като слъ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4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краката му като огнени стълб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това не е Иисус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гови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едставите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7те тръб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това прилича на господаря 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rcRect l="23272" t="0" r="18618" b="0"/>
          <a:stretch/>
        </p:blipFill>
        <p:spPr>
          <a:xfrm>
            <a:off x="8244000" y="3068640"/>
            <a:ext cx="1800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1014480"/>
            <a:ext cx="860400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А след трите  половина дни в тях влезе въздох на живот от Бога и те се изправиха на краката си; и голям страх обзе онези, които ги гледах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12 А те чуха силен глас  от небето, който им казваше: Качете се тук. И те се изкачиха на небето в облак; и неприятелите им ги видяха.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4000" y="2565360"/>
            <a:ext cx="316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ПОБЕДАТА НА СВИДЕТЕ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3c145"/>
                </a:solidFill>
                <a:latin typeface="Tahoma"/>
              </a:rPr>
              <a:t>три дни и половина</a:t>
            </a:r>
            <a:r>
              <a:rPr b="1" lang="tr-TR" sz="18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= много малко продължи на враговете им радо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3c145"/>
                </a:solidFill>
                <a:latin typeface="Tahoma"/>
              </a:rPr>
              <a:t>Въздох на живот от Б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зекие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37: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гато  Иисус дойде ще грабне църквата си пред учите на враговете 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3564000" y="2690640"/>
            <a:ext cx="51847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942840"/>
            <a:ext cx="860400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 онзи час стана голямо земетресение и десетата част от града падна и в земетресението измряха седем хиляди човека; и останалите се оплашиха и отдадоха слава на небесния Бог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4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торото горко премина; ето скоро идва третото горко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2720" y="234936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НАЦИИТЕ СЕ РАЗГНЕВ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3c145"/>
                </a:solidFill>
                <a:latin typeface="Tahoma"/>
              </a:rPr>
              <a:t>ЗЕМЕТРЕСЕНИЕ</a:t>
            </a:r>
            <a:r>
              <a:rPr b="1" lang="tr-TR" sz="18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дойде Божия гня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амо десетата част от града падна , и в земетрсението измряха 7000 ч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5724360" y="24019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2808360" cy="22464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995640" y="494172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3c145"/>
                </a:solidFill>
                <a:latin typeface="Tahoma"/>
              </a:rPr>
              <a:t>Отдадоха слава на небесния 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да вярв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от страхът паднаха в па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израелския народ видя победата на Илий в планината Карм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Седмата тръб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= 3.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11:15-19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4643280" y="1557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Краят на Св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Седма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5-1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324000" y="907920"/>
            <a:ext cx="8604000" cy="28371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затръби седмия ангел; и на небето имаше силни гласове които казваха; световното царство стана царство на нашия Господ и на неговия Христос, и той ще царува за вечни векове. 16 и двадесет и четеримата старейшини, седящи пред Бога, и казаха: 17 благодарим ти, Господи Боже Всемогъщи, който си и който си бил, затова че си взел голямата Си власт и си се възцарил.18 Нациите се рагневиха, и дойде твоя гняв и времето да се съдят мъртвите и да дадеш наградата на своите слуги, пророците, и на светиите, и на онези, които се боят от твоето име, малки и големи, и да онищожиш онези, които онищожават земята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4713120"/>
            <a:ext cx="80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НАЦИИТЕ СЕ РАЗГНЕВ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3c145"/>
                </a:solidFill>
                <a:latin typeface="Tahoma"/>
              </a:rPr>
              <a:t>Земетресение</a:t>
            </a:r>
            <a:r>
              <a:rPr b="1" lang="tr-TR" sz="18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дойде Божия гня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амо десетата част от града падна , и в земетрсението измряха 7000 ч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Седма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5-1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90792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Божият храм на небето се отвори, и в храма се видя ковчегът на Неговия завед; и настанаха светкавици и гласове, и гръмове и земетресения, и силен град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16360" y="2278080"/>
            <a:ext cx="59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НАЦИИТЕ СЕ РАЗГНЕВ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3c145"/>
                </a:solidFill>
                <a:latin typeface="Tahoma"/>
              </a:rPr>
              <a:t>земетресение</a:t>
            </a:r>
            <a:r>
              <a:rPr b="1" lang="tr-TR" sz="18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дойде Божия гня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амо десетата част от града падна , и в земетрсението измряха 7000 ч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95200" y="2133720"/>
            <a:ext cx="2116080" cy="25207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95280" y="5229360"/>
            <a:ext cx="1584360" cy="1295280"/>
          </a:xfrm>
          <a:prstGeom prst="rect">
            <a:avLst/>
          </a:prstGeom>
          <a:ln w="3240">
            <a:solidFill>
              <a:srgbClr val="6fa9b7"/>
            </a:solidFill>
            <a:miter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291440" y="5229360"/>
            <a:ext cx="1601640" cy="1295280"/>
          </a:xfrm>
          <a:prstGeom prst="rect">
            <a:avLst/>
          </a:prstGeom>
          <a:ln w="3240">
            <a:solidFill>
              <a:srgbClr val="9383b3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5508720" y="5229360"/>
            <a:ext cx="1512720" cy="1295280"/>
          </a:xfrm>
          <a:prstGeom prst="rect">
            <a:avLst/>
          </a:prstGeom>
          <a:ln w="3240">
            <a:solidFill>
              <a:srgbClr val="9383b3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2195640" y="5229360"/>
            <a:ext cx="1441440" cy="1295280"/>
          </a:xfrm>
          <a:prstGeom prst="rect">
            <a:avLst/>
          </a:prstGeom>
          <a:ln w="3240">
            <a:solidFill>
              <a:srgbClr val="6fa9b7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6"/>
          <a:srcRect l="0" t="0" r="0" b="30660"/>
          <a:stretch/>
        </p:blipFill>
        <p:spPr>
          <a:xfrm>
            <a:off x="3851280" y="5229360"/>
            <a:ext cx="1440000" cy="1296720"/>
          </a:xfrm>
          <a:prstGeom prst="rect">
            <a:avLst/>
          </a:prstGeom>
          <a:ln w="3240">
            <a:solidFill>
              <a:srgbClr val="6fa9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1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9080" y="98100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2’И в ръката си държеше отворена книжка. И той сложи десния си крак на морето, а левия- на земята.’’ 3 и извика  със силен глас, както реве лъв. И когато извика, седемте гърма проговориха със своите гласов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227664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‘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 слага краката си върху морето и върху земят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целия св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еки си мисли ч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явол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нтролира све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всъщност бог контролира с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о сега само една част от земята се осъд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сега и целия св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 извикал както реве лъв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илата и победата на ангел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ече не е агн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Yahudanın aslanı konuiuyor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Седемте гъ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очети откр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4:5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дват от престола на 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едем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т Б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Една отворена книж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Щом сложи краката си на морето и на пяса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тези думи които са в тази книжка ще се  отнасят за целия св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23272" t="0" r="18618" b="0"/>
          <a:stretch/>
        </p:blipFill>
        <p:spPr>
          <a:xfrm>
            <a:off x="8675640" y="3429000"/>
            <a:ext cx="1800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(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1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765000"/>
            <a:ext cx="9144000" cy="2562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след като седемте гърма проговориха, аз щях да пиша, но чух глас от небето, който каза: Запечатай това, което изговореха седемте гърма, и не го пиши. 5 и ангелът, когото видях да стои на морето и на земята, издигна дясната си ръка към небето. 6 и се закле в Този, който живее за вечни векове, който е създал небето и това, което е в него; земята и това, което е на нея; и морето и това, което е в него, че няма вече да има бавене. 7 но че в дните на гласа на седмия ангел, когато той се приготви да затръби, тогава ще изпълни тайната на Бога, както Той е благовестил на Своите слуги, пророците.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23272" t="0" r="18618" b="0"/>
          <a:stretch/>
        </p:blipFill>
        <p:spPr>
          <a:xfrm>
            <a:off x="7343640" y="4292640"/>
            <a:ext cx="1800360" cy="2351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4000" y="3573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Запечатай тов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 не го пиш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!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що тези думи да се скри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 не се откри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)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ан иска да си припомни вълнени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2)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яхното време все още не е дошл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затова нямате право да знае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 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н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2:7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ези думи ги запиши, но тяхното време все още не е дошл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3)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жият съд е много св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 човешки думи не би могло да се обяс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Клетв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е святи неща се правех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у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творена книж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Човека с най голямото им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й голямото заклев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Първа 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1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1027080"/>
            <a:ext cx="860400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гласът, който чух от небето, пак заговори с мен и каза: Иди, вземи отворената книжка,  която е в ръката на ангела, който стои  на морето и на земята. 9 и аз отидох при ангела и му казах да ми даде книжката. И той ми каза: вземи я и я изяш; и в корема ти ще стане горчиво , но в устата ти  ще бъде сладка като мед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rcRect l="0" t="0" r="1089" b="2991"/>
          <a:stretch/>
        </p:blipFill>
        <p:spPr>
          <a:xfrm>
            <a:off x="6588000" y="2808360"/>
            <a:ext cx="2535480" cy="40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826920" y="2881440"/>
            <a:ext cx="5616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Езекиел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2:8-3: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зекиел не искаше, Йоан искаше но не му остана с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зекиел на своя нар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 Йоан на целия свят проруку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Запечатаната хран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зяждане на божията вест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’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 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‘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корем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вото казваме на света добре  да го разбе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5259240"/>
            <a:ext cx="9097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Първа част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1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765000"/>
            <a:ext cx="860400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така, взех книжката от ръката на ангела и я изядох. И в устата ми беше сладка като мед, но като я изядох, коремат ми се вгорчи. 11 тогава ми се каза:’ трябва пак да прорукуваш  на земните  народи и нации, цар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2548080"/>
            <a:ext cx="396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Какво пише в тази отворена книжк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ече не остана врем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ремето за изповед свърш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ва като го погледнеш изглежда много смешн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медът в устата н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акрая ще разберем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че то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 една много тежка нови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горчивинта в корема н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оите любими същества се погубв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вините дечица се погубв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9280" y="2513160"/>
            <a:ext cx="2089080" cy="19238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529320" y="2133720"/>
            <a:ext cx="2614680" cy="2130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16360" y="5734080"/>
            <a:ext cx="483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Срещу народа прорукуване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ан се е измори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тука му дава с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11:1-13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763640" y="148428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Измерването на Божия дом</a:t>
            </a:r>
            <a:r>
              <a:rPr b="1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и двамата свидете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981000"/>
            <a:ext cx="860400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даде ми се тръстика като тояга и ми се каза: Стани и измери Божия храм  и олтара, и онези които се кланят  в него;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2720" y="177336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змерването на Божия Х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мерван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евизи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преброяване на имущество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говото опазв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2421000"/>
            <a:ext cx="38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Езекиел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40:3,11 –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 поклонението на Езеки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 времето на езек. Храмът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 го срутил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 времето на Йоа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H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Хиродесин храмуът изчезн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Голям въпрос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жият дом отново ще се направи л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ан дава отгово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”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жий дом си съществу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дин духовен 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11280" y="5157720"/>
            <a:ext cx="3240000" cy="1590840"/>
            <a:chOff x="611280" y="5157720"/>
            <a:chExt cx="3240000" cy="159084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611280" y="5157720"/>
              <a:ext cx="30477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62040" y="6107040"/>
              <a:ext cx="318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314960" y="2662200"/>
            <a:ext cx="4505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2722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4572000" y="2924280"/>
            <a:ext cx="4032360" cy="2698560"/>
            <a:chOff x="4572000" y="2924280"/>
            <a:chExt cx="4032360" cy="269856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572000" y="2924280"/>
              <a:ext cx="4032360" cy="26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624560" y="5243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:1-1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24000" y="928800"/>
            <a:ext cx="860400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но двора, който е извън храма, остави и не го измервай, защото той се даде на нациите, които ще тъпчат свтия град четиридесет и два месеца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191304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Каква е целта на измерването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жия дом си съществува, за да се опази около него ще се постави огр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720" y="3354480"/>
            <a:ext cx="41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двора извън храма го остав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ланът на поклонени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рялтяните само до външния двор влиз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амо свещениците можеха да стоят в вътрешния дво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етр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:5 –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уховно ние носим курба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вр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3:10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шето жертвено мяс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42 ay çiğneyecek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ще пази верния си народ, няма гаранция за тези които ходят по пл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45080" y="3067200"/>
            <a:ext cx="2952720" cy="172692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812000" y="4723920"/>
            <a:ext cx="0" cy="1513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49440" y="5805360"/>
            <a:ext cx="51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Tahoma"/>
              </a:rPr>
              <a:t>жертвеното място вътрешния дв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fa9b7"/>
                </a:solidFill>
                <a:latin typeface="Tahoma"/>
              </a:rPr>
              <a:t>(</a:t>
            </a:r>
            <a:r>
              <a:rPr b="1" lang="bg-BG" sz="1800" spc="-1" strike="noStrike">
                <a:solidFill>
                  <a:srgbClr val="6fa9b7"/>
                </a:solidFill>
                <a:latin typeface="Tahoma"/>
              </a:rPr>
              <a:t>само свещетиниците можеха да влизат</a:t>
            </a:r>
            <a:r>
              <a:rPr b="1" lang="tr-TR" sz="1800" spc="-1" strike="noStrike">
                <a:solidFill>
                  <a:srgbClr val="6fa9b7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00720" y="2565360"/>
            <a:ext cx="0" cy="10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88000" y="193212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Tahoma"/>
              </a:rPr>
              <a:t>Външния двор</a:t>
            </a:r>
            <a:r>
              <a:rPr b="1" lang="tr-TR" sz="1800" spc="-1" strike="noStrike">
                <a:solidFill>
                  <a:srgbClr val="c2da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fa9b7"/>
                </a:solidFill>
                <a:latin typeface="Tahoma"/>
              </a:rPr>
              <a:t>(</a:t>
            </a:r>
            <a:r>
              <a:rPr b="1" lang="bg-BG" sz="1800" spc="-1" strike="noStrike">
                <a:solidFill>
                  <a:srgbClr val="6fa9b7"/>
                </a:solidFill>
                <a:latin typeface="Tahoma"/>
              </a:rPr>
              <a:t>всички евреи можеха да влезнат</a:t>
            </a:r>
            <a:r>
              <a:rPr b="1" lang="tr-TR" sz="1800" spc="-1" strike="noStrike">
                <a:solidFill>
                  <a:srgbClr val="6fa9b7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20T13:53:32Z</dcterms:modified>
  <cp:revision>356</cp:revision>
  <dc:subject/>
  <dc:title>Yedi Mühür açılıyor (bölüm 6)</dc:title>
</cp:coreProperties>
</file>