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F74-6390-4575-806A-A665ED73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18A-26F2-4C83-AAC1-65BA0935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318-7FD8-445F-AC4F-83DBBFB3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BF8-4179-4C63-A794-E7E173B0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185-0107-4F1A-B5B4-00C34ADD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904-8373-4881-B834-87741B2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7A3-FD36-4995-BEE5-3FCA6552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9EC-16CC-4D67-8824-18A5F6E3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F37-672E-42DC-9874-4EE4A1D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A76-7A18-4C08-BC11-9DD18A0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E5F-10F0-4047-8B0F-6F2266D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4FB-7A82-4C7A-9192-56E75FDF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4D0-FB5E-47A5-84F7-305DF3ECF98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03280" y="598320"/>
            <a:ext cx="67690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75280" y="146376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cc00"/>
                </a:solidFill>
                <a:latin typeface="Century Gothic"/>
              </a:rPr>
              <a:t>Га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4640" y="33354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cc00"/>
                </a:solidFill>
                <a:latin typeface="Century Gothic"/>
              </a:rPr>
              <a:t>Хидж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9440" y="499104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cc00"/>
                </a:solidFill>
                <a:latin typeface="Century Gothic"/>
              </a:rPr>
              <a:t>Йе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80560" y="4559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cc00"/>
                </a:solidFill>
                <a:latin typeface="Century Gothic"/>
              </a:rPr>
              <a:t>Хадрама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83320" y="39117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cc00"/>
                </a:solidFill>
                <a:latin typeface="Century Gothic"/>
              </a:rPr>
              <a:t>О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7840" y="20145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cc00"/>
                </a:solidFill>
                <a:latin typeface="Century Gothic"/>
              </a:rPr>
              <a:t>Бах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2240" y="261468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cc00"/>
                </a:solidFill>
                <a:latin typeface="Century Gothic"/>
              </a:rPr>
              <a:t>Наж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4200" y="1606680"/>
            <a:ext cx="2089440" cy="82548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Courier New"/>
              </a:rPr>
              <a:t>Сасанидска</a:t>
            </a:r>
            <a:r>
              <a:rPr b="1" lang="bg-BG" sz="24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bg-BG" sz="2400" spc="-1" strike="noStrike">
                <a:solidFill>
                  <a:srgbClr val="ff9933"/>
                </a:solidFill>
                <a:latin typeface="Courier New"/>
              </a:rPr>
              <a:t>Имп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4559400"/>
            <a:ext cx="2087640" cy="2232000"/>
          </a:xfrm>
          <a:custGeom>
            <a:avLst/>
            <a:gdLst/>
            <a:ahLst/>
            <a:rect l="l" t="t" r="r" b="b"/>
            <a:pathLst>
              <a:path w="1315" h="1406">
                <a:moveTo>
                  <a:pt x="45" y="1225"/>
                </a:moveTo>
                <a:lnTo>
                  <a:pt x="0" y="227"/>
                </a:lnTo>
                <a:lnTo>
                  <a:pt x="136" y="91"/>
                </a:lnTo>
                <a:lnTo>
                  <a:pt x="363" y="45"/>
                </a:lnTo>
                <a:lnTo>
                  <a:pt x="499" y="0"/>
                </a:lnTo>
                <a:lnTo>
                  <a:pt x="635" y="136"/>
                </a:lnTo>
                <a:lnTo>
                  <a:pt x="680" y="454"/>
                </a:lnTo>
                <a:lnTo>
                  <a:pt x="680" y="544"/>
                </a:lnTo>
                <a:lnTo>
                  <a:pt x="771" y="680"/>
                </a:lnTo>
                <a:lnTo>
                  <a:pt x="998" y="907"/>
                </a:lnTo>
                <a:lnTo>
                  <a:pt x="1179" y="1089"/>
                </a:lnTo>
                <a:cubicBezTo>
                  <a:pt x="1177" y="1118"/>
                  <a:pt x="1173" y="1175"/>
                  <a:pt x="1173" y="1175"/>
                </a:cubicBezTo>
                <a:lnTo>
                  <a:pt x="1134" y="1225"/>
                </a:lnTo>
                <a:lnTo>
                  <a:pt x="1270" y="1361"/>
                </a:lnTo>
                <a:lnTo>
                  <a:pt x="1315" y="1406"/>
                </a:lnTo>
                <a:lnTo>
                  <a:pt x="408" y="1406"/>
                </a:lnTo>
                <a:lnTo>
                  <a:pt x="408" y="1225"/>
                </a:lnTo>
                <a:lnTo>
                  <a:pt x="227" y="1270"/>
                </a:lnTo>
                <a:lnTo>
                  <a:pt x="181" y="1089"/>
                </a:lnTo>
                <a:lnTo>
                  <a:pt x="91" y="907"/>
                </a:lnTo>
                <a:lnTo>
                  <a:pt x="0" y="862"/>
                </a:lnTo>
                <a:lnTo>
                  <a:pt x="0" y="454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0200" y="5999040"/>
            <a:ext cx="1944720" cy="45972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Courier New"/>
              </a:rPr>
              <a:t>Абис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27040"/>
            <a:ext cx="2230200" cy="8254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Courier New"/>
              </a:rPr>
              <a:t>Византийска Имп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Районите на Ара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10527" r="0" b="8671"/>
          <a:stretch/>
        </p:blipFill>
        <p:spPr>
          <a:xfrm>
            <a:off x="971640" y="4581360"/>
            <a:ext cx="302400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9758" t="0" r="0" b="0"/>
          <a:stretch/>
        </p:blipFill>
        <p:spPr>
          <a:xfrm>
            <a:off x="250920" y="1268280"/>
            <a:ext cx="466704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6479" t="11512" r="4957" b="16344"/>
          <a:stretch/>
        </p:blipFill>
        <p:spPr>
          <a:xfrm>
            <a:off x="5724360" y="1125360"/>
            <a:ext cx="3024360" cy="18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148360" y="3125880"/>
            <a:ext cx="3816360" cy="3543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84720" y="5862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8080"/>
                </a:solidFill>
                <a:latin typeface="Arial"/>
              </a:rPr>
              <a:t>Ад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33415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8080"/>
                </a:solidFill>
                <a:latin typeface="Arial"/>
              </a:rPr>
              <a:t>Ктеси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084360" y="5070240"/>
            <a:ext cx="287640" cy="115236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652720" y="3773160"/>
            <a:ext cx="358920" cy="115236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070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8080"/>
                </a:solidFill>
                <a:latin typeface="Arial"/>
              </a:rPr>
              <a:t>Джид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868720" y="4998960"/>
            <a:ext cx="215640" cy="1429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7080" y="37018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8080"/>
                </a:solidFill>
                <a:latin typeface="Arial"/>
              </a:rPr>
              <a:t>Ака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84720" y="3557520"/>
            <a:ext cx="719280" cy="144144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7102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МЕК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27840" y="5249880"/>
            <a:ext cx="182088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7c80"/>
                </a:solidFill>
                <a:latin typeface="Arial"/>
              </a:rPr>
              <a:t>Кръстопът на керванскит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907920"/>
            <a:ext cx="280836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7c80"/>
                </a:solidFill>
                <a:latin typeface="Arial"/>
              </a:rPr>
              <a:t>Разположен в пустинята без природни ресур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4720" y="641520"/>
            <a:ext cx="280836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7c80"/>
                </a:solidFill>
                <a:latin typeface="Arial"/>
              </a:rPr>
              <a:t>Домакинът на ежегоди-шен търговски пана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4437000"/>
            <a:ext cx="252108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7c80"/>
                </a:solidFill>
                <a:latin typeface="Arial"/>
              </a:rPr>
              <a:t>100% зависи от търгов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Град Мек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3418" t="0" r="6850" b="0"/>
          <a:stretch/>
        </p:blipFill>
        <p:spPr>
          <a:xfrm>
            <a:off x="3203640" y="357336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12903" t="0" r="15855" b="0"/>
          <a:stretch/>
        </p:blipFill>
        <p:spPr>
          <a:xfrm>
            <a:off x="324000" y="3573360"/>
            <a:ext cx="1401480" cy="2203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835280" y="3573360"/>
            <a:ext cx="1233360" cy="220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3080" y="58053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Уз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8160" y="580536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Ал-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1440" y="5805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Ал-М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003640" y="3573360"/>
            <a:ext cx="3961080" cy="3056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1195560"/>
            <a:ext cx="786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яра в Аллах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– най-великият бог: много далечен и абстрактен. Всяко племе имаше свой най-важен идол за Ал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2637000"/>
            <a:ext cx="78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яра в посредници между човека и Аллах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– н.п.: ‘дъщерите на Аллах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Арабската религия преди Мохам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1195560"/>
            <a:ext cx="53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Поклонението на небесните тела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бикаляне на храма символизираше обикаляне на планетите около Зем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яра в астрологията и фат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85264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улт на свещени камън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Полускъпоценен камък Бейтил (от: Бейт-уллах = дом на б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В Мекка: Хаджр ал-Асват = черният камък, мете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5229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улт на свещени из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Особено важно в сух и горещ кли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Арабската религия преди Мохам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59280" y="4292640"/>
            <a:ext cx="3313080" cy="2301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659640" y="2852640"/>
            <a:ext cx="2178000" cy="2330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940360" y="981000"/>
            <a:ext cx="1781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94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1916280"/>
            <a:ext cx="4680000" cy="2952720"/>
          </a:xfrm>
          <a:prstGeom prst="rect">
            <a:avLst/>
          </a:prstGeom>
          <a:solidFill>
            <a:srgbClr val="8080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imes New Roman"/>
              </a:rPr>
              <a:t>Всички тези елементи били са обединени в комплекс за поклонение КАА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долът Хобал, наричан Раб-ул-бейт (господарът на  божия 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Седмократно обикаляне = поклонение на 7 планети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ерният Камък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зворът Зем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Арабската религия преди Мохам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24640"/>
            <a:ext cx="3348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242880" y="7147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рез 5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360" y="549360"/>
            <a:ext cx="9144000" cy="6221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28720" y="1170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изантийска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8000" y="2106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асанидско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00360" y="4626000"/>
            <a:ext cx="14472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84720" y="4194000"/>
            <a:ext cx="144360" cy="144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0" y="512460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ИДЖ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14880" y="4332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Ме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70880" y="38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Ме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23240" y="5850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94520" y="4554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О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12720" y="1962000"/>
            <a:ext cx="1123920" cy="1226520"/>
            <a:chOff x="1512720" y="1962000"/>
            <a:chExt cx="1123920" cy="12265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512720" y="1962000"/>
              <a:ext cx="112392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617480" y="2851200"/>
              <a:ext cx="98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333399"/>
                  </a:solidFill>
                  <a:latin typeface="Arial"/>
                </a:rPr>
                <a:t>Иракл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904000" y="2538360"/>
            <a:ext cx="1224000" cy="1297440"/>
            <a:chOff x="5904000" y="2538360"/>
            <a:chExt cx="1224000" cy="129744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5904000" y="2538360"/>
              <a:ext cx="10796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977080" y="349848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333399"/>
                  </a:solidFill>
                  <a:latin typeface="Arial"/>
                </a:rPr>
                <a:t>Хосров </a:t>
              </a:r>
              <a:r>
                <a:rPr b="0" lang="tr-TR" sz="1600" spc="-1" strike="noStrike">
                  <a:solidFill>
                    <a:srgbClr val="333399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84720" y="1170000"/>
            <a:ext cx="1008000" cy="1368360"/>
          </a:xfrm>
          <a:prstGeom prst="lightningBol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672000" y="1170000"/>
            <a:ext cx="1008000" cy="1368360"/>
          </a:xfrm>
          <a:prstGeom prst="lightningBol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26400">
            <a:off x="3384360" y="2033640"/>
            <a:ext cx="431640" cy="1295280"/>
          </a:xfrm>
          <a:prstGeom prst="upArrow">
            <a:avLst>
              <a:gd name="adj1" fmla="val 50000"/>
              <a:gd name="adj2" fmla="val 75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317200">
            <a:off x="4320720" y="2178000"/>
            <a:ext cx="432000" cy="129528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Арабия по време на Мохам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92360" y="53006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Развитието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ИЗАНТИЙСКАТ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по време на Юстиния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3414" t="4411" r="4777" b="19155"/>
          <a:stretch/>
        </p:blipFill>
        <p:spPr>
          <a:xfrm>
            <a:off x="0" y="836640"/>
            <a:ext cx="9144000" cy="4402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3640" y="501336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Развитието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МПЕРИЯТА на САСАНИД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(Иранци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13575" r="0" b="0"/>
          <a:stretch/>
        </p:blipFill>
        <p:spPr>
          <a:xfrm>
            <a:off x="179280" y="1052640"/>
            <a:ext cx="5715000" cy="3951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3132000" cy="2067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950160" y="4581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рез 6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8da9ac"/>
              </a:gs>
              <a:gs pos="50000">
                <a:srgbClr val="bbe0e3"/>
              </a:gs>
              <a:gs pos="100000">
                <a:srgbClr val="8da9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Историята на Ис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8:58:19Z</dcterms:created>
  <dc:creator>PC</dc:creator>
  <dc:description/>
  <dc:language>en-US</dc:language>
  <cp:lastModifiedBy>asd</cp:lastModifiedBy>
  <dcterms:modified xsi:type="dcterms:W3CDTF">2009-06-20T12:36:28Z</dcterms:modified>
  <cp:revision>113</cp:revision>
  <dc:subject/>
  <dc:title>Slide 1</dc:title>
</cp:coreProperties>
</file>