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D2C-AB79-44B2-80BF-BBBFF69F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21C-6170-4F44-A7EE-2541E23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0ED-A703-41C3-B0F1-C3D9274A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FB5-2D60-434D-89BA-2C4A1FE2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A74-9D37-436E-B04B-19229E9C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091-21FC-4FD2-AE89-67A5A34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BB66-1A6F-45A4-9E87-D8CCF103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16A-7EF8-4C7A-A95E-A5E1B24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E4A-9063-4308-BB0A-11E2CD85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052-4C93-4C7D-990B-9BD6C0B2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6C04-4988-4BC5-9889-79146BC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7EE-651D-4592-800F-397E6D3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BB1-2726-4382-AC62-0AB77641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E41-FCFF-472B-A19E-FF3B8A2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65B3-A8DE-4E8B-9C97-19637FD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4145-B598-4B6F-A685-9EB9A860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E341-8316-4DF9-96C2-A21108B5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2DD-1134-4F52-8C7B-17C61A6A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7D1-4DA0-420A-BA14-46B85CF1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54A-23B2-463B-9162-C1C03111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E4F-A39C-43C5-B534-A83CD59D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E2B-28EC-4AB7-8171-33F17EBD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E1D-7D2B-4BAE-959C-E5A643D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E55-2986-47C8-8232-A0B916DF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BBF-548D-4934-9523-ED123B74165C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F25-3D92-43D3-88DC-072993E86344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66560" y="4941720"/>
            <a:ext cx="36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Седем чаши се дават на ангили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торият ангел изля чашата си в морето; и то стана като кръв на мъртвец и всяка жива душа в морето умря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162920" y="198900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1462" b="0"/>
          <a:stretch/>
        </p:blipFill>
        <p:spPr>
          <a:xfrm>
            <a:off x="4140360" y="4149720"/>
            <a:ext cx="4321080" cy="244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539640" y="1844640"/>
            <a:ext cx="678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Морето стана като кръ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в Египет второто наказани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Çık7:17-2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аството на Вавилонското царство идваше от морето сега Бог наказа това мор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18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ще вземе хляба от ръцете на хор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каз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Щом забогатяхте от мор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з това богатство ще го взема от вас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2879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89080" y="907920"/>
            <a:ext cx="8675640" cy="20142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третият ангел изля чашата си в реките и във водните извори; и водата им стана кръв. 5 И ангела на водите да казва: Праведен си Ти, Пресвети , който си, и който си бил, затова, че си отсъдил така; понеже те проляха кръвта на светиите и на пророците, Ти си им дал да пият кръв; защото те залужават това. 7 И чух (друг от) олтара да казва: Да, Господи Боже Всемогъщи, истинни и праведни са Твоите присъди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"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012080" y="3357720"/>
            <a:ext cx="1793880" cy="3311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24000" y="323388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одата им стана кръ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каз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Щом изпихте на децата ми кръвта и аз ще ви дам да пиете кръ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rcRect l="0" t="0" r="0" b="8764"/>
          <a:stretch/>
        </p:blipFill>
        <p:spPr>
          <a:xfrm>
            <a:off x="468360" y="4581360"/>
            <a:ext cx="1492200" cy="2016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rcRect l="0" t="0" r="25957" b="0"/>
          <a:stretch/>
        </p:blipFill>
        <p:spPr>
          <a:xfrm>
            <a:off x="3635280" y="4581360"/>
            <a:ext cx="1495440" cy="1994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rcRect l="0" t="0" r="34307" b="0"/>
          <a:stretch/>
        </p:blipFill>
        <p:spPr>
          <a:xfrm>
            <a:off x="2195640" y="4581360"/>
            <a:ext cx="1224000" cy="2016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219640" y="5300640"/>
            <a:ext cx="2016360" cy="433440"/>
          </a:xfrm>
          <a:prstGeom prst="rightArrow">
            <a:avLst>
              <a:gd name="adj1" fmla="val 50000"/>
              <a:gd name="adj2" fmla="val 1163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0360" y="907920"/>
            <a:ext cx="867564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четвъртият ангел изля чашата си върху слънцето, на което се даде да гори хората с огън. 9 И хората се опекоха от голямата горещина и покулиха Името на Бога, който има власт над тези язви, и не се покаяха да Му отдат слав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22200" y="4724280"/>
            <a:ext cx="2881440" cy="2089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3168360" cy="21034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3278160" y="4724280"/>
            <a:ext cx="2662200" cy="2089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012000" y="2565360"/>
            <a:ext cx="3168360" cy="2044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24000" y="2276640"/>
            <a:ext cx="56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Слънцето изгар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nasıl olabilir: ozon tabakası yok oluyor - bir komet yaklaşıp dünyayı yörüngesinden çıkarıyor – güneşin kendisi patlı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insanların yürekleri sertleşmeiş (Mısırlılar gi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Исая 24:1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Ето, ГОСПОД изпразва земята и я запустява, обръща я и разпръсва жителите 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петият ангел изля чашата си върху престола на звяра; и царството му беше помрачено; и хората хапеха езиците си от болка 11 и похулиха небесния Бог заради болките си и раните си, и не се покаяха за делата си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18108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0" b="22030"/>
          <a:stretch/>
        </p:blipFill>
        <p:spPr>
          <a:xfrm>
            <a:off x="250920" y="2349360"/>
            <a:ext cx="2539800" cy="31687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348000" y="2060640"/>
            <a:ext cx="54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На звяра царството беше помрач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кто в Египет 9то наказание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0:23)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икой неможе да мръдне поради тъмнин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-тази тъмнина е върху тези хора, които са на звяра- както в Египет стана Изх.10: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казва: Щом обикнахте тъмнината аз ще ви дам тъмни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рестолът на звя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само в Бергама, но в целия св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7112160" y="5295960"/>
            <a:ext cx="2031840" cy="1562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780000" y="5667480"/>
            <a:ext cx="30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Хапеха езиците 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место да хвалят Господа с езика си, унищожиха езиците 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шестият ангел изля чашата си върху голямата река Ефрат; и водата и пресъхна, за да се приготви пътят  на царете от изгрев слънце.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2060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Ефрат пресъх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tarih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Цар Кирос изсушава река Ефрат и по този начин съвзема Вавилон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İ.Ö. 539 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ан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5:3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9:5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повторение на шестата тръ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и са тези царе, които идват от изгрев слънц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демоните водещите начал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тената, която пазеше хората Бог я срути и демоните можеха да лъжат хор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867280" y="4454640"/>
            <a:ext cx="2756160" cy="2070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2212" t="0" r="0" b="0"/>
          <a:stretch/>
        </p:blipFill>
        <p:spPr>
          <a:xfrm>
            <a:off x="468360" y="4683240"/>
            <a:ext cx="2879640" cy="1841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1784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 от устата на змея и от устата на звяра, и от устата на лъжепророка да излизат три нечисти духа, приличащи на жаби; 14 защото те са духове на демони, които вършат знамения, и отиват при царете на целия свят, за да ги събират за войната във великия Ден на всемогъщия Бо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722600" cy="3716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68360" y="278136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Жаб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то второто наказание в Египет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7:27-2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чисти духове командват демони с една цел хората за последен път да воюват срещу агне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ършат знам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оследната вой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рещу ког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рещу Бог и срещу вярващ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ъд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 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 целия с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й ще бъде в тази вой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- Ето, идвам като крадец. Блажен онзи,  който бди и пази дрехите си за да не ходи гол и да не гледат неговия срам.-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067280" y="3068640"/>
            <a:ext cx="4459320" cy="3456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39640" y="2205000"/>
            <a:ext cx="455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двам като крад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3:3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Лук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2:39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радецът взима чуждото имущество, а Бог своето имуще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Бди и пази дрехите 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да ги пази от мръсотоята, а да не ги съблич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по всяко време да бъде готов за п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79280" y="836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00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333300"/>
                </a:solidFill>
                <a:latin typeface="Tahoma"/>
              </a:rPr>
              <a:t>16</a:t>
            </a:r>
            <a:r>
              <a:rPr b="1" lang="bg-BG" sz="1800" spc="-1" strike="noStrike">
                <a:solidFill>
                  <a:srgbClr val="333300"/>
                </a:solidFill>
                <a:latin typeface="Tahoma"/>
              </a:rPr>
              <a:t> И ги събра на мястото, което на еврейски се нарича Армагедон</a:t>
            </a:r>
            <a:r>
              <a:rPr b="1" lang="tr-TR" sz="1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39840" y="419580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G</a:t>
            </a: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080" y="981000"/>
            <a:ext cx="8675640" cy="36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ги събра на мястото, което на еврейски се нарича Армагедон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0280" y="1774800"/>
            <a:ext cx="816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Войните на земята Армегодонските вой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)  İ.Ö. 1469 – Mısırlı firavun Tutmosis III ve Filistinl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)  İ.Ö. 609 – Mısırlı f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ravun Neko ve Yahuda kralı Yoşiya (2.Krallar 23:29-3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3)  1918 – İngilizler (general Allanby) ve Osmanlı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451640" y="4772160"/>
            <a:ext cx="1463760" cy="1969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1019160" cy="31435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1366560" cy="1943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3665520" y="4149720"/>
            <a:ext cx="1411200" cy="1841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1224000" y="5288040"/>
            <a:ext cx="2052720" cy="1449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4067280" y="5311800"/>
            <a:ext cx="1728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89080" y="981000"/>
            <a:ext cx="8675640" cy="36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 16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ги събра на мястото, което на еврейски се нарича Армагедон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50920" y="184464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Какво означава Армагедон</a:t>
            </a:r>
            <a:r>
              <a:rPr b="1" lang="de-DE" sz="18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Har = tepe  -  Magedon = Megido'n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yani, "Megido tepesi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ama: Megido ovalıkta, orada tepe y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İsrail tarihinde önemli bir Megido savaşı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Hak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4:15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RAB, Sisera'yı, ... bozguna uğratt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Hak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5:20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Yıldızlar göklerden savaşa katıldı .... Sisera'ya karşı savaşt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Hak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7:22 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RAB ordugahtakilerin hepsini kılıçla birbirlerine saldırtt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düşman asıl savaş başlamadan perişan olu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Napoleon Waterloo savaşında yenildi  bugüne kadar 'onun Waterloo'su" denil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a3c145"/>
                </a:solidFill>
                <a:latin typeface="Tahoma"/>
              </a:rPr>
              <a:t>Har-Magedon = </a:t>
            </a:r>
            <a:r>
              <a:rPr b="0" lang="de-DE" sz="3600" spc="-1" strike="noStrike">
                <a:solidFill>
                  <a:srgbClr val="a3c145"/>
                </a:solidFill>
                <a:latin typeface="Tahoma"/>
              </a:rPr>
              <a:t>"</a:t>
            </a:r>
            <a:r>
              <a:rPr b="0" lang="tr-TR" sz="3600" spc="-1" strike="noStrike">
                <a:solidFill>
                  <a:srgbClr val="a3c145"/>
                </a:solidFill>
                <a:latin typeface="Tahoma"/>
              </a:rPr>
              <a:t>Perişan Olmak Tepesi</a:t>
            </a:r>
            <a:r>
              <a:rPr b="0" lang="de-DE" sz="3600" spc="-1" strike="noStrike">
                <a:solidFill>
                  <a:srgbClr val="a3c145"/>
                </a:solidFill>
                <a:latin typeface="Tahoma"/>
              </a:rPr>
              <a:t>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508720" y="1604880"/>
            <a:ext cx="31669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79280" y="765000"/>
            <a:ext cx="867564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видях на небето друго знамение, голямо и чудно: седем ангела, които държаха послените седем язви, защото с тях се изчерпва Божията ярост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032000" cy="2647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47840" y="1773360"/>
            <a:ext cx="426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Последните язви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о сега язвите навредиха само една четвърт от земята, но сега ще засегнат целия с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зчерпва се Божията я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черпва се божията ярос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сякаш тези седем язви са в седмата тръба, те са откровение на седмата тръ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8360" y="4437000"/>
            <a:ext cx="83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Божият гн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Исая 48:9.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ради Името си ще задържа изливането на гнева Си и заради славата Си ще се въздържа за теб, за да не те отс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с. 90:11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Кой знае силата на гнева Ти и чростта Ти, според страха от Теб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итие 15:16 А в четвъртото поколение потомците ти ще се върнат тук, защото безаконието на аморейците още не стигнало до върха си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her halkın bir 'çfke çlöüsü2 var, ama burada bütün dünyanınkisi gösteril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89080" y="981000"/>
            <a:ext cx="8675640" cy="36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16 И ги събра на мястото, което на еврейски се нарича Армагед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2492280"/>
            <a:ext cx="24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Армагедон и Сионският хълм</a:t>
            </a:r>
            <a:r>
              <a:rPr b="1" lang="de-DE" sz="18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гнето събира своите хора на едно мя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рите жаби събират остани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Сион не може да се разкла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ланин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Армагедон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=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НЯМА ДА СЕ УНИЩОЖИ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808360" cy="417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8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седмият ангел изля чашата си във въздоха; и от храма дойде силен глас от престола и каза: Сбъдна се. 18 И излязоха светкавици и гласове, и гръмове, и стана силно земетресение, каквото не е било от както има човек на земята- такова голямо земетресение толкова силно!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682560" y="450864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5808600" y="2349360"/>
            <a:ext cx="31561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89080" y="981000"/>
            <a:ext cx="8675640" cy="916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еликият град се разцепи на три части и градовете на нациите паднаха, и великият Вавилон беше припомнен пред Бога, за да му даде чашата с виното на яростта на Неговия гняв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3130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89080" y="981000"/>
            <a:ext cx="867564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секи остров изчезна и планините не се намериха. 21 И от небето падна върху хората едър град, всяко парче тежеше като един талант*. И хората похулиха Бога заради язвата от града, защото язвата от него беше твърде голям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28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392720" cy="31194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37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Borular ve taslar serile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50920" y="1052640"/>
          <a:ext cx="8640720" cy="6570360"/>
        </p:xfrm>
        <a:graphic>
          <a:graphicData uri="http://schemas.openxmlformats.org/drawingml/2006/table">
            <a:tbl>
              <a:tblPr/>
              <a:tblGrid>
                <a:gridCol w="1008000"/>
                <a:gridCol w="3240000"/>
                <a:gridCol w="936720"/>
                <a:gridCol w="345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ru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lekleri tanıtılı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: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lar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lekleri tanıtılı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3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олитвата на светиите и наказания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:2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а новите песни и наказания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ъба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ударът върху земя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ша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bg-BG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ударът върху земя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8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ъба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моретата стават  на кръ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tas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морето става на кръ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10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ъба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осяга се върху сладката 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tas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осяга се върху сладката 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: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ъба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осяга  на слънцето и на лун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8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tas: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лънцето гори с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boru: çekirgeler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aranlık ve çeki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etiri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10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tas: canavarın krallığına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aranlık ve çekiler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etirili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:13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boru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ırat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ırmağındaki melekler çözülü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12-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tas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ırat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ırmağının üzerine dökülü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:1-11: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a parçası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ezalar içinde yaşayan kil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a parçası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ezalar içinde yaşayan kiliseye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uyar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:15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boru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şimşekler, sesler, gök gürüldemeleri, zelzele, to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:17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tas: </a:t>
                      </a: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şimşekler, sesler, gök gürüldemeleri, zelzele, to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klemeler  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2:1-14: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klemeler 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7:1-22: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89080" y="874800"/>
            <a:ext cx="8675640" cy="119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видях нещо като стъклено море, размесено с огън; и тези, които бяха победили звяра и неговия образ, стояха при стъкленото море, като държаха Божии арфи. Те пееха песента на Божия слуга Мойсей и песента на Агнето и казваха: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6521" b="0"/>
          <a:stretch/>
        </p:blipFill>
        <p:spPr>
          <a:xfrm>
            <a:off x="0" y="5137200"/>
            <a:ext cx="3097080" cy="17208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258920" y="249228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тъклено м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4:6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ед Божия престол се кланя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тъкло разменсено с огън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=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са ангилите а тези които са минали от скръб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Песента на Мойсей  и Агн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раиливите синове пяха тази песен на ГОСПОД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од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ях кой ги спас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ойсей или агне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 (12:11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ръвта е свидетелств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ой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бедителите на звярът на идола и на ном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0" t="25004" r="0" b="0"/>
          <a:stretch/>
        </p:blipFill>
        <p:spPr>
          <a:xfrm>
            <a:off x="5796000" y="5129280"/>
            <a:ext cx="31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казаха: Велики и чудесни са Твоите дела, Господи, Боже Всемогъщи; праведнни и истини са Твоите, Царю на нациите! 4 Кой няма да се бои от Теб, Господи, и няма да прослави името Ти? Защото само Ти си свят. Всички народи ще дойдат  и ще се поклонят пред Теб, защото се явиха Твоите праведни дела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64000" y="3470400"/>
            <a:ext cx="3376800" cy="2998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03120" y="2660760"/>
            <a:ext cx="498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3 defa "EY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Herşeyi güden" – işl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Miilletlerin kralı" – yolları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Rab" – senin korkun ve şanı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3 seb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yalnız sen kutsalsın – 'tanrılar' kutsal değ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milletler sana tapacak – değil sade bir h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doğruluğun belli edildi – putlar doğru değ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Rabbin kutsallığı ve doğrulu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sade o cezaların sebebid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kurtulanlar sade onunla sevinirler (değil kendi sadikanlığ değil intikam düşünceleri 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404640"/>
            <a:ext cx="864072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след това видях, че на небето се отвори храмът на скинята на свидетелството. 6 И седемте ангела, които държаха седемте язви, излязоха от храма облечени  в чисти и блестящи ленени дрехи и препасани през гърдите със златни пояси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-382680"/>
            <a:ext cx="9144000" cy="765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2657" t="3445" r="3690" b="2657"/>
          <a:stretch/>
        </p:blipFill>
        <p:spPr>
          <a:xfrm>
            <a:off x="395280" y="220500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rcRect l="0" t="19732" r="0" b="11250"/>
          <a:stretch/>
        </p:blipFill>
        <p:spPr>
          <a:xfrm>
            <a:off x="684360" y="3141720"/>
            <a:ext cx="2562120" cy="201600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826920" y="4941720"/>
            <a:ext cx="2841840" cy="1444320"/>
            <a:chOff x="826920" y="4941720"/>
            <a:chExt cx="2841840" cy="1444320"/>
          </a:xfrm>
        </p:grpSpPr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826920" y="4952160"/>
              <a:ext cx="41400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1240920" y="4952160"/>
              <a:ext cx="41364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5"/>
            <a:stretch/>
          </p:blipFill>
          <p:spPr>
            <a:xfrm>
              <a:off x="1634400" y="4941720"/>
              <a:ext cx="41400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6"/>
            <a:stretch/>
          </p:blipFill>
          <p:spPr>
            <a:xfrm>
              <a:off x="3254760" y="4941720"/>
              <a:ext cx="41400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7"/>
            <a:stretch/>
          </p:blipFill>
          <p:spPr>
            <a:xfrm>
              <a:off x="2052360" y="4952160"/>
              <a:ext cx="41400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2466360" y="4941720"/>
              <a:ext cx="41400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9"/>
            <a:stretch/>
          </p:blipFill>
          <p:spPr>
            <a:xfrm>
              <a:off x="2859840" y="4941720"/>
              <a:ext cx="414000" cy="143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>
            <a:off x="3851280" y="1547640"/>
            <a:ext cx="529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Храмът 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по време на царството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храмът на скинията на свидетелствот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çöl zamanınd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‘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се отвор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о трябваше да стои затворено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ези които излизат, излизат да вършат Божията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Облеколото на Ангелите 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ленени и златни пояс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1:13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блеклото на ангелите прилича на облеклото на Иис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исус като първосвещеник изпраща ангелите на земята да я накаж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бето се отвори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4:1 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една врата се отваря на небе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1:19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Храм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5:5 –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ястото  на свиделств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19:11 –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амото цяло небе е храм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едно от четирите живи същества даде на седемте ангела седем златни чаши, пълни с яростта на Бога, който живее за вечни векове. 8 И храмът се изпълни с дим от славата на Бога и от Неговото могъщество и никой не можеше да влезе в храма, преди да се свършат седемте язви на седемте ангела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227640" y="2463840"/>
            <a:ext cx="2386080" cy="2620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rcRect l="33700" t="0" r="0" b="0"/>
          <a:stretch/>
        </p:blipFill>
        <p:spPr>
          <a:xfrm>
            <a:off x="5940360" y="4913280"/>
            <a:ext cx="2408400" cy="1828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474920" cy="1800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023840" y="2454120"/>
            <a:ext cx="491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Чаш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то чашата на гне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 (14:10)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о по- голя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жиите свещеници го използвах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а кръвта на жертват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27: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1755720" cy="2543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411280" y="4005360"/>
            <a:ext cx="347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Д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кровение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4‘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и продължение и с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тговор на молитвите на свети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икой не можеше да влезе в храм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икоя молитва или жертвоприношение няма да може да спре яростта на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770200" y="328464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Изсипват се седемте чаши на Божия гня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5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9080" y="907920"/>
            <a:ext cx="8675640" cy="1465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И чух от храма  силен глас, който казваше на седемте ангела: Идете и излейте на земята седемте чаши на Божията ярост! 2 И Първият отиде и изля чашата си на земята; и се появи лоша и люта рана по онези хора, които носеха белега на звяра и които се покланяха на неговия образ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7те язв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ъведение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 16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74920" y="26370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rcRect l="0" t="0" r="17332" b="0"/>
          <a:stretch/>
        </p:blipFill>
        <p:spPr>
          <a:xfrm>
            <a:off x="6516720" y="2565360"/>
            <a:ext cx="2398680" cy="2979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52360" y="4581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Лошите р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Като шестото наказание в Египет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х.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9:9-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ъзпален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хората ще станат алергични към храната и 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Още от миналото кожните заболявания се приемаха като наказание от Бог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Йов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Бог казв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Щом приехте белега на звяра и аз ще ви дам втори белег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6T21:20:00Z</dcterms:modified>
  <cp:revision>604</cp:revision>
  <dc:subject/>
  <dc:title>Yedi Mühür açılıyor (bölüm 6)</dc:title>
</cp:coreProperties>
</file>