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34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56.jpeg" ContentType="image/jpeg"/>
  <Override PartName="/ppt/media/image33.png" ContentType="image/pn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8.jpeg" ContentType="image/jpeg"/>
  <Override PartName="/ppt/media/image31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931-6555-41D3-806D-76DAE0AF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34F-A9BC-4B68-A338-0CDF93FB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AD142-B697-4C2A-8D3F-0AC7DE92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5CB5E-C211-45D9-93FD-A404D0DF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6B60C-385F-441E-A351-02BC09D8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E6A50-AC35-4B43-8EBA-08994AF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16973-388E-48CB-9578-C16EA93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A46FD-17FE-497A-B2DD-7EF441C4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C4A2D-9C29-4DC7-BB1E-4A67AE6C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E944B-74C1-411C-AB63-C88ED8E7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5CBE6-D3CB-46C4-86E0-F3AA5F61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7D8-DC6C-4B53-A819-3945E741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FD1-4BA1-427C-8484-B219BB25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D8D3-2F7C-4E54-89A8-418C642F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694A-1935-4623-AD83-8F324D1E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BEA3-385D-43B5-AA22-6CC3E33D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FE55-4263-4FEB-AFF8-8A5B10B7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0F1F-300D-4B02-8904-E137D341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C823-C6DB-4891-8A9C-47B28A0A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2B30-94B5-44F4-8C90-49543E9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579-BC90-4E22-9F3B-12D050F9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CA26-87DB-4892-8511-7074F93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C9DA-8385-4BF9-B5FD-59109B52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B23C-FE77-4609-90D2-C6EADC0A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9738-4EAB-4E44-B712-F3AB80E2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AA31-BB6E-4328-B34B-9FEC1182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FD234-4B9B-4466-A970-395105DF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A7FE-D80D-48DB-98A6-2FD0BCEE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EE3D-713A-474D-90E4-5FB87AF9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C6B8-8005-4B17-9B9C-1CF7A5EB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C0EA-189D-4F81-AC72-5AE1E2AF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D9C-1031-4025-A6C6-58823332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1FFF-78B5-4893-A124-1F333A40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640AE-58AA-4536-A982-F00FD4C3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73BD-7D2C-496C-948E-F56F52E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DEB6E-5217-498F-9574-CCCBE40B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9E0E-75C3-4F72-A4E8-D862C78E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A7EB-F4A0-4649-BDB0-196B6455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6DC4-B2C4-4DC7-B5FE-E1D0AD5F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0F7E-7D4E-4E53-AA49-8F0F00BA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8D1B9-1A87-4B3D-9F75-2EDBB397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F914-2ABE-4874-97B3-763B4478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91D-5DFC-4435-9596-6FF9CC58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B8E3-3833-4812-A219-FA351B4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042F-AA29-4DD2-AFD8-215533DC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1365-A8E8-4677-AEB4-2378DF5B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ABA6-28D6-45AD-B69D-CEE03A39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DF41-FA98-45B7-9F0E-8B963D56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CAA7-8AEE-4654-A79F-0751542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6B94-E78A-4FE3-AC67-6FD2EC9E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45E1C-7DED-454B-A49B-68374E3C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2316-CA15-42CF-AD41-C854FF82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8F3A1-85D9-4C55-9B71-3C7D7728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2E2-1102-41CD-93CA-94B3A15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ED021-DF4A-4CE2-B14B-A8AA53B4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46FD1-BF34-493E-B0E4-5D0DBCBF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52AF4-EC54-4ACC-AF46-9325EF80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0ECE-05D7-41E9-BC4A-6980A75B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6B518-A218-4F35-8E7B-E11D374E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39FAE-86D9-4987-A24F-3F0DBBA8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FB8B6-EEC1-47D6-9FC7-840C68CE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D1038-A67A-4CE5-9327-1CDD2B19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B07C-B3A0-4E5A-89CA-BBCB64F0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6E5A6-2083-4139-BF03-48C950D7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881-AB09-475C-88F8-2ABE1546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F244-6BD7-4DA3-971D-AB3D7217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C8447-7926-4C9A-B600-22725002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CE441-A333-4E2D-8437-13F69ED0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05E3-A299-4AA0-A47B-531F6044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BF29E-8A55-4DCD-A7E4-48143CD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097C7-62CF-45BF-837C-B7E9B093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342CF-BB29-4B77-BC12-F66F8C5C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745D4-97CE-4091-8178-51369635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1932F-1509-4463-B7DC-6D2F7B1F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EFF8D-DF52-4520-8053-B23D1449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134-43A0-47B4-A4C0-242E4E9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4B3F-DFF4-460D-92C3-68317FD8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187F0-7CBF-4206-802C-0E4947EA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38AA-3F3C-46D6-8C3D-8D916781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34443-DFF8-4C74-8036-995263BB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686A6-D61C-4C64-825D-A71DE610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64430-59DC-4494-9FFD-35DD67D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ADFAF-2EE8-41DD-BA39-B8F219D3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150B-E767-41B8-BD2F-A8A7B08B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BBEFF-3F47-4DB6-B948-BE2C58A6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B9AF7-BCFD-416A-9994-4DF1A076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DC8-CA60-4B20-A20C-F9CDC0A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8987-1737-419E-9657-90431A40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57F19-E92E-4157-8266-F03E4F00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F36F8-25B0-4B4E-9BBB-B2570A72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1FFC9-99EC-4DAF-B079-EA2A04D0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7E88B-FD48-4C3D-9F9F-79B37062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398D-2192-4A9A-8EA1-2EA5E146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749FB-EC0E-4685-9093-5DB37F13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0DB4D-A105-40E1-A925-6CEA22E0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9DA80-4E4E-4EEE-9691-FB18DCC7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8936A-96F6-43E5-A9A8-7C7FA91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739-6CC4-4EE0-B9C5-7E15FF5A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269A8-0DB5-43AD-AC94-2FC203CD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DF7AE-556B-49E7-A5AE-BA9559EE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28B72-5631-4D99-B35C-A7DDD11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00852-24D3-46A2-B20E-109AB007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526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F5744-4D0A-48AF-9F19-909DA45A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526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A1D9C-6CA3-4CC7-8A87-DB2AABC2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526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48FF8-1B48-41CC-998B-06FEC466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61CB5-E76A-4BE3-BCCB-B4183FB4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46FC0-DF62-4E0D-9574-878B25BB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BD967-D3BB-4576-AD5A-3A31BE6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F3F8-B7E6-46C5-9F38-76D8214D1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BE03-8377-45B8-AEF5-D6033B735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6291-4A63-4E55-8E0C-52D8BF87F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EE19-5D05-4F61-BE8E-FD64E8D27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D8FB-DD1C-45F9-95A9-AFBA9AF5B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7F4E-DB08-4536-BAA6-51C654284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0BA-AD59-4602-B2D5-6C7E9E4A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9C4F-D5AA-4266-9658-4D4750EE6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9082-603E-4B5F-BC14-01A7E2D01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050920" y="1413000"/>
            <a:ext cx="504216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d4d4d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юнянън </a:t>
            </a:r>
            <a:endParaRPr b="0" lang="en-US" sz="1800" spc="1" strike="noStrike">
              <a:ln w="19080">
                <a:solidFill>
                  <a:srgbClr val="4d4d4d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d4d4d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йюклери </a:t>
            </a:r>
            <a:endParaRPr b="0" lang="en-US" sz="1800" spc="1" strike="noStrike">
              <a:ln w="19080">
                <a:solidFill>
                  <a:srgbClr val="4d4d4d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d4d4d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гюн </a:t>
            </a:r>
            <a:endParaRPr b="0" lang="en-US" sz="1800" spc="1" strike="noStrike">
              <a:ln w="19080">
                <a:solidFill>
                  <a:srgbClr val="4d4d4d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d4d4d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реде?</a:t>
            </a:r>
            <a:endParaRPr b="0" lang="en-US" sz="1800" spc="1" strike="noStrike">
              <a:ln w="19080">
                <a:solidFill>
                  <a:srgbClr val="4d4d4d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626920" y="692280"/>
            <a:ext cx="360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НАПОЛЕ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5011560" y="227664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2320920" y="2637000"/>
            <a:ext cx="2395440" cy="3843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51640" y="1987560"/>
            <a:ext cx="39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Франса’нън емперат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69 - 18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012640" y="537372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арис (Фран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2781360"/>
            <a:ext cx="208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тлантикте бир адая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юргюн едилди, ялнъзлък ичинде ьолдю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cc00"/>
                </a:solidFill>
                <a:uFillTx/>
                <a:latin typeface="Arial"/>
              </a:rPr>
              <a:t>Сон сьозлер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Ьондже Франса, сонра орду, ордунун башъ ве сонра Йосефина (каръсъ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1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01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123640" y="692280"/>
            <a:ext cx="453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АТАТЮ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198756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Тюркийе’нин куртаръджъ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1 - 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13920" y="508464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Ан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2486160" y="2492280"/>
            <a:ext cx="2446200" cy="41036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5292720" y="2565360"/>
            <a:ext cx="3419640" cy="23846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24000" y="3573360"/>
            <a:ext cx="189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ара джиер цирозаси (ички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cc00"/>
                </a:solidFill>
                <a:uFillTx/>
                <a:latin typeface="Arial"/>
              </a:rPr>
              <a:t>Сон сьозлер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Саат кач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1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101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9492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ЕЛВИС ПРЕ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19875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ок енд Роул мюзиинин кра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 - 1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37800" y="5084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Тенеси (САЩ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268360" y="256536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2197080" cy="29289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24000" y="481644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Туалетте калп кризи гечир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1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2"/>
          <a:srcRect l="51002" t="0" r="0" b="0"/>
          <a:stretch/>
        </p:blipFill>
        <p:spPr>
          <a:xfrm>
            <a:off x="3274920" y="2852640"/>
            <a:ext cx="1866960" cy="25624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39492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ДЖОН ЛЕН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0920" y="198756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ийтълс’ мюзик грубунун ьонд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 - 1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96360" y="5084640"/>
            <a:ext cx="28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Ню Йо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rcRect l="0" t="0" r="50009" b="0"/>
          <a:stretch/>
        </p:blipFill>
        <p:spPr>
          <a:xfrm>
            <a:off x="2195640" y="3286080"/>
            <a:ext cx="1904760" cy="25621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5508720" y="2657520"/>
            <a:ext cx="3321000" cy="22114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835280" y="5877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Биз артък Иса Месихтен даа попюлер олдук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4000" y="3979800"/>
            <a:ext cx="189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окакта бир кишиден силахлан вурул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01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301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801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39492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КАРЛ МАР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0920" y="198756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мунизимин куруджу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13 - 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06600" y="57340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н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364500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ронхит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6173640" y="2060640"/>
            <a:ext cx="2352960" cy="35290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340000" y="2781360"/>
            <a:ext cx="3311640" cy="2705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122560" y="558972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Дин, садедже халк ичин бир уйуштуруджудур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1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301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5200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Б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0920" y="198756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удизмин куруджу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56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-4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81800" y="5084640"/>
            <a:ext cx="330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сламаб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(Пакист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3284640"/>
            <a:ext cx="201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Ет я да мантардан оталанд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cc00"/>
                </a:solidFill>
                <a:uFillTx/>
                <a:latin typeface="Arial"/>
              </a:rPr>
              <a:t>Сон сьозлер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Чок урашън кенди кендинизи куртарасънъз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2514600" cy="3457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5508720" y="2479680"/>
            <a:ext cx="3378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1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1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2364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КОНФУЦИ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0920" y="19875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Чинлилерин дининин куруджу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1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-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36000" y="508464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уфу (Кита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3340080"/>
            <a:ext cx="223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Оулларънън ьолюмюнден сонра депресияя дюш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cc00"/>
                </a:solidFill>
                <a:uFillTx/>
                <a:latin typeface="Arial"/>
              </a:rPr>
              <a:t>Сон сьозлер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Анлайъшлъ крал йок... кимсе бенден акъл алмъйор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627280" y="2637000"/>
            <a:ext cx="2452680" cy="3384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508720" y="2565360"/>
            <a:ext cx="3333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1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301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2364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МУХАММ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920" y="198756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сламийетин куруджу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 -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36720" y="5084640"/>
            <a:ext cx="32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д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(Сууди Арабист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4000" y="3268800"/>
            <a:ext cx="201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Еттен оталан-дъ, 3 сене сонра ьолд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cc00"/>
                </a:solidFill>
                <a:uFillTx/>
                <a:latin typeface="Arial"/>
              </a:rPr>
              <a:t>Сон сьозлерин-ден бири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Аллах Яхудилери ве Християнларъ ланет етсин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2549520" y="2637000"/>
            <a:ext cx="2382840" cy="3024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5214960" y="2421000"/>
            <a:ext cx="36781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01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1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2364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ИСА МЕС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0920" y="19875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ралларън Кралъ ве Раблерин Раб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498920" y="1995480"/>
            <a:ext cx="4645080" cy="48625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39640" y="342900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Arial"/>
              </a:rPr>
              <a:t>Онун мезаръ БО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01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evt="end">
                                        <p:tn val="609"/>
                                      </p:cond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Раб Иса герчектен дирилд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52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51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55640" y="29941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bg-BG" sz="2400" spc="-1" strike="noStrike">
                <a:solidFill>
                  <a:srgbClr val="006699"/>
                </a:solidFill>
                <a:latin typeface="Arial"/>
              </a:rPr>
              <a:t>РАБ ьондерлерин солууну кесер, корку салар йерйюзю кралларъна.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” </a:t>
            </a:r>
            <a:r>
              <a:rPr b="0" lang="bg-BG" sz="1800" spc="-1" strike="noStrike">
                <a:solidFill>
                  <a:srgbClr val="006699"/>
                </a:solidFill>
                <a:latin typeface="Arial"/>
              </a:rPr>
              <a:t>(Зебур / Мезмур 76: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5640" y="15192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"Инсан сойу от гибидир, бютюн вефасъ кър чичеи гибидир. РАБ'бин солуу есиндже юзерлерине, от курур, чичек солар.”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Теврат / Йешая 40: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4131000"/>
            <a:ext cx="7561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6600"/>
                </a:solidFill>
                <a:latin typeface="Arial"/>
              </a:rPr>
              <a:t>ЬОрет бизе гюнлеримизи сайма</a:t>
            </a:r>
            <a:r>
              <a:rPr b="0" lang="bg-BG" sz="2400" spc="-1" strike="noStrike">
                <a:solidFill>
                  <a:srgbClr val="006600"/>
                </a:solidFill>
                <a:latin typeface="Arial"/>
              </a:rPr>
              <a:t>йъ</a:t>
            </a:r>
            <a:r>
              <a:rPr b="0" lang="tr-TR" sz="2400" spc="-1" strike="noStrike">
                <a:solidFill>
                  <a:srgbClr val="0066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"/>
              </a:rPr>
              <a:t>ьойле ки анл</a:t>
            </a:r>
            <a:r>
              <a:rPr b="0" lang="bg-BG" sz="24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0" lang="tr-TR" sz="2400" spc="-1" strike="noStrike">
                <a:solidFill>
                  <a:srgbClr val="006600"/>
                </a:solidFill>
                <a:latin typeface="Arial"/>
              </a:rPr>
              <a:t>йъш долу бир йюрек единелим.</a:t>
            </a:r>
            <a:r>
              <a:rPr b="0" lang="bg-BG" sz="24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06600"/>
                </a:solidFill>
                <a:latin typeface="Arial"/>
              </a:rPr>
              <a:t>Зебур / Мезмур 90:1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’нън дирилиши тарихте бир хакикаттър ...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314880" cy="4773600"/>
          </a:xfrm>
          <a:prstGeom prst="rect">
            <a:avLst/>
          </a:prstGeom>
          <a:ln w="9360">
            <a:solidFill>
              <a:srgbClr val="97e183"/>
            </a:solidFill>
            <a:miter/>
          </a:ln>
        </p:spPr>
      </p:pic>
      <p:sp>
        <p:nvSpPr>
          <p:cNvPr id="486" name=""/>
          <p:cNvSpPr/>
          <p:nvPr/>
        </p:nvSpPr>
        <p:spPr>
          <a:xfrm>
            <a:off x="3419640" y="3141720"/>
            <a:ext cx="5329080" cy="29394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Хачта аджъ чекен Иса Месих иди – башкасъ олам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на ен якън олан ьоренджилери. Хатта кенди анасъ орада ид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ачта ьолен киши бир кере олсун демеди: “Янлъшлък яптънъз, бен Иса деилим!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1"/>
                            </p:stCondLst>
                            <p:childTnLst>
                              <p:par>
                                <p:cTn id="6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1"/>
                            </p:stCondLst>
                            <p:childTnLst>
                              <p:par>
                                <p:cTn id="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1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501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’нън дирилиши тарихте бир хакикаттър ...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084720" y="1700280"/>
            <a:ext cx="2686320" cy="4797360"/>
          </a:xfrm>
          <a:prstGeom prst="rect">
            <a:avLst/>
          </a:prstGeom>
          <a:ln w="9360">
            <a:solidFill>
              <a:srgbClr val="97e183"/>
            </a:solidFill>
            <a:miter/>
          </a:ln>
        </p:spPr>
      </p:pic>
      <p:sp>
        <p:nvSpPr>
          <p:cNvPr id="489" name=""/>
          <p:cNvSpPr/>
          <p:nvPr/>
        </p:nvSpPr>
        <p:spPr>
          <a:xfrm>
            <a:off x="539640" y="2492280"/>
            <a:ext cx="5040360" cy="2604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Иса Месих хачта ьолдю - байълмад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нун йюреини мъразкла делдил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скерлер Иса’йъ ьолмеден ьондже хачтан индирсейдилер, онлара ьолюм джезасъ вериледжей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1"/>
                            </p:stCondLst>
                            <p:childTnLst>
                              <p:par>
                                <p:cTn id="6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1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01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1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’нън дирилиши тарихте бир хакикаттър ...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4000" y="1832040"/>
            <a:ext cx="3384360" cy="4185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Иса Месих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ин джеседини кимсе чалмад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зарън аазънда коджаман таш вард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нун юстюне мюхюр койдул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зарън ьонюнде, мезаръ колламак ичин аскерлер дурур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2665440" cy="1998720"/>
          </a:xfrm>
          <a:prstGeom prst="rect">
            <a:avLst/>
          </a:prstGeom>
          <a:ln w="9360">
            <a:solidFill>
              <a:srgbClr val="97e183"/>
            </a:solidFill>
            <a:miter/>
          </a:ln>
        </p:spPr>
      </p:pic>
      <p:pic>
        <p:nvPicPr>
          <p:cNvPr id="493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859280" y="3429000"/>
            <a:ext cx="2371680" cy="3173400"/>
          </a:xfrm>
          <a:prstGeom prst="rect">
            <a:avLst/>
          </a:prstGeom>
          <a:ln w="9360">
            <a:solidFill>
              <a:srgbClr val="97e183"/>
            </a:solidFill>
            <a:miter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6443640" y="2421000"/>
            <a:ext cx="2232000" cy="1628640"/>
          </a:xfrm>
          <a:prstGeom prst="rect">
            <a:avLst/>
          </a:prstGeom>
          <a:ln w="9360">
            <a:solidFill>
              <a:srgbClr val="97e1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1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1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’нън дирилиши тарихте бир хакикаттър ...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4000" y="1832040"/>
            <a:ext cx="3527280" cy="3975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5a7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Иса’нън ьоренджи-лери хаял гьормедил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зар герчектен бош иди; йокса Иса’нън дюшманларъ джеседи гьостеребилир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са бирчок дефа ве деишик йерлерде гьорюнд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516720" y="1628640"/>
            <a:ext cx="1836720" cy="2737080"/>
          </a:xfrm>
          <a:prstGeom prst="rect">
            <a:avLst/>
          </a:prstGeom>
          <a:ln w="9360">
            <a:solidFill>
              <a:srgbClr val="97e183"/>
            </a:solidFill>
            <a:miter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5292720" y="4508640"/>
            <a:ext cx="3311640" cy="2171520"/>
          </a:xfrm>
          <a:prstGeom prst="rect">
            <a:avLst/>
          </a:prstGeom>
          <a:ln w="9360">
            <a:solidFill>
              <a:srgbClr val="97e183"/>
            </a:solidFill>
            <a:miter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4284720" y="2205000"/>
            <a:ext cx="1915920" cy="2879640"/>
          </a:xfrm>
          <a:prstGeom prst="rect">
            <a:avLst/>
          </a:prstGeom>
          <a:ln w="9360">
            <a:solidFill>
              <a:srgbClr val="97e1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1"/>
                            </p:stCondLst>
                            <p:childTnLst>
                              <p:par>
                                <p:cTn id="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1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’нън дирилиши тарихте бир хакикаттър ...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4000" y="1832040"/>
            <a:ext cx="3527280" cy="4310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5a7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Иса’нън ьоренджи-лери буну уйдурмадъла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юнкю хепси буну ьореттиклери ичин ьолдюрюлд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са’нън дирилиши илк ьоренджилерин яйдъъ ен ьонемли хабер иди. Сонрадан мейдана чъкмад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647040" y="3429000"/>
            <a:ext cx="2151000" cy="3135240"/>
            <a:chOff x="6647040" y="3429000"/>
            <a:chExt cx="2151000" cy="3135240"/>
          </a:xfrm>
        </p:grpSpPr>
        <p:pic>
          <p:nvPicPr>
            <p:cNvPr id="503" name="" descr=""/>
            <p:cNvPicPr/>
            <p:nvPr/>
          </p:nvPicPr>
          <p:blipFill>
            <a:blip r:embed="rId2"/>
            <a:stretch/>
          </p:blipFill>
          <p:spPr>
            <a:xfrm>
              <a:off x="6647040" y="3429000"/>
              <a:ext cx="2151000" cy="3135240"/>
            </a:xfrm>
            <a:prstGeom prst="rect">
              <a:avLst/>
            </a:prstGeom>
            <a:ln w="9360">
              <a:solidFill>
                <a:srgbClr val="97e183"/>
              </a:solidFill>
              <a:miter/>
            </a:ln>
          </p:spPr>
        </p:pic>
        <p:sp>
          <p:nvSpPr>
            <p:cNvPr id="504" name=""/>
            <p:cNvSpPr/>
            <p:nvPr/>
          </p:nvSpPr>
          <p:spPr>
            <a:xfrm>
              <a:off x="7674120" y="6086520"/>
              <a:ext cx="1018800" cy="3682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97e1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ТОМ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148360" y="1701720"/>
            <a:ext cx="2879640" cy="2303280"/>
            <a:chOff x="5148360" y="1701720"/>
            <a:chExt cx="2879640" cy="230328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5148360" y="1701720"/>
              <a:ext cx="2879640" cy="2303280"/>
            </a:xfrm>
            <a:prstGeom prst="rect">
              <a:avLst/>
            </a:prstGeom>
            <a:ln w="9360">
              <a:solidFill>
                <a:srgbClr val="97e183"/>
              </a:solidFill>
              <a:miter/>
            </a:ln>
          </p:spPr>
        </p:pic>
        <p:sp>
          <p:nvSpPr>
            <p:cNvPr id="507" name=""/>
            <p:cNvSpPr/>
            <p:nvPr/>
          </p:nvSpPr>
          <p:spPr>
            <a:xfrm>
              <a:off x="7093440" y="1844640"/>
              <a:ext cx="792000" cy="3682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97e1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ЯКУ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140360" y="3573360"/>
            <a:ext cx="2160000" cy="2950920"/>
            <a:chOff x="4140360" y="3573360"/>
            <a:chExt cx="2160000" cy="2950920"/>
          </a:xfrm>
        </p:grpSpPr>
        <p:pic>
          <p:nvPicPr>
            <p:cNvPr id="509" name="" descr=""/>
            <p:cNvPicPr/>
            <p:nvPr/>
          </p:nvPicPr>
          <p:blipFill>
            <a:blip r:embed="rId4"/>
            <a:stretch/>
          </p:blipFill>
          <p:spPr>
            <a:xfrm>
              <a:off x="4140360" y="3573360"/>
              <a:ext cx="2160000" cy="2950920"/>
            </a:xfrm>
            <a:prstGeom prst="rect">
              <a:avLst/>
            </a:prstGeom>
            <a:ln w="9360">
              <a:solidFill>
                <a:srgbClr val="97e183"/>
              </a:solidFill>
              <a:miter/>
            </a:ln>
          </p:spPr>
        </p:pic>
        <p:sp>
          <p:nvSpPr>
            <p:cNvPr id="510" name=""/>
            <p:cNvSpPr/>
            <p:nvPr/>
          </p:nvSpPr>
          <p:spPr>
            <a:xfrm>
              <a:off x="4308840" y="3733560"/>
              <a:ext cx="1096560" cy="3682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97e1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ПЕТРУ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1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1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, дирилмекле 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Шейтан’ън башънъ езд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272120" y="1989000"/>
            <a:ext cx="3395520" cy="46198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176480" y="1843200"/>
            <a:ext cx="28796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ЬОйле ки, ьолмекле ьолюмюн кувветине сахип оланъ, хани Шейтанъ, йенсин. ЬОйле ки, инсанларъ сербест етсин, чюнкю ьолюмден корктукларъ ичин хаят бойунджа есир идилер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c0c0"/>
                </a:solidFill>
                <a:latin typeface="Arial"/>
              </a:rPr>
              <a:t>(Инджил – Ибранилер 2:14-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1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, дирилмекле 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РАБ олдууну илан етт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843360" y="1773360"/>
            <a:ext cx="3753000" cy="4825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187280" y="1954800"/>
            <a:ext cx="245916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ма кутсаллък рухуна гьоре кувветле ве ьолюлерден дирилмекле Аллахън Олу оларак илан едилди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c0c0"/>
                </a:solidFill>
                <a:latin typeface="Arial"/>
              </a:rPr>
              <a:t>(Инджил – Ромалълар 1: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401"/>
                            </p:stCondLst>
                            <p:childTnLst>
                              <p:par>
                                <p:cTn id="8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, дирилмекле херкесин дириледжеини гьостерд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3492360" y="1824120"/>
            <a:ext cx="4608720" cy="47736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684360" y="2232720"/>
            <a:ext cx="28080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съл Адем'де херкес ьолюйор, ьойле Месихте херкес дирил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тириледжек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c0c0"/>
                </a:solidFill>
                <a:latin typeface="Arial"/>
              </a:rPr>
              <a:t>(Инджил – 1.Коринтлилер</a:t>
            </a: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c0c0c0"/>
                </a:solidFill>
                <a:latin typeface="Arial"/>
              </a:rPr>
              <a:t>15: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, дирилмекле херкеси давалаяджаънъ гьостерд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42920" y="5421960"/>
            <a:ext cx="7632720" cy="13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ллах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о гюнде дюняйъ дорулукла давалаяджак. О вазифейи бир адама верди, ве херкес ондан емин олсун дийе, Ону ьолюлерден дирилтирди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c0c0"/>
                </a:solidFill>
                <a:latin typeface="Arial"/>
              </a:rPr>
              <a:t>(Инджил – Апостолларън Ишлери 17: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48895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Arial"/>
              </a:rPr>
              <a:t>Иса, дирилмекле бугюн херкеси чаъръйор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00000" y="1944360"/>
            <a:ext cx="2664000" cy="44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оркма, биринджи ве сонунджу бен'им! Дири олан бен'им! Бен ьолмюштюм, ама бак, сонсузлара кадар яшъйорум! ЬОлюмюн анахтаръ, ьолюлер девлетинин анахтаръ бендедир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c0c0"/>
                </a:solidFill>
                <a:latin typeface="Arial"/>
              </a:rPr>
              <a:t>(Инджил – Ачъклама 1:17-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3867120" y="1844640"/>
            <a:ext cx="43052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900000" y="1427400"/>
            <a:ext cx="763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арих бойунджа бюйюк адамлар краллъклар куруп кендилери ичин бюйюк ад япмъшл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ашкаларъ мюзик я да башка бир меселе иле попюлер олду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юйюк динлерин куруджуларъ милионларджа инсанлар етрафъна топладъ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spcAft>
                <a:spcPts val="524"/>
              </a:spcAft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0099"/>
                </a:solidFill>
                <a:latin typeface="Arial"/>
              </a:rPr>
              <a:t>Тек бир шей сормак истийору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БУГЮН ОНЛАР НЕРЕ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2364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ФИРАВУН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198756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Ески Мъсър’ън кралла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71720" y="5084640"/>
            <a:ext cx="30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л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аиро (Мъсъ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4222800"/>
            <a:ext cx="194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лер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Ьолюмлерин- ден сонра джесетлерини мумялаштър-д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2425680" y="2565360"/>
            <a:ext cx="2433600" cy="33688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835280" y="5877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Халка буйурдулар, танръ оларак тапълсън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1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01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9492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БЮЙЮК ИСКЕНД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98756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Ен къса заманда ен бюйюк емператорлуу кур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35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-3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37080" y="5084640"/>
            <a:ext cx="37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ойул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(таш табуду: Истанб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64000" y="2540160"/>
            <a:ext cx="3546720" cy="23587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2484360" y="2863800"/>
            <a:ext cx="2471760" cy="3086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24000" y="48164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Генераллерин бири ону оталад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587700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32 яшънда икен ааладъ, еле гечиреджек девлетлер калмадъ дий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1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01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201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123640" y="692280"/>
            <a:ext cx="453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ДЖЕНГИЗ Х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19875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онгол емперат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62 - 12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58560" y="508464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Ордос (Монго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744720" cy="26812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340000" y="2637000"/>
            <a:ext cx="2376360" cy="3671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24000" y="48164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ейгирден дюшюп яраланд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1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01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402920" y="692280"/>
            <a:ext cx="62629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ШАРЛМАН </a:t>
            </a:r>
            <a:r>
              <a:rPr b="1" lang="bg-BG" sz="3200" spc="-1" strike="noStrike">
                <a:solidFill>
                  <a:srgbClr val="99ccff"/>
                </a:solidFill>
                <a:latin typeface="Arial"/>
              </a:rPr>
              <a:t>(Карл Вел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198756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Алманя ве Франса’нън емперат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42 - 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15320" y="508464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Аахен (Алма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2381400" cy="37544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356080" y="2637000"/>
            <a:ext cx="3581640" cy="2303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3340080"/>
            <a:ext cx="230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еяз джиерлерин инфекциясънда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cc00"/>
                </a:solidFill>
                <a:uFillTx/>
                <a:latin typeface="Arial"/>
              </a:rPr>
              <a:t>Сон сьозлер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Бир адам бютюн дюняйъ казанъп да кенди джанънъ кайбедерсе, она не файда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801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301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23640" y="69228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ФАТИХ СУЛТАН МЕХ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198756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сманлъларън ен ьонемли падишах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32 - 1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3560" y="508464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станб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556000" y="2637000"/>
            <a:ext cx="2374920" cy="3676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508720" y="260028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24000" y="48164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нсъздан, я артриттен я да оталанмак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601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101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Дюнянън бюйюклери бугюн нереде?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196720" y="692280"/>
            <a:ext cx="453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99ccff"/>
                </a:solidFill>
                <a:latin typeface="Arial"/>
              </a:rPr>
              <a:t>ЕЛИЗАБЕТ </a:t>
            </a:r>
            <a:r>
              <a:rPr b="1" lang="tr-TR" sz="4400" spc="-1" strike="noStrike">
                <a:solidFill>
                  <a:srgbClr val="99ccff"/>
                </a:solidFill>
                <a:latin typeface="Arial"/>
              </a:rPr>
              <a:t>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98756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нгилтеренин ен бюйюк краличе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33 - 16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77080" y="508464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зар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ндон (Анг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720960" cy="2790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195640" y="2637000"/>
            <a:ext cx="2584440" cy="3663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24000" y="3268800"/>
            <a:ext cx="189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Насъл ьолдю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Депресия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cc00"/>
                </a:solidFill>
                <a:uFillTx/>
                <a:latin typeface="Arial"/>
              </a:rPr>
              <a:t>Сон сьозлер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Бютюн варлъъмъ веририм, ьомрюмю бир анлък узатърмак ичин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1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1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5:27:10Z</dcterms:created>
  <dc:creator>asd</dc:creator>
  <dc:description/>
  <dc:language>en-US</dc:language>
  <cp:lastModifiedBy>asd</cp:lastModifiedBy>
  <dcterms:modified xsi:type="dcterms:W3CDTF">2009-05-09T15:01:54Z</dcterms:modified>
  <cp:revision>120</cp:revision>
  <dc:subject/>
  <dc:title>Дюнянън бюйюклери бугюн нереде?</dc:title>
</cp:coreProperties>
</file>