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1EB-8518-440C-A3E7-F24AD885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583-0951-4503-88FD-4DDDC36B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295-6570-48B7-8C48-CB3F1AD6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141-677C-410F-A750-D49643BF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1F2-EB51-4BFB-B310-FE386C66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EA7-D62A-47BB-9CFC-B82FD32C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434-313C-4B12-A3D8-4D62F095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5B0-75B8-4989-96C1-06445FB7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8EE-C37F-434A-B803-1713DA3E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C90-8641-451E-8DBA-8BE06BF9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AE6-D19D-4459-B818-412D83E2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DBD-7CBF-4B1A-9F25-84D938B1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E298-1C72-453B-8A98-A2EB1C51929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Чъкъш 20: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1628280"/>
            <a:ext cx="7201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Муса'я, "Бизимле сен конуш, динлейелим" дедилер, "Ама Танръ конушмасън, йокса ьолюрюз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Ап.Ишлери 3:22-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11280" y="1125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Муса шьойле деди: "Раб Аллах сенден ичин сенин кардешлеринден беним гиби бир пей</a:t>
            </a:r>
            <a:r>
              <a:rPr b="0" lang="bg-BG" sz="2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гамбер калдъраджак. О сизе хер не сьойлер</a:t>
            </a:r>
            <a:r>
              <a:rPr b="0" lang="bg-BG" sz="2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се, хер меселеде Она кулак асаджаксънъз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Ве ьойле оладжак ки, о пейгамбере кулак асмаян хер киши, халкън арасъндан кесиледжек:‘</a:t>
            </a:r>
            <a:r>
              <a:rPr b="0" lang="bg-BG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Ве айнъ онун гиби конушмуш олан бютюн пейгамберлер, Самуел ве ондан сонракилерден бу яна, хепси бу гюнлери билдирдилер.</a:t>
            </a:r>
            <a:r>
              <a:rPr b="0" lang="bg-BG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Ап.Ишлери 7: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6913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Бу айнъ Муса Исраилоулларъна деди 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'Аллах сизе кардешлеринин арасъндан беним гиби бир пейгамбер калдъраджак'.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Ибранилер 1:1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272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Ески заманларда Аллах деделеримизе бирчок дефа ве бирчок йолларда пейгамберлерле конушту. Ама бу сон гюнлерде бизе кенди Олу иле конушту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Ону хер шейин юзерине мирасчъ кълдъ.</a:t>
            </a: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е затен Онунла дюняларъ яратмъштъ</a:t>
            </a: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 ”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Яса 18:15-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6920" y="1557000"/>
            <a:ext cx="6913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Танрънъз РАБ сизе аранъздан, кенди кардешлеринизден беним гиби бир пейгамбер чъкараджак. Ону динлей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Яса 5: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720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Сен гит, Танръмъз РАБ'бин сьойлейеджеклерини динле. Сонра Танръмъз РАБ'бин бютюн сьойледиклерини бизе анлат. Биз де кулак верип уяджаъз.' 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Яса 18:15-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0920" y="1052280"/>
            <a:ext cx="7993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Танрънъз РАБ сизе аранъздан, кенди кардешлери-низден беним гиби бир пейгамбер чъкараджак. Ону динлейин. Хорев'де топландъънъз гюн Танрънъз РАБ'ден шуну дилемиштиниз: 'Бир даха не Танръ-мъз РАБ'бин сесини дуялъм, не де о бюйюк атеши гьорелим, йокса ьолюрюз.' - РАБ бана, 'Сьойледик-лери дорудур' деди. 'Онлара кардешлери арасъндан сенин гиби бир пейгамбер чъкараджаъм. Сьозлерими онун азъндан ишитеджексиниз. Кендисине буйурдукларъмън тюмюню онлара билдиреджек. Адъма конушан пейгамберин илеттии сьозлери динлемейени бен джезаландъраджаъ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Йуханна 1:20-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99640" y="119700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О вакът Яхя шьойле шахитлик яптъ, ачък ачък сьойледи ве хич инкяр етмед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"Бен Месих деилим" деди. Ве она сордулар: "О заман не? Сен Иляс мъсън?"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О да "Деилим" деди.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"Сен о пейгамбер мисин?" Ве джевап верип, "Хайър, деилим" дед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Йуханна 5:45-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6920" y="1125360"/>
            <a:ext cx="756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Санмайън, бен сизи Баба'нън ьонюнде сучлаяджам. Вар башка бири сизи сучласън: о да Муса'дър, ки сиз она умут бааламъшсънъз. Ама сиз Муса'я инанмъш олайдънъз, бана иман едеджейдиниз. Чюнкю о бенден ичин язмъштъ. Ама мадем онун сьозлерине инанмъйорсунуз, бана насъл иман едеджениз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Йуханна 6: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557000"/>
            <a:ext cx="7559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Онун ичин инсанлар гьорюндже, Иса насъл бир нишанлъ муджизе яптъ, дедилер: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"Дюняя геледжек олан о пейгамбер сахиден де будур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Йуханна 7: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6920" y="1700280"/>
            <a:ext cx="7201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Калабалъктан чок киши бу сьозю ишитиндже дедилер ки, "Сахиден де о пейгамбер будур.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атта 17: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71280" y="1341360"/>
            <a:ext cx="7272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О даха конушуркен, иште, парлак бир булут гелип онларън юстюне гьолге салдъ. Ве булуттан шьойле бир сес гелд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Севгили Олум будур, Онунла ферахланъйорум. Ону сеслейеджексиниз!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’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Йуханна 17: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71280" y="1341000"/>
            <a:ext cx="7272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Чюнкю бана вермиш олдуун сьозлери онлара вердим. Онлар да о сьозлери кабул еттилер ве сахиден де анладълар ки, бен сенден чъктъм. Ве иман еттилер, сен бени гьондердин дийе.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5:11:20Z</dcterms:created>
  <dc:creator>asd</dc:creator>
  <dc:description/>
  <dc:language>en-US</dc:language>
  <cp:lastModifiedBy>asd</cp:lastModifiedBy>
  <dcterms:modified xsi:type="dcterms:W3CDTF">2009-05-21T06:45:31Z</dcterms:modified>
  <cp:revision>29</cp:revision>
  <dc:subject/>
  <dc:title>Матта 11:27</dc:title>
</cp:coreProperties>
</file>