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FB23-71C7-4594-82C6-895DB01B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956-B4DF-4F1E-9FC2-F598E900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1BE-8EA3-4B80-B358-CF9B1FC1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BE8-43F8-4866-AEEC-4EB9056C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39A4-B32B-464C-963E-D18FCD84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F74D-0D53-4F82-9712-7A8B8689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3C88-77D9-4695-97F6-712F8BA4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BC77-68F7-495F-84DF-09D09711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EBA9-5D60-40F3-8FCB-745AFF30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DEFC-8B9F-4CA8-9BEE-9340D7CB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06E6-5C5E-4350-BFD9-58A7766C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CD2-D0B6-4277-B231-335B084A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3546-56B5-4929-81D5-064FA99E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0C2A-A13D-4CDA-8E15-973ED94E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1280-34C6-4832-A036-D9DC13DC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F4F5-7872-41CB-B195-9C3784A4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2F90-369B-43EB-85A3-D412DD3A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6E35-FDF4-4E48-9503-5DB7ED7B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FEC-959F-4BC7-A6C3-37C1F4EF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A9D-BC6A-4260-9CEF-37F858F5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1EF-EB1F-45D3-BAD4-FF88151A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56C-A43A-4BFC-AABF-EF1D92A1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9DB-D4F5-44C0-AD55-6B1C4BE4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486-7606-4FC4-A6B9-D2DAA32A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E216-FEFA-49C6-AD1D-6537C687B6C8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4C35-0475-4F00-BF72-C58A5E050E84}" type="slidenum">
              <a:rPr b="0" lang="de-DE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219640" y="537372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9966ff"/>
                </a:solidFill>
                <a:latin typeface="Tahoma"/>
              </a:rPr>
              <a:t>Последните ду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Последните Дум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2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6-21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1052640"/>
            <a:ext cx="9144000" cy="11912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6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той ми каза: Тези думи са верни и истенни; и Господ Бог на духовете и пророците изпрати ангела Си да покаже на Своите слуги това, което трябва скоро да стане. 7 И ето, идвам скоро. Блажен онзи, който пази думите на пророчеството на тази книга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Последните Дум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2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6-21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1052640"/>
            <a:ext cx="9144000" cy="14655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8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Аз, Йоан, съм този, който чух и видях, паднах да се поклоня пред краката на ангела, който ми беше показал т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Но той ми каза: Недей! Аз съм служител заеднос теб и с братята ти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пророците, и с тези, които пазят думите на тази книга. Поклони се на Бога!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Последните Дум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2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6-21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1052640"/>
            <a:ext cx="9144000" cy="11912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10 Каза ми още: Не запичатвай думите на пророчеството на тази книга, защото времето е близо. 11 Който върши неправда, нека върши още неправда; и който е не чист, нека бъде още нечист; и праведния нека върши още правда; и светия нека още освеща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Последните Дум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2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6-21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1052640"/>
            <a:ext cx="9144000" cy="2288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2 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Ето, идвам скоро и Моята награда в с мен, и ще отплатя на всекиго според делото му. 13 Аз съм Алфа и Омега, Първият и Последният, Началото и Краят. 14 Блажени тези, които изперат дрехите си, за да имат право на дървото на живота и да влязат през портите в града. 15 А от вън са псетата, чародейците, блудниците, убийците, идолопоклоноците и всеки, който обича лъжата и лъже. 16 Аз Иисус, изпратих ангела Си да ви засвидетелства това за църквите. Аз съм Коренът и Рода на Давид, светлата Утринна Звезда.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doni MT"/>
              </a:rPr>
              <a:t>Последните Думи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2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6-21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1052640"/>
            <a:ext cx="9144000" cy="9169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7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Духът, и невястата казват: Ела! И който чуе нека каже: Ела! И който е жаден, нека дойде! И който иска, нека вземе даром от водата на живота!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Последните Дум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2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6-21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1052640"/>
            <a:ext cx="9144000" cy="2014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8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Аз свидетелствам на всекиго, който слуша думите на пророчеството на тази книга: ако някои прибави нещо към тях. Бог ще прибави върху него язвите, написани в рази книга. 19 И ако някой отнеме от думите на книгата на това пророчество, Бог ще му отнеме дела от дървото на живота и от светия град, за които е писано в тази книга. 20 Онзи, който свидетелства за това, казва: Да, идвам скоро. Амин! Ела, Господи Иисусе! 21 Благодатта на Господ Иисус Христос да бъде със светиите. Амин. 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Последните Дум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2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6-21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8:18:15Z</dcterms:created>
  <dc:creator>Windows XP</dc:creator>
  <dc:description/>
  <dc:language>en-US</dc:language>
  <cp:lastModifiedBy>Admin</cp:lastModifiedBy>
  <dcterms:modified xsi:type="dcterms:W3CDTF">2009-04-09T17:26:01Z</dcterms:modified>
  <cp:revision>620</cp:revision>
  <dc:subject/>
  <dc:title>Yedi Mühür açılıyor (bölüm 6)</dc:title>
</cp:coreProperties>
</file>