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1AD-997C-4D99-AEF1-29DC330F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ACD-CC3C-40A8-8DFD-3CA74E1C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C07-1FB2-4A68-90E8-E2E8CCE3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5DC-C8ED-475B-A185-ADE539E9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48E3E-6CB2-4F8A-84D5-EFACC02A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33892-AB4C-4456-B811-43A47932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A804B-8E39-4493-9A52-CC364A93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1171D-B372-4764-A2FD-FFD4691F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6C41A-543C-422C-B978-030D05EF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63EDC-8741-41F0-BCE0-E99C946A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BCA27-B448-42DF-BCB4-B1DE33CB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235-E04D-4E19-8A84-F0F0A940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87C37-62E7-48DD-9DD9-07D4B176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E66A6-5274-4CEE-B11D-AC2474AA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31B5B-0592-4811-8A5A-FCA1DC7C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09039-00A8-472A-A698-9ABF675D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ECA0C-FD93-4C6C-9557-B28C36B7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6FD-A612-4510-B02D-2FEC00CF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1C0-B83C-4B1E-AB81-3FB79C55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2CB-3EDA-4AAE-9653-45AB7B25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1F6-A5F7-4EEF-B7E1-E739121D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39F-36C9-4560-A2C5-9F34ADEB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1EB-F2D8-4BE5-8707-5F212CEC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032-A044-426C-AEAD-1EE65EE5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8C6D-315C-464A-9151-A0DF1A0639CA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22CC-1910-4D2D-AA69-8ADB8898AFD5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e3e3ff"/>
                </a:solidFill>
                <a:latin typeface="Lucida Console"/>
                <a:ea typeface="Arial Unicode MS"/>
              </a:rPr>
              <a:t>Аллахън досту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Ибрахим’ин хаят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6019920" cy="35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48316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2709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39610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64000" y="404640"/>
            <a:ext cx="3311640" cy="20955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2422440" cy="3168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364000" y="2637000"/>
            <a:ext cx="33116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6:50:52Z</dcterms:created>
  <dc:creator>asd</dc:creator>
  <dc:description/>
  <dc:language>en-US</dc:language>
  <cp:lastModifiedBy>asd</cp:lastModifiedBy>
  <dcterms:modified xsi:type="dcterms:W3CDTF">2008-12-06T09:01:42Z</dcterms:modified>
  <cp:revision>5</cp:revision>
  <dc:subject/>
  <dc:title>Аллахън досту</dc:title>
</cp:coreProperties>
</file>