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36.png" ContentType="image/png"/>
  <Override PartName="/ppt/media/image6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CCC-4D31-42E0-860C-BB8C68D2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598-B8E9-43F2-BD42-6E2A95AB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445-A953-48C2-BEBE-6C1A6B5A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3D1-9C95-4969-AC89-D3ECE43C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58D-F1CD-48F8-A271-8BA7FB16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19E-DC71-4225-B20F-BDE2E687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FF3-F173-4EBA-92F6-B7A71282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CA0-5A3B-4144-8358-BC10FDE8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9C3-A090-4C2B-8C96-B96144AB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DC7-3767-4DDC-830B-E1320799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340-C5C3-44E2-A17D-34B38417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7BB-EDE8-4284-9C01-02922F9B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26A0-185C-4D31-AE31-B6B39DC4F40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619" t="0" r="2423" b="0"/>
          <a:stretch/>
        </p:blipFill>
        <p:spPr>
          <a:xfrm>
            <a:off x="4356000" y="0"/>
            <a:ext cx="48243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4177" t="0" r="-206" b="2013"/>
          <a:stretch/>
        </p:blipFill>
        <p:spPr>
          <a:xfrm>
            <a:off x="-109440" y="-27000"/>
            <a:ext cx="453708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10600" y="4581360"/>
            <a:ext cx="4483080" cy="15570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Mehmet Şükr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99ff"/>
                </a:solidFill>
                <a:latin typeface="Arial"/>
              </a:rPr>
              <a:t>(sonra ‘Ovanes Avetaranyan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1861 -19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557360"/>
            <a:ext cx="424800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köyden ayrılıp Erzurum kasabasına yerleşiyor. Orada Ermeni ve yabancı evangelistlerle tanışıp imanda büyü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O zamanlarda müslüman bir Türk’ün hristiyan olması için ölüm cezası vardı. Onun için Mehmet’i bir Ermeni yapmaya karar veriyorlar: onun adını değiştirip ‘Ovanes’ (= Yuhanna) koyuyorlar ve başka bir kasabada onu bir Ermeni okuluna yazdırıyor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vaftiz olmak istiyor, ama misyonerler hemen buna razı gelmiyorlar. Önce lazım kendini göstersin, gerçekçidir diy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İmanda birinci ad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42861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557360"/>
            <a:ext cx="42480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Şükrü en sonunda 1889 senesinde Gürcistan’ın (Gruzia) başkenti Tiflis’te Ermeni bir vaiz tarafından buzlu ‘Kur’ ırmağında vaftiz edil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Hayatında ne yapmak istediğini soruyorlar: “Rabbin müjdesini Müslümanlara yaymak istiyorum” d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unun üzerine ona soyadı olarak ‘Avetaranyan’ veriyorlar = ‘Müjdenin oğlu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Üç sene boyunca Mehmet, Kafkas devletlerinde (Gürcistan, Ermenistan, Azerbeycan, İran) misyonerlik yapı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İlk misyonerlik sene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0" r="3673" b="0"/>
          <a:stretch/>
        </p:blipFill>
        <p:spPr>
          <a:xfrm>
            <a:off x="4427640" y="1628640"/>
            <a:ext cx="45432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557360"/>
            <a:ext cx="374328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1992 senesinde Mehmet bir İsveç misyonu ile Doğu Türkistan’a, oradaki Kaşgar kasabasına gönderiliyor. Orada Uygur halkı yaşıy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Doğu Türkistan’ oblastı bugün Çin’in bir parçasıdır. Çince adı: ‘Şin-jian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Kaşgar, kocaman Taklamakan çölünün ortasında bir oasis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İpekyolu’nun üzerinde önemli bir merkez i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ugüne kadar her Pazar günü yüzbinlerce köylü pazara geliyor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Doğu Türkistan’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995640" y="4770360"/>
            <a:ext cx="3132360" cy="208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148360" y="765000"/>
            <a:ext cx="399564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284720" y="2708280"/>
            <a:ext cx="3240000" cy="194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896080" y="4076640"/>
            <a:ext cx="3247920" cy="214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80000" y="1268280"/>
            <a:ext cx="115272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557360"/>
            <a:ext cx="42480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Şükrü oraya varınca bir tek imanlı bile yo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Hemen yerli halk gibi giyimeye başlıyor, dili öğreniyor ve İncili tercüme etmeye başlıyor. Bir sene içinde bitiriyor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Kaşgar’da yaşayan yabancılar ve hocalar Mehmet’i çok kötülerdiler. Ama onun hizmetçisi Ömer Ahund onun davranışlarına bakarak imana geliyor ve herkesin önünde hristiyan olmak istediğini söylü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Doğu Türkistan’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435640" y="4221000"/>
            <a:ext cx="3429000" cy="245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00720" y="1341360"/>
            <a:ext cx="3779640" cy="250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588000" y="836640"/>
            <a:ext cx="2219400" cy="3514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557360"/>
            <a:ext cx="41036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İncili Uygurca diline çevirdikten sonra, onu basmak konusunda kendi misyasında bazı problemler çıkt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Şükrü o zaman Alman bir misyaya geçti, onlar için başka görevlere başlad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1900 senesinde Berlin’de Helene adında bir Alman kadınla evlen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ynı senede Varna’ya yerleşiyor. Orada Ermeni ve Bulgar imanlılarla birlikte işliyor. Onlar seviniyor, artık bir kişi Bulgaristan’daki müslümanlar arasında müjdeyi yayacak diy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Bulgaristan’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67280" y="981000"/>
            <a:ext cx="2865600" cy="446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788000" y="3852720"/>
            <a:ext cx="4356000" cy="300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934880" y="4005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ff"/>
                </a:solidFill>
                <a:latin typeface="Arial"/>
              </a:rPr>
              <a:t>V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1341360"/>
            <a:ext cx="424800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1901 senesinde Şumla’ya (Şumen’e) yerleşiyor. Orada bir matbaa alıp, müslümanlar için broşürler ve kitaplar basıyor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Şahit-ül-Hakaik’ (Hakikat Şahidi) adında bir dergi çıkarıyor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ynı zamanda Şumen ve Ruse’de vaaz edip, müslümanlarla tek tek konuşuyor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1907 senesinde Plovdiv’e yerleşiyorlar. Büyük kasaba olduğu için, bütün balkan devletlerini ve Osmanlı Emperatorluğunu etkileyebilir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Şükrü’nün aylık yazıları (Hakikat Şahidi, Hurşid ve Güneş) çok büyük etki brakıyorlar. Bütün Osm. Emp. Onları konuşuyor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83664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Bulgaristan’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488280" y="836640"/>
            <a:ext cx="2655720" cy="4195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200480" y="5000760"/>
            <a:ext cx="4943520" cy="185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500720" y="1628640"/>
            <a:ext cx="2304720" cy="2281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98000" y="17208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Ş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8720" y="55897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PLOVDİ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638360"/>
            <a:ext cx="39607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1908/09 senelerinde yeni ‘Gençtürk’ hükümeti Türkiye’de binlerce  Ermeni öldürüyor. Birçok Ermeni Bulgaristan’a kaç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Şükrü karısıyla bu kaçanlara yardım ed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1912/13 Balkan savaşları: Plovdiv kasabasında onbinlerce göçmen, yaralanmış ve esir düşmüş türk askerler v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ve Helene onları ziyaret ediyorlar, yardım ediyorlar. Binlerce türk asker Plovdiv’de hastanede yatarken İncil alıp sonra Türkiyeye götürüyor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98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Zor yı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356000" y="3789360"/>
            <a:ext cx="4597560" cy="2892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356000" y="907920"/>
            <a:ext cx="4589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557360"/>
            <a:ext cx="396072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1910/11 senelerini Mehmet Şükrü Almanya’da geçiriyor. Çok kiliseyi gezip müslümanlık hakkında konuşuyor, kiliseleri bilgilendir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1913 senesinden sonra hastalanıyor ve her sene birkaç ay Almanya’da tedavi görmek için geçir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ma 1919 senesinde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kçiğer ve böbrek hastalıkları gittikçe kötüleşiyor. Doktorlar da ona yardım edemiyorlar. 11, Aralık 1919’da Wiesbaden kasabasında ölüp, Rabbin yanına git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Almanya’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4500720" y="2060640"/>
            <a:ext cx="4392360" cy="3595320"/>
            <a:chOff x="4500720" y="2060640"/>
            <a:chExt cx="4392360" cy="3595320"/>
          </a:xfrm>
        </p:grpSpPr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4500720" y="2060640"/>
              <a:ext cx="4392360" cy="29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00720" y="5013360"/>
              <a:ext cx="4392360" cy="642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"/>
                </a:rPr>
                <a:t>Mehmet Şükrü (sağda) ile Alman misyanın başı (Dr. Yohanes Lepsiu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773360"/>
            <a:ext cx="381636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’in soyu ‘Seyyit’ idi, bu demeki doğrudan Muhammed’in soyundan gelme idi. Bu tabii ki, müslümanlar arasında çok saygın bir durum. Sadece onarın hakkı vardı yeşil sarık taksın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abası Ali, hayatını müslümanlığa adamıştı, derviş tarikatlarına katılır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İşlamiyetin derinliklerini araştırmak için bütün Osmanlı devletini, arap devletlerini, İran’ı ve daha bir sürü yerleri gez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981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Mehmet’in soyu ve bab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70600" y="1225440"/>
            <a:ext cx="3963960" cy="277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70600" y="4076640"/>
            <a:ext cx="3965400" cy="2641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557360"/>
            <a:ext cx="8424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Osmanlı Emperatorluğu’nda her zaman birçok halklar yanyana otururdular: Mehmet’in memleketinde Türklerin yanında en çok Ermeniler, Kürtler ve Gürcüler var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Şükrü doğduğu senelerde Ruslarla savaşlar ol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ynı zamanda Osmanlı Emp. İçerden değişmeye başladı: halk artık serbestlik ist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19. yüzyılda Osmanlı devletinin dur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71640" y="3321000"/>
            <a:ext cx="4680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738360"/>
            <a:ext cx="8172360" cy="611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43640" y="1197000"/>
            <a:ext cx="2521080" cy="2278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1268280"/>
            <a:ext cx="3564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0.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Hazir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861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gününde Türkiye’de Erzurum’a yakın bir köyde doğ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6 yaşında Kuran kurslarına katıldı ve 7 yaşında namaz kılmayı öğrendi. Günden güne daha derin müslüman öğretişlerine sarılır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83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Çocuk yaş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7440" y="637524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Erzurum’un ‘Çifte Minare’ medres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557360"/>
            <a:ext cx="41036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’in babası hep hakikatı aramakta idi. Onlarca hoca, muallim ve dervişlerin dibinde öğrendi, onların ‘müridi’ (öğrencisi) ol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öylelikle normal müslümanlık yerine, sufilerin yolunu tut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’i de bu yola soktu. Önce Bektaşilerin öğretişlerine, sonra ‘Yol Oğlulları’ adında başka bir tarikata katılı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’ın aklı çok keskin olduğuna bütün bu öğretişleri hemen anlıyor ve islamiyet konusunda okumuş bir delikanlı olu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Tarikatların yo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43280" y="836640"/>
            <a:ext cx="243864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3280" y="3686040"/>
            <a:ext cx="4500720" cy="317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170840" y="765000"/>
            <a:ext cx="19731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41036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Ruslar Erzurum’ u ele geçirdikten sonra Mehmet ile babası dayanamayıp Bagdat’a yerleşmeye karar veriyorlar, orada daha büyük dervişler var di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ma yolda dönmeye karar veriyorlar ve Evrenli köyüne yerleşiyor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Başka köyü yerleşiyo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580000" y="3645000"/>
            <a:ext cx="3403800" cy="2392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76720" y="907920"/>
            <a:ext cx="3810240" cy="2438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68360" y="4076640"/>
            <a:ext cx="5715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557360"/>
            <a:ext cx="4103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Orada Mehmet ‘Behçet Hanım’ adında bir kadının evinde sefte İncili görüp okumaya başlı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Önce büyük nefretle karşılıyor; ‘Allahın Oğlu’ söz ona çok ters gel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İncili eve almak istiyor, ama Behçet Hanım ona vermiy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onra bir Ermeni kitapçıdan Türkçe Kutsal Kİtabı satın alıyor ve hemen büyük merakla okumaya başlıy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O zamanlarda küçük yerlerde bir İncil bulmak mucize gibi i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Mehmet İncil’i oku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64000" y="907920"/>
            <a:ext cx="3571920" cy="4543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932360" y="2924280"/>
            <a:ext cx="23385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557360"/>
            <a:ext cx="42480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artık küçük bir köyde hoca olmuştu. Babası gene eskisi gibi orada burada gezerdi hakikatı aramak iç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ir gün babası, Mehmet’i bir kenara çekip diyor: “Canım çok sıkıldı, oğlum! Bunca sene müslümanlıkta hakikatı aradım ama hiç huzur bulamadım. Benden akıl bekleme, kendi aklını kullan. Elveda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abası yakın bir köyde hasta düşüyor, Mehmet de onun yanına gidiyor. Babası onu geri yollayıp ‘Beygiri getir’ diye buyuruyor. Mehmet gidip döndüğü zaman babası ölmüştü, köylüler de onu hemen gömmüşler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Mehmet’in babası öl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4334040" cy="3209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5148360" y="4149720"/>
            <a:ext cx="33177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cc00"/>
                </a:solidFill>
                <a:latin typeface="Arial"/>
              </a:rPr>
              <a:t>Mehmet Şükrü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86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tr-TR" sz="2800" spc="-1" strike="noStrike">
                <a:solidFill>
                  <a:srgbClr val="99cc00"/>
                </a:solidFill>
                <a:latin typeface="Arial"/>
              </a:rPr>
              <a:t>1919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773360"/>
            <a:ext cx="424800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hmet gittikçe daha fazla İncil’i okudu ve dervişlerden öğrendiği şeylerle karşılaştır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ir Ermeni papazdan birtakım Ermenice dualar öğrenmişti. Şimdi anlamadan onları tekrarlar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onra Serkis adında bir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Ermeni evangelist ile tanışıyor. Rom 1:3-4 okurken yüreğini Rab İsa’ya açıp imana gel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elli bir zaman Mehmet köyün hocası olarak camide görev yapmaya devam ediyor. Ama zamanla bunun mümkün olmadığını anlayıp vazgeç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125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Karanlık yüreğe aydınlık gir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0" r="0" b="6593"/>
          <a:stretch/>
        </p:blipFill>
        <p:spPr>
          <a:xfrm>
            <a:off x="0" y="0"/>
            <a:ext cx="647640" cy="765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148360" y="3497400"/>
            <a:ext cx="3360600" cy="336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372360" y="907920"/>
            <a:ext cx="196992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4:59:54Z</dcterms:created>
  <dc:creator>asd</dc:creator>
  <dc:description/>
  <dc:language>en-US</dc:language>
  <cp:lastModifiedBy>asd</cp:lastModifiedBy>
  <dcterms:modified xsi:type="dcterms:W3CDTF">2010-01-07T16:44:21Z</dcterms:modified>
  <cp:revision>441</cp:revision>
  <dc:subject/>
  <dc:title>Slide 1</dc:title>
</cp:coreProperties>
</file>