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DDF-6D1D-460D-815E-2FFF3FC2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5FA-47AA-4112-9141-1FED58A0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CB7-9B13-4092-A28A-31E576A7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B5B-4E52-491D-B5C4-5ED841A7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E3E-093D-4213-8BD5-B16A642C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E15-9677-4211-8039-363725F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FAB-DF3B-4738-99D9-BC67C95C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C8E-6F32-4F6C-ADBF-FE4CEB14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E52-9ABE-4AAD-A405-2B1598B2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24D-BB9A-4FC6-A551-D4ED3CF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D41-BA7E-40B1-88F5-C1EECCE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69E-4409-4FCF-8799-9FFBE5E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E982-2E51-47C8-A463-73EF76DA1C3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71" t="0" r="19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2923920"/>
            <a:ext cx="5473440" cy="10810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3366ff"/>
                </a:solidFill>
                <a:latin typeface="Arial"/>
              </a:rPr>
              <a:t>ИЛЯС’ън Хаят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.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ллар Китапларъндан дерс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4000" y="5157720"/>
            <a:ext cx="681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000" spc="-1" strike="noStrike">
                <a:solidFill>
                  <a:srgbClr val="000099"/>
                </a:solidFill>
                <a:latin typeface="Arial"/>
              </a:rPr>
              <a:t>1. дерс:</a:t>
            </a:r>
            <a:r>
              <a:rPr b="1" i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0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1" i="1" lang="bg-BG" sz="3000" spc="-1" strike="noStrike">
                <a:solidFill>
                  <a:srgbClr val="ccff66"/>
                </a:solidFill>
                <a:latin typeface="Arial"/>
              </a:rPr>
              <a:t>Гириш: Крал Ахав’ън заманъ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3506" t="0" r="9925" b="0"/>
          <a:stretch/>
        </p:blipFill>
        <p:spPr>
          <a:xfrm>
            <a:off x="468360" y="4680"/>
            <a:ext cx="8675640" cy="6448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404640"/>
            <a:ext cx="41464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’ън еви Самирийе касабас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6453360"/>
            <a:ext cx="8569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Изебел бу путлар ичин бюйюк тапънаклар яптър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177920" cy="213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1112760" cy="213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590400"/>
            <a:ext cx="21592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хав’ън гюнах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237360"/>
            <a:ext cx="86058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Ким герчек танръ – РАБ мъ, Баал мъ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386160" y="0"/>
            <a:ext cx="5757840" cy="6120720"/>
            <a:chOff x="3386160" y="0"/>
            <a:chExt cx="5757840" cy="612072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386160" y="0"/>
              <a:ext cx="5757840" cy="609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732720" y="5635800"/>
              <a:ext cx="16254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ff3300"/>
                  </a:solidFill>
                  <a:latin typeface="Arial"/>
                </a:rPr>
                <a:t>АШ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7280" y="5661000"/>
              <a:ext cx="1224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ff3300"/>
                  </a:solidFill>
                  <a:latin typeface="Arial"/>
                </a:rPr>
                <a:t>БА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55640" y="1998720"/>
            <a:ext cx="7704000" cy="344808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6:30-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Б'бин гьозюнде кьотю оланъ япан Ахав, кендисинден ьонджеки бютюн краллардан даха чок кьотюлюк япт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31 Яровам'ън гюнахларънъ излемек йетмезмиш гиби, бир де Сайда Кралъ Етбаал'ън къзъ Изебел'ле евленди. Гидип Баал'а хизмет едерек она таптъ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32 Баал ичин Самирийе'де яптърдъъ тапънаън ичине бир сунак кур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33 Айръджа бир Ашера путу яптърдъ. Ахав Исраил'ин Танръсъ РАБ'би кендисинден ьонджеки бютюн Исраил кралларъндан даха чок ьофкелендир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4720" y="-27000"/>
            <a:ext cx="7343640" cy="5473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5240880"/>
            <a:ext cx="853272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.Краллар 17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Тишбе касабасъндан олан Иляс, Ахав'а шьойле деди: "Хизмет еттиим Исраил'ин Танръсъ яшаян РАБ'бин адъйла дерим ки, бен сьойлемедикче ьонюмюздеки йълларда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не ямур яаджак, не де чий дюшеджек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89000"/>
            <a:ext cx="5327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 Иляс пейгамбери йол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153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5734080"/>
            <a:ext cx="8534160" cy="113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Сонра бюйюк кътлък олду – хайванлар ве инсанлар ьолмейе башлад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хав да бютюн халка сьойледи,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Баал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’а дуа етсин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01920" cy="2879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5330520"/>
            <a:ext cx="8532720" cy="144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ляс’ън адъ аслънда: ‘Ели-ях’ =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‘РАБ беним танръмдър’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демект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нун заманънда бютюн халк лазъмдъ карар версинлер асъл танръ кимдир: Баал мъ, йокса Яхве 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4284720" cy="5300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067280" y="189000"/>
            <a:ext cx="48258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ляс пейгамберинин адъ ьонемли бир анлам таш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37080" y="1989000"/>
            <a:ext cx="1203480" cy="2232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824520" y="1989000"/>
            <a:ext cx="2068560" cy="2232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5435640" y="4365720"/>
            <a:ext cx="1224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365720"/>
            <a:ext cx="2016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Яхве (РА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5080" y="1484280"/>
            <a:ext cx="519120" cy="1008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735120"/>
            <a:ext cx="3095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РАБ’ден башка танръ й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640240"/>
            <a:ext cx="3384720" cy="3722400"/>
          </a:xfrm>
          <a:prstGeom prst="rect">
            <a:avLst/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ък 20:2-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Сени Мъсър'дан, кьоле олдуун юлкеден чъка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Танрън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РАБ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беним. 3 "Бенден башка танрън олмаядж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5 Путларън ьонюнде еилмейеджексин, онлара тапмаяджаксън. Чюнкю бен, Танрън РАБ, късканч бир Танръ'йъ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1413000"/>
            <a:ext cx="1584360" cy="2160360"/>
          </a:xfrm>
          <a:prstGeom prst="wedgeRoundRectCallout">
            <a:avLst>
              <a:gd name="adj1" fmla="val 28055"/>
              <a:gd name="adj2" fmla="val 74689"/>
              <a:gd name="adj3" fmla="val 16667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анрън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РАБ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еним. Бенден башка танрън олмаядж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8160" y="974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66ff"/>
                </a:solidFill>
                <a:latin typeface="Arial"/>
              </a:rPr>
              <a:t>ЕЗБЕР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3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201"/>
                            </p:stCondLst>
                            <p:childTnLst>
                              <p:par>
                                <p:cTn id="4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9664" r="0" b="895"/>
          <a:stretch/>
        </p:blipFill>
        <p:spPr>
          <a:xfrm>
            <a:off x="684360" y="9360"/>
            <a:ext cx="845964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459640" cy="1341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Иса’дан 1000 сене ьондже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ДАВУТ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крал олду ве 40 сене краллък сюрд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60240" y="20520"/>
            <a:ext cx="8483760" cy="685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6920" y="95400"/>
            <a:ext cx="5257800" cy="47736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459640" cy="1341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Давут’тан сонра онун олу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СЮЛЕЙМАН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40 сене краллък япт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8840" y="4941720"/>
            <a:ext cx="4022640" cy="45972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6600"/>
                </a:solidFill>
                <a:latin typeface="Arial"/>
              </a:rPr>
              <a:t>Чок кадънларла евле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9160" y="441360"/>
            <a:ext cx="2861280" cy="4597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Аллахевини япт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5026" r="10162" b="0"/>
          <a:stretch/>
        </p:blipFill>
        <p:spPr>
          <a:xfrm>
            <a:off x="2771640" y="0"/>
            <a:ext cx="473076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459640" cy="1341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Сюлейман’ън ьолюмюнден сонра Исраил краллъ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икийе бьолюнд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17550" t="9984" r="36709" b="40543"/>
          <a:stretch/>
        </p:blipFill>
        <p:spPr>
          <a:xfrm>
            <a:off x="1042920" y="1882800"/>
            <a:ext cx="187344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665400" y="260208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5040" y="4365720"/>
            <a:ext cx="23097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Рех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999000">
            <a:off x="3263760" y="2636640"/>
            <a:ext cx="2532240" cy="287280"/>
          </a:xfrm>
          <a:prstGeom prst="leftRightArrow">
            <a:avLst>
              <a:gd name="adj1" fmla="val 77120"/>
              <a:gd name="adj2" fmla="val 1067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rcRect l="18137" t="0" r="28933" b="0"/>
          <a:stretch/>
        </p:blipFill>
        <p:spPr>
          <a:xfrm>
            <a:off x="6804000" y="131760"/>
            <a:ext cx="1866960" cy="24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" name=""/>
          <p:cNvGrpSpPr/>
          <p:nvPr/>
        </p:nvGrpSpPr>
        <p:grpSpPr>
          <a:xfrm>
            <a:off x="3059280" y="3716280"/>
            <a:ext cx="1511280" cy="863640"/>
            <a:chOff x="3059280" y="3716280"/>
            <a:chExt cx="1511280" cy="863640"/>
          </a:xfrm>
        </p:grpSpPr>
        <p:sp>
          <p:nvSpPr>
            <p:cNvPr id="63" name=""/>
            <p:cNvSpPr/>
            <p:nvPr/>
          </p:nvSpPr>
          <p:spPr>
            <a:xfrm>
              <a:off x="3059280" y="3716280"/>
              <a:ext cx="151128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5080" y="39067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ff0000"/>
                  </a:solidFill>
                  <a:latin typeface="Arial"/>
                </a:rPr>
                <a:t>ЯХУ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859280" y="1197000"/>
            <a:ext cx="1872720" cy="792000"/>
            <a:chOff x="4859280" y="1197000"/>
            <a:chExt cx="1872720" cy="792000"/>
          </a:xfrm>
        </p:grpSpPr>
        <p:sp>
          <p:nvSpPr>
            <p:cNvPr id="66" name=""/>
            <p:cNvSpPr/>
            <p:nvPr/>
          </p:nvSpPr>
          <p:spPr>
            <a:xfrm>
              <a:off x="4859280" y="1197000"/>
              <a:ext cx="174312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3800" y="1371600"/>
              <a:ext cx="170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cc0066"/>
                  </a:solidFill>
                  <a:latin typeface="Arial"/>
                </a:rPr>
                <a:t>ИСРАИ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140360" y="220500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2920" y="2781360"/>
            <a:ext cx="144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4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89240" y="18684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амирий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30686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Йеру-шал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10800000">
            <a:off x="684000" y="0"/>
            <a:ext cx="8459640" cy="6858000"/>
          </a:xfrm>
          <a:prstGeom prst="rtTriangle">
            <a:avLst/>
          </a:prstGeom>
          <a:solidFill>
            <a:srgbClr val="4d4d4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17550" t="9984" r="36709" b="40543"/>
          <a:stretch/>
        </p:blipFill>
        <p:spPr>
          <a:xfrm>
            <a:off x="1187280" y="3068640"/>
            <a:ext cx="1873440" cy="2494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13609" t="0" r="29667" b="0"/>
          <a:stretch/>
        </p:blipFill>
        <p:spPr>
          <a:xfrm>
            <a:off x="6732720" y="126828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521040" y="359712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59760" y="5302080"/>
            <a:ext cx="23097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Рех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23600" y="24685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ЯХ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8880" y="7272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0"/>
            <a:ext cx="8532720" cy="6858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530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9 крал чъктъ, </a:t>
            </a: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кимиси ийи, кимиси кьотю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54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8 крал чъктъ, </a:t>
            </a: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хепси кьотю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0"/>
            <a:ext cx="853272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684000" y="0"/>
            <a:ext cx="8459640" cy="6858000"/>
          </a:xfrm>
          <a:prstGeom prst="rtTriangl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17550" t="9984" r="36709" b="40543"/>
          <a:stretch/>
        </p:blipFill>
        <p:spPr>
          <a:xfrm>
            <a:off x="1187280" y="3068640"/>
            <a:ext cx="1873440" cy="249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13609" t="0" r="29667" b="0"/>
          <a:stretch/>
        </p:blipFill>
        <p:spPr>
          <a:xfrm>
            <a:off x="6732720" y="126828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22480" y="357336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9760" y="5302080"/>
            <a:ext cx="23097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Рех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23600" y="24685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ЯХ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8880" y="7272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0"/>
            <a:ext cx="8532720" cy="6858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530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9 крал чъктъ, </a:t>
            </a: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кимиси ийи, кимиси кьотю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54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8 крал чъктъ, </a:t>
            </a: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хепси кьотю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3609" t="0" r="29667" b="0"/>
          <a:stretch/>
        </p:blipFill>
        <p:spPr>
          <a:xfrm>
            <a:off x="6732720" y="1268280"/>
            <a:ext cx="1914480" cy="236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78880" y="7272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54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ндан 18 крал чъктъ, </a:t>
            </a: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хепси кьотю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680" y="2755800"/>
            <a:ext cx="9669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д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357720"/>
            <a:ext cx="1000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Ба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9760" y="3933720"/>
            <a:ext cx="7948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6880" y="4508640"/>
            <a:ext cx="9990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им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7600" y="5084640"/>
            <a:ext cx="8802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м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920" y="5770440"/>
            <a:ext cx="10418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АХ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7" idx="1"/>
            <a:endCxn id="100" idx="0"/>
          </p:cNvCxnSpPr>
          <p:nvPr/>
        </p:nvCxnSpPr>
        <p:spPr>
          <a:xfrm flipV="1" rot="10800000">
            <a:off x="5131800" y="2450880"/>
            <a:ext cx="1600920" cy="3052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92360" y="1989000"/>
            <a:ext cx="1660320" cy="450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948360" y="5127480"/>
            <a:ext cx="1758960" cy="965520"/>
          </a:xfrm>
          <a:prstGeom prst="borderCallout2">
            <a:avLst>
              <a:gd name="adj1" fmla="val 18750"/>
              <a:gd name="adj2" fmla="val -8333"/>
              <a:gd name="adj3" fmla="val 11842"/>
              <a:gd name="adj4" fmla="val -32490"/>
              <a:gd name="adj5" fmla="val 77629"/>
              <a:gd name="adj6" fmla="val -81861"/>
            </a:avLst>
          </a:prstGeom>
          <a:solidFill>
            <a:srgbClr val="0000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орунунун торунун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ору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52560" y="1409760"/>
            <a:ext cx="3403440" cy="64260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са’дан ьондже 875-852 сенелеринде краллък сюрд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22480" y="3573360"/>
            <a:ext cx="2174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Яр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2520" y="357336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ИСР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51160" y="0"/>
            <a:ext cx="49928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2154240" cy="5848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9560" y="0"/>
            <a:ext cx="18615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Крал АХ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5380200"/>
            <a:ext cx="8388360" cy="144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Крал Ахав, Сидон халкънън кралъндан онун къзъйла евленди. Онун адъ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ИЗЕБЕЛ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Раб буну ясак етмишти: “Ябанджъ кадънлар сенин кафанъ бозаджаклар, башка танръларън путларънъ гетиреджеклер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784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128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ИЛЯС</a:t>
            </a: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н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Х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а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я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т</a:t>
            </a:r>
            <a:br>
              <a:rPr sz="3000"/>
            </a:br>
            <a:r>
              <a:rPr b="0" lang="bg-BG" sz="3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38960" y="4724280"/>
            <a:ext cx="1625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Ш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65240" y="0"/>
            <a:ext cx="35780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4772160"/>
            <a:ext cx="1224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А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6156360"/>
            <a:ext cx="838836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Айнъсъ олду: Изебел кенди путларънъ гетирди – Ахав да онлара тапмая башла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40:18Z</dcterms:created>
  <dc:creator>asd</dc:creator>
  <dc:description/>
  <dc:language>en-US</dc:language>
  <cp:lastModifiedBy>asd</cp:lastModifiedBy>
  <dcterms:modified xsi:type="dcterms:W3CDTF">2009-09-02T06:43:23Z</dcterms:modified>
  <cp:revision>98</cp:revision>
  <dc:subject/>
  <dc:title>ИЛЯС’ън Хаятъ</dc:title>
</cp:coreProperties>
</file>