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A91-1799-4E2D-9B07-922DE199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DD6-E6A8-4E47-8D0E-A0F9AEE4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14A-9193-4B50-AEEA-F3BEA487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F32-475D-4AE2-A73D-BCFE00C7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164-0AAF-49EB-97C2-8993FB5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B54-E438-4188-AC26-F255FD56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189-D8DF-44F5-89B0-8927FD79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B31-31A3-4B52-A102-B1AAA553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609-F364-4785-9DAA-8EC05A6E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D53-6CD5-4D7D-A2BD-C2CDF66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FB6-6FFE-45F0-BC7B-83F42A4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A0F-63C5-486C-A5D7-D193653B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721-2584-47BA-846B-054309224B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а иле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297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лисе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580000" y="1052640"/>
            <a:ext cx="2952720" cy="252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574560" y="1785960"/>
            <a:ext cx="42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6)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ашгьоревли  ве  гьоревли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2428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Luka 1:17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1.Pet 2:10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İ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2:17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7:25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8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3882960"/>
            <a:ext cx="81565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ашгьоревли Аллахън ьонюнде дуруйор, она хесап в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де о дуйгу вар мъ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ашгьоревли ишини ялнъз япмъйор. ЬОбюр гьоревлилерле бирликте ишл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башка кардешлере иш вер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ашгьоревлинин ен бюйюк иши, дуа етмект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 ичин дуа ед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240000" cy="2244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554480" y="256536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1.Pet 2:5-8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s 2:20-21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48428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7) Кьоше ташъ  ве  таш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3716280"/>
            <a:ext cx="750888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1)  Кьоше ташъ бютюн бинанън ьорнеи и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рдешлериме ьорнек оладжак дурумда мъйъ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Кьоше ташънън юзеринде коджаман бир йюк дур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башкаларънъ ташъйор муйум, йокса онлар мъ лазъм бени ташъсън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Кьоше ташъ ялнъз иш битирмез, дуварла лазъм баалансъ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рдешлере баалъ лъйъм? Кардешлери бирбирлерине баалъ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152892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95800" y="1052640"/>
            <a:ext cx="1457280" cy="199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978600" y="1125360"/>
            <a:ext cx="1289160" cy="1913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48360" y="37227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005440" y="4659480"/>
            <a:ext cx="1538280" cy="151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554200" y="469260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79280" y="3768840"/>
            <a:ext cx="2016360" cy="1396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7800" y="313848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1) Чобан ве сю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65960" y="313380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2) Кафа ве бе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7960" y="31399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3) Гювей ве  ге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3360" y="5308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4) Асма  ве   чубук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62434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5) Икинджи Адем ве   йени инсаний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62164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6) Башгьоревли  ве  гьорев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0" y="516420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7) Кьоше ташъ ве таш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692360" y="1978200"/>
          <a:ext cx="7129440" cy="4259160"/>
        </p:xfrm>
        <a:graphic>
          <a:graphicData uri="http://schemas.openxmlformats.org/drawingml/2006/table">
            <a:tbl>
              <a:tblPr/>
              <a:tblGrid>
                <a:gridCol w="3600360"/>
                <a:gridCol w="352908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0:11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0:14-15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Мезмур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хаятънъ верийор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лемек, йол гьосте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ола гетирмек, темизлемек, кору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0:14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:27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сле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кадан гел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Ефес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:22-23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Кол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:18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: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дени бир арада тутмак, бюйютю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фес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5:24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Кол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:19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Ефес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4:16</a:t>
                      </a:r>
                      <a:r>
                        <a:rPr b="1" lang="tr-TR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есле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ъкъ тут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топл. Илерлети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Ефес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5:26-27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темиз ве кутсал къ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р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1:2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Матта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5:13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Ачък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1:2</a:t>
                      </a:r>
                      <a:r>
                        <a:rPr b="1" lang="de-DE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ендимизи темиз туталъ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иккатле беклейели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юслен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5:4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5:7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5:9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де калъ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аларъмъза джевап вер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изи сев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5:4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:5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:8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:9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5:10</a:t>
                      </a:r>
                      <a:r>
                        <a:rPr b="1" lang="de-DE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нда ка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емиш ве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оренджи о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евгиде девам ет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йрукларъмъ тут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23054"/>
          <a:stretch/>
        </p:blipFill>
        <p:spPr>
          <a:xfrm>
            <a:off x="552600" y="2049480"/>
            <a:ext cx="7794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0" r="0" b="24848"/>
          <a:stretch/>
        </p:blipFill>
        <p:spPr>
          <a:xfrm>
            <a:off x="560520" y="298620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-10095" t="13618" r="-1774" b="10895"/>
          <a:stretch/>
        </p:blipFill>
        <p:spPr>
          <a:xfrm>
            <a:off x="468360" y="399420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33271" t="0" r="0" b="0"/>
          <a:stretch/>
        </p:blipFill>
        <p:spPr>
          <a:xfrm>
            <a:off x="539640" y="5073480"/>
            <a:ext cx="76860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00360" y="90792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са килисе ичин не яп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907920"/>
            <a:ext cx="34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илисенин гьореви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05200" y="254808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5200" y="348444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5200" y="449280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05200" y="564516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76640"/>
            <a:ext cx="338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2244600"/>
            <a:ext cx="3456000" cy="67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3213000"/>
            <a:ext cx="345600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3213000"/>
            <a:ext cx="3384720" cy="67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4221000"/>
            <a:ext cx="3456000" cy="6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8800" y="4221000"/>
            <a:ext cx="3409920" cy="6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5157720"/>
            <a:ext cx="345600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5157720"/>
            <a:ext cx="338472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55640" y="2278080"/>
          <a:ext cx="6984720" cy="3098880"/>
        </p:xfrm>
        <a:graphic>
          <a:graphicData uri="http://schemas.openxmlformats.org/drawingml/2006/table">
            <a:tbl>
              <a:tblPr/>
              <a:tblGrid>
                <a:gridCol w="3528720"/>
                <a:gridCol w="3456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ом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5:15,18-19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Кор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5:45-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улук ве яшам гетир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нсуз чшам вер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р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5: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бензер оладж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0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Лука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:17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Ибр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8:10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ет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:10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İ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b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:17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:25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и бир халк япт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юнахларъмъзъ баъшлатъръ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им ичин дуа ед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ъкъш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:6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Ром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2:1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т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:5.9</a:t>
                      </a: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ьоревли бир халкъ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ндимизи курбан едийору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лахън ийилиини илан ет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ет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:5-8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Ефес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:20-21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ансъзлара кьостек, бизим ичин къймет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и бир арада тутуйор, бичим верийор, Килисейи бюйютюрю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трус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:5</a:t>
                      </a:r>
                      <a:r>
                        <a:rPr b="1" lang="de-DE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ири ташлар олалъ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9800" y="2205000"/>
            <a:ext cx="790560" cy="781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442" t="-9855" r="0" b="0"/>
          <a:stretch/>
        </p:blipFill>
        <p:spPr>
          <a:xfrm>
            <a:off x="468360" y="3213000"/>
            <a:ext cx="792000" cy="81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21515" t="0" r="14242" b="0"/>
          <a:stretch/>
        </p:blipFill>
        <p:spPr>
          <a:xfrm>
            <a:off x="468360" y="4438800"/>
            <a:ext cx="803160" cy="863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92360" y="1197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са килисе ичин не яп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21440" y="11970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илисенин гьореви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56240" y="271152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56240" y="371952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56240" y="501480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2521080"/>
            <a:ext cx="345600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2530440"/>
            <a:ext cx="33940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3500280"/>
            <a:ext cx="3456000" cy="6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3284640"/>
            <a:ext cx="3389400" cy="9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4508640"/>
            <a:ext cx="3456000" cy="83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4475160"/>
            <a:ext cx="3403800" cy="88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12000" y="1557360"/>
            <a:ext cx="2895480" cy="38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4920" y="981000"/>
            <a:ext cx="39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Чобан ве сю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7200" y="157464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Йух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 10:11-27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Мезмур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349360"/>
            <a:ext cx="5472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Ийи чобан койунлара бес гьостерийор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а Инджили ьорет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2)  Ийи чобан ьондерлик яп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да иманлълардан даа илериде мий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Ийи чобан койунларънъ кор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ън халини дюшюнюп онларъ кору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Койунлар онун сесини танърлар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манлълар беним сесими ишитирлер 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898720" cy="395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152892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2) Кафа ве</a:t>
            </a: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е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06064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s 1:22-23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Kol 1:18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2:19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 5:24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4: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284640"/>
            <a:ext cx="53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1)  Бейин планлъйор, илери бак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топлантънън геледжеи ичин план япъ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ейинин опрганлара баалантъсъ 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а баалъ мъйъм? Онларла конушуйор муйум? Онларъ долашъ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21160" cy="388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98100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3) Гювей ве г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6880" y="1557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s 5:26-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989000"/>
            <a:ext cx="540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Гювей кадънъ темиз къ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гюнах темасънда не япъйор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Гювей гелинини яратъйор: гелин даа ортада йоккен гювей онун уруна ьолмекле ону мейдана гети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биринджи адъмъ мъ атъйорум, йокса беклийор муйум, башкасъ башлатсъ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Гювей каръсъна баалъдър, ону джандан сев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ръмъ герчектен севийор муйум? Онунлз бирликте Раб ичин ишл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384720" cy="253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68360" y="23954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4) Асма ве чубук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789360"/>
            <a:ext cx="828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1) Асма топрактан бес алъп чубуклара улаштъръ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са’дан не алдъм да, топлантия верей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2) Асма ве чубукла иш битмийор, йемиш лазъ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лъджъ йемиш мейдана гетирдим 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3) ”Бабам темизлийор” = Раб герексиз шейлери хаятъмъздан алъй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Хаятъмда не фазлалък вар, Раб ону бенден алсъ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7240" y="29242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Yuh 15:4 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878200" cy="28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95280" y="1054080"/>
            <a:ext cx="42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5)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Икинджи Адем ве</a:t>
            </a: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йени инсаний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2050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Rom 5:15,18-19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1.Kor 15:45-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068640"/>
            <a:ext cx="403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Адем херкесин бабасъдър, херкес онун копясъдъ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Кишилер бени копя едийорлар мъ? Беним ней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Адем биринджи ханенин башъ и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им ханем не дурумда? О конуда ьорнек мий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01-14T11:49:01Z</dcterms:modified>
  <cp:revision>82</cp:revision>
  <dc:subject/>
  <dc:title>Иса иле килисе ичин бензетмелер</dc:title>
</cp:coreProperties>
</file>