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742-E56C-44EB-B6B7-98FB53E1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2AB-067A-4E4F-8614-8F6A3277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E59-F055-4CA6-BE91-05375724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9C4-36D3-43A4-AF1F-4442142B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70D-B01F-4931-9E4D-98E21A23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96A-2BAC-4F7B-918F-B439B46D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FB8-9E63-43F3-9BBE-EF5C37C7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7AB-72D1-47A2-86E4-A1DA86D8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17A-DB90-45C7-9F47-87F8B1E6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B7F-AF11-4C1E-BC31-6AC7D41B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9E5-4FA7-4A0B-A7FA-34B7F963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606-8D01-4B71-91F1-A21F263E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E06-A021-46F5-82BB-5907CE8427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БИР гьорев – ЮЧ 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00" y="1197000"/>
            <a:ext cx="5040000" cy="5040360"/>
            <a:chOff x="324000" y="1197000"/>
            <a:chExt cx="5040000" cy="5040360"/>
          </a:xfrm>
        </p:grpSpPr>
        <p:sp>
          <p:nvSpPr>
            <p:cNvPr id="43" name=""/>
            <p:cNvSpPr/>
            <p:nvPr/>
          </p:nvSpPr>
          <p:spPr>
            <a:xfrm>
              <a:off x="324000" y="1197000"/>
              <a:ext cx="5040000" cy="504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71640" y="3645000"/>
              <a:ext cx="2015640" cy="172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828000" y="3645000"/>
              <a:ext cx="1942920" cy="15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2771640" y="1197000"/>
              <a:ext cx="0" cy="244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827280" y="27082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ОЙМЕН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80600" y="50594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‘</a:t>
            </a: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ПРЕСДВИТЕРОС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05200" y="2708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‘</a:t>
            </a: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ЕПИСКОПОС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5080" y="1341360"/>
            <a:ext cx="3021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ff"/>
                </a:solidFill>
                <a:uFillTx/>
                <a:latin typeface="Arial"/>
              </a:rPr>
              <a:t>Ики ьонемли айет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1.Петрус 5: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по 20:17,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1640" y="3160800"/>
            <a:ext cx="324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ОЙ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= чо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ПРЕСВИТЕ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= даа яшлъ о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ЕПСИКОП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= гьозетмен, ише ба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4978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ш дюнясъндан бир ьорнек:  ГЛОБУЛ фирма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ccff"/>
                </a:solidFill>
                <a:latin typeface="Arial"/>
              </a:rPr>
              <a:t>2001’де курулду ве 7 сенеде ен бюйюк тел. оператору олду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(4 </a:t>
            </a:r>
            <a:r>
              <a:rPr b="1" lang="bg-BG" sz="2000" spc="-1" strike="noStrike">
                <a:solidFill>
                  <a:srgbClr val="00ccff"/>
                </a:solidFill>
                <a:latin typeface="Arial"/>
              </a:rPr>
              <a:t>милион мющери)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ccff"/>
                </a:solidFill>
                <a:latin typeface="Arial"/>
              </a:rPr>
              <a:t>2007 сенесинде пиясънън 40% контрол ед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) </a:t>
            </a:r>
            <a:r>
              <a:rPr b="1" lang="bg-BG" sz="3200" spc="-1" strike="noStrike">
                <a:solidFill>
                  <a:srgbClr val="cc3300"/>
                </a:solidFill>
                <a:latin typeface="Arial"/>
              </a:rPr>
              <a:t>Хедеф койдулар: геледжек сене ичинде 15% бюйюме олс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16000" y="3548160"/>
            <a:ext cx="2811600" cy="2644560"/>
            <a:chOff x="1116000" y="3548160"/>
            <a:chExt cx="2811600" cy="264456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116000" y="3548160"/>
              <a:ext cx="258912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694160" y="52750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tel (5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21440" y="3927240"/>
              <a:ext cx="114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GLOB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(4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62520" y="42670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iv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1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57880" y="3548160"/>
            <a:ext cx="2596320" cy="2612880"/>
            <a:chOff x="5357880" y="3548160"/>
            <a:chExt cx="2596320" cy="261288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357880" y="3548160"/>
              <a:ext cx="256860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720760" y="52750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tel (38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1320" y="3908160"/>
              <a:ext cx="114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GLOB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(55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89120" y="513216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iv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7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845360" y="633096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0760" y="6356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4699080"/>
            <a:ext cx="1295280" cy="5047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98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6600"/>
                </a:solidFill>
                <a:latin typeface="Arial"/>
              </a:rPr>
              <a:t>2) Стратегия сечтил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) даа фазла генч мющерилере диккат верилсин  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) Мющерилер ваучерлерден айлък хесаплара гечирил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2056" t="6470" r="7858" b="3331"/>
          <a:stretch/>
        </p:blipFill>
        <p:spPr>
          <a:xfrm>
            <a:off x="1187280" y="4508640"/>
            <a:ext cx="6336000" cy="201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210024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 rot="5400000">
            <a:off x="5327640" y="3249360"/>
            <a:ext cx="1152360" cy="93672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14" stAng="10800000" swAng="5400000"/>
                <a:lnTo>
                  <a:pt x="15024" y="3246"/>
                </a:lnTo>
                <a:lnTo>
                  <a:pt x="15024" y="0"/>
                </a:lnTo>
                <a:lnTo>
                  <a:pt x="21600" y="6079"/>
                </a:lnTo>
                <a:lnTo>
                  <a:pt x="15024" y="12158"/>
                </a:lnTo>
                <a:lnTo>
                  <a:pt x="15024" y="8912"/>
                </a:lnTo>
                <a:lnTo>
                  <a:pt x="12427" y="8912"/>
                </a:lnTo>
                <a:arcTo wR="6761" hR="3248" stAng="16200000" swAng="-5400000"/>
                <a:lnTo>
                  <a:pt x="5666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90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12536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3) Ишчилерини харекете гечирди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Иш моралъна диккат едийорлар – деил садедже пара вермекле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052640"/>
            <a:ext cx="889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GLOBUL ПРАЗНУВА 7-МИ РОЖДЕН ДЕН В НЕБЕТО НАД СОФИЯ  18-09-200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„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Да се срещнем на върха” покани GLOBUL своите служители, партньори и представителите на медиите по повод отбелязването на 7-мата годишнина на мобилния оператор. Поради символиката на годишнината компанията реши да провокира гостите си с уникално преживяване – „Вечеря в небето”.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0" r="7087" b="0"/>
          <a:stretch/>
        </p:blipFill>
        <p:spPr>
          <a:xfrm>
            <a:off x="4788000" y="2952720"/>
            <a:ext cx="424800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0920" y="256536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За първи път в България, в центъра на столицата, до храм-паметник „Александър Невски”, бе издигната нашумялата в света конструкция за ресторант във въздуха. Специална платформа, изградена под формата на маса за вечеря за 22 души, се издига с помощта на мощен кран на височина 50 метра във въздуха. От там гостите на тридневното тържество, между 18 и 20 септември, по случай рождения ден на GLOBUL ще се наслаждават на панорамата на столичния град в компанията на своите домак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12536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4) Кишилери йетиштирди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0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шчи варкен, 200 даха алдълар ве йетиштирдилер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00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шчи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500280"/>
            <a:ext cx="1368360" cy="2378160"/>
          </a:xfrm>
          <a:prstGeom prst="can">
            <a:avLst>
              <a:gd name="adj" fmla="val 18625"/>
            </a:avLst>
          </a:prstGeom>
          <a:gradFill rotWithShape="0">
            <a:gsLst>
              <a:gs pos="0">
                <a:srgbClr val="2d0000"/>
              </a:gs>
              <a:gs pos="50000">
                <a:srgbClr val="cc0000"/>
              </a:gs>
              <a:gs pos="100000">
                <a:srgbClr val="2d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000 иш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2997360"/>
            <a:ext cx="1368360" cy="2954160"/>
          </a:xfrm>
          <a:prstGeom prst="can">
            <a:avLst>
              <a:gd name="adj" fmla="val 17787"/>
            </a:avLst>
          </a:prstGeom>
          <a:gradFill rotWithShape="0">
            <a:gsLst>
              <a:gs pos="0">
                <a:srgbClr val="0f0c00"/>
              </a:gs>
              <a:gs pos="50000">
                <a:srgbClr val="ffcc00"/>
              </a:gs>
              <a:gs pos="100000">
                <a:srgbClr val="0f0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200 иш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2560" y="5011560"/>
            <a:ext cx="1944720" cy="505080"/>
          </a:xfrm>
          <a:custGeom>
            <a:avLst/>
            <a:gdLst>
              <a:gd name="textAreaLeft" fmla="*/ 303840 w 1944720"/>
              <a:gd name="textAreaRight" fmla="*/ 1747440 w 1944720"/>
              <a:gd name="textAreaTop" fmla="*/ 127080 h 505080"/>
              <a:gd name="textAreaBottom" fmla="*/ 37800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34"/>
                </a:moveTo>
                <a:lnTo>
                  <a:pt x="17189" y="5434"/>
                </a:lnTo>
                <a:lnTo>
                  <a:pt x="17189" y="0"/>
                </a:lnTo>
                <a:lnTo>
                  <a:pt x="21600" y="10800"/>
                </a:lnTo>
                <a:lnTo>
                  <a:pt x="17189" y="21600"/>
                </a:lnTo>
                <a:lnTo>
                  <a:pt x="17189" y="16166"/>
                </a:lnTo>
                <a:lnTo>
                  <a:pt x="3375" y="16166"/>
                </a:lnTo>
                <a:close/>
              </a:path>
              <a:path w="21600" h="21600">
                <a:moveTo>
                  <a:pt x="0" y="5434"/>
                </a:moveTo>
                <a:lnTo>
                  <a:pt x="675" y="5434"/>
                </a:lnTo>
                <a:lnTo>
                  <a:pt x="675" y="16166"/>
                </a:lnTo>
                <a:lnTo>
                  <a:pt x="0" y="16166"/>
                </a:lnTo>
                <a:close/>
              </a:path>
              <a:path w="21600" h="21600">
                <a:moveTo>
                  <a:pt x="1350" y="5434"/>
                </a:moveTo>
                <a:lnTo>
                  <a:pt x="2700" y="5434"/>
                </a:lnTo>
                <a:lnTo>
                  <a:pt x="2700" y="16166"/>
                </a:lnTo>
                <a:lnTo>
                  <a:pt x="1350" y="1616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8160" y="60930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800" y="60930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84720" y="2997360"/>
            <a:ext cx="2389320" cy="29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97000"/>
            <a:ext cx="828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5) Бюйюмейи контрол етти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Мухасебеджилер (счетоводители) хер 3 ай статистискаларъ ве репорларъ хазърлъйорлар. Айръджа мющерилерле интервюлар япълъ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9869" t="0" r="6540" b="0"/>
          <a:stretch/>
        </p:blipFill>
        <p:spPr>
          <a:xfrm>
            <a:off x="4572000" y="3068640"/>
            <a:ext cx="3600360" cy="3352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3598560" cy="33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1 гьорев – 3 ад</a:t>
            </a:r>
            <a:r>
              <a:rPr b="1" lang="el-GR" sz="4000" spc="-1" strike="noStrike">
                <a:solidFill>
                  <a:srgbClr val="99ccff"/>
                </a:solidFill>
                <a:latin typeface="Garamond"/>
              </a:rPr>
              <a:t> (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ики ьонемли айе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ОЙМЕН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</a:rPr>
              <a:t>ποιμεν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ПРЕСВИТЕРОС </a:t>
            </a:r>
            <a:r>
              <a:rPr b="1" lang="el-GR" sz="2400" spc="-1" strike="noStrike">
                <a:solidFill>
                  <a:srgbClr val="ff9900"/>
                </a:solidFill>
                <a:latin typeface="Arial"/>
              </a:rPr>
              <a:t> (πρεσβιτεροσ)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ЕПСИКОПОС</a:t>
            </a:r>
            <a:r>
              <a:rPr b="1" lang="el-GR" sz="2400" spc="-1" strike="noStrike">
                <a:solidFill>
                  <a:srgbClr val="6699ff"/>
                </a:solidFill>
                <a:latin typeface="Arial"/>
              </a:rPr>
              <a:t> (επισκοπο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2920" y="1844640"/>
            <a:ext cx="428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1Pe 5:1-2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Πρεσβυτέρους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τοὺς ἐν ὑμῖν παρακαλῶ ὁ συμπρεσβύτερος καὶ μάρτυς τῶν τοῦ Χριστοῦ παθημάτων, ὁ καὶ τῆς μελλούσης ἀποκαλύπτεσθαι δόξης κοινωνός,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ποιμάνατ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τὸ ἐν ὑμῖν ποίμνιον τοῦ Θεοῦ, </a:t>
            </a: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ἐπισκοποῦντες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μὴ ἀναγκαστῶς ἀλλ᾿ ἑκουσίως, μηδὲ αἰσχροκερδῶς ἀλλὰ προθύμω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67120" y="1865160"/>
            <a:ext cx="419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Апо 20:17,28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᾿Απὸ δὲ τῆς Μιλήτου πέμψας εἰς ῎Εφεσον μετεκαλέσατο τοὺς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πρεσβυτέρους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τῆς ἐκκλησί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προσέχετε οὖν ἑαυτοῖς καὶ παντὶ τῷ ποιμνίῳ, ἐν ᾧ ὑμᾶς τὸ Πνεῦμα τὸ ῞Αγιον ἔθετο </a:t>
            </a: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ἐπισκόπους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ποιμαίνειν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τὴν ἐκκλησίαν τοῦ Θεοῦ, ἣν περιποιήσατο διὰ τοῦ ἰδίου αἵματο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628640"/>
            <a:ext cx="0" cy="522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ЧОБАН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ъ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125360"/>
            <a:ext cx="67690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Бир чобанън йюр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змур 78:70-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улу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вуд’у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сеч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лдъ ону бир койун аълън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емзикли койунларън ардъндан чаърдъ о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отлатсън дийе кенди халкъ олан Якуб’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ве мирасъ олан Исраил’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Бьойледже дору йюрекли бир чобан гиб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гюттю Давуд онларъ, уста бир ел иле.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724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Чобанън ишини герекли кълан койунларън зайъфлъкларъд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узулар хепси сърада олса, чобана иш калм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ЧОБАН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ъ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41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Насъл чобан олуну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ашкасъ сана о джанларъ еманет ед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484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Чобанън диккати нере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ишилерин юзерине – онлар ийи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3637080"/>
            <a:ext cx="784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Чобан насъл чалъшъй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ураж верме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енди кейфине бакм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ишилер она терс даврандъ мъ, о ташъябил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ИХТИЯ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ъ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1341360"/>
            <a:ext cx="820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Насъл ихтияр олуну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томатик оларак, рухсал яшамънда девам етме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ухсал теджрюбелер казанма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ман адъмларъ атма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3193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Ихтиярън диккати нере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ендисинде: Раббе бензер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346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Ихтияр насъл чалъшъй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ьорнек олмак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ЙЬОНЕТИДЖИ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268280"/>
            <a:ext cx="820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Топлулук башка организасйонлара бенз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лазъм организиран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епископ’ оларак лазъм хер змана билелим: “Ким не заман нереде лазъм олсун ве не иш япсън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изим ичин чок зор: махалледе хер шей сон секундада белли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ючюк сайдъъмъз олайларда инсан карактери белли олуйр (синир, ьофке, аф етмемезл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ама ийи организе едилмиш олайлар махалледе бюйюк шахитлик олу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ЙЬОНЕТИДЖИ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341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Насъл йьоентиджи олуну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даа кючюк ишлери башарълъ битирме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24922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Йьонетиджинин диккати нере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илисенин иши йюрюсю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Йьонетиджи насъл чалъшъй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ьондже кендиси япъйор, сонра башка иманлълара яптър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ЙЬОНЕТИДЖИ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9079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Мемур 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иле</a:t>
            </a: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менеджъ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59236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6323" t="0" r="3921" b="0"/>
          <a:stretch/>
        </p:blipFill>
        <p:spPr>
          <a:xfrm>
            <a:off x="755640" y="1557360"/>
            <a:ext cx="2592360" cy="204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3716280"/>
            <a:ext cx="4032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садедже верилен иши тамамламая бак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хазър кураллара 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она сакинлик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деишиклик япмак проблем ярат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онун иши кятла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2920" y="3768840"/>
            <a:ext cx="489600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енди кендине иш верийор ве ону битир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уралларъ кендиси диз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она хейеджан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деишиклик япмактан коркм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онун иши инсанла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850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bg-BG" sz="3200" spc="-1" strike="noStrike">
                <a:solidFill>
                  <a:srgbClr val="cc0000"/>
                </a:solidFill>
                <a:latin typeface="Arial"/>
              </a:rPr>
              <a:t>Хедефлер сеч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2. Стратегияйъ сеч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bg-BG" sz="3200" spc="-1" strike="noStrike">
                <a:solidFill>
                  <a:srgbClr val="ff6600"/>
                </a:solidFill>
                <a:latin typeface="Arial"/>
              </a:rPr>
              <a:t>3. Харекете гечир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bg-BG" sz="3200" spc="-1" strike="noStrike">
                <a:solidFill>
                  <a:srgbClr val="cccc00"/>
                </a:solidFill>
                <a:latin typeface="Arial"/>
              </a:rPr>
              <a:t>4. Кишилери йетиштир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5. Илерлемейи ьолчю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16800" y="4940280"/>
            <a:ext cx="123192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3907" t="0" r="22228" b="3541"/>
          <a:stretch/>
        </p:blipFill>
        <p:spPr>
          <a:xfrm>
            <a:off x="3943440" y="4940280"/>
            <a:ext cx="1349280" cy="158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14715" t="0" r="15787" b="0"/>
          <a:stretch/>
        </p:blipFill>
        <p:spPr>
          <a:xfrm>
            <a:off x="1979640" y="494028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11376" t="0" r="0" b="9123"/>
          <a:stretch/>
        </p:blipFill>
        <p:spPr>
          <a:xfrm>
            <a:off x="525600" y="4940280"/>
            <a:ext cx="123804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rcRect l="9459" t="0" r="0" b="0"/>
          <a:stretch/>
        </p:blipFill>
        <p:spPr>
          <a:xfrm>
            <a:off x="5508720" y="4940280"/>
            <a:ext cx="180000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19280" y="565956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0920" y="565956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5280" y="565956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20000" y="565956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11-22T05:50:51Z</dcterms:modified>
  <cp:revision>389</cp:revision>
  <dc:subject/>
  <dc:title>Иса иле килисе ичин бензетмелер</dc:title>
</cp:coreProperties>
</file>