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86B-E6C2-405D-BB16-DAEF2A69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4DC-9E87-4D87-BB48-9FCC9166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92F-E0C7-40E2-B964-0394047A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688-E8E5-4756-866F-5244DE52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27D-6C87-4753-B31C-56FE77F5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EC9-E6AB-4EC8-8A6E-187335DD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92A-7DFA-4ECF-BE2C-BBDC5FE8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0C1-7F63-4DEE-8A2C-92FAA874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C31-7064-483F-AC0E-D4A55D21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7D4-FE24-4E1B-B8E4-FBE3C97A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296-A2FB-4B54-8C06-752DBFCF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D5F-FA26-4CDE-9233-07BE29D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FB86-FBBE-4C79-BFCC-BB8C649089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 ичин бензетм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1528920" cy="201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95800" y="1052640"/>
            <a:ext cx="1457280" cy="1990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978600" y="1125360"/>
            <a:ext cx="1289160" cy="1913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948360" y="372276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005440" y="4659480"/>
            <a:ext cx="1538280" cy="151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54200" y="4692600"/>
            <a:ext cx="1728720" cy="147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79280" y="3768840"/>
            <a:ext cx="2016360" cy="139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9080" y="313848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1) Чобан ве сю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65960" y="313380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2) Кафа ве бе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47960" y="31399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3) Гювей ве  ге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3360" y="5308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4) Асма  ве   чубук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62434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5) Икинджи Адем ве   йени инсаний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3840" y="62164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6) Башгьоревли  ве  гьорев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0" y="516420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7) Кьоше ташъ ве таш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 ичин бензетм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9360" y="1628640"/>
            <a:ext cx="70956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7440" y="2806560"/>
            <a:ext cx="771480" cy="105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706680" cy="1049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68360" y="5589720"/>
            <a:ext cx="863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547640" y="1557360"/>
          <a:ext cx="2737080" cy="4989600"/>
        </p:xfrm>
        <a:graphic>
          <a:graphicData uri="http://schemas.openxmlformats.org/drawingml/2006/table">
            <a:tbl>
              <a:tblPr/>
              <a:tblGrid>
                <a:gridCol w="1369080"/>
                <a:gridCol w="1368000"/>
              </a:tblGrid>
              <a:tr h="12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0:11 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0:14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ez 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0: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0:27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fes 1:22-23: Kol 1: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ol 2: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fe 5: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ol 2: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fe 4: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2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fes 5:26-27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Kor 11: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 25: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çık 21:2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5:4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5: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5:9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5: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5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5: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5: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uh 15:10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900000" y="765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Иса килисе ичин не япъйо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427640" y="1557360"/>
          <a:ext cx="4392360" cy="5013360"/>
        </p:xfrm>
        <a:graphic>
          <a:graphicData uri="http://schemas.openxmlformats.org/drawingml/2006/table">
            <a:tbl>
              <a:tblPr/>
              <a:tblGrid>
                <a:gridCol w="2225520"/>
                <a:gridCol w="2166840"/>
              </a:tblGrid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Хаятънъ верийор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еслемек, йол гьосте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йола гетирмек, темизлемек, кору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Сесле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аркадан гел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Бедени бир арада тутмак, бюйютю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Сесле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Съкъ тут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Топл. Илерлети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Темиз ве кутсал къл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Кендимизи темиз туталъ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диккатле беклейелим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Сюслен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изде калъ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дуаларъмъза джевап вери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бизи севи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Онда кал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йемиш ве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ьоренджи ол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севгиде девам ет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уърукларъмъ тут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689280" y="76500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Килисенин гьореви неди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125360"/>
            <a:ext cx="216000" cy="432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1052640"/>
            <a:ext cx="503280" cy="5047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 ичин бензетм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1568520"/>
            <a:ext cx="790560" cy="78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2560" y="2852640"/>
            <a:ext cx="865080" cy="73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1280" y="4243320"/>
            <a:ext cx="1008000" cy="69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835280" y="1268280"/>
          <a:ext cx="2952720" cy="4064040"/>
        </p:xfrm>
        <a:graphic>
          <a:graphicData uri="http://schemas.openxmlformats.org/drawingml/2006/table">
            <a:tbl>
              <a:tblPr/>
              <a:tblGrid>
                <a:gridCol w="1657080"/>
                <a:gridCol w="129564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om 5:15,18-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Kor 15:45-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Kor 15: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uka 1: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İbr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</a:t>
                      </a: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8: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Pet 2:10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İ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</a:t>
                      </a: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 </a:t>
                      </a: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: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İbr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 </a:t>
                      </a: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7:25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Çık 19: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om 12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Pet 2:5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Pet 2:5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fes 2:20-21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Pet 2:5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003640" y="1281240"/>
          <a:ext cx="3672000" cy="4572000"/>
        </p:xfrm>
        <a:graphic>
          <a:graphicData uri="http://schemas.openxmlformats.org/drawingml/2006/table">
            <a:tbl>
              <a:tblPr/>
              <a:tblGrid>
                <a:gridCol w="1913040"/>
                <a:gridCol w="17589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Дорулук ве яшам гетир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сонсуз чшам вер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Она бензер оладж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6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изи бир халк япт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гюнахларъмъзъ баъшлатъръ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изим ичин дуа еди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Гьоревли бир халкъ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кендимизи курбан едийору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Аллахън ийилиини илан ет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Имансъзлара кьостек, бизим ичим къймет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изи бир арада тутуйор, бичим верийор, Килисейи бюйютюрю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- Дири ташлар олалъ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Tomas OTTO</cp:lastModifiedBy>
  <dcterms:modified xsi:type="dcterms:W3CDTF">2006-10-26T07:48:26Z</dcterms:modified>
  <cp:revision>24</cp:revision>
  <dc:subject/>
  <dc:title>Иса иле килисе ичин бензетмелер</dc:title>
</cp:coreProperties>
</file>