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9C0-1D25-44A7-A253-B40829C9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0C9-8F61-40F7-9863-B7857473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B49-C109-43DF-95A7-C19171E2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AC6-19C1-4BA1-97B4-D4D53A79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84E4-3499-4BD5-8B06-4BB5435F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983-C1B6-492F-BF81-102EF3E3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9F6-C6C2-4D71-A130-8B8F6077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6DE-79F7-4780-A676-185CF165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B1C-0DF8-41A0-A727-A9353D96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9A5E-D046-46EC-983E-90459DFE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035-6A6D-463D-8C6A-F745BE4C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088-40CE-46F1-A799-B1E8C0C0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E9CE-EF87-4EB4-9770-F7DAD91DFFC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Яратълъш 3: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1700280"/>
            <a:ext cx="7200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Сенинле кадънъ, онун сойуйла сенин сойуну бирбиринизе дюшман едеджеим. Онун сойу сенин башънъ езеджек, сен онун топууна салдъраджаксъ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Галатиялълар 4: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16000" y="1915920"/>
            <a:ext cx="691344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Ама заман долунджа, Аллах кенди Олуну йолладъ. О, бир кадъндан доду ве канунун алтънда доду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Яратълъш 22: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87280" y="1773000"/>
            <a:ext cx="67694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Сойунун араджълъъйла йерйюзюндеки бютюн улуслар кутсанаджак. Чюнкю сьозюмю динледи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Ибранилер 2: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86920" y="1628280"/>
            <a:ext cx="72010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Пеки, мадем евлатлар ет ве кандандърлар, О кендиси де айнъ табийети алдъ. ЬОйле ки, ьолмекле ьолюмюн кувветине сахип оланъ, хани Шейтанъ, йенсин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Йуханна 1: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71640" y="1557000"/>
            <a:ext cx="7200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Ве Сьоз беден олду, арамъзда отурду. Биз де Онун шанлълъънъ гьордюк. Бабадан тек доанън шанлълъъ, мерхамет ве хакикатла долу олан бир шанлълъъ гьордюк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1. Йуханна 4: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720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Аллахън Рухуну шьойле танъяджаз: 'Иса Месих бир беден ичинде гелмиштир' - буну ачък ачък сьойлейен хер рух Аллахтандъ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05:11:20Z</dcterms:created>
  <dc:creator>asd</dc:creator>
  <dc:description/>
  <dc:language>en-US</dc:language>
  <cp:lastModifiedBy>asd</cp:lastModifiedBy>
  <dcterms:modified xsi:type="dcterms:W3CDTF">2009-05-23T13:10:02Z</dcterms:modified>
  <cp:revision>63</cp:revision>
  <dc:subject/>
  <dc:title>Матта 11:27</dc:title>
</cp:coreProperties>
</file>