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A5E-9144-45E3-BDCB-09CB17F7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898-BC22-4C81-9AFF-191DE5B2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3A5-A3CD-4C29-946B-C0BDE54D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4D1-6C4D-46A7-9662-84284829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E652-DD53-411B-A5D0-89A3735A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73BA-925C-4EEF-8625-FA6A9D8E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84BC-A266-4403-8EDD-24B764BD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5B12-F5ED-4374-BC38-D127776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B929-DE9B-4D38-8F0E-AF5696D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1ED1-C399-44D7-B335-CC6223ED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908C-1F89-461E-A702-EB1B3391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8C1-E966-4946-BABE-C87FF6BC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7D82-1DBB-4406-8AB1-BFC1749B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92D3-C2BA-4A2A-A925-7F3FB506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7FC8-3319-43AF-930C-02702BD4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36E5-0FF5-4C87-9F8E-369F375F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847F-4B00-4CF2-B7D6-25353FD7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411-9E21-4AAF-B59F-31793A61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348-30C6-455F-9B5D-35096D0A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448-3666-4F91-BFBA-65A3A8E7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42C-F60B-42E3-BE08-6242A8DD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183-95F0-4F7F-8C1A-D2503F33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A6D-4F43-45A3-98FD-160F19D8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5A2-FA7A-4CE5-998A-D6E34465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0AEA-B8A0-4705-8306-88BBB91B8F79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6260-ECBD-4A08-A42B-512E0C5031E7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КАЙНАНА иле ГЕЛИ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2274480"/>
            <a:ext cx="5111640" cy="2019600"/>
          </a:xfrm>
          <a:prstGeom prst="rect">
            <a:avLst/>
          </a:prstGeom>
          <a:noFill/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66"/>
                </a:solidFill>
                <a:latin typeface="Tahoma"/>
              </a:rPr>
              <a:t>Мат</a:t>
            </a:r>
            <a:r>
              <a:rPr b="1" lang="bg-BG" sz="2400" spc="-1" strike="noStrike">
                <a:solidFill>
                  <a:srgbClr val="ffcc66"/>
                </a:solidFill>
                <a:latin typeface="Tahoma"/>
              </a:rPr>
              <a:t>та</a:t>
            </a:r>
            <a:r>
              <a:rPr b="1" lang="tr-TR" sz="2400" spc="-1" strike="noStrike">
                <a:solidFill>
                  <a:srgbClr val="ffcc66"/>
                </a:solidFill>
                <a:latin typeface="Tahoma"/>
              </a:rPr>
              <a:t> 19: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Инсан бабасънъ анасънъ бракаджак, каръсъна баланаджак, икиси бир беден оладж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84720" y="2492280"/>
            <a:ext cx="2633760" cy="3897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6920" y="979200"/>
            <a:ext cx="6945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Деил ефенди ве хизметч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ама талебе ве аркад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723200"/>
            <a:ext cx="5112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Ама </a:t>
            </a: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хер ана късканчлъа кадар чоджууну севийор</a:t>
            </a:r>
            <a:r>
              <a:rPr b="0" lang="de-DE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de-DE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бракмак истемий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КАЙНАНА иле ГЕЛИ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439080"/>
            <a:ext cx="648000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- ама к</a:t>
            </a: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айнана гелини кендине табии едий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- гелин киме баалансън – коджасъна мъ, кайнанасъна мъ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- гелин хизмет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и гиби олмасъ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к</a:t>
            </a: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айнана лазъм кендине гелин алмасън, ама чоджуу лазъм кендине каръ алсън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2208960"/>
            <a:ext cx="7848360" cy="1468440"/>
          </a:xfrm>
          <a:prstGeom prst="rect">
            <a:avLst/>
          </a:prstGeom>
          <a:noFill/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87200" bIns="1836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66"/>
                </a:solidFill>
                <a:latin typeface="Tahoma"/>
              </a:rPr>
              <a:t>Ефес 5:22-25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Ей карълар! Рабби насъл сеслийорсунуз, коджаларънъзъ да айнъ ьойле сеслейин.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4508640"/>
            <a:ext cx="1684440" cy="1773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86920" y="979200"/>
            <a:ext cx="6945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Деил ефенди ве хизметч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ама талебе ве аркад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КАЙНАНА иле ГЕЛИ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208960"/>
            <a:ext cx="7848720" cy="1468440"/>
          </a:xfrm>
          <a:prstGeom prst="rect">
            <a:avLst/>
          </a:prstGeom>
          <a:noFill/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87200" bIns="1836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66"/>
                </a:solidFill>
                <a:latin typeface="Tahoma"/>
              </a:rPr>
              <a:t>Яратълъш </a:t>
            </a:r>
            <a:r>
              <a:rPr b="1" lang="tr-TR" sz="2400" spc="-1" strike="noStrike">
                <a:solidFill>
                  <a:srgbClr val="ffcc66"/>
                </a:solidFill>
                <a:latin typeface="Tahoma"/>
              </a:rPr>
              <a:t>2:1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Адем’ин ялнъз калмасъ ийи деил. Она уйгун бир ярдъмджъ яратаджаъм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776400"/>
            <a:ext cx="56167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- Гелин коджасъна ярдъмдджъдър, деил кайнанасъ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- егер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еркек </a:t>
            </a: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хаят бойунджа анасъна балъ калърса,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онун </a:t>
            </a: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кафасънда айрълък оладжак, каръсъна б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аланамаядж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6920" y="979200"/>
            <a:ext cx="6945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Деил ефенди ве хизметч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ама талебе ве аркад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22880" y="4309920"/>
            <a:ext cx="2841840" cy="23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КАЙНАНА иле ГЕЛИ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881720"/>
            <a:ext cx="8136000" cy="1834200"/>
          </a:xfrm>
          <a:prstGeom prst="rect">
            <a:avLst/>
          </a:prstGeom>
          <a:noFill/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87200" bIns="1836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66"/>
                </a:solidFill>
                <a:latin typeface="Tahoma"/>
              </a:rPr>
              <a:t>Сюл.</a:t>
            </a:r>
            <a:r>
              <a:rPr b="1" lang="bg-BG" sz="2400" spc="-1" strike="noStrike">
                <a:solidFill>
                  <a:srgbClr val="ffcc66"/>
                </a:solidFill>
                <a:latin typeface="Tahoma"/>
              </a:rPr>
              <a:t>ЬОзд</a:t>
            </a:r>
            <a:r>
              <a:rPr b="1" lang="tr-TR" sz="2400" spc="-1" strike="noStrike">
                <a:solidFill>
                  <a:srgbClr val="ffcc66"/>
                </a:solidFill>
                <a:latin typeface="Tahoma"/>
              </a:rPr>
              <a:t>. 22: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Чоджуу тутмасъ герекен йола гьоре йетиштир, Яшландъънда о йолдан айрълмаз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3711600"/>
            <a:ext cx="5329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-  Къзан кимден тербийе гьореджек: ана ве бабасъндан мъ, я да ненесинден 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махалледе биринджи къзанлар хеп ненесинин малъдъ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979200"/>
            <a:ext cx="6945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Деил ефенди ве хизметч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ама талебе ве аркад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83860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КАЙНАНА иле ГЕЛИ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848240"/>
            <a:ext cx="4753080" cy="1834200"/>
          </a:xfrm>
          <a:prstGeom prst="rect">
            <a:avLst/>
          </a:prstGeom>
          <a:noFill/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87200" bIns="1836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66"/>
                </a:solidFill>
                <a:latin typeface="Tahoma"/>
              </a:rPr>
              <a:t>ПРОБЛ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Егер фърсат йокса айръ ев тутмая, генч аилелер не япсън?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777480"/>
            <a:ext cx="518292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921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Асъл айрълък олуйор дюшюнджеде: айръ хесаплар, тенджерелер, чоджук тербийесине каръшмам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cc"/>
                </a:solidFill>
                <a:latin typeface="Tahoma"/>
              </a:rPr>
              <a:t>- Еркек анлъйор ки, кендиси каръсъ ве къзанларъ ичин сорумлу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ду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86920" y="979200"/>
            <a:ext cx="6945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Деил ефенди ве хизметч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ама талебе ве аркад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43560" y="2060640"/>
            <a:ext cx="359244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КАЙНАНА иле ГЕЛИ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716480"/>
            <a:ext cx="889308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66"/>
                </a:solidFill>
                <a:latin typeface="Tahoma"/>
              </a:rPr>
              <a:t>Ески Ахитте бир ьорнек: </a:t>
            </a:r>
            <a:r>
              <a:rPr b="1" lang="bg-BG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tr-TR" sz="2400" spc="-1" strike="noStrike">
                <a:solidFill>
                  <a:srgbClr val="ffcc66"/>
                </a:solidFill>
                <a:latin typeface="Tahoma"/>
              </a:rPr>
              <a:t>РУТ</a:t>
            </a:r>
            <a:r>
              <a:rPr b="1" lang="bg-BG" sz="2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Наоми адънда бир Исраилли кадън, ики чоджуу иле Моа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девлетине ташънъйо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рада ики чоджуу евленийор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, с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онра икиси де ьолюйор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Наоми гелинлерине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ди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йор: "Истерсениз бенимле дьонюн, истерсениз бурада калън“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Рут адъндаки гелини онун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дьонмейе карар верийор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816360" cy="2273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55640" y="5300640"/>
            <a:ext cx="3889440" cy="1191240"/>
          </a:xfrm>
          <a:prstGeom prst="rect">
            <a:avLst/>
          </a:prstGeom>
          <a:gradFill rotWithShape="0">
            <a:gsLst>
              <a:gs pos="0">
                <a:srgbClr val="ffffcc">
                  <a:alpha val="20000"/>
                </a:srgbClr>
              </a:gs>
              <a:gs pos="100000">
                <a:srgbClr val="75755e">
                  <a:alpha val="60392"/>
                </a:srgbClr>
              </a:gs>
            </a:gsLst>
            <a:lin ang="5400000"/>
          </a:gra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Tahoma"/>
              </a:rPr>
              <a:t>- д</a:t>
            </a:r>
            <a:r>
              <a:rPr b="0" lang="tr-TR" sz="2400" spc="-1" strike="noStrike">
                <a:solidFill>
                  <a:srgbClr val="99ccff"/>
                </a:solidFill>
                <a:latin typeface="Tahoma"/>
              </a:rPr>
              <a:t>ерс: </a:t>
            </a:r>
            <a:r>
              <a:rPr b="0" lang="bg-BG" sz="2400" spc="-1" strike="noStrike">
                <a:solidFill>
                  <a:srgbClr val="99ccff"/>
                </a:solidFill>
                <a:latin typeface="Tahoma"/>
              </a:rPr>
              <a:t>к</a:t>
            </a:r>
            <a:r>
              <a:rPr b="0" lang="tr-TR" sz="2400" spc="-1" strike="noStrike">
                <a:solidFill>
                  <a:srgbClr val="99ccff"/>
                </a:solidFill>
                <a:latin typeface="Tahoma"/>
              </a:rPr>
              <a:t>айнана гелинин фикирлерине сайгъ гьостер</a:t>
            </a:r>
            <a:r>
              <a:rPr b="0" lang="bg-BG" sz="2400" spc="-1" strike="noStrike">
                <a:solidFill>
                  <a:srgbClr val="99ccff"/>
                </a:solidFill>
                <a:latin typeface="Tahoma"/>
              </a:rPr>
              <a:t>мели</a:t>
            </a:r>
            <a:r>
              <a:rPr b="0" lang="tr-TR" sz="1800" spc="-1" strike="noStrike">
                <a:solidFill>
                  <a:srgbClr val="99cc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6920" y="981000"/>
            <a:ext cx="69454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Деил ефенди ве хизметч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ама талебе ве аркад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КАЙНАНА иле ГЕЛИ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201760"/>
            <a:ext cx="8604000" cy="4394520"/>
          </a:xfrm>
          <a:prstGeom prst="rect">
            <a:avLst/>
          </a:prstGeom>
          <a:noFill/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87200" bIns="183600" anchor="ctr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66"/>
                </a:solidFill>
                <a:latin typeface="Tahoma"/>
              </a:rPr>
              <a:t>Титус 2:3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Яшлъ кадънлар да айнъ онун гиби ьойле даврансънлар, насъл кутсал кишилере якъшърса: зем етмесинлер, фазла шараба есир олмасънлар ве ийилии ьоретирен муаллимлер олсунлар. ЬОйле ки, генч кадънлара шунларъ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ьо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ретирсинл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- коджаларънъ севмейи,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къзанларънъ севмей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- акъллъ олмайъ,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намуслу олмайъ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- евджиман олмайъ,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ийи й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ю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рекли олмайъ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- коджаларънъ сеслемей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ЬОйле ки, Аллахън сьозуне каршъ конушулмасън.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86920" y="979200"/>
            <a:ext cx="6945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Деил ефенди ве хизметч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ама талебе ве аркад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04000" y="2349360"/>
            <a:ext cx="1944720" cy="1871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КАЙНАНА иле ГЕЛИ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4868280"/>
            <a:ext cx="6913440" cy="922320"/>
          </a:xfrm>
          <a:prstGeom prst="rect">
            <a:avLst/>
          </a:prstGeom>
          <a:gradFill rotWithShape="0">
            <a:gsLst>
              <a:gs pos="0">
                <a:srgbClr val="00ffff">
                  <a:alpha val="20000"/>
                </a:srgbClr>
              </a:gs>
              <a:gs pos="100000">
                <a:srgbClr val="007575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ще, кайнананън асъл гьореви: генч кадънлара муал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86920" y="979200"/>
            <a:ext cx="6945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Деил ефенди ве хизметч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ccff"/>
                </a:solidFill>
                <a:latin typeface="Tahoma"/>
              </a:rPr>
              <a:t>ама талебе ве аркад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15000" y="2349360"/>
            <a:ext cx="1841400" cy="1871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700360" y="234936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4000" y="2349360"/>
            <a:ext cx="2232000" cy="18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05:23:55Z</dcterms:created>
  <dc:creator>PC</dc:creator>
  <dc:description/>
  <dc:language>en-US</dc:language>
  <cp:lastModifiedBy>asd</cp:lastModifiedBy>
  <dcterms:modified xsi:type="dcterms:W3CDTF">2009-04-27T14:08:07Z</dcterms:modified>
  <cp:revision>43</cp:revision>
  <dc:subject/>
  <dc:title>КАЙНАНА иле ГЕЛИН</dc:title>
</cp:coreProperties>
</file>