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D8B-10A4-4C3D-88DF-557BDB7B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64C-85B7-48E6-92E5-623EA1BE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58F-99A7-47D1-BE5B-7BDEB35A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CF7-5F58-43C4-946A-B9BC5C9F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924-A860-457A-A730-D62CCC5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CCB-B930-4AF2-B8AA-B00C8D7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299-1C98-4C87-B03F-5246229F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0A3-6D97-4EB7-8511-5727B8F0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418-CB9F-4F8A-B977-C36CC293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8E1-81AD-4C07-A299-46FB80F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3BD-D838-4BFA-B21C-0BC73F9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1FF-93CE-4D64-8C36-DA7C6C2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9DF1-F867-42DB-8D09-7B3AC7FA134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65600" y="4581360"/>
            <a:ext cx="2771640" cy="1557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Keith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99ff"/>
                </a:solidFill>
                <a:latin typeface="Arial"/>
              </a:rPr>
              <a:t>( ‘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Kiyt Griyn</a:t>
            </a:r>
            <a:r>
              <a:rPr b="1" lang="tr-TR" sz="2400" spc="-1" strike="noStrike">
                <a:solidFill>
                  <a:srgbClr val="3399ff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953</a:t>
            </a: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 -19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Keith Green</a:t>
            </a: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953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81000"/>
            <a:ext cx="43214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leep In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see, do you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the people sink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n't you care, don't you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 you gonna let them d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an you be so nu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to care if they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lose your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pretend the job's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quot;Oh bless me Lord, bless me Lord&amp;quo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know it's all I ever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one aches, no one h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one even sheds one t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He cries, He weeps, He bl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He cares for you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you just lay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keep soaking it 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, can't you see it's such a s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use He brings people to you d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you turn them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you smile and s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quot;God bless you, be at peace&amp;quo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all heaven just we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use Jesus came to you 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've left him out on the str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836640"/>
            <a:ext cx="4716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up open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give yourself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see the need, you hear the c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how can you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's calling and you're th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like Jonah you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's told you to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you keep holding it 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 can't you see it's such a s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world is sleeping in the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at the church just can't f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use it's asleep in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an you be so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you've been so well 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rose from the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you, you can't even get out of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, Jesus rose from the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 on, get out of your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an you be so nu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to care if they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lose your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pretend the job's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lose your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pretend the job's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n't close your eyes, Don't pretend the jobs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 away, come away, come away with Me my lov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 away, from this mess, come away with Me, my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84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59:54Z</dcterms:created>
  <dc:creator>asd</dc:creator>
  <dc:description/>
  <dc:language>en-US</dc:language>
  <cp:lastModifiedBy>asd</cp:lastModifiedBy>
  <dcterms:modified xsi:type="dcterms:W3CDTF">2009-08-04T07:26:34Z</dcterms:modified>
  <cp:revision>440</cp:revision>
  <dc:subject/>
  <dc:title>Slide 1</dc:title>
</cp:coreProperties>
</file>