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B6F-FAFE-476B-A05D-C5337522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793-F742-4DA4-8EFF-BF60FBCF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4EC-DCD4-46B0-A175-B386DD9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6A0-5BFB-404A-BCBE-99D0172E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7A9-9C8F-4539-929F-2178E0D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E25-A302-4F0D-8E16-4A2CE84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3C1-2A4C-479F-A11A-27FF0FB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13C-55DB-41A1-973D-C9C52D6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73E-FF43-4642-A93D-33DB1A8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087-B653-485C-A781-43AFB93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7A4-F1A8-4B54-9C44-F28DA884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CC9-6F2A-449A-AD34-F8EA42D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C56-BC38-4B1D-965C-E261CAA1B0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152600">
            <a:off x="323280" y="1978200"/>
            <a:ext cx="227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Деил БЕН, ама БИЗ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9080" y="1101600"/>
            <a:ext cx="431964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нджак бирлик ичинде чалъштък мъ, Раб де ишлейед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ндже ьобюр гюдюджюлерле айнъ фикире геледжез, сонра о иши япадж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нгелл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юйюк олмак хър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ишилери кендимизе баала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ъсканчл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анвон хасталъ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46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1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969696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152800"/>
            <a:ext cx="5708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у (ъслак – со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ъ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кин, колай хейеджанланмаз, чекинген, хершейе разъ гелийор, олайларъ инджелийор, кендинден мемну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юрекли, иши сона гетир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ембел 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27640" y="3068640"/>
            <a:ext cx="2495520" cy="310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557360"/>
            <a:ext cx="381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ми кере конфликт олунджа анджак кърдан гелен бири ярдъм ед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119600">
            <a:off x="-180720" y="181440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Акъл алмактан коркмая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жак-сънъз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20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6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2708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гюдюджю кенди вергисине гьоре иш яп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155000">
            <a:off x="324000" y="1844640"/>
            <a:ext cx="244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Хепиниз айнъ иши япма-йъ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27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7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1628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аб сени калдърдъ, ама иши япмазсан, о башкасънъ калдърадж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гюдюджюнюн ишини ким япарса, гюдюджю оду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113600">
            <a:off x="179280" y="1844640"/>
            <a:ext cx="27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Я илер-лейе-джен, я да дюше-дже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34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8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427640" y="4365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1Sa 15:2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amuel, "Bugün RAB İsrail Krallığı'nı elinden aldı ve senden daha iyi birine verdi" ded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060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Тим 4:7 – 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ен гене кендини Аллах коркусунда илерлетир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кумак, окумак ве гене оку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120200">
            <a:off x="179280" y="174312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аха билме-диин чок шейлер вар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42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9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907920"/>
            <a:ext cx="4608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жъст ду ит!” Рибук фирмасънън маратонки ичин рекламъйд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нламъ: “Чок лаф япма, иши битир!” – “Аз конуш, чок ишл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ртък ‘аслънда’ лафъйла кендини бошуна авуттурма: “Аслънда лазъм КК’ъ даа ийи ьоренейим”, “Аслънда фаланджа кишийле баръшмам лазъм, фаланджа кишийи зиярет етмем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994200">
            <a:off x="538920" y="198864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Just do it</a:t>
            </a:r>
            <a:r>
              <a:rPr b="1" lang="bg-BG" sz="5400" spc="-1" strike="noStrike">
                <a:solidFill>
                  <a:srgbClr val="ffff00"/>
                </a:solidFill>
                <a:latin typeface="Arial"/>
              </a:rPr>
              <a:t>!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49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44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15600">
              <a:off x="1836360" y="1197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10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1125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айнъ йеткийе сахиб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хенюз зайъфъ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бу гьореве чаарълд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ьонемлий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">
            <a:off x="179280" y="1989000"/>
            <a:ext cx="26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Хепимиз айнъ дереджедейиз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53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2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84240" y="730080"/>
            <a:ext cx="1386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усурс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268280"/>
            <a:ext cx="32623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бир кадънън кодж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400" y="1844640"/>
            <a:ext cx="34466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манлъ къзанларъ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492280"/>
            <a:ext cx="3384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п кенди кафасъна гьоре гитме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840" y="3429000"/>
            <a:ext cx="3419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мен ьофкеленм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560" y="4005360"/>
            <a:ext cx="2149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чкидж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0200" y="4545000"/>
            <a:ext cx="22809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дж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600" y="5086440"/>
            <a:ext cx="4239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паранън пешинден кош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680" y="5661000"/>
            <a:ext cx="507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исафирлери кабул етмейи сев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" y="6202440"/>
            <a:ext cx="21178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йилии с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клъ баш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59600" y="1593720"/>
            <a:ext cx="127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юрю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88120" y="2241720"/>
            <a:ext cx="21985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лаха ба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42920" y="2817720"/>
            <a:ext cx="34160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ендини запт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б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алам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ш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8120" y="4005360"/>
            <a:ext cx="1666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ърбаш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ди евини ийи гю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23440" y="5516640"/>
            <a:ext cx="289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 иманл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ъшаръдакилер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у ийи бири оларак тан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11890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30320" y="1353960"/>
            <a:ext cx="34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Н бу гьоре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уйгун муйу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27000"/>
            <a:ext cx="918036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олмак ичин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шартлар</a:t>
            </a:r>
            <a:br>
              <a:rPr sz="4000"/>
            </a:b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Титус 1:5-9 </a:t>
            </a:r>
            <a:r>
              <a:rPr b="1" lang="bg-BG" sz="2400" spc="-1" strike="noStrike">
                <a:solidFill>
                  <a:srgbClr val="99ccff"/>
                </a:solidFill>
                <a:latin typeface="Garamond"/>
              </a:rPr>
              <a:t>ве</a:t>
            </a: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 1.Тимотейус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197000"/>
            <a:ext cx="41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зг 2 15  “Якалайън тилкилери бизим ичин, Баларъ бозан кючюк тилкилери; Чюнкю баларъмъз йешерди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фак сайдъъмъз проблемлери вакътла чьозмейе алъшалъм – беклемейелим, кишийи уратмак дереджесине гелин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012200">
            <a:off x="144360" y="1773360"/>
            <a:ext cx="28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Кючюк тилки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лери якал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йъ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82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3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48360" y="3583080"/>
            <a:ext cx="3095640" cy="30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1052640"/>
            <a:ext cx="5003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муникация хер шей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йьонетиджи (епикопос) оларак: гьоревлеримизи ийидже пайлаштък мъ? Херкес билийор му, не лазъм япсъ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чобан (поъмен) оларак: бен ьобюр гюдюджюлерин халине мерак едийор муйу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хтияр (пресвитерос) оларак: бен зайълъкларъмъ пайлашъйоъ муйу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хафта дуа ве план япмак бир араъя гелийор муй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167600">
            <a:off x="179640" y="169704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Йюреин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е не варса, аазънда да о олсу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90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4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1413000"/>
            <a:ext cx="43909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гюдюджю лазъм кенди зайъф ве кувветли тарафънъ бил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лахи 135 (“Бени кувветлендиренде”): “Кенди зайъфлъкларънъ биленлерин хепсине, Раб якън ве ярдъм едер, бу сьоз гечерли биз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166400">
            <a:off x="394920" y="198864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Кендини ийидже танъ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97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5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916280"/>
            <a:ext cx="59767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ва (ъслак – съдж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лк б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р шейе хафифе алъйор, хеп ишини ийи тарафъна бакъйор, майтапчъ, инсанларла колай контакт куруйор ве кендине гювенийор, кишилерин арасънда хармония сааламак истийор, компромис япмайъ сев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ялджъ, концентрация ексик, саа солу белли олмуйор, бир анда харекет едийор, чок конушкан, проблемлери гьорм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16720" y="3573360"/>
            <a:ext cx="2354400" cy="275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152800"/>
            <a:ext cx="57085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теш (куру – съдж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Гючлю, енергия долу, иш битириджи, хърслъ, башкаларъна колай ьондерлик япъйор, атъл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лай ьофкеленийор, башкаларъна лаф гечирмек истийор, сон сьозю лазъм онун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446560" cy="35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00cc66"/>
                </a:solidFill>
                <a:latin typeface="Arial"/>
              </a:rPr>
              <a:t>меланколик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52800"/>
            <a:ext cx="57085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опрак (куру – со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н б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рин дюшюнюйор, детайлара диккат едийор, яратъджъ, хер шей лазъм дьорт дьортлюк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п ишин кьотю тарафъна бакъйор, куражъ колай кърълъйор, депреаяя дюшюйор, хич мемнун кал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0360" y="2924280"/>
            <a:ext cx="267984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2:52:01Z</dcterms:modified>
  <cp:revision>387</cp:revision>
  <dc:subject/>
  <dc:title>Иса иле килисе ичин бензетмелер</dc:title>
</cp:coreProperties>
</file>