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CFC-0BB8-4C22-8771-6C77D64B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717-ACF7-469C-8A0D-6655CF1D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529-01A8-4E7D-AA8A-4F298D89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DA7-9E9B-4040-84CD-D6C1B979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945-BD69-4CCD-AF57-4661248C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863-E8A3-4835-BEAC-E3C6FD9C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FF2-343E-46C0-ADE6-6C20DE3A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499-2AA3-4471-B52F-DE140635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DD1-1EB5-4BC2-932E-63F0344B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4B0-8640-494B-9937-1AFB6DCB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8A1-D938-4B66-8BC3-8885BECE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E03-F978-4229-8142-AD4EDB4E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F6C9-100E-4359-B749-1295AB1E07A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Ромалълар 9-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Исраил’е не олажа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55640" y="981000"/>
            <a:ext cx="7561440" cy="1944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1 Месихте хакикатъ конушуйорум, ялан сьойлемийорум. Дуйгум Кутсал Рух'та бенимле бирликте шахитлик япъйор: 2 Бюйюк бир съкънтъм вар, йюреимде хич битмейен бир кахър вар. 3 Чюнкю истердим, беним кардешлерим ичин, хани бедендже беним сойумдан оланлар ичин, кешке Месих бени ланет етсе ве кенди янъндан уратър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5840" y="260280"/>
            <a:ext cx="68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Павлус кенди кендини курбан етмейе хазърд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64000" y="3284640"/>
            <a:ext cx="3780000" cy="2014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bbe0e3"/>
                </a:solidFill>
                <a:latin typeface="Arial"/>
              </a:rPr>
              <a:t>Сонра РАБ'бе дьонерек, "Чок язък, бу халк коркунч бир гюнах ишледи" деди, "Кендилерине алтън пут яптълар. Лютфен гюнахларънъ баъшла, йокса яздъън китаптан адъмъ сил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Чъкъш 32:31-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4608720" cy="304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16560" y="5445000"/>
            <a:ext cx="37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Arial"/>
              </a:rPr>
              <a:t>Яхудилер Павлус ичин кьотю конушурдулар. Павлус дийор: “Бен кенди халкъмъ Муса кадар севиъору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561080" cy="4176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Онлар Исраиллидир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аслънда онларън хаккъ вар, Аллаха евлат олсун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шанлълък онларъндъ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Аллах онларла анлашмалар япт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Аллахън кануну онлара верил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онларън хаккъ вар, Аллаха хизмет етсин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Аллах онлара сьоз вердий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деделер онларъндър 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Месих де бедендже онлардандъ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Херкесин юстюнде олан Аллах Одур. О, сонсузлара кадар мубарек олсун, А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720" y="476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Исраил халкънън ьозел хакла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71280" y="1267920"/>
            <a:ext cx="7561080" cy="576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Онлар Исраиллидир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720" y="476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Исраил халкънън ьозел хакла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0760" y="2297160"/>
            <a:ext cx="41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сраил, Ибрахимин торуну олан Якуп’ун икинджи адъдър. Не заман о йени адънъ алди: Яратълъш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0825" t="0" r="0" b="0"/>
          <a:stretch/>
        </p:blipFill>
        <p:spPr>
          <a:xfrm>
            <a:off x="6516720" y="2276640"/>
            <a:ext cx="23479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07:50Z</dcterms:created>
  <dc:creator>asd</dc:creator>
  <dc:description/>
  <dc:language>en-US</dc:language>
  <cp:lastModifiedBy>asd</cp:lastModifiedBy>
  <dcterms:modified xsi:type="dcterms:W3CDTF">2009-12-16T14:43:44Z</dcterms:modified>
  <cp:revision>7</cp:revision>
  <dc:subject/>
  <dc:title>Ромалълар 9-11</dc:title>
</cp:coreProperties>
</file>