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65D-3ACD-4E86-9487-0E482736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1DFC-4AD9-4003-AB24-4DCD2103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8D5D-5BC8-4949-80A2-97BE6EE4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CF51-5883-4C2D-B899-9CFEB54E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C87E-F706-43D3-AC59-3224C841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FA79-2B79-4A1A-9266-A2C115C2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492-F7F3-4A9E-99F0-AFDA676E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F62E-F8F5-4642-BF65-C33175EE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B54-7964-4BC7-8C64-E2FE9043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4171-012C-4616-AB5C-1A4E0C51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89D7-6E5F-4C88-B4AC-36030165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DE62-E44A-445A-9FC7-0775C32E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0295-5038-45F2-8FEB-BAB4C170F08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324240" y="4797360"/>
            <a:ext cx="5524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Verdana"/>
              </a:rPr>
              <a:t>Гюдюджюлерин ьорне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073160"/>
            <a:ext cx="396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172f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илисенин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2297160"/>
            <a:ext cx="4508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172f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ши недир?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89280" y="2822400"/>
            <a:ext cx="1771560" cy="1684440"/>
          </a:xfrm>
          <a:prstGeom prst="star5">
            <a:avLst/>
          </a:prstGeom>
          <a:gradFill rotWithShape="0">
            <a:gsLst>
              <a:gs pos="0">
                <a:srgbClr val="b9b9b9">
                  <a:alpha val="59215"/>
                </a:srgbClr>
              </a:gs>
              <a:gs pos="50000">
                <a:srgbClr val="ffffff">
                  <a:alpha val="35294"/>
                </a:srgbClr>
              </a:gs>
              <a:gs pos="100000">
                <a:srgbClr val="b9b9b9">
                  <a:alpha val="59215"/>
                </a:srgbClr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Килисенин иши нед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10200" y="222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60600" y="3365640"/>
            <a:ext cx="1229040" cy="1380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429000" y="2546280"/>
            <a:ext cx="1189080" cy="1228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579920" y="2549520"/>
            <a:ext cx="1177920" cy="1228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4579920" y="3421080"/>
            <a:ext cx="122868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822840" y="3772080"/>
            <a:ext cx="1442880" cy="1228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2199960" y="4743360"/>
            <a:ext cx="1625400" cy="21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-360" y="2143080"/>
            <a:ext cx="3435480" cy="12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602240" y="767880"/>
            <a:ext cx="9360" cy="17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56400" y="2419200"/>
            <a:ext cx="3387600" cy="99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64280" y="4797360"/>
            <a:ext cx="1317600" cy="20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1000" y="9810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99cc00"/>
                </a:solidFill>
                <a:latin typeface="Arial"/>
              </a:rPr>
              <a:t>ТАПЪН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4520" y="508464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6666ff"/>
                </a:solidFill>
                <a:latin typeface="Arial"/>
              </a:rPr>
              <a:t>БЕРАБЕР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89240" y="614196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cc99"/>
                </a:solidFill>
                <a:latin typeface="Arial"/>
              </a:rPr>
              <a:t>ДУ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5040" y="508464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0000"/>
                </a:solidFill>
                <a:latin typeface="Arial"/>
              </a:rPr>
              <a:t>МЮЖДЕЛ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79960" y="98100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Arial"/>
              </a:rPr>
              <a:t>ЬОРЕТИ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rcRect l="3411" t="2730" r="3411" b="5050"/>
          <a:stretch/>
        </p:blipFill>
        <p:spPr>
          <a:xfrm>
            <a:off x="1617840" y="1600200"/>
            <a:ext cx="1514160" cy="965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3878280" y="5157720"/>
            <a:ext cx="1414440" cy="935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471600" y="3932280"/>
            <a:ext cx="1508040" cy="93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rcRect l="0" t="13374" r="0" b="8402"/>
          <a:stretch/>
        </p:blipFill>
        <p:spPr>
          <a:xfrm>
            <a:off x="7093080" y="3932280"/>
            <a:ext cx="1509480" cy="931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6012000" y="1628640"/>
            <a:ext cx="1520640" cy="93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2446200" y="2527200"/>
            <a:ext cx="4164120" cy="251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50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Килисенин иши нед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10200" y="222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429000" y="2546280"/>
            <a:ext cx="1189080" cy="1228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 flipV="1">
            <a:off x="-360" y="2152800"/>
            <a:ext cx="3435480" cy="12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603320" y="767880"/>
            <a:ext cx="9720" cy="17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1000" y="9810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99cc00"/>
                </a:solidFill>
                <a:latin typeface="Arial"/>
              </a:rPr>
              <a:t>ТАПЪН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rcRect l="3411" t="2730" r="3411" b="5050"/>
          <a:stretch/>
        </p:blipFill>
        <p:spPr>
          <a:xfrm>
            <a:off x="1617840" y="1600200"/>
            <a:ext cx="1514160" cy="965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3716280"/>
            <a:ext cx="446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1. ЬОвмек, тешеккюр етм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Раббе САДЕ тешекюр едерек дуа етмек – хич бир нуждаджък какма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86200" y="907920"/>
            <a:ext cx="4392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2. Илахи сьойлем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Илахи сьойлеркен онун сьозлерини дюшюнюйор муйуз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Йоника ве песнарка олмадан кач илахи сьойлейебилириз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2798640"/>
            <a:ext cx="42098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. Раббе сайгъ гьостерм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атедрала я да джамийе гирсек, сайгълъ давранъйоруз.  Я бизим топлантъмъзда неден олмасъ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Топлантъда конушмак, сакъз чийнемек, сък сък къра чъкм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000" y="5229360"/>
            <a:ext cx="8433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4. Тапънма кейфимизе я да дуйгуларъмъза калм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а. Рухсал гиземлер (вафтиз + Раббин софрасъ) буйрук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б. Мемзур 29:2 – Раббин характери тапънмамъзъ яратъ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в. Ром 12:1 – бютюн хаятъмъз бир тапънма олмал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Килисенин иши нед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10200" y="222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9920" y="2549520"/>
            <a:ext cx="1177920" cy="1228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 flipV="1">
            <a:off x="4600080" y="767880"/>
            <a:ext cx="9720" cy="17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756400" y="2438280"/>
            <a:ext cx="3387600" cy="99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79960" y="98100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Arial"/>
              </a:rPr>
              <a:t>ЬОРЕТИ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012000" y="1628640"/>
            <a:ext cx="1520640" cy="936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907920"/>
            <a:ext cx="38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Апо 2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4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Онлар кендилерини дурмадакка апостолларън ьоретишине, бераберлие, екмек кърмая ве дуая верирдилер.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200" y="2852640"/>
            <a:ext cx="4681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1. ‘Апостолларън ьоретиши’ бугюн Инджилд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Ен гюзел топлулук янлъш ьоретише сапарса файда й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4579920"/>
            <a:ext cx="46814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2. Вааздан башка метод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Инджил дерсл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ъзан дерсл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Тек тек дерс верм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Йени методл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Килисенин иши нед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10200" y="222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9920" y="3421080"/>
            <a:ext cx="122868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V="1">
            <a:off x="5756400" y="2419200"/>
            <a:ext cx="3387600" cy="99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64280" y="4797360"/>
            <a:ext cx="1317600" cy="20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5040" y="508464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0000"/>
                </a:solidFill>
                <a:latin typeface="Arial"/>
              </a:rPr>
              <a:t>МЮЖДЕЛ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rcRect l="0" t="13374" r="0" b="8402"/>
          <a:stretch/>
        </p:blipFill>
        <p:spPr>
          <a:xfrm>
            <a:off x="7093080" y="3932280"/>
            <a:ext cx="1509480" cy="931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5400" y="1052640"/>
            <a:ext cx="8960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00"/>
                </a:solidFill>
                <a:latin typeface="Arial"/>
              </a:rPr>
              <a:t>1. Махалледе санки мюжделеме кендилиинден олу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ийи ишлейен топлантъ ен бюйюк евангел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ама бу артък йетерли олмаяджак, махалледе илишкилер деиш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гиттикче даа фазла мюслюманлъкла урашмак зорунда каладж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000" y="2583000"/>
            <a:ext cx="49165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00"/>
                </a:solidFill>
                <a:latin typeface="Arial"/>
              </a:rPr>
              <a:t>2. “Бютюн дюняя гидин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Махаллемиз бютюн дюня деилд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етрафтаки кьойлер, БГ’ън башка херлери, башка девлетле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Килисенин иши нед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10200" y="222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22840" y="3772080"/>
            <a:ext cx="1442880" cy="1228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H="1">
            <a:off x="2199960" y="4743360"/>
            <a:ext cx="1625400" cy="21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64280" y="4797360"/>
            <a:ext cx="1317600" cy="20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89240" y="614196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cc99"/>
                </a:solidFill>
                <a:latin typeface="Arial"/>
              </a:rPr>
              <a:t>ДУ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878280" y="5157720"/>
            <a:ext cx="1414440" cy="935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1125360"/>
            <a:ext cx="835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99"/>
                </a:solidFill>
                <a:latin typeface="Arial"/>
              </a:rPr>
              <a:t>1. Дуанън чешитлери 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тапънма, шюкран, истеклер, тьовбе, шефа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2162160"/>
            <a:ext cx="889308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99"/>
                </a:solidFill>
                <a:latin typeface="Arial"/>
              </a:rPr>
              <a:t>2. Дуа иле кяхинлик гьоревимизи йерине гетирийору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1.Петрус 2: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Аллах рухча бир ев калдъръйор. Сиз де, о евин ичинде дири ташлар олун. ЬОйле ки, бир кутсал гьоревлилер грубу оласънъз ве рухча курбанлар гетиресиниз. Онлар Иса Месихин елийле Аллаха макбул олуйорлар.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3933720"/>
            <a:ext cx="338436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99"/>
                </a:solidFill>
                <a:latin typeface="Arial"/>
              </a:rPr>
              <a:t>3. Ибрахимин ьорн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Яратълъш 18:22-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аб ески гьореви калдъръп ону башкасъна вер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00720" y="4005360"/>
            <a:ext cx="259236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99"/>
                </a:solidFill>
                <a:latin typeface="Arial"/>
              </a:rPr>
              <a:t>4. Бизде насъл дуа едилий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ашка методлар: зинджир дуасъ, йюрюйюшлер, дуа ешлери, теле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Килисенин иши нед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10200" y="222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360600" y="3365640"/>
            <a:ext cx="1229040" cy="1380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2199960" y="4743360"/>
            <a:ext cx="1625400" cy="21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-360" y="2143080"/>
            <a:ext cx="3435480" cy="12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4520" y="508464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6666ff"/>
                </a:solidFill>
                <a:latin typeface="Arial"/>
              </a:rPr>
              <a:t>БЕРАБЕР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71600" y="3932280"/>
            <a:ext cx="1508040" cy="936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90560" y="981000"/>
            <a:ext cx="8353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1. Килисе йени ханемиз олу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Ибрахим гиби ески баалантъларъ кесийоруз – йени аиле казанъйоруз – Маркос 10:29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танъшмак, долашмак, аркадаш олм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40360" y="4653000"/>
            <a:ext cx="45590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3. Р. софрасъ бераберлиин сембо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“агапе софрасъ” (кардеш софрасъ) хеп чпълърдъ, хич башка себеп йокк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1280" y="2633760"/>
            <a:ext cx="4968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2. Ярдъм етм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Йени Ахит: дул кадънлар, 1.Тим 5: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парамъз фазла олунджа ийилик япмак азалъ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8:37:29Z</dcterms:created>
  <dc:creator>Windows XP</dc:creator>
  <dc:description/>
  <dc:language>en-US</dc:language>
  <cp:lastModifiedBy>asd</cp:lastModifiedBy>
  <dcterms:modified xsi:type="dcterms:W3CDTF">2008-11-23T23:02:39Z</dcterms:modified>
  <cp:revision>376</cp:revision>
  <dc:subject/>
  <dc:title>Иса иле килисе ичин бензетмелер</dc:title>
</cp:coreProperties>
</file>