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5.jpeg" ContentType="image/jpeg"/>
  <Override PartName="/ppt/media/image23.png" ContentType="image/png"/>
  <Override PartName="/ppt/media/image13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png" ContentType="image/png"/>
  <Override PartName="/ppt/media/image37.jpeg" ContentType="image/jpeg"/>
  <Override PartName="/ppt/media/image12.jpeg" ContentType="image/jpeg"/>
  <Override PartName="/ppt/media/image7.jpeg" ContentType="image/jpeg"/>
  <Override PartName="/ppt/media/image38.jpeg" ContentType="image/jpeg"/>
  <Override PartName="/ppt/media/image3.png" ContentType="image/png"/>
  <Override PartName="/ppt/media/image17.jpeg" ContentType="image/jpe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87BF-9202-41D3-A838-21D02712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42E0-6B18-453A-A0C9-7D88FC16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91C4-1017-490B-875D-984C2767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0D45-00C9-4971-9D2F-2B9BBA79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792B-4D62-4889-BC41-9AE09942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D733-CD06-4E86-9B11-BC729C3A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BFA3-CCE7-447E-A3F3-649EF5A9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5A60-AF8D-4562-BBA7-746669AF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1A1B-3705-4F62-BDD5-41DEA39B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C753-DD4E-4EFB-B170-8A4287A8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3273-3BE6-47AD-9A5A-E3997CDA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79AA-D236-4CA5-9BF1-F51C0E2E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131A-057E-42D7-A5BA-3D99FBD0190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1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Топлулук насъл курулур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413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93840" y="196056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126828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8560" y="2421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22560" y="1413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1844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35280" y="249228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10200" y="41054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57840" y="4437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43640" y="461016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5480" y="4437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2200" y="196056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32720" y="4941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941720"/>
            <a:ext cx="64800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96360" y="4941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03640" y="4941720"/>
            <a:ext cx="64800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rcRect l="5013" t="0" r="43622" b="6683"/>
          <a:stretch/>
        </p:blipFill>
        <p:spPr>
          <a:xfrm>
            <a:off x="3132000" y="1557360"/>
            <a:ext cx="1440000" cy="1962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283520" y="2852640"/>
            <a:ext cx="1541520" cy="180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rcRect l="5013" t="0" r="2493" b="6683"/>
          <a:stretch/>
        </p:blipFill>
        <p:spPr>
          <a:xfrm>
            <a:off x="2916360" y="2475000"/>
            <a:ext cx="2592360" cy="1962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50640" y="907920"/>
            <a:ext cx="70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. Олгун топлулук бир мюждеджи сечип гьондер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14960" y="1459080"/>
            <a:ext cx="52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. О да гидип Аллахън сьозюню ек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206064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. Кишилер тьовбе едерсе онларъ вафтиз ед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1280" y="3213000"/>
            <a:ext cx="39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. Бунларън арасъндан гюдюджю йетиштир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6920" y="407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. Йени топлулук олгунлаштъ мъ, башка йере гид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4356000" y="4896000"/>
            <a:ext cx="1440000" cy="1962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189080" y="5373720"/>
            <a:ext cx="83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ДИККА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Мюждеджийи гьондерен КИЛИСЕдир; деил деноминация, деил мисия (киме баалъ; киме хесап вередже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Мюждеджи йени топлулуунун пастору олмуйор (башка верги лазъ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Мюждеджи кенди йерине бир кишийи деил, БИРКАЧ киши бракъ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501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1"/>
                            </p:stCondLst>
                            <p:childTnLst>
                              <p:par>
                                <p:cTn id="2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7989E-006 L 0.26788 0.19255 E">
                                      <p:cBhvr>
                                        <p:cTn id="2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501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1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501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001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501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501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1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9501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1"/>
                            </p:stCondLst>
                            <p:childTnLst>
                              <p:par>
                                <p:cTn id="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1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1"/>
                            </p:stCondLst>
                            <p:childTnLst>
                              <p:par>
                                <p:cTn id="9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0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501"/>
                            </p:stCondLst>
                            <p:childTnLst>
                              <p:par>
                                <p:cTn id="10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0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501"/>
                            </p:stCondLst>
                            <p:childTnLst>
                              <p:par>
                                <p:cTn id="1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0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1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1"/>
                            </p:stCondLst>
                            <p:childTnLst>
                              <p:par>
                                <p:cTn id="12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10541E-006 L -0.51771 4.10541E-006 E">
                                      <p:cBhvr>
                                        <p:cTn id="121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1224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Чобан олмак истейенлере</a:t>
            </a:r>
            <a:br>
              <a:rPr sz="3200"/>
            </a:b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КОРКУ ве КУР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640" y="1197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33"/>
                </a:solidFill>
                <a:latin typeface="Arial"/>
              </a:rPr>
              <a:t>Диккат един: чобанлък ойунджак деилд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1843560"/>
            <a:ext cx="403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1.Тимотейус 3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Шу сьоз чок дорудур: "Бир кишинин мераъ вар мъ, топ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лулуун гюдюджюсю олсун, демек ийи бир иш истийор."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61080" y="1843560"/>
            <a:ext cx="42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1.Петрус 5: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Ве Башчобан не заман ортая чъкаджакса, о заман солмаз бир шанлълък таджъ аладжанъз.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724360" y="3789360"/>
            <a:ext cx="2286000" cy="27432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84360" y="4076640"/>
            <a:ext cx="3338280" cy="2158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000"/>
                            </p:stCondLst>
                            <p:childTnLst>
                              <p:par>
                                <p:cTn id="7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2000"/>
                            </p:stCondLst>
                            <p:childTnLst>
                              <p:par>
                                <p:cTn id="8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140360" y="549360"/>
            <a:ext cx="5040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333399"/>
                </a:solidFill>
                <a:latin typeface="Arial"/>
              </a:rPr>
              <a:t>ТОПЛУЛУК НАСЪ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bg-BG" sz="4800" spc="-1" strike="noStrike">
                <a:solidFill>
                  <a:srgbClr val="333399"/>
                </a:solidFill>
                <a:latin typeface="Arial"/>
              </a:rPr>
              <a:t>ГЮДЮЛЮР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1) КОНУШМАКЛА гютм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68360" y="3502080"/>
            <a:ext cx="1758960" cy="2448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6399360" y="3476520"/>
            <a:ext cx="2493720" cy="26892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3059280" y="4100400"/>
            <a:ext cx="2736720" cy="24098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6012000" y="3067200"/>
            <a:ext cx="1728720" cy="16588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93000" y="599616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мимб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" y="765000"/>
            <a:ext cx="813564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Анвон  хасталъъ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кишилер бизи сеслемейе межбу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сьозлеримизе отоматик сайгънлък казандирий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санки онсуз гюдюджю оламайъ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чоу дефа дюшюнджесиз ве хазърлъксъз конушуру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ексик билгимизи ве хазърлъъ азарламакла ьортер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1) КОНУШМАКЛА гютм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24000" y="907920"/>
            <a:ext cx="51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1. </a:t>
            </a:r>
            <a:r>
              <a:rPr b="1" lang="bg-BG" sz="2800" spc="-1" strike="noStrike">
                <a:solidFill>
                  <a:srgbClr val="ffcc00"/>
                </a:solidFill>
                <a:latin typeface="Arial"/>
              </a:rPr>
              <a:t>ВААЗ верм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4360" y="1413000"/>
            <a:ext cx="4392360" cy="48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Вааз чешитлери</a:t>
            </a:r>
            <a:r>
              <a:rPr b="0" lang="bg-BG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ТЕМА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юзерине вааз (месела: “Раббин севгиси ве дюнянън севгиси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БИР АЙЕТ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юзерине вааз  (месела:  Йух 14:6  “Йол, Герчек, Яшам беним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АЧЪКЛАЙЪДЖЪ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вааз  (месела:  Ром 5:1-5  “Куртулушун файдаларъ”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6316560" y="1773360"/>
            <a:ext cx="1927440" cy="14000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5940360" y="5157720"/>
            <a:ext cx="2592360" cy="1656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6732720" y="3573360"/>
            <a:ext cx="1927080" cy="1400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5867280" y="3573360"/>
            <a:ext cx="1325520" cy="1409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 flipV="1">
            <a:off x="5580000" y="2060280"/>
            <a:ext cx="3313080" cy="576360"/>
          </a:xfrm>
          <a:prstGeom prst="line">
            <a:avLst/>
          </a:prstGeom>
          <a:ln w="82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500"/>
                            </p:stCondLst>
                            <p:childTnLst>
                              <p:par>
                                <p:cTn id="9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500"/>
                            </p:stCondLst>
                            <p:childTnLst>
                              <p:par>
                                <p:cTn id="9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ffff"/>
                </a:solidFill>
                <a:latin typeface="Arial"/>
              </a:rPr>
              <a:t>Аллахън сьозюню не ичин ьоретелим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0920" y="981000"/>
            <a:ext cx="6985080" cy="544428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Arial"/>
              </a:rPr>
              <a:t>2.Тим 4</a:t>
            </a:r>
            <a:r>
              <a:rPr b="1" lang="de-DE" sz="4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bg-BG" sz="4000" spc="-1" strike="noStrike">
                <a:solidFill>
                  <a:srgbClr val="ffff00"/>
                </a:solidFill>
                <a:latin typeface="Arial"/>
              </a:rPr>
              <a:t>2,16-17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Китабъ-Мукаддес'ин хепси Аллахън солуундан гелийор 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ьоретирм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гюнахларъ гьостерм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хаятъмъзъ дюзелтирмек 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дорулук йолунда тербийе етм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ичин файдалъдър. ЬОйле ки, Аллах адамъ тамам олсун, хер ийи иш ичин хазър олсун.</a:t>
            </a: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81080" y="2708280"/>
            <a:ext cx="22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БИЛГИ 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- ка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883840" y="3357720"/>
            <a:ext cx="32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АРАКТЕР 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- гьозл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69360" y="4581360"/>
            <a:ext cx="24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УРАЖ 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- елл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82360" y="395136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АРАР 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- аяк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500"/>
                            </p:stCondLst>
                            <p:childTnLst>
                              <p:par>
                                <p:cTn id="98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77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4" dur="770" fill="hold"/>
                                        <p:tgtEl>
                                          <p:spTgt spid="2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6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8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77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5" dur="770" fill="hold"/>
                                        <p:tgtEl>
                                          <p:spTgt spid="2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7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9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77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6" dur="770" fill="hold"/>
                                        <p:tgtEl>
                                          <p:spTgt spid="2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8" dur="77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0" dur="77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2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ffff"/>
                </a:solidFill>
                <a:latin typeface="Arial"/>
              </a:rPr>
              <a:t>Нереде лазъм Аллахън сьозюню ьоретелим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940360" y="1052640"/>
            <a:ext cx="3203640" cy="21351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2916360" y="1031760"/>
            <a:ext cx="3095640" cy="20368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50920" y="1052640"/>
            <a:ext cx="2448000" cy="20066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6680160" y="3352680"/>
            <a:ext cx="2463840" cy="35053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250920" y="3213000"/>
            <a:ext cx="2193840" cy="1737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276120" y="5157720"/>
            <a:ext cx="2063880" cy="1548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979640" y="2637000"/>
            <a:ext cx="6119640" cy="420084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Arial"/>
              </a:rPr>
              <a:t>Яс</a:t>
            </a:r>
            <a:r>
              <a:rPr b="1" lang="de-DE" sz="4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bg-BG" sz="4000" spc="-1" strike="noStrike">
                <a:solidFill>
                  <a:srgbClr val="ffff00"/>
                </a:solidFill>
                <a:latin typeface="Arial"/>
              </a:rPr>
              <a:t> 6</a:t>
            </a:r>
            <a:r>
              <a:rPr b="1" lang="de-DE" sz="4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bg-BG" sz="4000" spc="-1" strike="noStrike">
                <a:solidFill>
                  <a:srgbClr val="ffff00"/>
                </a:solidFill>
                <a:latin typeface="Arial"/>
              </a:rPr>
              <a:t>6-7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Бугюн сизе вердиим бу буйрукларъ аклънъзда тутун. Онларъ чоджукларънъза бенимсет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Евинизде отуруркен, йолда йюрюрк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ятаркен, калкаркен онлардан сьоз ед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0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3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3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3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3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3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3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3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3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3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3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3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3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3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3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3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1) КОНУШМАКЛА гютм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24000" y="907920"/>
            <a:ext cx="51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bg-BG" sz="2800" spc="-1" strike="noStrike">
                <a:solidFill>
                  <a:srgbClr val="ffcc00"/>
                </a:solidFill>
                <a:latin typeface="Arial"/>
              </a:rPr>
              <a:t>ИНДЖИЛ ДЕРСЛ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1413000"/>
            <a:ext cx="439236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Нереде Инджил дерси верилир</a:t>
            </a:r>
            <a:r>
              <a:rPr b="0" lang="bg-BG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Бютюн топлантида –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(месела: Апо 2:46 “тек бир фикирде Аллахевинде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Ев групларъ</a:t>
            </a: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nda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- (месела:  Апо 2:46  “евден еве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Тек тек -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(месела:  Апо 18:24-26  “Аквила / Пррискила ве Аполос”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300720" y="2997360"/>
            <a:ext cx="2228760" cy="15271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300720" y="4735440"/>
            <a:ext cx="2303640" cy="18446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6300720" y="1546200"/>
            <a:ext cx="2232000" cy="1231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flipV="1">
            <a:off x="4716360" y="2565360"/>
            <a:ext cx="1368360" cy="50328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859280" y="4076640"/>
            <a:ext cx="1225440" cy="4320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500720" y="5157720"/>
            <a:ext cx="1655640" cy="50328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0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1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17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1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1) КОНУШМАКЛА гютм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4720" y="981000"/>
            <a:ext cx="84600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Arial"/>
              </a:rPr>
              <a:t>ЬОРЕТИШЛЕРИМИЗ НЕРЕДЕН ГЕЛИЙОР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9640" y="2060640"/>
            <a:ext cx="8064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Инджилден ми, уставдан мъ, бир инсандан мъ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Бир ьорнек:  девлет никахъ мъ, килисе никахъ мъ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5580000" y="4441680"/>
            <a:ext cx="2583000" cy="19926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1187280" y="4440240"/>
            <a:ext cx="2592720" cy="194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0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500"/>
                            </p:stCondLst>
                            <p:childTnLst>
                              <p:par>
                                <p:cTn id="1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500"/>
                            </p:stCondLst>
                            <p:childTnLst>
                              <p:par>
                                <p:cTn id="1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1) КОНУШМАКЛА гютм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4720" y="981000"/>
            <a:ext cx="84600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Arial"/>
              </a:rPr>
              <a:t>ЬОРЕТИШЛЕРИМИЗ НЕРЕДЕН ГЕЛИЙОР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9640" y="206064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Булгаристандаки Тюрк килиселер лазъм </a:t>
            </a:r>
            <a:r>
              <a:rPr b="1" lang="bg-BG" sz="2800" spc="-1" strike="noStrike" u="sng">
                <a:solidFill>
                  <a:srgbClr val="ff99ff"/>
                </a:solidFill>
                <a:uFillTx/>
                <a:latin typeface="Arial"/>
              </a:rPr>
              <a:t>кенди ьоретишини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 булсунл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4720" y="3879720"/>
            <a:ext cx="168048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ДЖЕН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045440" y="4795920"/>
            <a:ext cx="17838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АСКЕРЛ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1280" y="5661000"/>
            <a:ext cx="3168720" cy="825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КИЛИСЕ ОРГАНИЗАСЙО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66520" y="3571920"/>
            <a:ext cx="182952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ИЛАХИЛ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359960" y="5803920"/>
            <a:ext cx="15354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СЮН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81080" y="5227560"/>
            <a:ext cx="107244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ДО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26880" y="4508640"/>
            <a:ext cx="205524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ЛОХУСАЛЪ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43640" y="3500280"/>
            <a:ext cx="1873440" cy="825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РАББИН СОФРАС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166160" y="4940280"/>
            <a:ext cx="1407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ВАФТ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77080" y="5734080"/>
            <a:ext cx="1728720" cy="825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КОЛЕДА -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0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500"/>
                            </p:stCondLst>
                            <p:childTnLst>
                              <p:par>
                                <p:cTn id="1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3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6500"/>
                            </p:stCondLst>
                            <p:childTnLst>
                              <p:par>
                                <p:cTn id="1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9500"/>
                            </p:stCondLst>
                            <p:childTnLst>
                              <p:par>
                                <p:cTn id="1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6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8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4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21500"/>
                            </p:stCondLst>
                            <p:childTnLst>
                              <p:par>
                                <p:cTn id="1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0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7500"/>
                            </p:stCondLst>
                            <p:childTnLst>
                              <p:par>
                                <p:cTn id="1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7524720" y="3357720"/>
            <a:ext cx="1440000" cy="1441440"/>
            <a:chOff x="7524720" y="3357720"/>
            <a:chExt cx="1440000" cy="1441440"/>
          </a:xfrm>
        </p:grpSpPr>
        <p:sp>
          <p:nvSpPr>
            <p:cNvPr id="282" name=""/>
            <p:cNvSpPr/>
            <p:nvPr/>
          </p:nvSpPr>
          <p:spPr>
            <a:xfrm>
              <a:off x="7524720" y="3357720"/>
              <a:ext cx="1440000" cy="1441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" descr=""/>
            <p:cNvPicPr/>
            <p:nvPr/>
          </p:nvPicPr>
          <p:blipFill>
            <a:blip r:embed="rId1"/>
            <a:stretch/>
          </p:blipFill>
          <p:spPr>
            <a:xfrm>
              <a:off x="7524720" y="3357720"/>
              <a:ext cx="1440000" cy="144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1" i="1" lang="de-DE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) КОНУШМАКЛА гютм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332000" y="9079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0" lang="bg-BG" sz="2800" spc="-1" strike="noStrike">
                <a:solidFill>
                  <a:srgbClr val="ffcc00"/>
                </a:solidFill>
                <a:latin typeface="Arial"/>
              </a:rPr>
              <a:t>КИШИЛЕРЛЕ ТЕК ТЕК КОНУШМ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5280" y="1628640"/>
            <a:ext cx="5256360" cy="49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2.Тим 4:</a:t>
            </a:r>
            <a:r>
              <a:rPr b="1" lang="tr-TR" sz="2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  </a:t>
            </a:r>
            <a:r>
              <a:rPr b="1" lang="tr-TR" sz="2600" spc="-1" strike="noStrike">
                <a:solidFill>
                  <a:srgbClr val="ff99ff"/>
                </a:solidFill>
                <a:latin typeface="Arial"/>
              </a:rPr>
              <a:t>Аллахън хаберини яй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975"/>
              </a:spcAft>
              <a:buClr>
                <a:srgbClr val="ff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  </a:t>
            </a:r>
            <a:r>
              <a:rPr b="1" lang="tr-TR" sz="2600" spc="-1" strike="noStrike">
                <a:solidFill>
                  <a:srgbClr val="ff99ff"/>
                </a:solidFill>
                <a:latin typeface="Arial"/>
              </a:rPr>
              <a:t>заманлар уйгун олсун, уйгун олмасън, сен хазър ол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975"/>
              </a:spcAft>
              <a:buClr>
                <a:srgbClr val="ff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  </a:t>
            </a:r>
            <a:r>
              <a:rPr b="1" lang="tr-TR" sz="2600" spc="-1" strike="noStrike">
                <a:solidFill>
                  <a:srgbClr val="ff99ff"/>
                </a:solidFill>
                <a:latin typeface="Arial"/>
              </a:rPr>
              <a:t>гюнахларъ билдир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975"/>
              </a:spcAft>
              <a:buClr>
                <a:srgbClr val="ff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  </a:t>
            </a:r>
            <a:r>
              <a:rPr b="1" lang="tr-TR" sz="2600" spc="-1" strike="noStrike">
                <a:solidFill>
                  <a:srgbClr val="ff99ff"/>
                </a:solidFill>
                <a:latin typeface="Arial"/>
              </a:rPr>
              <a:t>азарл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975"/>
              </a:spcAft>
              <a:buClr>
                <a:srgbClr val="ff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  </a:t>
            </a:r>
            <a:r>
              <a:rPr b="1" lang="tr-TR" sz="2600" spc="-1" strike="noStrike">
                <a:solidFill>
                  <a:srgbClr val="ff99ff"/>
                </a:solidFill>
                <a:latin typeface="Arial"/>
              </a:rPr>
              <a:t>кураж ве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Arial"/>
              </a:rPr>
              <a:t>Бунларъ там бир сабърла ве дурмадакка ьоретирмекле йерине гети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5940360" y="3359160"/>
            <a:ext cx="1371600" cy="1440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6227640" y="1484280"/>
            <a:ext cx="2303640" cy="17272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6227640" y="4952880"/>
            <a:ext cx="2273400" cy="19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0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500"/>
                            </p:stCondLst>
                            <p:childTnLst>
                              <p:par>
                                <p:cTn id="1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500"/>
                            </p:stCondLst>
                            <p:childTnLst>
                              <p:par>
                                <p:cTn id="1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500"/>
                            </p:stCondLst>
                            <p:childTnLst>
                              <p:par>
                                <p:cTn id="1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Топлулуун ичинде гьоревл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852720" y="2781360"/>
            <a:ext cx="3672000" cy="1368360"/>
            <a:chOff x="3852720" y="2781360"/>
            <a:chExt cx="3672000" cy="1368360"/>
          </a:xfrm>
        </p:grpSpPr>
        <p:sp>
          <p:nvSpPr>
            <p:cNvPr id="70" name=""/>
            <p:cNvSpPr/>
            <p:nvPr/>
          </p:nvSpPr>
          <p:spPr>
            <a:xfrm>
              <a:off x="3852720" y="3140280"/>
              <a:ext cx="107964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29080" y="3716280"/>
              <a:ext cx="107964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69080" y="371628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48360" y="278136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45440" y="314028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29080" y="3284640"/>
              <a:ext cx="50328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445080" y="3213360"/>
              <a:ext cx="431640" cy="576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5219280" y="3859200"/>
              <a:ext cx="1009800" cy="1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4500720" y="2853000"/>
              <a:ext cx="100800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5795640" y="2852640"/>
              <a:ext cx="115236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4932000" y="2995560"/>
              <a:ext cx="863640" cy="793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4716000" y="3139920"/>
              <a:ext cx="1584360" cy="64908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 flipV="1">
              <a:off x="5724720" y="2997360"/>
              <a:ext cx="863280" cy="1008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4932360" y="3284640"/>
              <a:ext cx="172872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564000" y="4292640"/>
            <a:ext cx="4321080" cy="1152360"/>
            <a:chOff x="3564000" y="4292640"/>
            <a:chExt cx="4321080" cy="1152360"/>
          </a:xfrm>
        </p:grpSpPr>
        <p:sp>
          <p:nvSpPr>
            <p:cNvPr id="85" name=""/>
            <p:cNvSpPr/>
            <p:nvPr/>
          </p:nvSpPr>
          <p:spPr>
            <a:xfrm>
              <a:off x="3564000" y="5084640"/>
              <a:ext cx="863640" cy="36036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16360" y="5084640"/>
              <a:ext cx="863640" cy="36036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9080" y="5084640"/>
              <a:ext cx="863640" cy="36036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021440" y="5084640"/>
              <a:ext cx="863640" cy="36036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51280" y="4292640"/>
              <a:ext cx="216000" cy="720720"/>
            </a:xfrm>
            <a:prstGeom prst="upArrow">
              <a:avLst>
                <a:gd name="adj1" fmla="val 50000"/>
                <a:gd name="adj2" fmla="val 8341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03640" y="4292640"/>
              <a:ext cx="216000" cy="720720"/>
            </a:xfrm>
            <a:prstGeom prst="upArrow">
              <a:avLst>
                <a:gd name="adj1" fmla="val 50000"/>
                <a:gd name="adj2" fmla="val 8341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56360" y="4292640"/>
              <a:ext cx="216000" cy="720720"/>
            </a:xfrm>
            <a:prstGeom prst="upArrow">
              <a:avLst>
                <a:gd name="adj1" fmla="val 50000"/>
                <a:gd name="adj2" fmla="val 8341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08720" y="4292640"/>
              <a:ext cx="216000" cy="720720"/>
            </a:xfrm>
            <a:prstGeom prst="upArrow">
              <a:avLst>
                <a:gd name="adj1" fmla="val 50000"/>
                <a:gd name="adj2" fmla="val 8341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94720" y="4888080"/>
            <a:ext cx="232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ДИАКО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диакон, гьорев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Шемма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2360" y="242100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ЕПИСКОП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гюдджюю, ьондер, гьозетмен, назъ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6080" y="3317760"/>
            <a:ext cx="193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ПОИ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чоба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ПРЕСВИТЕ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ихтия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6000" y="1052640"/>
            <a:ext cx="2664000" cy="647640"/>
          </a:xfrm>
          <a:prstGeom prst="can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435640" y="1772640"/>
            <a:ext cx="431640" cy="863640"/>
          </a:xfrm>
          <a:prstGeom prst="upArrow">
            <a:avLst>
              <a:gd name="adj1" fmla="val 50000"/>
              <a:gd name="adj2" fmla="val 50021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669800" y="2781360"/>
            <a:ext cx="1346760" cy="3384360"/>
            <a:chOff x="7669800" y="2781360"/>
            <a:chExt cx="1346760" cy="3384360"/>
          </a:xfrm>
        </p:grpSpPr>
        <p:sp>
          <p:nvSpPr>
            <p:cNvPr id="99" name=""/>
            <p:cNvSpPr/>
            <p:nvPr/>
          </p:nvSpPr>
          <p:spPr>
            <a:xfrm>
              <a:off x="7885080" y="2781360"/>
              <a:ext cx="574560" cy="3384360"/>
            </a:xfrm>
            <a:custGeom>
              <a:avLst/>
              <a:gdLst>
                <a:gd name="textAreaLeft" fmla="*/ 0 w 574560"/>
                <a:gd name="textAreaRight" fmla="*/ 207360 w 574560"/>
                <a:gd name="textAreaTop" fmla="*/ 88200 h 3384360"/>
                <a:gd name="textAreaBottom" fmla="*/ 3296160 h 33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69800" y="3573360"/>
              <a:ext cx="134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cc6600"/>
                  </a:solidFill>
                  <a:latin typeface="Arial"/>
                </a:rPr>
                <a:t>Инджилд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cc6600"/>
                  </a:solidFill>
                  <a:latin typeface="Arial"/>
                </a:rPr>
                <a:t>ВА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7687080" y="1125360"/>
            <a:ext cx="1346760" cy="1584360"/>
            <a:chOff x="7687080" y="1125360"/>
            <a:chExt cx="1346760" cy="1584360"/>
          </a:xfrm>
        </p:grpSpPr>
        <p:sp>
          <p:nvSpPr>
            <p:cNvPr id="102" name=""/>
            <p:cNvSpPr/>
            <p:nvPr/>
          </p:nvSpPr>
          <p:spPr>
            <a:xfrm>
              <a:off x="7902360" y="1125360"/>
              <a:ext cx="574560" cy="1584360"/>
            </a:xfrm>
            <a:custGeom>
              <a:avLst/>
              <a:gdLst>
                <a:gd name="textAreaLeft" fmla="*/ 0 w 574560"/>
                <a:gd name="textAreaRight" fmla="*/ 207360 w 574560"/>
                <a:gd name="textAreaTop" fmla="*/ 41040 h 1584360"/>
                <a:gd name="textAreaBottom" fmla="*/ 15433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87080" y="1496880"/>
              <a:ext cx="134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fffff"/>
                  </a:solidFill>
                  <a:latin typeface="Arial"/>
                </a:rPr>
                <a:t>Инджилд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fffff"/>
                  </a:solidFill>
                  <a:latin typeface="Arial"/>
                </a:rPr>
                <a:t>Й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24000" y="2205000"/>
            <a:ext cx="8351640" cy="0"/>
          </a:xfrm>
          <a:prstGeom prst="line">
            <a:avLst/>
          </a:prstGeom>
          <a:ln w="1015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6165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5600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9280" y="6093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27280" y="6165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0328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24360" y="6093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92720" y="6165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4036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20000" y="6165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08720" y="6497640"/>
            <a:ext cx="64800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4364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17236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8000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5013" t="0" r="28136" b="6683"/>
          <a:stretch/>
        </p:blipFill>
        <p:spPr>
          <a:xfrm>
            <a:off x="250920" y="3860640"/>
            <a:ext cx="1873080" cy="196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5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50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80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5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4.8405E-006 L 0.26389 -0.42441 E">
                                      <p:cBhvr>
                                        <p:cTn id="260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77994E-006 L -0.05903 -0.35113 E">
                                      <p:cBhvr>
                                        <p:cTn id="263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77994E-006 L -0.04322 -0.43505 E">
                                      <p:cBhvr>
                                        <p:cTn id="266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62 0.02635 L 0.23021 -0.54646 E">
                                      <p:cBhvr>
                                        <p:cTn id="269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7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896E-007 L -0.23229 -0.41008 E">
                                      <p:cBhvr>
                                        <p:cTn id="272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8094E-006 L -1.94444E-006 -0.20976 E">
                                      <p:cBhvr>
                                        <p:cTn id="309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Гюдюджюлере ким гьорев вери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3434040"/>
            <a:ext cx="882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Апо 13: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1 Антакя'даки топлулуун ичинде пейгамберлер ве муаллимлер вардъ: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Бар-Набас, Симеон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Лукийус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Манаен ве Сау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2 Онлар оруч тутуп Раббе хизмет еттилер. О вакът </a:t>
            </a:r>
            <a:r>
              <a:rPr b="0" lang="tr-TR" sz="2000" spc="-1" strike="noStrike" u="sng">
                <a:solidFill>
                  <a:srgbClr val="ffffff"/>
                </a:solidFill>
                <a:uFillTx/>
                <a:latin typeface="Arial"/>
              </a:rPr>
              <a:t>Кутсал Рух шьойле конушту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"Бана Бар-Набас'ъ ве Саул'у айърън. Бен онларъ бир иш ичин чаърдъм." 3 Ондан сонра </a:t>
            </a:r>
            <a:r>
              <a:rPr b="0" lang="tr-TR" sz="2000" spc="-1" strike="noStrike" u="sng">
                <a:solidFill>
                  <a:srgbClr val="ffffff"/>
                </a:solidFill>
                <a:uFillTx/>
                <a:latin typeface="Arial"/>
              </a:rPr>
              <a:t>оруч тутуп дуа еттилер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. Ве </a:t>
            </a:r>
            <a:r>
              <a:rPr b="0" lang="tr-TR" sz="2000" spc="-1" strike="noStrike" u="sng">
                <a:solidFill>
                  <a:srgbClr val="ffffff"/>
                </a:solidFill>
                <a:uFillTx/>
                <a:latin typeface="Arial"/>
              </a:rPr>
              <a:t>еллерини онларън юзерине койуйуп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онларъ йолджу еттил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836640"/>
            <a:ext cx="8820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Апо 6: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3 Ама сиз аранъздан йеди адам сечин. Онлар лазъм ийи оларак танънсънлар, хем де Кутсал Рух ве анлайъшла долу олсунлар. Онларъ бу ишин башъна кояджаз.“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... 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0" lang="tr-TR" sz="2000" spc="-1" strike="noStrike" u="sng">
                <a:solidFill>
                  <a:srgbClr val="ffffff"/>
                </a:solidFill>
                <a:uFillTx/>
                <a:latin typeface="Arial"/>
              </a:rPr>
              <a:t>Бютюн топлулук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бу лафа разъ гелди. Бьойлеликле шу кишилери </a:t>
            </a:r>
            <a:r>
              <a:rPr b="0" lang="tr-TR" sz="2000" spc="-1" strike="noStrike" u="sng">
                <a:solidFill>
                  <a:srgbClr val="ffffff"/>
                </a:solidFill>
                <a:uFillTx/>
                <a:latin typeface="Arial"/>
              </a:rPr>
              <a:t>сечтилер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: Стефанус (иман ве Кутсал Рух'ла долу олан бир адам), Филип, Прохорус, Никанор, Тимон, Парменас ве Николас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. 6 Бунларъ апостолларън ьонюне гетирдилер. Онлар да </a:t>
            </a:r>
            <a:r>
              <a:rPr b="0" lang="tr-TR" sz="2000" spc="-1" strike="noStrike" u="sng">
                <a:solidFill>
                  <a:srgbClr val="ffffff"/>
                </a:solidFill>
                <a:uFillTx/>
                <a:latin typeface="Arial"/>
              </a:rPr>
              <a:t>дуа еттиктен сонра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000" spc="-1" strike="noStrike" u="sng">
                <a:solidFill>
                  <a:srgbClr val="ffffff"/>
                </a:solidFill>
                <a:uFillTx/>
                <a:latin typeface="Arial"/>
              </a:rPr>
              <a:t>еллерини бу кишилерин юзерине койдулар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Гюдюджюлере ким гьорев вери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1628640"/>
            <a:ext cx="750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1)  ДУА - ОРУ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2)  АЛЛАХ КОНУШУ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3)  ТОПЛУЛУК СЕЧИЙОР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4)  ГЮДЮДЖЮЛЕР ТОПЛУЛУУН АДЪНДА ГЬОРЕВ ВЕР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Гюдюджюлере ким гьорев вери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11280" y="2997360"/>
            <a:ext cx="3671280" cy="1368360"/>
            <a:chOff x="611280" y="2997360"/>
            <a:chExt cx="3671280" cy="1368360"/>
          </a:xfrm>
        </p:grpSpPr>
        <p:sp>
          <p:nvSpPr>
            <p:cNvPr id="129" name=""/>
            <p:cNvSpPr/>
            <p:nvPr/>
          </p:nvSpPr>
          <p:spPr>
            <a:xfrm>
              <a:off x="611280" y="335628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87280" y="393228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27280" y="3932280"/>
              <a:ext cx="107892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06560" y="2997360"/>
              <a:ext cx="107892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3640" y="3356280"/>
              <a:ext cx="107892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87280" y="3500640"/>
              <a:ext cx="50292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203640" y="3429360"/>
              <a:ext cx="431280" cy="576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977840" y="4075200"/>
              <a:ext cx="1009440" cy="1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258560" y="3069000"/>
              <a:ext cx="100764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2554200" y="3068640"/>
              <a:ext cx="115200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690560" y="3211560"/>
              <a:ext cx="863280" cy="793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1474560" y="3355920"/>
              <a:ext cx="1584000" cy="64908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2482560" y="3213360"/>
              <a:ext cx="862920" cy="1008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690200" y="3500640"/>
              <a:ext cx="172836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5580000" y="1268280"/>
            <a:ext cx="2664000" cy="648000"/>
          </a:xfrm>
          <a:prstGeom prst="can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659640" y="1988280"/>
            <a:ext cx="431640" cy="863640"/>
          </a:xfrm>
          <a:prstGeom prst="upArrow">
            <a:avLst>
              <a:gd name="adj1" fmla="val 50000"/>
              <a:gd name="adj2" fmla="val 50021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3280" y="1052640"/>
            <a:ext cx="0" cy="5256000"/>
          </a:xfrm>
          <a:prstGeom prst="line">
            <a:avLst/>
          </a:prstGeom>
          <a:ln w="1015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003640" y="2997360"/>
            <a:ext cx="3672000" cy="1368360"/>
            <a:chOff x="5003640" y="2997360"/>
            <a:chExt cx="3672000" cy="1368360"/>
          </a:xfrm>
        </p:grpSpPr>
        <p:sp>
          <p:nvSpPr>
            <p:cNvPr id="147" name=""/>
            <p:cNvSpPr/>
            <p:nvPr/>
          </p:nvSpPr>
          <p:spPr>
            <a:xfrm>
              <a:off x="5003640" y="3356280"/>
              <a:ext cx="107964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80000" y="3932280"/>
              <a:ext cx="107964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20000" y="393228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99280" y="299736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96360" y="335628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80000" y="3500640"/>
              <a:ext cx="50328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7596000" y="3429360"/>
              <a:ext cx="431640" cy="576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370200" y="4075200"/>
              <a:ext cx="1009800" cy="1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5651640" y="3069000"/>
              <a:ext cx="100800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6946560" y="3068640"/>
              <a:ext cx="115236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082920" y="3211560"/>
              <a:ext cx="863640" cy="793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5866920" y="3355920"/>
              <a:ext cx="1584360" cy="64908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6875640" y="3213360"/>
              <a:ext cx="863280" cy="1008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6083280" y="3500640"/>
              <a:ext cx="172872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11280" y="5803920"/>
            <a:ext cx="3600360" cy="793800"/>
            <a:chOff x="611280" y="5803920"/>
            <a:chExt cx="3600360" cy="793800"/>
          </a:xfrm>
        </p:grpSpPr>
        <p:sp>
          <p:nvSpPr>
            <p:cNvPr id="162" name=""/>
            <p:cNvSpPr/>
            <p:nvPr/>
          </p:nvSpPr>
          <p:spPr>
            <a:xfrm>
              <a:off x="611280" y="623556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32000" y="623556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5640" y="580392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03280" y="580392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24000" y="623556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64000" y="623736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43280" y="623556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50920" y="5805360"/>
              <a:ext cx="64800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92360" y="5805360"/>
              <a:ext cx="64800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71640" y="5805360"/>
              <a:ext cx="64800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268360" y="4581360"/>
            <a:ext cx="432000" cy="863640"/>
          </a:xfrm>
          <a:prstGeom prst="upArrow">
            <a:avLst>
              <a:gd name="adj1" fmla="val 50000"/>
              <a:gd name="adj2" fmla="val 4997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9120" y="1144440"/>
            <a:ext cx="3548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Инджилин сърасъ: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Сон сьоз топлулу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гюдюжюлер топлантъя хесап вер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йетки (власт) ашаъ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48360" y="4941720"/>
            <a:ext cx="354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Инджиле айкъръ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Сон сьоз бир кишиде, я са деноминация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гюдюжюлер меркезе хесап вер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йетки (власт) йукраъ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932360" y="1052640"/>
            <a:ext cx="3743280" cy="5400720"/>
          </a:xfrm>
          <a:prstGeom prst="line">
            <a:avLst/>
          </a:prstGeom>
          <a:ln w="1015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75280" y="1008000"/>
            <a:ext cx="3673440" cy="5373720"/>
          </a:xfrm>
          <a:prstGeom prst="line">
            <a:avLst/>
          </a:prstGeom>
          <a:ln w="1015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1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Гюдюджю олмак ичин шартл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981000"/>
            <a:ext cx="417672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cc00"/>
                </a:solidFill>
                <a:latin typeface="Arial"/>
              </a:rPr>
              <a:t>1.Петрус 5:1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деил зорлуктан имиш гиби, ама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Аллахън истедии гиб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деил казанч ичин, ама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мерак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деил сизе еманет едилен кишилере зорбаджълък япмакла, ама сюрюйе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ьорнек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олмак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башчобана сорумлу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лар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32360" y="981000"/>
            <a:ext cx="3632040" cy="825480"/>
          </a:xfrm>
          <a:prstGeom prst="rect">
            <a:avLst/>
          </a:prstGeom>
          <a:solidFill>
            <a:srgbClr val="000080"/>
          </a:solidFill>
          <a:ln w="442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99cc00"/>
                </a:solidFill>
                <a:latin typeface="Bookman Old Style"/>
              </a:rPr>
              <a:t>ЗОРЛАН ГЮЗЕЛЛИК ОЛМАЗ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869080" y="3452760"/>
            <a:ext cx="2735280" cy="17049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300720" y="1998720"/>
            <a:ext cx="1800360" cy="1285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356000" y="5197320"/>
            <a:ext cx="1951200" cy="1660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5867280" y="5383080"/>
            <a:ext cx="2121120" cy="14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180360" cy="8636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Гюдюджю олмак ичин ШАРТЛАР </a:t>
            </a:r>
            <a:br>
              <a:rPr sz="3200"/>
            </a:br>
            <a:r>
              <a:rPr b="1" i="1" lang="bg-BG" sz="2400" spc="-1" strike="noStrike">
                <a:solidFill>
                  <a:srgbClr val="ffcc00"/>
                </a:solidFill>
                <a:latin typeface="Arial Black"/>
              </a:rPr>
              <a:t>Титус 1:5-9 ве 1.Тимотейус 3:1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84240" y="730080"/>
            <a:ext cx="138636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кусурсу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1268280"/>
            <a:ext cx="326232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бир кадънън коджас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7400" y="1844640"/>
            <a:ext cx="344664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иманлъ къзанларъ в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2492280"/>
            <a:ext cx="3384360" cy="8254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хеп кенди кафасъна гьоре гитмес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6840" y="3429000"/>
            <a:ext cx="341928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хемен ьофкеленме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й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8560" y="4005360"/>
            <a:ext cx="214992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ичкиджи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е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30200" y="4545000"/>
            <a:ext cx="228096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кавгаджъ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е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9600" y="5086440"/>
            <a:ext cx="423936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паранън пешинден кошма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я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1680" y="5661000"/>
            <a:ext cx="507744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мисафирлери кабул етмейи сев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5600" y="6202440"/>
            <a:ext cx="211788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ийилии сев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27640" y="981000"/>
            <a:ext cx="24480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аклъ башъ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59600" y="1593720"/>
            <a:ext cx="12780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дюрю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88120" y="2241720"/>
            <a:ext cx="219852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Аллаха баал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42920" y="2817720"/>
            <a:ext cx="341604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кендини запте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еби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19640" y="3429000"/>
            <a:ext cx="37800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аалам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ьоретиш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вер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68120" y="4005360"/>
            <a:ext cx="16668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ърбашл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08720" y="4581360"/>
            <a:ext cx="3203640" cy="8254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енди евини ийи гю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ю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23440" y="5516640"/>
            <a:ext cx="28980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ни иманлъ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еи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35640" y="6035760"/>
            <a:ext cx="4608360" cy="8254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ъшаръдакилер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ну ийи бири оларак танъ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йор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763640" y="118908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830320" y="1353960"/>
            <a:ext cx="347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БЕН бу гьорев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уйгун муйум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1224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Чобан олмак истейенлере</a:t>
            </a:r>
            <a:br>
              <a:rPr sz="3200"/>
            </a:b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КОРКУ ве КУР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1197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33"/>
                </a:solidFill>
                <a:latin typeface="Arial"/>
              </a:rPr>
              <a:t>Диккат един: чобанлък ойунджак деилд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0360" y="1698480"/>
            <a:ext cx="8675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Хезекиел 34 2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"Инсанолу, Исраил'ин чобанларъна каршъ пейгамберлик ет ве онлара, бу чобанлара шьойле де: 'Егемен РАБ дийор ки: Вай кенди кендини гюден Исраил чобанларъна!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Чобанларън сюрюйю гютмеси герекмез ми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йъфларъ гючлендирмединиз, хасталаръ ийилештирмединиз, яралъларън ярасънъ сармадънъз. Йолуну шашъранларъ гери гетирмединиз, кайъларъ арамадънъз. Анджак сертлик ве шиддетле онлара егемен олдуну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Чобанларъ олмадъъ ичин даълдълар, ябанъл хайванлара йем олдулар. Койунларъм бютюн даларда, йюксек тепелерде башъбош доландълар. Койунларъм йерйюзюне даълдъ. Онларъ не араян вар, не сор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"'Бу йюзден, ей чобанлар, РАБ'бин сьозюню динлейин.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нун ичин, ей чобанлар, РАБ'бин сьозюню динлейин.  Егемен РАБ шьойле дийор: Бен чобанлара каршъйъм! Койунларъмдан онларъ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сорумлу тутаджаъм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койунларъмъ гютмелерине сон вередже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1224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Чобан олмак истейенлере</a:t>
            </a:r>
            <a:br>
              <a:rPr sz="3200"/>
            </a:b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КОРКУ ве КУР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1197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33"/>
                </a:solidFill>
                <a:latin typeface="Arial"/>
              </a:rPr>
              <a:t>Диккат един: чобанлък ойунджак деилд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1771920"/>
            <a:ext cx="867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Йуханна  10 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Ийи чобан бен'им. Ийи чобан койунлар ичин джанънъ верийор. 12 Ама дийелим вар кираланмъш бир ишчи: о асъл чобан деил, койунлар да онун деил. О гьордю мю, курт якънлъйор, койунларъ бракъп качаджак. Курт да онларъ кападжак ве койунларъ даътъраджак. Шимди, киралан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мъш ишчи неден качъйор - чюнкю анджак кираланмъштър ве </a:t>
            </a:r>
            <a:r>
              <a:rPr b="0" lang="tr-TR" sz="2000" spc="-1" strike="noStrike" u="sng">
                <a:solidFill>
                  <a:srgbClr val="ffffff"/>
                </a:solidFill>
                <a:uFillTx/>
                <a:latin typeface="Arial"/>
              </a:rPr>
              <a:t>кенди койунларъ ичин дюшюнмез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6012000" y="4149720"/>
            <a:ext cx="2663640" cy="2232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395280" y="4149720"/>
            <a:ext cx="2664000" cy="2212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3276720" y="4221000"/>
            <a:ext cx="2452680" cy="20764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41440" y="649116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Койунларъ корум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631656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Койунлардан саде файдаланъ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27960" y="6491160"/>
            <a:ext cx="33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Саде кейфини дюшюню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8:37:29Z</dcterms:created>
  <dc:creator>Windows XP</dc:creator>
  <dc:description/>
  <dc:language>en-US</dc:language>
  <cp:lastModifiedBy>PC</cp:lastModifiedBy>
  <dcterms:modified xsi:type="dcterms:W3CDTF">2007-05-10T08:38:17Z</dcterms:modified>
  <cp:revision>156</cp:revision>
  <dc:subject/>
  <dc:title>Иса иле килисе ичин бензетмелер</dc:title>
</cp:coreProperties>
</file>