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3.gif" ContentType="image/gif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C66A-83A5-4DA7-B072-0991DA46A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1BFF-59C6-40DA-82C3-C76DB4C3E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A954-F4A0-4D09-B2D6-A95BC278D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648C-A14D-47F0-8747-6C0DB8A58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1C32-E5A2-4A2A-8ECB-70CFA38AE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741D-C1F7-4144-9B5A-84A011213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90CF-A5F8-4DF4-9244-E84644F1E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952B-F9A0-4E33-B0AA-245826A00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3DC3-06C1-4564-BD37-D7D938260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5A62-F04E-4CDA-8F9C-5BDD3E03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D698-950B-4F8E-BDCE-6188B64E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BEBC-BAE2-4946-979B-6DFC560C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B12F7-1869-494C-AD5E-3A1372CDEEE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124000" y="4724280"/>
            <a:ext cx="65088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1., 2. Тимотейус ве Титус мектупларънда Павлус’тан гюдюджюлере акъ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39640" y="907920"/>
            <a:ext cx="777744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172f75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имотейус ве Титус'та</a:t>
            </a:r>
            <a:endParaRPr b="0" lang="en-US" sz="1800" spc="1" strike="noStrike">
              <a:ln w="19080">
                <a:solidFill>
                  <a:srgbClr val="99cc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172f75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619280" y="2133720"/>
            <a:ext cx="35290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172f75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ИР ГЕЗИ</a:t>
            </a:r>
            <a:endParaRPr b="0" lang="en-US" sz="1800" spc="1" strike="noStrike">
              <a:ln w="19080">
                <a:solidFill>
                  <a:srgbClr val="99cc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172f75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0000"/>
            </a:gs>
            <a:gs pos="100000">
              <a:srgbClr val="1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9e3c06"/>
                </a:solidFill>
                <a:latin typeface="Arial Black"/>
              </a:rPr>
              <a:t>Павлус’тан гюдюджюлере акъ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1589040"/>
            <a:ext cx="5688000" cy="49399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0" lang="tr-TR" sz="2400" spc="-1" strike="noStrike">
                <a:solidFill>
                  <a:srgbClr val="ffcc00"/>
                </a:solidFill>
                <a:latin typeface="Arial"/>
              </a:rPr>
              <a:t>Сен гене Иса Месихин ийи бир аскери гиби зорлуклара ортак ол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Аскерлик</a:t>
            </a:r>
            <a:r>
              <a:rPr b="0" lang="tr-TR" sz="2400" spc="-1" strike="noStrike">
                <a:solidFill>
                  <a:srgbClr val="ffcc00"/>
                </a:solidFill>
                <a:latin typeface="Arial"/>
              </a:rPr>
              <a:t> япан хич кимсе бу хаятън ишлерине каръшмаз. ЬОйле ки, ким ону аскерлие яздърмъшса ону мемнун етс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cc00"/>
                </a:solidFill>
                <a:latin typeface="Arial"/>
              </a:rPr>
              <a:t>Ве бириси 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спор ойунларъна</a:t>
            </a:r>
            <a:r>
              <a:rPr b="0" lang="tr-TR" sz="2400" spc="-1" strike="noStrike">
                <a:solidFill>
                  <a:srgbClr val="ffcc00"/>
                </a:solidFill>
                <a:latin typeface="Arial"/>
              </a:rPr>
              <a:t> катълърса, лазъм о спорун сърасъна уйгун оларак катълсън. Йокса мадаляйъ аламаяджа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cc00"/>
                </a:solidFill>
                <a:latin typeface="Arial"/>
              </a:rPr>
              <a:t>Ъргатлък япан 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чифтчи</a:t>
            </a:r>
            <a:r>
              <a:rPr b="0" lang="tr-TR" sz="2400" spc="-1" strike="noStrike">
                <a:solidFill>
                  <a:srgbClr val="ffcc00"/>
                </a:solidFill>
                <a:latin typeface="Arial"/>
              </a:rPr>
              <a:t>, илк ьондже о лазъм йемишлерден йесин.</a:t>
            </a:r>
            <a:r>
              <a:rPr b="0" lang="bg-BG" sz="2400" spc="-1" strike="noStrike">
                <a:solidFill>
                  <a:srgbClr val="ffcc00"/>
                </a:solidFill>
                <a:latin typeface="Arial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1052640"/>
            <a:ext cx="5688000" cy="459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bg-BG" sz="2400" spc="-1" strike="noStrike">
                <a:solidFill>
                  <a:srgbClr val="009999"/>
                </a:solidFill>
                <a:latin typeface="Arial"/>
              </a:rPr>
              <a:t>2.Тимотейус 2:3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227640" y="1052640"/>
            <a:ext cx="1582920" cy="3168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7020000" y="328464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6551640" y="5084640"/>
            <a:ext cx="2413080" cy="1536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500"/>
                            </p:stCondLst>
                            <p:childTnLst>
                              <p:par>
                                <p:cTn id="5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0000"/>
            </a:gs>
            <a:gs pos="100000">
              <a:srgbClr val="1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9e3c06"/>
                </a:solidFill>
                <a:latin typeface="Arial Black"/>
              </a:rPr>
              <a:t>Павлус’тан гюдюджюлере акъ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1989000"/>
            <a:ext cx="4032000" cy="302004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0" lang="bg-BG" sz="2400" spc="-1" strike="noStrike">
                <a:solidFill>
                  <a:srgbClr val="ffcc00"/>
                </a:solidFill>
                <a:latin typeface="Arial"/>
              </a:rPr>
              <a:t>Диккат ет, кендини Аллахън ьонюнде ьойле бир ишчи оларак гьостереси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cc00"/>
                </a:solidFill>
                <a:latin typeface="Arial"/>
              </a:rPr>
              <a:t>хани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утанмак ичин себебин олмасън</a:t>
            </a:r>
            <a:r>
              <a:rPr b="0" lang="bg-BG" sz="2400" spc="-1" strike="noStrike">
                <a:solidFill>
                  <a:srgbClr val="ffcc00"/>
                </a:solidFill>
                <a:latin typeface="Arial"/>
              </a:rPr>
              <a:t> в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хакикатън сьозюню дору кулланасън</a:t>
            </a:r>
            <a:r>
              <a:rPr b="0" lang="bg-BG" sz="2400" spc="-1" strike="noStrike">
                <a:solidFill>
                  <a:srgbClr val="ffcc00"/>
                </a:solidFill>
                <a:latin typeface="Arial"/>
              </a:rPr>
              <a:t>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4360" y="1452600"/>
            <a:ext cx="4032000" cy="459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bg-BG" sz="2400" spc="-1" strike="noStrike">
                <a:solidFill>
                  <a:srgbClr val="009999"/>
                </a:solidFill>
                <a:latin typeface="Arial"/>
              </a:rPr>
              <a:t>2.Тимотейус 2: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148360" y="1773360"/>
            <a:ext cx="3124080" cy="43034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003640" y="1628640"/>
            <a:ext cx="3456000" cy="4680000"/>
          </a:xfrm>
          <a:prstGeom prst="line">
            <a:avLst/>
          </a:prstGeom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4932360" y="1628640"/>
            <a:ext cx="3456000" cy="4680000"/>
          </a:xfrm>
          <a:prstGeom prst="line">
            <a:avLst/>
          </a:prstGeom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2000"/>
                            </p:stCondLst>
                            <p:childTnLst>
                              <p:par>
                                <p:cTn id="5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0000"/>
            </a:gs>
            <a:gs pos="100000">
              <a:srgbClr val="1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9e3c06"/>
                </a:solidFill>
                <a:latin typeface="Arial Black"/>
              </a:rPr>
              <a:t>Павлус’тан гюдюджюлере акъ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4560" y="1662120"/>
            <a:ext cx="5400720" cy="472644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1000" indent="-3510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0" lang="tr-TR" sz="2400" spc="-1" strike="noStrike">
                <a:solidFill>
                  <a:srgbClr val="ffcc00"/>
                </a:solidFill>
                <a:latin typeface="Arial"/>
              </a:rPr>
              <a:t>Ве Раббин хизметчиси лазъ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кавга етмесин</a:t>
            </a:r>
            <a:r>
              <a:rPr b="0" lang="tr-TR" sz="2400" spc="-1" strike="noStrike">
                <a:solidFill>
                  <a:srgbClr val="ffcc00"/>
                </a:solidFill>
                <a:latin typeface="Arial"/>
              </a:rPr>
              <a:t>, ама лазъм херкесе йумушак даврансъ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ьоретирмейе</a:t>
            </a:r>
            <a:r>
              <a:rPr b="0" lang="tr-TR" sz="2400" spc="-1" strike="noStrike">
                <a:solidFill>
                  <a:srgbClr val="ffcc00"/>
                </a:solidFill>
                <a:latin typeface="Arial"/>
              </a:rPr>
              <a:t> хазър олсун 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Aft>
                <a:spcPts val="1199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cc00"/>
                </a:solidFill>
                <a:latin typeface="Arial"/>
              </a:rPr>
              <a:t>кендисине япълан хаксъзлъклара каршъ 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сабретсин</a:t>
            </a:r>
            <a:r>
              <a:rPr b="0" lang="tr-TR" sz="2400" spc="-1" strike="noStrike">
                <a:solidFill>
                  <a:srgbClr val="ffcc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Aft>
                <a:spcPts val="1199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cc00"/>
                </a:solidFill>
                <a:latin typeface="Arial"/>
              </a:rPr>
              <a:t>Лазъм, кендисине каршъ геленлери 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алчакгьонюллюкле</a:t>
            </a:r>
            <a:r>
              <a:rPr b="0" lang="tr-TR" sz="2400" spc="-1" strike="noStrike">
                <a:solidFill>
                  <a:srgbClr val="ffcc00"/>
                </a:solidFill>
                <a:latin typeface="Arial"/>
              </a:rPr>
              <a:t> тербийейе чексин. Белки де Аллах онлара тьовбейи вереджек, хакикатъ танъсънлар.</a:t>
            </a:r>
            <a:r>
              <a:rPr b="0" lang="bg-BG" sz="2400" spc="-1" strike="noStrike">
                <a:solidFill>
                  <a:srgbClr val="ffcc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4560" y="1125360"/>
            <a:ext cx="5400720" cy="459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bg-BG" sz="2400" spc="-1" strike="noStrike">
                <a:solidFill>
                  <a:srgbClr val="009999"/>
                </a:solidFill>
                <a:latin typeface="Arial"/>
              </a:rPr>
              <a:t>2.Тимотейус 2:24.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rcRect l="22671" t="0" r="4252" b="0"/>
          <a:stretch/>
        </p:blipFill>
        <p:spPr>
          <a:xfrm>
            <a:off x="6407280" y="1486080"/>
            <a:ext cx="1079280" cy="1152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6407280" y="2709720"/>
            <a:ext cx="1081080" cy="11541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6407280" y="3933720"/>
            <a:ext cx="1079280" cy="114804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6407280" y="5157720"/>
            <a:ext cx="1079280" cy="1152720"/>
            <a:chOff x="6407280" y="5157720"/>
            <a:chExt cx="1079280" cy="1152720"/>
          </a:xfrm>
        </p:grpSpPr>
        <p:sp>
          <p:nvSpPr>
            <p:cNvPr id="104" name=""/>
            <p:cNvSpPr/>
            <p:nvPr/>
          </p:nvSpPr>
          <p:spPr>
            <a:xfrm>
              <a:off x="6407280" y="5157720"/>
              <a:ext cx="1079280" cy="115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" descr=""/>
            <p:cNvPicPr/>
            <p:nvPr/>
          </p:nvPicPr>
          <p:blipFill>
            <a:blip r:embed="rId5"/>
            <a:srcRect l="5650" t="3339" r="10809" b="0"/>
            <a:stretch/>
          </p:blipFill>
          <p:spPr>
            <a:xfrm>
              <a:off x="6407280" y="5157720"/>
              <a:ext cx="1079280" cy="1150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7918560" y="5445000"/>
            <a:ext cx="614160" cy="758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7"/>
          <a:stretch/>
        </p:blipFill>
        <p:spPr>
          <a:xfrm>
            <a:off x="7846920" y="1773360"/>
            <a:ext cx="662040" cy="718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8"/>
          <a:stretch/>
        </p:blipFill>
        <p:spPr>
          <a:xfrm>
            <a:off x="7880400" y="2924280"/>
            <a:ext cx="614160" cy="7588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9"/>
          <a:stretch/>
        </p:blipFill>
        <p:spPr>
          <a:xfrm>
            <a:off x="7880400" y="4221000"/>
            <a:ext cx="614160" cy="758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000"/>
                            </p:stCondLst>
                            <p:childTnLst>
                              <p:par>
                                <p:cTn id="6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000"/>
                            </p:stCondLst>
                            <p:childTnLst>
                              <p:par>
                                <p:cTn id="6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500"/>
                            </p:stCondLst>
                            <p:childTnLst>
                              <p:par>
                                <p:cTn id="6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000"/>
                            </p:stCondLst>
                            <p:childTnLst>
                              <p:par>
                                <p:cTn id="6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500"/>
                            </p:stCondLst>
                            <p:childTnLst>
                              <p:par>
                                <p:cTn id="6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0000"/>
            </a:gs>
            <a:gs pos="100000">
              <a:srgbClr val="1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9e3c06"/>
                </a:solidFill>
                <a:latin typeface="Arial Black"/>
              </a:rPr>
              <a:t>Павлус’тан гюдюджюлере акъ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4360" y="1989000"/>
            <a:ext cx="7127640" cy="378144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cc00"/>
                </a:solidFill>
                <a:latin typeface="Arial"/>
              </a:rPr>
              <a:t>Хер меселеде кендини ьорнек оларак гьост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ийи ишлерде</a:t>
            </a:r>
            <a:r>
              <a:rPr b="0" lang="tr-TR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cc00"/>
                </a:solidFill>
                <a:latin typeface="Arial"/>
              </a:rPr>
              <a:t>дюрюстлюк ичинде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ьоретирмек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аърбашлъ</a:t>
            </a:r>
            <a:r>
              <a:rPr b="0" lang="bg-BG" sz="2400" spc="-1" strike="noStrike">
                <a:solidFill>
                  <a:srgbClr val="ffcc00"/>
                </a:solidFill>
                <a:latin typeface="Arial"/>
              </a:rPr>
              <a:t> олма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уйгун сьозлерле</a:t>
            </a:r>
            <a:r>
              <a:rPr b="0" lang="bg-BG" sz="2400" spc="-1" strike="noStrike">
                <a:solidFill>
                  <a:srgbClr val="ffcc00"/>
                </a:solidFill>
                <a:latin typeface="Arial"/>
              </a:rPr>
              <a:t>, хани ьойле сьозлерле, хич кимсе онлара маана булмасъ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cc00"/>
                </a:solidFill>
                <a:latin typeface="Arial"/>
              </a:rPr>
              <a:t>ьойле ки, каршъ гелен киши сенден ичин кьотю конушаджак бир шей булмасън ве утансъ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4360" y="1452600"/>
            <a:ext cx="7127640" cy="459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bg-BG" sz="2400" spc="-1" strike="noStrike">
                <a:solidFill>
                  <a:srgbClr val="009999"/>
                </a:solidFill>
                <a:latin typeface="Arial"/>
              </a:rPr>
              <a:t>Титус 2:7-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0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0000"/>
            </a:gs>
            <a:gs pos="100000">
              <a:srgbClr val="1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9e3c06"/>
                </a:solidFill>
                <a:latin typeface="Arial Black"/>
              </a:rPr>
              <a:t>Павлус’тан гюдюджюлере акъ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01800" y="2198520"/>
            <a:ext cx="4030560" cy="36291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Ь</a:t>
            </a:r>
            <a:r>
              <a:rPr b="1" lang="tr-TR" sz="2400" spc="-1" strike="noStrike">
                <a:solidFill>
                  <a:srgbClr val="ffcc00"/>
                </a:solidFill>
                <a:latin typeface="Arial"/>
              </a:rPr>
              <a:t>Оретишимизин асъл максадъ севгиди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темиз бир йюр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ийи бир виджд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ве икийюзлю олмаян бир имандан</a:t>
            </a:r>
            <a:r>
              <a:rPr b="1" lang="tr-TR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cc00"/>
                </a:solidFill>
                <a:latin typeface="Arial"/>
              </a:rPr>
              <a:t>гелен севг</a:t>
            </a: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и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01800" y="1662120"/>
            <a:ext cx="4030560" cy="459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bg-BG" sz="2400" spc="-1" strike="noStrike">
                <a:solidFill>
                  <a:srgbClr val="009999"/>
                </a:solidFill>
                <a:latin typeface="Arial"/>
              </a:rPr>
              <a:t>1.Тимотейус 1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012000" y="2708280"/>
            <a:ext cx="2089080" cy="2119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50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0000"/>
            </a:gs>
            <a:gs pos="100000">
              <a:srgbClr val="1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9e3c06"/>
                </a:solidFill>
                <a:latin typeface="Arial Black"/>
              </a:rPr>
              <a:t>Павлус’тан гюдюджюлере акъ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41440" y="2076480"/>
            <a:ext cx="4246560" cy="302004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1" lang="tr-TR" sz="2400" spc="-1" strike="noStrike">
                <a:solidFill>
                  <a:srgbClr val="ffcc00"/>
                </a:solidFill>
                <a:latin typeface="Arial"/>
              </a:rPr>
              <a:t>Шу сьоз чок дорудур, херкес лазъм ону</a:t>
            </a: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ffcc00"/>
                </a:solidFill>
                <a:latin typeface="Arial"/>
              </a:rPr>
              <a:t>кабул етсин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Месих Иса йерйюзюне инди гюнахкярларъ куртармак ичи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Онларън ен кьотюсю гене беним.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1440" y="1539720"/>
            <a:ext cx="4246560" cy="459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bg-BG" sz="2400" spc="-1" strike="noStrike">
                <a:solidFill>
                  <a:srgbClr val="009999"/>
                </a:solidFill>
                <a:latin typeface="Arial"/>
              </a:rPr>
              <a:t>1.Тимотейус 1: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003640" y="1844640"/>
            <a:ext cx="3557880" cy="3251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0000"/>
            </a:gs>
            <a:gs pos="100000">
              <a:srgbClr val="1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9e3c06"/>
                </a:solidFill>
                <a:latin typeface="Arial Black"/>
              </a:rPr>
              <a:t>Павлус’тан гюдюджюлере акъ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2720" y="1933560"/>
            <a:ext cx="3454560" cy="26542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1" lang="tr-TR" sz="2400" spc="-1" strike="noStrike">
                <a:solidFill>
                  <a:srgbClr val="ffcc00"/>
                </a:solidFill>
                <a:latin typeface="Arial"/>
              </a:rPr>
              <a:t>Ама дюняджа 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коджакаръ масалларънъ хич кабул етм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cc00"/>
                </a:solidFill>
                <a:latin typeface="Arial"/>
              </a:rPr>
              <a:t>Сен гене кендини Аллах коркусунда илерлетир</a:t>
            </a:r>
            <a:r>
              <a:rPr b="0" lang="bg-BG" sz="2400" spc="-1" strike="noStrike">
                <a:solidFill>
                  <a:srgbClr val="ffcc00"/>
                </a:solidFill>
                <a:latin typeface="Arial"/>
              </a:rPr>
              <a:t>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2720" y="1397160"/>
            <a:ext cx="3454560" cy="459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bg-BG" sz="2400" spc="-1" strike="noStrike">
                <a:solidFill>
                  <a:srgbClr val="009999"/>
                </a:solidFill>
                <a:latin typeface="Arial"/>
              </a:rPr>
              <a:t>1.Тимотейус 4: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4427640" y="2637000"/>
            <a:ext cx="4284720" cy="32353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211640" y="2421000"/>
            <a:ext cx="4753080" cy="3600360"/>
          </a:xfrm>
          <a:prstGeom prst="line">
            <a:avLst/>
          </a:prstGeom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211640" y="2492280"/>
            <a:ext cx="4681440" cy="3529080"/>
          </a:xfrm>
          <a:prstGeom prst="line">
            <a:avLst/>
          </a:prstGeom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0000"/>
            </a:gs>
            <a:gs pos="100000">
              <a:srgbClr val="1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9e3c06"/>
                </a:solidFill>
                <a:latin typeface="Arial Black"/>
              </a:rPr>
              <a:t>Павлус’тан гюдюджюлере акъ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2720" y="1933560"/>
            <a:ext cx="3743280" cy="37515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1" lang="tr-TR" sz="2400" spc="-1" strike="noStrike">
                <a:solidFill>
                  <a:srgbClr val="ffcc00"/>
                </a:solidFill>
                <a:latin typeface="Arial"/>
              </a:rPr>
              <a:t>Хич кимсе сени генчлиинден ичин хор гьормесин. Ама иманлъла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конушма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давранма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севги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иманда в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арънмак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cc00"/>
                </a:solidFill>
                <a:latin typeface="Arial"/>
              </a:rPr>
              <a:t>ьорнек ол.</a:t>
            </a:r>
            <a:r>
              <a:rPr b="0" lang="bg-BG" sz="2400" spc="-1" strike="noStrike">
                <a:solidFill>
                  <a:srgbClr val="ffcc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2720" y="1397160"/>
            <a:ext cx="3743280" cy="459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bg-BG" sz="2400" spc="-1" strike="noStrike">
                <a:solidFill>
                  <a:srgbClr val="009999"/>
                </a:solidFill>
                <a:latin typeface="Arial"/>
              </a:rPr>
              <a:t>1.Тимотейус 4: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72000" y="2427120"/>
            <a:ext cx="4392720" cy="3459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572000" y="5591160"/>
            <a:ext cx="4392720" cy="1008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Гюдюджю, геледжек кушак иманлъларънън калъбъдър. Хепси онун копясъ оладжакла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500"/>
                            </p:stCondLst>
                            <p:childTnLst>
                              <p:par>
                                <p:cTn id="2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50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50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0000"/>
            </a:gs>
            <a:gs pos="100000">
              <a:srgbClr val="1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9e3c06"/>
                </a:solidFill>
                <a:latin typeface="Arial Black"/>
              </a:rPr>
              <a:t>Павлус’тан гюдюджюлере акъ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413000"/>
            <a:ext cx="9144000" cy="14346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0" lang="tr-TR" sz="2200" spc="-1" strike="noStrike">
                <a:solidFill>
                  <a:srgbClr val="ffcc00"/>
                </a:solidFill>
                <a:latin typeface="Arial"/>
              </a:rPr>
              <a:t>Ама мемнунлук гетирип Аллах йолунда йюрюмек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ffcc00"/>
                </a:solidFill>
                <a:latin typeface="Arial"/>
              </a:rPr>
              <a:t>аслънда бюйюк казанч будур. Чюнкю </a:t>
            </a: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дюняя хичбир шей гетирмедик, </a:t>
            </a:r>
            <a:r>
              <a:rPr b="0" lang="tr-TR" sz="2200" spc="-1" strike="noStrike">
                <a:solidFill>
                  <a:srgbClr val="ffcc00"/>
                </a:solidFill>
                <a:latin typeface="Arial"/>
              </a:rPr>
              <a:t>не де</a:t>
            </a: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 бурадан бир шей гьотюремейеджез</a:t>
            </a:r>
            <a:r>
              <a:rPr b="0" lang="tr-TR" sz="2200" spc="-1" strike="noStrike">
                <a:solidFill>
                  <a:srgbClr val="ffcc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ffcc00"/>
                </a:solidFill>
                <a:latin typeface="Arial"/>
              </a:rPr>
              <a:t>Йийеджеимиз вар мъ, гийеджеимиз вар мъ - о кадар йетер бизе.</a:t>
            </a:r>
            <a:r>
              <a:rPr b="0" lang="bg-BG" sz="2200" spc="-1" strike="noStrike">
                <a:solidFill>
                  <a:srgbClr val="ffcc00"/>
                </a:solidFill>
                <a:latin typeface="Arial"/>
              </a:rPr>
              <a:t>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97080" y="876240"/>
            <a:ext cx="4680000" cy="459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9999"/>
                </a:solidFill>
                <a:latin typeface="Arial"/>
              </a:rPr>
              <a:t>1.Тимотейус 6:6-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474920" y="2924280"/>
            <a:ext cx="2665440" cy="3933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4788000" y="2924280"/>
            <a:ext cx="2649600" cy="3933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0000"/>
            </a:gs>
            <a:gs pos="100000">
              <a:srgbClr val="1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9e3c06"/>
                </a:solidFill>
                <a:latin typeface="Arial Black"/>
              </a:rPr>
              <a:t>Павлус’тан гюдюджюлере акъ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00000" y="2205000"/>
            <a:ext cx="3454560" cy="119124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1" lang="tr-TR" sz="2400" spc="-1" strike="noStrike">
                <a:solidFill>
                  <a:srgbClr val="ffcc00"/>
                </a:solidFill>
                <a:latin typeface="Arial"/>
              </a:rPr>
              <a:t>Ей Тимотейус, сана верилен 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еманети колла</a:t>
            </a:r>
            <a:r>
              <a:rPr b="1" lang="tr-TR" sz="2400" spc="-1" strike="noStrike">
                <a:solidFill>
                  <a:srgbClr val="ffcc00"/>
                </a:solidFill>
                <a:latin typeface="Arial"/>
              </a:rPr>
              <a:t>!</a:t>
            </a: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1668600"/>
            <a:ext cx="3454560" cy="459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bg-BG" sz="2400" spc="-1" strike="noStrike">
                <a:solidFill>
                  <a:srgbClr val="009999"/>
                </a:solidFill>
                <a:latin typeface="Arial"/>
              </a:rPr>
              <a:t>1.Тимотейус 6: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076720" y="1628640"/>
            <a:ext cx="2683080" cy="4746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0000"/>
            </a:gs>
            <a:gs pos="100000">
              <a:srgbClr val="1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9e3c06"/>
                </a:solidFill>
                <a:latin typeface="Arial Black"/>
              </a:rPr>
              <a:t>Павлус’тан гюдюджюлере акъ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01800" y="2006640"/>
            <a:ext cx="3598920" cy="19227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Онун ичин ей евладъм, Месих Иса’да булунан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мерхаметле</a:t>
            </a: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 куветлен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01800" y="1469880"/>
            <a:ext cx="3598920" cy="459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bg-BG" sz="2400" spc="-1" strike="noStrike">
                <a:solidFill>
                  <a:srgbClr val="009999"/>
                </a:solidFill>
                <a:latin typeface="Arial"/>
              </a:rPr>
              <a:t>2.Тимотейус 2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143680" y="1698480"/>
            <a:ext cx="3389040" cy="4394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0000"/>
            </a:gs>
            <a:gs pos="100000">
              <a:srgbClr val="1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9e3c06"/>
                </a:solidFill>
                <a:latin typeface="Arial Black"/>
              </a:rPr>
              <a:t>Павлус’тан гюдюджюлере акъ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2205000"/>
            <a:ext cx="4824360" cy="34768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199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1" lang="tr-TR" sz="2400" spc="-1" strike="noStrike">
                <a:solidFill>
                  <a:srgbClr val="ffcc00"/>
                </a:solidFill>
                <a:latin typeface="Arial"/>
              </a:rPr>
              <a:t>Бирчок шахитлерин ьонюнде 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бенден</a:t>
            </a:r>
            <a:r>
              <a:rPr b="1" lang="tr-TR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cc00"/>
                </a:solidFill>
                <a:latin typeface="Arial"/>
              </a:rPr>
              <a:t>чок шейлер 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ишиттин</a:t>
            </a:r>
            <a:r>
              <a:rPr b="1" lang="tr-TR" sz="2400" spc="-1" strike="noStrike">
                <a:solidFill>
                  <a:srgbClr val="ffcc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cc00"/>
                </a:solidFill>
                <a:latin typeface="Arial"/>
              </a:rPr>
              <a:t>Бунларъ 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садикан кишилере</a:t>
            </a:r>
            <a:r>
              <a:rPr b="1" lang="tr-TR" sz="2400" spc="-1" strike="noStrike">
                <a:solidFill>
                  <a:srgbClr val="ffcc00"/>
                </a:solidFill>
                <a:latin typeface="Arial"/>
              </a:rPr>
              <a:t> еманет 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cc00"/>
                </a:solidFill>
                <a:latin typeface="Arial"/>
              </a:rPr>
              <a:t>Ве онлар да бунларъ 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башкаларъна</a:t>
            </a:r>
            <a:r>
              <a:rPr b="1" lang="tr-TR" sz="2400" spc="-1" strike="noStrike">
                <a:solidFill>
                  <a:srgbClr val="ffcc00"/>
                </a:solidFill>
                <a:latin typeface="Arial"/>
              </a:rPr>
              <a:t> ьоретирмейе хазър олсунлар.</a:t>
            </a: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1668600"/>
            <a:ext cx="4824360" cy="459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bg-BG" sz="2400" spc="-1" strike="noStrike">
                <a:solidFill>
                  <a:srgbClr val="009999"/>
                </a:solidFill>
                <a:latin typeface="Arial"/>
              </a:rPr>
              <a:t>2.Тимотейус 2: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435640" y="2276640"/>
            <a:ext cx="3384360" cy="2687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867280" y="5059440"/>
            <a:ext cx="26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9999"/>
                </a:solidFill>
                <a:latin typeface="Times New Roman"/>
              </a:rPr>
              <a:t>Дьорт куш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65440" y="33577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33cc"/>
                </a:solidFill>
                <a:latin typeface="Arial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10160" y="278136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9933"/>
                </a:solidFill>
                <a:latin typeface="Arial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318520" y="44370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cc6600"/>
                </a:solidFill>
                <a:latin typeface="Arial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518160" y="4508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cc00"/>
                </a:solidFill>
                <a:latin typeface="Arial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08:37:29Z</dcterms:created>
  <dc:creator>Windows XP</dc:creator>
  <dc:description/>
  <dc:language>en-US</dc:language>
  <cp:lastModifiedBy>PC</cp:lastModifiedBy>
  <dcterms:modified xsi:type="dcterms:W3CDTF">2007-11-28T16:33:04Z</dcterms:modified>
  <cp:revision>94</cp:revision>
  <dc:subject/>
  <dc:title>Иса иле килисе ичин бензетмелер</dc:title>
</cp:coreProperties>
</file>