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44-C60B-497E-BE67-509F97AD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E42-9E26-48A6-98F9-62EE1A1B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382-1EC0-44C8-BD76-7CF5A258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826-5559-44CA-BB93-1EE7B4C6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404-3B5A-47B3-AAD9-02A9595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172-BEFD-4682-A292-90EEAD2D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287-46E2-4557-930A-2DCD4270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F7F-60C7-449E-82A4-BDA7873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DAD-7BC9-4625-8BF1-6F6BFFCF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1F0-A07A-47F5-B9FD-61FCC86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980-CD50-4ADC-9E28-FC943B3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BD9-00A2-4969-A750-99E37BC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8889-0888-4664-9F43-0001A7FEE4C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ИЛЯС’ън Хаят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005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1.Краллар Китабъндан дерс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3506" t="0" r="9925" b="0"/>
          <a:stretch/>
        </p:blipFill>
        <p:spPr>
          <a:xfrm>
            <a:off x="468360" y="4680"/>
            <a:ext cx="8675640" cy="6364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04640"/>
            <a:ext cx="41464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’ън еви Самирийе касабас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237360"/>
            <a:ext cx="8461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Изебел бу путлар ичин бюйюк тапънаклар яптър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177920" cy="213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1112760" cy="213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590400"/>
            <a:ext cx="21592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хав’ън гюнах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237360"/>
            <a:ext cx="8461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им герчек танръ – РАБ мъ, Баал мъ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86160" y="0"/>
            <a:ext cx="5757840" cy="609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32720" y="5635800"/>
            <a:ext cx="1625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Ш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5661000"/>
            <a:ext cx="1224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998720"/>
            <a:ext cx="7704000" cy="34480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6:30-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Б'бин гьозюнде кьотю оланъ япан Ахав, кендисинден ьонджеки бютюн краллардан даха чок кьотюлюк япт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1 Яровам'ън гюнахларънъ излемек йетмезмиш гиби, бир де Сайда Кралъ Етбаал'ън къзъ Изебел'ле евленди. Гидип Баал'а хизмет едерек она тапт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2 Баал ичин Самирийе'де яптърдъъ тапънаън ичине бир сунак ку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3 Айръджа бир Ашера путу яптърдъ. Ахав Исраил'ин Танръсъ РАБ'би кендисинден ьонджеки бютюн Исраил кралларъндан даха чок ьофкелендир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189000"/>
            <a:ext cx="41464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’ън еви Самирийе касабас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15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5807160"/>
            <a:ext cx="84610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онра бюйюк кътлък олду – хайванлар ве инсанлар ьолмейе башла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хав да бютюн халка сьойледи,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Баал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’а дуа етсин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01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44720" y="-27000"/>
            <a:ext cx="7343640" cy="547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5240880"/>
            <a:ext cx="853272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Тишбе Кенти'нден олан Иляс, Ахав'а шьойле деди: "Хизмет еттиим Исраил'ин Танръсъ яшаян РАБ'бин адъйла дерим ки, бен сьойлемедикче ьонюмюздеки йълларда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не ямур яаджак, не де чий дюшеджек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9000"/>
            <a:ext cx="5327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 Иляс пейгамбери йол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393160"/>
            <a:ext cx="853272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ляс’ън адъ аслънда: ‘Ели-ях’ = ‘РАБ беним танръмдър’ демектъ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нун заманънда бютюн халк лазъмдъ карар версинлерм асъл танръ кимдир: Баал мъ, йокса Яхве 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4284720" cy="5300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67280" y="189000"/>
            <a:ext cx="48258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ляс пейгамберинин адъ ьонемли бир анлам та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37080" y="1989000"/>
            <a:ext cx="1203480" cy="2232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24520" y="1989000"/>
            <a:ext cx="2068560" cy="2232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435640" y="4365720"/>
            <a:ext cx="1224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365720"/>
            <a:ext cx="1223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ве (РА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5080" y="1484280"/>
            <a:ext cx="519120" cy="1008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907920"/>
            <a:ext cx="3095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’ден башка танръ й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87560"/>
            <a:ext cx="3384720" cy="402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 20:2-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ени Мъсър'дан, кьоле олдуун юлкеден чъка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Танрън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РАБ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беним. 3 "Бенден башка танрън олмаядж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5 Путларън ьонюнде еилмейеджексин, онлара тапмаяджаксън. Чюнкю бен, Танрън РАБ, късканч бир Танръ'йъ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60280"/>
            <a:ext cx="3095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019400" y="0"/>
            <a:ext cx="5124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1280" y="1411200"/>
            <a:ext cx="3889440" cy="527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О заман РАБ, Иляс'а шьойле сесленди: 3 "Бурадан айръл, доуя гит. Шериа Ърмаъ'нън доусундаки Керит Вадиси'нде гизлен. 4 Дереден су ичеджексин ве буйрук вердиим каргаларън гетирдиклерини йийеджексин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5 РАБ'бин сьойледиклерини япан Иляс, гидип Керит Вадиси'не йерлешти. 6 Дереден су ичийорду, каргаларън сабах акшам гетирдии ет ве екмекле бесленийо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4349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580000" y="5300640"/>
            <a:ext cx="338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хайванларъ да контрол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2280"/>
            <a:ext cx="4824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аргалар Илъас’ъ беслийор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3715200"/>
            <a:ext cx="4788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Иса, балъкларъ мрекалара йолл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7880" y="0"/>
            <a:ext cx="47577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907920"/>
            <a:ext cx="3384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2560" y="6111000"/>
            <a:ext cx="47512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арефат касабасъ, краличе Изебелин мемлекети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054160"/>
            <a:ext cx="35290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7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нджак юлкеде ямур ямадъъ ичин бир сюре сонра дере куру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8 О заман РАБ, Иляс'а де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9 "Шимди калк гит, Сайда якънларъндаки Сарефат Кенти'не йерлеш. Орада сана йийеджек саламасъ ичин дул бир кадъна буйрук вердим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5113080" cy="457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1280" y="3106800"/>
            <a:ext cx="8532720" cy="37530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арефат'а гиден Иляс кентин капъсъна варънджа, орада дул бир кадънън одун топладъънъ гьордю. Кадъна деди: "Бана ичмек ичин бираз су веребилир мисин?" -  11 Кадън су гетирмейе гидеркен Иляс йине сесленди: "Лютфен бир парча да екмек гетир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2 Кадън джевап верди: "Сенин Танрън яшаян РАБ'бин адъйла ант ичерим, хич екмеим йок. Ялнъз кюпте бир авуч ун, чьомлеин дибинде де азъджък я вар. Гьорюйорсун, бир ики парча одун топлуйорум. Гьотюрюп олумла кендим ичин бир шейлер хазърлаяджаъм. Белки де сон йемеимиз оладжак, ьолюп гидеджеиз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1416600"/>
            <a:ext cx="2808000" cy="13136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адън не япсън – бу ябанджъйъ мъ беслесин, йокса кенди чоджууну 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189000"/>
            <a:ext cx="3348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9664" r="0" b="895"/>
          <a:stretch/>
        </p:blipFill>
        <p:spPr>
          <a:xfrm>
            <a:off x="684360" y="9360"/>
            <a:ext cx="845964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са’дан 1000 сене ьондже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ДАВУТ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крал олду ве 40 сене краллък сюрд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5608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58760"/>
            <a:ext cx="3097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0920" y="192600"/>
            <a:ext cx="4033800" cy="7038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н олсайдън, сон екмеини вереджек мийд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266480"/>
            <a:ext cx="3816360" cy="5582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ляс кадъна, "Коркма, гит йийеджеини хазърла" деди, "Ялнъз ьондже бана кючюк бир пиде япъп гетир. Сонра олунла кендин ичин япарсъ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сраил'ин Танръсъ РАБ дийор ки: 'Топраа ямур дюшюнджейе дек кюптен ун, чьомлектен я ексилмейеджек.'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5 Кадън гидип Иляс'ън сьойледиклерини яптъ. Хеп бирликте гюнлердже йийип ичтилер. 16 РАБ'бин сьойледии гиби, кюптен ун, чьомлектен яа ексилм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8894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96000" y="0"/>
            <a:ext cx="4284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0920" y="260280"/>
            <a:ext cx="5616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Ен чок нейе диккат едийору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1083240"/>
            <a:ext cx="3313080" cy="21978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из гене, ен биринджи Онун краллъънън ве Онун дорулуунун пешине дюшюн. О вакът сизе бютюн бу шейлер де вериледж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к”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Матта 6: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360" y="63025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ляс’ън заманънда дул кадъ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78080" y="630252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’ън заманънда 5 екмек, 2 б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907920"/>
            <a:ext cx="3097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Иляс’ъ гене де б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624240"/>
            <a:ext cx="4033800" cy="1008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адън бюйюк ийилик яптъ – о заман неден онун башъна бу кьотюлюк гел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203560"/>
            <a:ext cx="3816360" cy="405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ир сюре сонра ев сахиби дул кадънън олу гиттикче аърлашан кьотю бир хасталъа якаландъ, сонунда ьолд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8 Кадън Иляс'а, "Ей Танръ адамъ, алъп веремедиимиз недир?" деди, "Гюнахларъмъ Танръ'я анъмсатъп олумун ьолюмюне неден олмак ичин ми бурая гелдин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419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4219920"/>
            <a:ext cx="817236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9-21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ляс, "Олуну бана вер" дийерек чоджуу кадънън куджаъндан алдъ, кенди калдъъ йукаръ одая чъкардъ ве ятаъна ятърд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0 Сонра РАБ'бе шьойле ялвардъ: "Я РАБ Танръм, неден янънда калдъъм дул кадънън олуну ьолдюререк она бу кьотюлюю яптън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1 Иляс юч кез чоджуун юзерине капанъп РАБ'бе шьойле дуа етти: "Я РАБ Танръм, бу чоджуа йениден джан вер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84240"/>
            <a:ext cx="8458200" cy="3944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260280"/>
            <a:ext cx="4537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муджизе яп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1123560"/>
            <a:ext cx="3024360" cy="5582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Б Иляс'ън ялваръшънъ дуйду. Чоджук дирилип йениден яшама дьондю. 23 Иляс чоджуу йукаръ одадан индирип аннесине вериркен, "Иште олун яшъйор!" д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4 Бунун юзерине кадън, "Шимди анладъм ки, сен Танръ адамъсън ве сьойледиин сьоз герчектен РАБ'бин сьозюдюр" д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189000"/>
            <a:ext cx="3024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, муджизе яп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0240" y="20520"/>
            <a:ext cx="8483760" cy="685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6920" y="371520"/>
            <a:ext cx="5257800" cy="47736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Давут’тан сонра онун олу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СЮЛЕЙМАН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40 сене краллък япт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8840" y="4941720"/>
            <a:ext cx="40226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Чок кадънларла евле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9760" y="549360"/>
            <a:ext cx="2861280" cy="459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ллахевини япт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4680000" cy="5645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юлейман’ън ьолщмщнден сонра Исраил краллъ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икийе бьолюнд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17550" t="9984" r="36709" b="40543"/>
          <a:stretch/>
        </p:blipFill>
        <p:spPr>
          <a:xfrm>
            <a:off x="900000" y="1773360"/>
            <a:ext cx="1873440" cy="249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3609" t="0" r="29667" b="0"/>
          <a:stretch/>
        </p:blipFill>
        <p:spPr>
          <a:xfrm>
            <a:off x="6516720" y="18900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78120" y="249228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8480" y="4365720"/>
            <a:ext cx="24955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о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999000">
            <a:off x="3263760" y="2636640"/>
            <a:ext cx="2532240" cy="287280"/>
          </a:xfrm>
          <a:prstGeom prst="leftRightArrow">
            <a:avLst>
              <a:gd name="adj1" fmla="val 77120"/>
              <a:gd name="adj2" fmla="val 1067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51936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ЯХ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3960" y="1628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0800000">
            <a:off x="684000" y="0"/>
            <a:ext cx="8459640" cy="6858000"/>
          </a:xfrm>
          <a:prstGeom prst="rtTriangle">
            <a:avLst/>
          </a:prstGeom>
          <a:solidFill>
            <a:srgbClr val="4d4d4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7550" t="9984" r="36709" b="40543"/>
          <a:stretch/>
        </p:blipFill>
        <p:spPr>
          <a:xfrm>
            <a:off x="1187280" y="3068640"/>
            <a:ext cx="1873440" cy="249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21040" y="359712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4120" y="5302080"/>
            <a:ext cx="24955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о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23600" y="2468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0"/>
            <a:ext cx="8532720" cy="6858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9 крал чъктъ, кимиси ийи, кимиси кьотю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хепси кьотю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0"/>
            <a:ext cx="853272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684000" y="0"/>
            <a:ext cx="8459640" cy="6858000"/>
          </a:xfrm>
          <a:prstGeom prst="rtTriangl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7550" t="9984" r="36709" b="40543"/>
          <a:stretch/>
        </p:blipFill>
        <p:spPr>
          <a:xfrm>
            <a:off x="1187280" y="3068640"/>
            <a:ext cx="1873440" cy="249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22480" y="357336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4120" y="5302080"/>
            <a:ext cx="24955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о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3600" y="2468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0"/>
            <a:ext cx="8532720" cy="6858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9 крал чъктъ, кимиси ийи, кимиси кьотю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хепси кьотю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21040" y="359712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хепси кьотю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680" y="2755800"/>
            <a:ext cx="9669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д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357720"/>
            <a:ext cx="1000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Ба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9760" y="3933720"/>
            <a:ext cx="7948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6880" y="4508640"/>
            <a:ext cx="9990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им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5084640"/>
            <a:ext cx="8802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м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661000"/>
            <a:ext cx="80568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х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530064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орунунун торунун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ору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86" idx="1"/>
            <a:endCxn id="90" idx="0"/>
          </p:cNvCxnSpPr>
          <p:nvPr/>
        </p:nvCxnSpPr>
        <p:spPr>
          <a:xfrm flipV="1" rot="10800000">
            <a:off x="5131800" y="2450880"/>
            <a:ext cx="1600920" cy="305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692360" y="1989000"/>
            <a:ext cx="166032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22520" y="357336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1160" y="0"/>
            <a:ext cx="49928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2154240" cy="584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9560" y="0"/>
            <a:ext cx="18615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А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5573880"/>
            <a:ext cx="838836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рал Ахав, Сидон халкънън кралъндан онун къзъйла евленди. Онун адъ ИЗЕБ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Раб буну ясак етмишти: “Ябанджъ кадънлар сенин кафанъ бозаджаклар, башка танрълар гетиреджеклер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7846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38960" y="4724280"/>
            <a:ext cx="1625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Ш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65240" y="0"/>
            <a:ext cx="35780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4772160"/>
            <a:ext cx="1224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156360"/>
            <a:ext cx="838836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йнъсъ олду: Изебел кенди путларънъ гетирди – Ахав да онлара тапмая башла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40:18Z</dcterms:created>
  <dc:creator>asd</dc:creator>
  <dc:description/>
  <dc:language>en-US</dc:language>
  <cp:lastModifiedBy>asd</cp:lastModifiedBy>
  <dcterms:modified xsi:type="dcterms:W3CDTF">2009-08-21T00:55:00Z</dcterms:modified>
  <cp:revision>62</cp:revision>
  <dc:subject/>
  <dc:title>ИЛЯС’ън Хаятъ</dc:title>
</cp:coreProperties>
</file>