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639-2CAC-4B71-83E4-69DD2093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DAE-A1F6-4D24-AFDA-9AE182B8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F70-5B68-411F-9F72-A75CE438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3B9-BC5E-4EF2-A658-CC6A48F2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D5D-E068-4B16-83B9-6C63CAC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F5E-7505-42F2-935E-C77A771A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D40-C4C1-44E5-A5D1-E252FA28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F08-E3EA-4D3B-97A3-E185F886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E1A-8070-4105-A307-3EEFF8D6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12F-C7D8-4FEA-A367-5824902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06B-7BD5-4924-9F2C-0E3CC4D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A99-E668-4C6A-8F9E-DC2F7E63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443E-C8D0-4841-BCBA-A5084BF3CC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7480" y="1035000"/>
            <a:ext cx="79232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Неден географяя ьонем верел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Географя ве история Аллахън сьозюне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дюнянън ичиндеки йер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и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Петрус 1: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b2b2b2"/>
                </a:solidFill>
                <a:latin typeface="Arial"/>
              </a:rPr>
              <a:t>Сизе Раббимиз Иса Месихин кувветини ве гелишини билдирмиштик. О вакът курназджа уйдурулмуш </a:t>
            </a:r>
            <a:r>
              <a:rPr b="1" lang="tr-TR" sz="2000" spc="-1" strike="noStrike" u="sng">
                <a:solidFill>
                  <a:srgbClr val="b2b2b2"/>
                </a:solidFill>
                <a:uFillTx/>
                <a:latin typeface="Arial"/>
              </a:rPr>
              <a:t>масалларън пешине таклашмадък</a:t>
            </a:r>
            <a:r>
              <a:rPr b="1" lang="tr-TR" sz="2000" spc="-1" strike="noStrike">
                <a:solidFill>
                  <a:srgbClr val="b2b2b2"/>
                </a:solidFill>
                <a:latin typeface="Arial"/>
              </a:rPr>
              <a:t>. Хайър, биз Онун бюйюклююнюн гьоз шахитлери олдук.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 белки съкъджъдър – ама сонра Аллахън сьозю сенин ичин чок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даа джанлъ ве герчек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ол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уран масалларла долу, кишилери масалла уйуттурмая бакъйорлар. Ама биз олмуш битмиш олайлар анлатъйоруз,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кишилер уянсън дийе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1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202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7480" y="103500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Ен ьонемлис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сааъмъзъ солумузу билел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6120" y="2413080"/>
            <a:ext cx="656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ер картада дюнянън 4 ноктасъ айнъ йер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у стандар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Йукаръ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ЗЕЙ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Сев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аа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ОУ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Изт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шаъ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ГЮНЕЙ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Ю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ол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АТ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Зап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“Кузу доду, гюнеш баттъ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666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Практ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Бу касабалар Бугаристан’ън нересеин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6705720" cy="474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01280" y="3505320"/>
            <a:ext cx="153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А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ЛЕ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ЪРДЖ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Е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ИЛИ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МО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УР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801"/>
                            </p:stCondLst>
                            <p:childTnLst>
                              <p:par>
                                <p:cTn id="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324480" y="137016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Бу касабалар Иран’ън нересеин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3360" y="3352680"/>
            <a:ext cx="227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AB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SHI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RAS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ZAHE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SH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BANDAR-E AB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KERMANSH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QAZ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1241" t="0" r="0" b="0"/>
          <a:stretch/>
        </p:blipFill>
        <p:spPr>
          <a:xfrm>
            <a:off x="0" y="900000"/>
            <a:ext cx="6324480" cy="59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17480" y="1035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Карталарда нелер гьостерилий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600" y="2057400"/>
            <a:ext cx="787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у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(денизлер, гьоллер, ърмаклар) – м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алканлар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– кавере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Дюзлюкле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– йеш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асаба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– кара нокт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ънър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– там я да кесик чиз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Йоллар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– чизги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асаба – санджак (област) – дев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унларън арасъндаки фаркъна диккат едел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улар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алканлар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Дюзлюклер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асаба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ънър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Йол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5520"/>
          <a:stretch/>
        </p:blipFill>
        <p:spPr>
          <a:xfrm>
            <a:off x="0" y="1644480"/>
            <a:ext cx="9144000" cy="5213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7480" y="1035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ИСРАИЛ’ин географясънъ ьоренел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37339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2680" y="1789200"/>
            <a:ext cx="462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ир черчеве ч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Йукаръдан сол ашаъна бир чиз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зун топарлак саа тараф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йнъсънъ даа кючюк йукаръ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кисини бир чизги иле бирлешт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Юч тане чембер юстю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Йукаръда бир топка, ашаъда бир топка бир йълдъ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дларъ 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0120" y="1752480"/>
            <a:ext cx="961920" cy="3886200"/>
          </a:xfrm>
          <a:custGeom>
            <a:avLst/>
            <a:gdLst/>
            <a:ahLst/>
            <a:rect l="l" t="t" r="r" b="b"/>
            <a:pathLst>
              <a:path w="606" h="2448">
                <a:moveTo>
                  <a:pt x="6" y="0"/>
                </a:moveTo>
                <a:lnTo>
                  <a:pt x="606" y="0"/>
                </a:lnTo>
                <a:lnTo>
                  <a:pt x="606" y="90"/>
                </a:lnTo>
                <a:lnTo>
                  <a:pt x="600" y="180"/>
                </a:lnTo>
                <a:lnTo>
                  <a:pt x="588" y="330"/>
                </a:lnTo>
                <a:lnTo>
                  <a:pt x="570" y="474"/>
                </a:lnTo>
                <a:lnTo>
                  <a:pt x="522" y="750"/>
                </a:lnTo>
                <a:lnTo>
                  <a:pt x="474" y="1074"/>
                </a:lnTo>
                <a:lnTo>
                  <a:pt x="426" y="1278"/>
                </a:lnTo>
                <a:lnTo>
                  <a:pt x="372" y="1560"/>
                </a:lnTo>
                <a:lnTo>
                  <a:pt x="342" y="1824"/>
                </a:lnTo>
                <a:lnTo>
                  <a:pt x="318" y="2076"/>
                </a:lnTo>
                <a:lnTo>
                  <a:pt x="288" y="2286"/>
                </a:lnTo>
                <a:lnTo>
                  <a:pt x="258" y="2394"/>
                </a:lnTo>
                <a:lnTo>
                  <a:pt x="204" y="2418"/>
                </a:lnTo>
                <a:lnTo>
                  <a:pt x="114" y="2442"/>
                </a:lnTo>
                <a:lnTo>
                  <a:pt x="42" y="2448"/>
                </a:lnTo>
                <a:lnTo>
                  <a:pt x="0" y="2448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10120"/>
            <a:ext cx="438120" cy="942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4280" y="2419200"/>
            <a:ext cx="247680" cy="352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7640" y="2790720"/>
            <a:ext cx="147600" cy="2266920"/>
          </a:xfrm>
          <a:custGeom>
            <a:avLst/>
            <a:gdLst/>
            <a:ahLst/>
            <a:rect l="l" t="t" r="r" b="b"/>
            <a:pathLst>
              <a:path w="93" h="1428">
                <a:moveTo>
                  <a:pt x="26" y="0"/>
                </a:moveTo>
                <a:cubicBezTo>
                  <a:pt x="32" y="2"/>
                  <a:pt x="39" y="2"/>
                  <a:pt x="44" y="6"/>
                </a:cubicBezTo>
                <a:cubicBezTo>
                  <a:pt x="93" y="39"/>
                  <a:pt x="25" y="67"/>
                  <a:pt x="2" y="90"/>
                </a:cubicBezTo>
                <a:cubicBezTo>
                  <a:pt x="15" y="140"/>
                  <a:pt x="0" y="196"/>
                  <a:pt x="38" y="234"/>
                </a:cubicBezTo>
                <a:cubicBezTo>
                  <a:pt x="42" y="249"/>
                  <a:pt x="55" y="261"/>
                  <a:pt x="56" y="276"/>
                </a:cubicBezTo>
                <a:cubicBezTo>
                  <a:pt x="56" y="281"/>
                  <a:pt x="45" y="358"/>
                  <a:pt x="44" y="366"/>
                </a:cubicBezTo>
                <a:cubicBezTo>
                  <a:pt x="40" y="465"/>
                  <a:pt x="13" y="505"/>
                  <a:pt x="56" y="570"/>
                </a:cubicBezTo>
                <a:cubicBezTo>
                  <a:pt x="52" y="614"/>
                  <a:pt x="58" y="654"/>
                  <a:pt x="50" y="696"/>
                </a:cubicBezTo>
                <a:cubicBezTo>
                  <a:pt x="40" y="940"/>
                  <a:pt x="26" y="1182"/>
                  <a:pt x="26" y="1428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8680" y="4400640"/>
            <a:ext cx="1695600" cy="13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7280" y="3238560"/>
            <a:ext cx="1486080" cy="11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04800" y="2057400"/>
            <a:ext cx="1486080" cy="11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5400" y="4848120"/>
            <a:ext cx="209520" cy="20952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66760" y="2600280"/>
            <a:ext cx="105120" cy="104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57640"/>
            <a:ext cx="104760" cy="104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27440" y="265896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съ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8480" y="51166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ейтлех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200" y="47354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Йерушал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0360" y="21924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ДЖЕЛИ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3520" y="346860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САМИРИЙ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7480" y="45450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ЯХУДИЙ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7400" y="53830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ЬОлю Ден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84560" y="2316240"/>
            <a:ext cx="96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Джелиле Гьо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7400" y="37926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Йорд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3880" y="23734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Акден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39080" y="5146560"/>
            <a:ext cx="305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Хазър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Браво с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3520" y="6018120"/>
            <a:ext cx="1792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1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2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3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4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605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306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907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408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209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1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10"/>
                            </p:stCondLst>
                            <p:childTnLst>
                              <p:par>
                                <p:cTn id="32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5:31:30Z</dcterms:created>
  <dc:creator>Jessica Witmer</dc:creator>
  <dc:description/>
  <dc:language>en-US</dc:language>
  <cp:lastModifiedBy>asd</cp:lastModifiedBy>
  <dcterms:modified xsi:type="dcterms:W3CDTF">2009-06-20T12:34:13Z</dcterms:modified>
  <cp:revision>19</cp:revision>
  <dc:subject/>
  <dc:title>КАРТАЛАР</dc:title>
</cp:coreProperties>
</file>