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51.png" ContentType="image/png"/>
  <Override PartName="/ppt/media/image4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png" ContentType="image/png"/>
  <Override PartName="/ppt/media/image56.jpeg" ContentType="image/jpeg"/>
  <Override PartName="/ppt/media/image32.jpeg" ContentType="image/jpeg"/>
  <Override PartName="/ppt/media/image30.jpeg" ContentType="image/jpeg"/>
  <Override PartName="/ppt/media/image10.png" ContentType="image/png"/>
  <Override PartName="/ppt/media/image36.jpeg" ContentType="image/jpeg"/>
  <Override PartName="/ppt/media/image20.jpeg" ContentType="image/jpeg"/>
  <Override PartName="/ppt/media/image21.jpeg" ContentType="image/jpeg"/>
  <Override PartName="/ppt/media/image80.jpeg" ContentType="image/jpeg"/>
  <Override PartName="/ppt/media/image14.jpeg" ContentType="image/jpeg"/>
  <Override PartName="/ppt/media/image41.jpeg" ContentType="image/jpeg"/>
  <Override PartName="/ppt/media/image17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76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24.jpeg" ContentType="image/jpeg"/>
  <Override PartName="/ppt/media/image82.jpeg" ContentType="image/jpeg"/>
  <Override PartName="/ppt/media/image23.jpeg" ContentType="image/jpeg"/>
  <Override PartName="/ppt/media/image31.png" ContentType="image/png"/>
  <Override PartName="/ppt/media/image2.jpeg" ContentType="image/jpeg"/>
  <Override PartName="/ppt/media/image25.jpeg" ContentType="image/jpeg"/>
  <Override PartName="/ppt/media/image26.jpeg" ContentType="image/jpeg"/>
  <Override PartName="/ppt/media/image38.jpeg" ContentType="image/jpeg"/>
  <Override PartName="/ppt/media/image72.png" ContentType="image/png"/>
  <Override PartName="/ppt/media/image1.png" ContentType="image/png"/>
  <Override PartName="/ppt/media/image52.jpeg" ContentType="image/jpeg"/>
  <Override PartName="/ppt/media/image74.jpeg" ContentType="image/jpeg"/>
  <Override PartName="/ppt/media/image34.png" ContentType="image/pn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38B5-9E3A-45F6-94CD-C2B4BC5D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45D5-56FE-4D10-A7DE-51FA07FA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C116-DDAB-4927-B874-1875D871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7219-888D-4577-BE34-924FDAD4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5C6-9787-408B-919F-0F842C7B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9949-943C-4EE1-BE27-26298CCF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D4E1-B101-46C6-BB8D-61F7A5D0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D0A7-FA0F-4EE4-ACD3-6E9CB30A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4EC1-DCC9-4466-920C-1628782B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4779-229D-48E4-946C-A22B5B67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CECF-1C0B-4CF2-AEE3-DD52A679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0DC7-E1C9-4DA1-8479-FF62D99A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5900-2C75-475F-926A-75C0865DD1D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2.jpeg"/><Relationship Id="rId4" Type="http://schemas.openxmlformats.org/officeDocument/2006/relationships/image" Target="../media/image34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9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2.jpeg"/><Relationship Id="rId4" Type="http://schemas.openxmlformats.org/officeDocument/2006/relationships/image" Target="../media/image71.jpe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2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6.jpeg"/><Relationship Id="rId3" Type="http://schemas.openxmlformats.org/officeDocument/2006/relationships/image" Target="../media/image78.jpeg"/><Relationship Id="rId4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6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180360" cy="1152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6600"/>
                </a:solidFill>
                <a:latin typeface="Bookman Old Style"/>
              </a:rPr>
              <a:t>3 принципа за изграждане на </a:t>
            </a:r>
            <a:br>
              <a:rPr sz="3200"/>
            </a:br>
            <a:r>
              <a:rPr b="1" i="1" lang="bg-BG" sz="3200" spc="-1" strike="noStrike">
                <a:solidFill>
                  <a:srgbClr val="66ff33"/>
                </a:solidFill>
                <a:latin typeface="Bookman Old Style"/>
              </a:rPr>
              <a:t>ЗДРАВА ЦЪР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590840"/>
            <a:ext cx="4859280" cy="9471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21236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Не само един пасто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а </a:t>
            </a: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няколко ръковод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27400"/>
            <a:ext cx="4859280" cy="13737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21236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buClr>
                <a:srgbClr val="ffcc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Не за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хуманитарната помощ в църква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да за </a:t>
            </a: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самоотговорност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335560"/>
            <a:ext cx="4932360" cy="9471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21236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3) Не само песн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а внимание към </a:t>
            </a: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Библия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076720" y="1569960"/>
            <a:ext cx="1366920" cy="1057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631280" y="1547640"/>
            <a:ext cx="1512720" cy="1101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91280" y="1341360"/>
            <a:ext cx="99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cc6600"/>
                </a:solidFill>
                <a:latin typeface="Arial"/>
              </a:rPr>
              <a:t>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16720" y="1908000"/>
            <a:ext cx="1152360" cy="287640"/>
          </a:xfrm>
          <a:custGeom>
            <a:avLst/>
            <a:gdLst>
              <a:gd name="textAreaLeft" fmla="*/ 144000 w 1152360"/>
              <a:gd name="textAreaRight" fmla="*/ 1008360 w 115236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5689440"/>
            <a:ext cx="1152720" cy="28764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16720" y="3774960"/>
            <a:ext cx="1152360" cy="287280"/>
          </a:xfrm>
          <a:custGeom>
            <a:avLst/>
            <a:gdLst>
              <a:gd name="textAreaLeft" fmla="*/ 144000 w 1152360"/>
              <a:gd name="textAreaRight" fmla="*/ 1008360 w 115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92720" y="33148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7818480" y="3343320"/>
            <a:ext cx="1098360" cy="1195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64000" y="3125880"/>
            <a:ext cx="99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cc6600"/>
                </a:solidFill>
                <a:latin typeface="Arial"/>
              </a:rPr>
              <a:t>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7"/>
          <a:srcRect l="2213" t="2029" r="4034" b="4314"/>
          <a:stretch/>
        </p:blipFill>
        <p:spPr>
          <a:xfrm>
            <a:off x="7885080" y="5181480"/>
            <a:ext cx="1011240" cy="1300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5375160" y="5114880"/>
            <a:ext cx="1109880" cy="1411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435640" y="5041800"/>
            <a:ext cx="99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cc6600"/>
                </a:solidFill>
                <a:latin typeface="Arial"/>
              </a:rPr>
              <a:t>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119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1224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СТРАХ И НАСЪРЧЕНИЕ</a:t>
            </a:r>
            <a:br>
              <a:rPr sz="3200"/>
            </a:br>
            <a:r>
              <a:rPr b="0" i="1" lang="bg-BG" sz="2800" spc="-1" strike="noStrike">
                <a:solidFill>
                  <a:srgbClr val="ffcc00"/>
                </a:solidFill>
                <a:latin typeface="Arial Black"/>
              </a:rPr>
              <a:t>за онези, които искат да бъдат лид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1197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Обърнете внимание: да бъдеш лидер не е играчка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0360" y="1850760"/>
            <a:ext cx="8675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Езекиел 34 2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ине човешки, пророкувай против израилевите пастири, пророкувай и им кажи: Така казва Господ Бог на пастирите: “Горко на израилевите пастири, които пасат себе си!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Не трябва ли пастирите да пасат стадото?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Не подкрепихте немощната и не изцелихте болната, и не превързахте ранената, и не върнахте заблудената, и не потърсихте изгубената; а със сила властвахте над тях и с жестокост. И те се разпръснаха, защото нямаше пастир, и станаха храна на всички полски зверове, и се разпръснаха. Моите овце се скитат по всички планини и по всеки висок хълм, по цялата земя се разпръснаха овцете Ми и няма кой да ги потърси и да попита за тях.” Затова, пастири, слушайте ГОСПОДНОТО слово! Затова, пастири, слушайте Господното слово! Така казва Господ Бог: Аз съм против пастиритеи ще </a:t>
            </a:r>
            <a:r>
              <a:rPr b="0" lang="bg-BG" sz="2000" spc="-1" strike="noStrike">
                <a:solidFill>
                  <a:srgbClr val="ffff00"/>
                </a:solidFill>
                <a:latin typeface="Arial"/>
              </a:rPr>
              <a:t>изисквам овцете си от ръцете им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и ще направя да престанат да пасат овцете ми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801"/>
                            </p:stCondLst>
                            <p:childTnLst>
                              <p:par>
                                <p:cTn id="913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91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1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119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50920" y="1940400"/>
            <a:ext cx="86756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Йоан  10: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11 Аз съм добрият пастир; добрият пастир дава живота Си за овце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12 Но който е наемник, а не овчар, и не е стопанин на овцете, вижда, че идва вълкът, и като оставя овцете, бяга, и вълкът ги разграбва и разпръсва; 13 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защото е наемник и не го е грижа за овц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012000" y="3860640"/>
            <a:ext cx="2663640" cy="2160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2664000" cy="21607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3276720" y="3932280"/>
            <a:ext cx="2452680" cy="20764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18560" y="60930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Не пази овц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610092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Само извлича полза от овц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24360" y="6093000"/>
            <a:ext cx="34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Гледа единствено своето споко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12240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СТРАХ И НАСЪРЧЕНИЕ</a:t>
            </a:r>
            <a:br>
              <a:rPr sz="3200"/>
            </a:br>
            <a:r>
              <a:rPr b="0" i="1" lang="bg-BG" sz="2800" spc="-1" strike="noStrike">
                <a:solidFill>
                  <a:srgbClr val="ffcc00"/>
                </a:solidFill>
                <a:latin typeface="Arial Black"/>
              </a:rPr>
              <a:t>за онези, които искат да бъдат лид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1197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Обърнете внимание: да бъдеш лидер не е играчка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801"/>
                            </p:stCondLst>
                            <p:childTnLst>
                              <p:par>
                                <p:cTn id="934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93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3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119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68360" y="1843560"/>
            <a:ext cx="403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1.Тимотейус 3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Вярно е това слово: ако някой се стреми към надзорничество, добро дело желае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."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61080" y="1843560"/>
            <a:ext cx="42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1.Петрус 5: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И когато се яви Пастироначалникът, ще получите венеца на славата, който не повяхва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724360" y="378936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3338280" cy="21589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12240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СТРАХ И НАСЪРЧЕНИЕ</a:t>
            </a:r>
            <a:br>
              <a:rPr sz="3200"/>
            </a:br>
            <a:r>
              <a:rPr b="0" i="1" lang="bg-BG" sz="2800" spc="-1" strike="noStrike">
                <a:solidFill>
                  <a:srgbClr val="ffcc00"/>
                </a:solidFill>
                <a:latin typeface="Arial Black"/>
              </a:rPr>
              <a:t>за онези, които искат да бъдат лид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1197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Обърнете внимание: да бъдеш лидер не е играчка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801"/>
                            </p:stCondLst>
                            <p:childTnLst>
                              <p:par>
                                <p:cTn id="994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99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9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9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9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140360" y="549360"/>
            <a:ext cx="5040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333399"/>
                </a:solidFill>
                <a:latin typeface="Arial"/>
              </a:rPr>
              <a:t>КАК СЕ ВОДИ ЕДНА ЦЪРКВА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1) Водачество чрез ГОВОР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68360" y="3718080"/>
            <a:ext cx="1758960" cy="2447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6399360" y="3619440"/>
            <a:ext cx="2493720" cy="2689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2916360" y="4100400"/>
            <a:ext cx="2736720" cy="24098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6012000" y="3209760"/>
            <a:ext cx="1728720" cy="16592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93000" y="62118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мимб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765000"/>
            <a:ext cx="8135640" cy="27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cc00"/>
                </a:solidFill>
                <a:latin typeface="Comic Sans MS"/>
              </a:rPr>
              <a:t>Болестта ‘Амвон’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хората </a:t>
            </a:r>
            <a:r>
              <a:rPr b="1" lang="bg-BG" sz="2200" spc="-1" strike="noStrike" u="sng">
                <a:solidFill>
                  <a:srgbClr val="ffffff"/>
                </a:solidFill>
                <a:uFillTx/>
                <a:latin typeface="Arial"/>
              </a:rPr>
              <a:t>са длъжни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да ни слуша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амвонът автоматично предава авторитет на думите 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като че ли не можем да сме лидери без амвон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често говроим без да мислим и без подготов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чрез изобличаване покриваме липсващите ни знания и подготов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124000" y="907920"/>
            <a:ext cx="51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1. </a:t>
            </a:r>
            <a:r>
              <a:rPr b="1" lang="bg-BG" sz="3200" spc="-1" strike="noStrike">
                <a:solidFill>
                  <a:srgbClr val="ffcc00"/>
                </a:solidFill>
                <a:latin typeface="Arial"/>
              </a:rPr>
              <a:t>Проповядв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316560" y="1773360"/>
            <a:ext cx="1927440" cy="14000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940360" y="5157720"/>
            <a:ext cx="2592360" cy="1656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6732720" y="3573360"/>
            <a:ext cx="1927080" cy="14004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867280" y="3573360"/>
            <a:ext cx="1325520" cy="14097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flipV="1">
            <a:off x="5580000" y="2060280"/>
            <a:ext cx="3313080" cy="576360"/>
          </a:xfrm>
          <a:prstGeom prst="line">
            <a:avLst/>
          </a:prstGeom>
          <a:ln w="82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1) Водачество чрез ГОВОР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4000" y="1555920"/>
            <a:ext cx="511164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Видове проповеди: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ТЕМАтична проповед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(например: “Божията любов и светската любов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2) Проповед върху </a:t>
            </a: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ЕДИН СТИХ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(например:  Йоан 14:6  “Аз съм пътят, истината, живота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РАЗЯСНЯВАЩА проповед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 (например:  Рим 5:1-5  “Преимуществата на спасението”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0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Arial"/>
              </a:rPr>
              <a:t>Защо да поучаваме Божието слово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3680" y="1338120"/>
            <a:ext cx="6984720" cy="436896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Arial"/>
              </a:rPr>
              <a:t>2.Тим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de-DE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bg-BG" sz="4000" spc="-1" strike="noStrike">
                <a:solidFill>
                  <a:srgbClr val="ffff00"/>
                </a:solidFill>
                <a:latin typeface="Arial"/>
              </a:rPr>
              <a:t>16-17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Цялата Библия идва от Божия дъх и е полезна за: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поучаван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изоблича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поправяне на живота ни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възпитаване по пътя на доброто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за д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51280" y="342576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Н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56360" y="390528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ХАРАК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234560" y="493884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СМЕЛО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03280" y="440856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РЕ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1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6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8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0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77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7" dur="770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9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1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77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8" dur="770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0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2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77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9" dur="770" fill="hold"/>
                                        <p:tgtEl>
                                          <p:spTgt spid="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1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3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Arial"/>
              </a:rPr>
              <a:t>Защо да поучаваме Божието слово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981000"/>
            <a:ext cx="9144000" cy="223524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872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Arial"/>
              </a:rPr>
              <a:t>2.Тим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de-DE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bg-BG" sz="4000" spc="-1" strike="noStrike">
                <a:solidFill>
                  <a:srgbClr val="ffff00"/>
                </a:solidFill>
                <a:latin typeface="Arial"/>
              </a:rPr>
              <a:t>16-17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 u="sng">
                <a:solidFill>
                  <a:srgbClr val="ffff00"/>
                </a:solidFill>
                <a:uFillTx/>
                <a:latin typeface="Arial"/>
              </a:rPr>
              <a:t>Цялата Библия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 идва от Божия дъх и е полезна за: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 поучаването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изобличаване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поправяне на живота ни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възпитаване по пътя на доброто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за да бъде Божият човек усъвършенстван,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съвършено подготвен за всяко добро дело.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79320" y="400356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НАНИЕ 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- гл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79560" y="4653000"/>
            <a:ext cx="26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ХАРАКТЕР 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- 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64720" y="587700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СМЕЛОСТ 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- ръ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378440" y="524664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РЕШЕНИЕ 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- кр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88000" y="3645000"/>
            <a:ext cx="1646280" cy="1655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5083200" y="5445000"/>
            <a:ext cx="2225520" cy="11876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rcRect l="0" t="34521" r="0" b="0"/>
          <a:stretch/>
        </p:blipFill>
        <p:spPr>
          <a:xfrm>
            <a:off x="6588000" y="3645000"/>
            <a:ext cx="2376720" cy="11649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7451640" y="4941720"/>
            <a:ext cx="1474920" cy="170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0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5" dur="77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6" dur="770" fill="hold"/>
                                        <p:tgtEl>
                                          <p:spTgt spid="2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8" dur="77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0" dur="77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77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3" dur="770" fill="hold"/>
                                        <p:tgtEl>
                                          <p:spTgt spid="2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5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7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77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0" dur="770" fill="hold"/>
                                        <p:tgtEl>
                                          <p:spTgt spid="2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2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4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77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7" dur="77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9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1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Arial"/>
              </a:rPr>
              <a:t>Къде трябва да поучаваме Божието слов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5940360" y="1052640"/>
            <a:ext cx="3203640" cy="21351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2916360" y="1031760"/>
            <a:ext cx="3095640" cy="20368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250920" y="1052640"/>
            <a:ext cx="2448000" cy="20066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5"/>
          <a:stretch/>
        </p:blipFill>
        <p:spPr>
          <a:xfrm>
            <a:off x="6680160" y="3352680"/>
            <a:ext cx="2463840" cy="35053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6"/>
          <a:stretch/>
        </p:blipFill>
        <p:spPr>
          <a:xfrm>
            <a:off x="250920" y="3213000"/>
            <a:ext cx="2193840" cy="17370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7"/>
          <a:stretch/>
        </p:blipFill>
        <p:spPr>
          <a:xfrm>
            <a:off x="276120" y="5157720"/>
            <a:ext cx="2063880" cy="1548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692360" y="2708280"/>
            <a:ext cx="6119640" cy="383508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Arial"/>
              </a:rPr>
              <a:t>Второзаконие 6</a:t>
            </a:r>
            <a:r>
              <a:rPr b="1" lang="de-DE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bg-BG" sz="4000" spc="-1" strike="noStrike">
                <a:solidFill>
                  <a:srgbClr val="ffff00"/>
                </a:solidFill>
                <a:latin typeface="Arial"/>
              </a:rPr>
              <a:t>6-7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И тези думи, които днес ти заповядвам, да бъдат в сърцето ти и на тях да учиш усърдно синовете 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за тях да говориш, когато седиш в дома си, когато ходиш по път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когато лягаш и когато става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0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500"/>
                            </p:stCondLst>
                            <p:childTnLst>
                              <p:par>
                                <p:cTn id="1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1801"/>
                            </p:stCondLst>
                            <p:childTnLst>
                              <p:par>
                                <p:cTn id="1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2301"/>
                            </p:stCondLst>
                            <p:childTnLst>
                              <p:par>
                                <p:cTn id="13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6502"/>
                            </p:stCondLst>
                            <p:childTnLst>
                              <p:par>
                                <p:cTn id="1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7002"/>
                            </p:stCondLst>
                            <p:childTnLst>
                              <p:par>
                                <p:cTn id="137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9803"/>
                            </p:stCondLst>
                            <p:childTnLst>
                              <p:par>
                                <p:cTn id="1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10303"/>
                            </p:stCondLst>
                            <p:childTnLst>
                              <p:par>
                                <p:cTn id="13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11304"/>
                            </p:stCondLst>
                            <p:childTnLst>
                              <p:par>
                                <p:cTn id="1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124000" y="907920"/>
            <a:ext cx="51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bg-BG" sz="3200" spc="-1" strike="noStrike">
                <a:solidFill>
                  <a:srgbClr val="ffcc00"/>
                </a:solidFill>
                <a:latin typeface="Arial"/>
              </a:rPr>
              <a:t>БИБЛЕЙСКИ УРО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1) Водачество чрез ГОВОР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9280" y="1592280"/>
            <a:ext cx="5543640" cy="48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Къде се провеждат Библейските уроци</a:t>
            </a:r>
            <a:r>
              <a:rPr b="0" lang="bg-BG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На цялата църква 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(например: Деян 2:46 “единодушно в Божия дом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На домашни групи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- (например:  Апо 2:46  “по къщите си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Поединично -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(например:  Деян 18:24-26  “Аквила / Прискила и Аполос”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300720" y="2997360"/>
            <a:ext cx="2228760" cy="1527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6300720" y="4735440"/>
            <a:ext cx="2303640" cy="18446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6300720" y="1546200"/>
            <a:ext cx="2232000" cy="1231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flipV="1">
            <a:off x="4716360" y="2565360"/>
            <a:ext cx="1368360" cy="5032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859280" y="4076640"/>
            <a:ext cx="1225440" cy="4320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500720" y="5157720"/>
            <a:ext cx="1655640" cy="5032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0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500"/>
                            </p:stCondLst>
                            <p:childTnLst>
                              <p:par>
                                <p:cTn id="14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Как се изгражда една църк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41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3840" y="196056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126828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98560" y="2421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2560" y="141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1844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49228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78600" y="388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25880" y="4219560"/>
            <a:ext cx="64800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12040" y="4392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73880" y="421956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2200" y="196056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00760" y="472428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35680" y="472428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64400" y="472428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72040" y="472428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5013" t="0" r="43622" b="6683"/>
          <a:stretch/>
        </p:blipFill>
        <p:spPr>
          <a:xfrm>
            <a:off x="2916360" y="2475000"/>
            <a:ext cx="1439640" cy="1962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351560" y="2635200"/>
            <a:ext cx="1541520" cy="1800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rcRect l="5013" t="0" r="2493" b="6683"/>
          <a:stretch/>
        </p:blipFill>
        <p:spPr>
          <a:xfrm>
            <a:off x="2916360" y="2475000"/>
            <a:ext cx="2592360" cy="1962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57480" y="907920"/>
            <a:ext cx="698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. Една стабилна църква избира евангелизатор, когото изпращ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19640" y="1736640"/>
            <a:ext cx="44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. Той отива и сее Божието сл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2295360"/>
            <a:ext cx="33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. Ако хората се покаят той ги покръ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95640" y="3213000"/>
            <a:ext cx="41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. Подготвя за лидер някой от повярвал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407664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. Когато новата църква се стабилизира отива на друго мя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4356000" y="4896000"/>
            <a:ext cx="1440000" cy="196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01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1"/>
                            </p:stCondLst>
                            <p:childTnLst>
                              <p:par>
                                <p:cTn id="1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7989E-006 L 0.26788 0.19255 E">
                                      <p:cBhvr>
                                        <p:cTn id="142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1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1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501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7001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501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501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1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501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1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1"/>
                            </p:stCondLst>
                            <p:childTnLst>
                              <p:par>
                                <p:cTn id="21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1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1"/>
                            </p:stCondLst>
                            <p:childTnLst>
                              <p:par>
                                <p:cTn id="21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2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501"/>
                            </p:stCondLst>
                            <p:childTnLst>
                              <p:par>
                                <p:cTn id="22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1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501"/>
                            </p:stCondLst>
                            <p:childTnLst>
                              <p:par>
                                <p:cTn id="23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10541E-006 L -0.51771 4.10541E-006 E">
                                      <p:cBhvr>
                                        <p:cTn id="237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1) Водачество чрез ГОВОР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95280" y="1254240"/>
            <a:ext cx="845964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Откъде сме получили нашите учения ?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9640" y="2060640"/>
            <a:ext cx="8064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От Библията, от някакъв устав или от някакъв чове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Един пример:  граждански брак или църковен бр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5580000" y="4441680"/>
            <a:ext cx="2583000" cy="19926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1187280" y="4440240"/>
            <a:ext cx="2592720" cy="194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0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cc00"/>
                </a:solidFill>
                <a:latin typeface="Arial Black"/>
              </a:rPr>
              <a:t>(1) Водачество чрез ГОВОРЕ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4720" y="981000"/>
            <a:ext cx="846000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Откъде сме получили нашите учения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2060640"/>
            <a:ext cx="80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Ромските църкви в България трябват да намерят собствените си учения удобни на ромската кул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95080" y="3879720"/>
            <a:ext cx="226872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ПОГРЕБ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44720" y="4795920"/>
            <a:ext cx="160884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КАЗА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1280" y="5661000"/>
            <a:ext cx="3168720" cy="825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ЦЪРКОВНА ОРГА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82880" y="3789360"/>
            <a:ext cx="126108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ПЕС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5600" y="6021360"/>
            <a:ext cx="15354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СЮН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5240" y="5300640"/>
            <a:ext cx="169848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РА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26880" y="4508640"/>
            <a:ext cx="205524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ЛОХУСАЛЪ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84720" y="3357720"/>
            <a:ext cx="2089440" cy="825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ГОСПОДНА ВЕЧ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04000" y="4508640"/>
            <a:ext cx="2089080" cy="825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ВОДНО КРЪ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77080" y="5734080"/>
            <a:ext cx="1728720" cy="825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КОЛЕДА -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0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500"/>
                            </p:stCondLst>
                            <p:childTnLst>
                              <p:par>
                                <p:cTn id="1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6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3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3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2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8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9500"/>
                            </p:stCondLst>
                            <p:childTnLst>
                              <p:par>
                                <p:cTn id="1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6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2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8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0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1) Водачество чрез ГОВОР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7596360" y="3402000"/>
            <a:ext cx="1439640" cy="1441440"/>
            <a:chOff x="7596360" y="3402000"/>
            <a:chExt cx="1439640" cy="1441440"/>
          </a:xfrm>
        </p:grpSpPr>
        <p:sp>
          <p:nvSpPr>
            <p:cNvPr id="324" name=""/>
            <p:cNvSpPr/>
            <p:nvPr/>
          </p:nvSpPr>
          <p:spPr>
            <a:xfrm>
              <a:off x="7596360" y="3402000"/>
              <a:ext cx="1439640" cy="1441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5" name="" descr=""/>
            <p:cNvPicPr/>
            <p:nvPr/>
          </p:nvPicPr>
          <p:blipFill>
            <a:blip r:embed="rId2"/>
            <a:stretch/>
          </p:blipFill>
          <p:spPr>
            <a:xfrm>
              <a:off x="7596360" y="3402000"/>
              <a:ext cx="1439640" cy="14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"/>
          <p:cNvSpPr/>
          <p:nvPr/>
        </p:nvSpPr>
        <p:spPr>
          <a:xfrm>
            <a:off x="1403280" y="9079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ЛИЧНО ОБЩЕНИЕ С ХО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1844640"/>
            <a:ext cx="525600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2.Тим 4:</a:t>
            </a:r>
            <a:r>
              <a:rPr b="1" lang="tr-TR" sz="2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проповядвай словото</a:t>
            </a:r>
            <a:r>
              <a:rPr b="1" lang="tr-TR" sz="2600" spc="-1" strike="noStrike">
                <a:solidFill>
                  <a:srgbClr val="ff99ff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75"/>
              </a:spcAft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бъди готов в подходящо и неподходящо врем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75"/>
              </a:spcAft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изобличавай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75"/>
              </a:spcAft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порицавай</a:t>
            </a:r>
            <a:r>
              <a:rPr b="1" lang="tr-TR" sz="2600" spc="-1" strike="noStrike">
                <a:solidFill>
                  <a:srgbClr val="ff99ff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75"/>
              </a:spcAft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насърчавай</a:t>
            </a:r>
            <a:r>
              <a:rPr b="1" lang="tr-TR" sz="2600" spc="-1" strike="noStrike">
                <a:solidFill>
                  <a:srgbClr val="ff99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Върши това непрекъснато и с голямо търпение</a:t>
            </a:r>
            <a:r>
              <a:rPr b="1" lang="tr-TR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6012000" y="3403440"/>
            <a:ext cx="1371600" cy="14400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6515280" y="1690560"/>
            <a:ext cx="2087280" cy="15652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6546960" y="4957920"/>
            <a:ext cx="2128680" cy="178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91" dur="indefinite" restart="never" nodeType="tmRoot">
          <p:childTnLst>
            <p:seq>
              <p:cTn id="1592" dur="indefinite" nodeType="mainSeq">
                <p:childTnLst>
                  <p:par>
                    <p:cTn id="1593" fill="hold">
                      <p:stCondLst>
                        <p:cond delay="0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500"/>
                            </p:stCondLst>
                            <p:childTnLst>
                              <p:par>
                                <p:cTn id="16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500"/>
                            </p:stCondLst>
                            <p:childTnLst>
                              <p:par>
                                <p:cTn id="16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500"/>
                            </p:stCondLst>
                            <p:childTnLst>
                              <p:par>
                                <p:cTn id="16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1" i="1" lang="de-DE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) Водачество чрез 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16000" y="3645000"/>
            <a:ext cx="8964360" cy="30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00"/>
                </a:solidFill>
                <a:latin typeface="Arial"/>
              </a:rPr>
              <a:t>Конрад Лоренц и гъски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Австрийският биолог Лоренц прекара живота си с гъските, научи всичко относно 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Гъските се “залепват” за първото нещо, което виждат при излюпването си, смятайки го за майка 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bbe0e3"/>
                </a:solidFill>
                <a:latin typeface="Arial"/>
              </a:rPr>
              <a:t>В духовния живот е същото: новоповярвалите няма да обръщат много внимание на думите ни отколкото на деянията ни. Ние се превръщаме в техния стандарт за срав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828720" y="955800"/>
            <a:ext cx="3600360" cy="25444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4716360" y="979560"/>
            <a:ext cx="3527640" cy="252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0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500"/>
                            </p:stCondLst>
                            <p:childTnLst>
                              <p:par>
                                <p:cTn id="16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1" i="1" lang="de-DE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) Водачество чрез 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1197000"/>
            <a:ext cx="525636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00"/>
                </a:solidFill>
                <a:latin typeface="Arial"/>
              </a:rPr>
              <a:t>1.Тим 4:1</a:t>
            </a:r>
            <a:r>
              <a:rPr b="1" lang="tr-TR" sz="2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tr-TR" sz="2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икой да не презира твоята младост; но ти бъди на вярващите прим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99ff"/>
                </a:solidFill>
                <a:latin typeface="Arial"/>
              </a:rPr>
              <a:t>в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99ff"/>
                </a:solidFill>
                <a:latin typeface="Arial"/>
              </a:rPr>
              <a:t>в по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99ff"/>
                </a:solidFill>
                <a:latin typeface="Arial"/>
              </a:rPr>
              <a:t>в лю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99ff"/>
                </a:solidFill>
                <a:latin typeface="Arial"/>
              </a:rPr>
              <a:t>във вя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99ff"/>
                </a:solidFill>
                <a:latin typeface="Arial"/>
              </a:rPr>
              <a:t>в чист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0" y="44280"/>
            <a:ext cx="4968720" cy="2448000"/>
          </a:xfrm>
          <a:prstGeom prst="wedgeRoundRectCallout">
            <a:avLst>
              <a:gd name="adj1" fmla="val -41597"/>
              <a:gd name="adj2" fmla="val 77560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Какво излиза от устата м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словение ли, проклятие ли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Лъжа ли, истина ли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Утешителни думи ли, нараняващи думи 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съждащи думи ли, прощаващи думи 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46080"/>
            <a:ext cx="4643280" cy="2087640"/>
          </a:xfrm>
          <a:prstGeom prst="wedgeRoundRectCallout">
            <a:avLst>
              <a:gd name="adj1" fmla="val 21384"/>
              <a:gd name="adj2" fmla="val 71523"/>
              <a:gd name="adj3" fmla="val 166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Как ме познават хорат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кротък ли, скандалджия 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избухлив ли, търпелив 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праведлив ли, търсещ своя интерес 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остоянстващ ли, променлив ли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2133720"/>
            <a:ext cx="5148360" cy="2376360"/>
          </a:xfrm>
          <a:prstGeom prst="wedgeRoundRectCallout">
            <a:avLst>
              <a:gd name="adj1" fmla="val -18916"/>
              <a:gd name="adj2" fmla="val 6295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Живея ли като вярващ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вярвам ли, че хората могат да израснат във вяра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чрез вяра ли живея или доверявайки се на хорат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аправил ли съм крачка в духовния си живо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4797360"/>
            <a:ext cx="9144000" cy="1800360"/>
          </a:xfrm>
          <a:prstGeom prst="wedgeRoundRectCallout">
            <a:avLst>
              <a:gd name="adj1" fmla="val -33037"/>
              <a:gd name="adj2" fmla="val -67194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Наистина чист ли съм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кото ми чисто ли е, мръсно ли 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два живота ли водя - един живот като вярващ и един светски живо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що живея чист живот: защото се страхувам от хората или защото се страхувам от Бог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40360" y="2563920"/>
            <a:ext cx="4140000" cy="2089080"/>
          </a:xfrm>
          <a:prstGeom prst="wedgeRoundRectCallout">
            <a:avLst>
              <a:gd name="adj1" fmla="val -4564"/>
              <a:gd name="adj2" fmla="val -26217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Аз кого оби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амо онези, които ме обичат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ощавам ли на хора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що искам да съм лидер: понеже обичам хората или искам да съм уважава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26" dur="indefinite" restart="never" nodeType="tmRoot">
          <p:childTnLst>
            <p:seq>
              <p:cTn id="1727" dur="indefinite" nodeType="mainSeq">
                <p:childTnLst>
                  <p:par>
                    <p:cTn id="1728" fill="hold">
                      <p:stCondLst>
                        <p:cond delay="0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1" i="1" lang="de-DE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) Водачество чрез 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5280" y="1628640"/>
            <a:ext cx="5616720" cy="27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00"/>
                </a:solidFill>
                <a:latin typeface="Arial"/>
              </a:rPr>
              <a:t>2.Тим. 2:</a:t>
            </a:r>
            <a:r>
              <a:rPr b="1" lang="tr-TR" sz="2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tr-TR" sz="2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Бирчок шахитлерин ьонюнде бенден чок шейлер ишиттин. Бунларъ садикан кишилере еманет ет. Ве онлар да бунларъ башкаларъна ьоретирмейе хазър олсунлар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4720" y="981000"/>
            <a:ext cx="84600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Arial"/>
              </a:rPr>
              <a:t>ОБУЧАВАНЕ НА НОВО ПОКОЛЕНИЕ ЛИДЕ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83480" y="1844640"/>
            <a:ext cx="1604880" cy="4291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333399"/>
                </a:solidFill>
                <a:latin typeface="Arial"/>
              </a:rPr>
              <a:t>ПАВ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38760" y="3213000"/>
            <a:ext cx="1965600" cy="4291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333399"/>
                </a:solidFill>
                <a:latin typeface="Arial"/>
              </a:rPr>
              <a:t>ТИМО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04000" y="4529160"/>
            <a:ext cx="1604880" cy="764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333399"/>
                </a:solidFill>
                <a:latin typeface="Arial"/>
              </a:rPr>
              <a:t>ВЕРНИ Х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659640" y="6021360"/>
            <a:ext cx="1942920" cy="4291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333399"/>
                </a:solidFill>
                <a:latin typeface="Arial"/>
              </a:rPr>
              <a:t>ДРУ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524720" y="2276640"/>
            <a:ext cx="0" cy="865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24720" y="3643200"/>
            <a:ext cx="0" cy="8654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524720" y="5227560"/>
            <a:ext cx="0" cy="8654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2843280" y="4384800"/>
            <a:ext cx="2950920" cy="24019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047240" y="4653000"/>
            <a:ext cx="22014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66ff"/>
                </a:solidFill>
                <a:latin typeface="Arial"/>
              </a:rPr>
              <a:t>Но КЪ-ДЕ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0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500"/>
                            </p:stCondLst>
                            <p:childTnLst>
                              <p:par>
                                <p:cTn id="18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0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500"/>
                            </p:stCondLst>
                            <p:childTnLst>
                              <p:par>
                                <p:cTn id="18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8500"/>
                            </p:stCondLst>
                            <p:childTnLst>
                              <p:par>
                                <p:cTn id="18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84360" y="90792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cff33"/>
                </a:solidFill>
                <a:latin typeface="Arial"/>
              </a:rPr>
              <a:t>Те не израстват като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0920" y="1666800"/>
            <a:ext cx="8459640" cy="49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33cc33"/>
                </a:solidFill>
                <a:latin typeface="Arial"/>
              </a:rPr>
              <a:t>Как беше по наше време?</a:t>
            </a:r>
            <a:r>
              <a:rPr b="1" lang="bg-BG" sz="3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държавата мислеше за всичк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Образователна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Здравна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Работни м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Aft>
                <a:spcPts val="1400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Вака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.... Накратк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животът ни беше опреде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може би бяхме по затворите, но поне имаше изобилна хр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6586560" y="3573360"/>
            <a:ext cx="1546200" cy="15843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643280" y="3557520"/>
            <a:ext cx="1651320" cy="16002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1" i="1" lang="de-DE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) да разберем нашите МЛАДЕ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0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500"/>
                            </p:stCondLst>
                            <p:childTnLst>
                              <p:par>
                                <p:cTn id="19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500"/>
                            </p:stCondLst>
                            <p:childTnLst>
                              <p:par>
                                <p:cTn id="19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95280" y="981000"/>
            <a:ext cx="845964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cc33"/>
                </a:solidFill>
                <a:latin typeface="Arial"/>
              </a:rPr>
              <a:t>Но как е ситуацията днес?</a:t>
            </a: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вече за всичко трябва да се полагат много усил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училище, работа, бол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преди човек лесно живееше без да мисли и без да полага уси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но нашите младежи трябва да взимат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животът се превърна в главобол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372360" y="3789360"/>
            <a:ext cx="2268360" cy="29624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1" i="1" lang="de-DE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) да разберем нашите МЛАДЕ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0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500"/>
                            </p:stCondLst>
                            <p:childTnLst>
                              <p:par>
                                <p:cTn id="19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fill="hold">
                      <p:stCondLst>
                        <p:cond delay="indefinite"/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49440" y="119700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cc33"/>
                </a:solidFill>
                <a:latin typeface="Arial"/>
              </a:rPr>
              <a:t>Материализъ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5076720" y="1835280"/>
            <a:ext cx="2746440" cy="20066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2735280" cy="19447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419640" y="2637000"/>
            <a:ext cx="1871640" cy="0"/>
          </a:xfrm>
          <a:prstGeom prst="line">
            <a:avLst/>
          </a:prstGeom>
          <a:ln w="507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414972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cc33"/>
                </a:solidFill>
                <a:latin typeface="Arial"/>
              </a:rPr>
              <a:t>Излишни разх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6372360" y="4149720"/>
            <a:ext cx="1749240" cy="23302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1258920" y="4797360"/>
            <a:ext cx="2089080" cy="17668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5"/>
          <a:stretch/>
        </p:blipFill>
        <p:spPr>
          <a:xfrm>
            <a:off x="3780000" y="4869000"/>
            <a:ext cx="2232000" cy="16714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1" i="1" lang="de-DE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) да разберем нашите МЛАДЕ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6" dur="indefinite" restart="never" nodeType="tmRoot">
          <p:childTnLst>
            <p:seq>
              <p:cTn id="1997" dur="indefinite" nodeType="mainSeq">
                <p:childTnLst>
                  <p:par>
                    <p:cTn id="1998" fill="hold">
                      <p:stCondLst>
                        <p:cond delay="0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fill="hold">
                            <p:stCondLst>
                              <p:cond delay="500"/>
                            </p:stCondLst>
                            <p:childTnLst>
                              <p:par>
                                <p:cTn id="20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fill="hold">
                            <p:stCondLst>
                              <p:cond delay="500"/>
                            </p:stCondLst>
                            <p:childTnLst>
                              <p:par>
                                <p:cTn id="20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49440" y="119700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cc33"/>
                </a:solidFill>
                <a:latin typeface="Arial"/>
              </a:rPr>
              <a:t>Телеви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2448000" cy="18878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1116000" y="4724280"/>
            <a:ext cx="2459160" cy="18446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649440" y="400536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cc33"/>
                </a:solidFill>
                <a:latin typeface="Arial"/>
              </a:rPr>
              <a:t>Интерн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116600" y="1982880"/>
            <a:ext cx="4097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Мърз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Материализъ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орн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Агре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Нежелание за четене и уч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40360" y="4797360"/>
            <a:ext cx="467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орн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лоши х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неспособност за създаване на приятел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1" i="1" lang="de-DE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) да разберем нашите МЛАДЕ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2" dur="indefinite" restart="never" nodeType="tmRoot">
          <p:childTnLst>
            <p:seq>
              <p:cTn id="2053" dur="indefinite" nodeType="mainSeq">
                <p:childTnLst>
                  <p:par>
                    <p:cTn id="2054" fill="hold">
                      <p:stCondLst>
                        <p:cond delay="0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500"/>
                            </p:stCondLst>
                            <p:childTnLst>
                              <p:par>
                                <p:cTn id="2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500"/>
                            </p:stCondLst>
                            <p:childTnLst>
                              <p:par>
                                <p:cTn id="2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Как се изгражда една църк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5013" t="0" r="2493" b="6683"/>
          <a:stretch/>
        </p:blipFill>
        <p:spPr>
          <a:xfrm>
            <a:off x="5219640" y="1052640"/>
            <a:ext cx="3095640" cy="234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9280" y="907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. ИЗПРЩ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4112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. ЕВАНГЕЛИЗИ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87280" y="198612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. ВОДНО КРЪ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2562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. НОВИ ВО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40000" y="31766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. ПРЕМЕСТВ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005360"/>
            <a:ext cx="7920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ВНИМ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ff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99ff"/>
                </a:solidFill>
                <a:latin typeface="Arial"/>
              </a:rPr>
              <a:t>Изпращащ орган на евангелизатора е </a:t>
            </a: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ЦЪРКВАТА</a:t>
            </a:r>
            <a:r>
              <a:rPr b="1" lang="bg-BG" sz="1800" spc="-1" strike="noStrike">
                <a:solidFill>
                  <a:srgbClr val="ff99ff"/>
                </a:solidFill>
                <a:latin typeface="Arial"/>
              </a:rPr>
              <a:t>, а не деноминацията, не мисията (с кого е свързан евангелизаторът, пред кого се отчита?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ff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1" lang="bg-BG" sz="1800" spc="-1" strike="noStrike">
                <a:solidFill>
                  <a:srgbClr val="ff99ff"/>
                </a:solidFill>
                <a:latin typeface="Arial"/>
              </a:rPr>
              <a:t>На своето място  евангелизаторът не остава един, а </a:t>
            </a: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НЯКОЛКО</a:t>
            </a:r>
            <a:r>
              <a:rPr b="1" lang="bg-BG" sz="1800" spc="-1" strike="noStrike">
                <a:solidFill>
                  <a:srgbClr val="ff99ff"/>
                </a:solidFill>
                <a:latin typeface="Arial"/>
              </a:rPr>
              <a:t> д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ff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1" lang="bg-BG" sz="1800" spc="-1" strike="noStrike">
                <a:solidFill>
                  <a:srgbClr val="ff99ff"/>
                </a:solidFill>
                <a:latin typeface="Arial"/>
              </a:rPr>
              <a:t>Евангелизаторът </a:t>
            </a: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не става пастор</a:t>
            </a:r>
            <a:r>
              <a:rPr b="1" lang="bg-BG" sz="1800" spc="-1" strike="noStrike">
                <a:solidFill>
                  <a:srgbClr val="ff99ff"/>
                </a:solidFill>
                <a:latin typeface="Arial"/>
              </a:rPr>
              <a:t> на новата църква (за това са необходими други дарб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1"/>
                            </p:stCondLst>
                            <p:childTnLst>
                              <p:par>
                                <p:cTn id="2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68360" y="907920"/>
            <a:ext cx="27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cc33"/>
                </a:solidFill>
                <a:latin typeface="Arial"/>
              </a:rPr>
              <a:t>Др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24360" y="981000"/>
            <a:ext cx="46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cc33"/>
                </a:solidFill>
                <a:latin typeface="Arial"/>
              </a:rPr>
              <a:t>Други държави -  Проституц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240000" cy="21924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659640" y="1557360"/>
            <a:ext cx="2006640" cy="29970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1" i="1" lang="de-DE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) да разберем нашите МЛАДЕ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1979640" y="4076640"/>
            <a:ext cx="1782720" cy="24163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4788000" y="5661000"/>
            <a:ext cx="313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cc33"/>
                </a:solidFill>
                <a:latin typeface="Arial"/>
              </a:rPr>
              <a:t>Мюслюманство - фанатизъ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5"/>
          <a:stretch/>
        </p:blipFill>
        <p:spPr>
          <a:xfrm>
            <a:off x="4067280" y="3213000"/>
            <a:ext cx="2376360" cy="23767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324000" y="4076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cc33"/>
                </a:solidFill>
                <a:latin typeface="Arial"/>
              </a:rPr>
              <a:t>Нехайсв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4" dur="indefinite" restart="never" nodeType="tmRoot">
          <p:childTnLst>
            <p:seq>
              <p:cTn id="2125" dur="indefinite" nodeType="mainSeq">
                <p:childTnLst>
                  <p:par>
                    <p:cTn id="2126" fill="hold">
                      <p:stCondLst>
                        <p:cond delay="0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6" fill="hold">
                            <p:stCondLst>
                              <p:cond delay="500"/>
                            </p:stCondLst>
                            <p:childTnLst>
                              <p:par>
                                <p:cTn id="2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8" fill="hold">
                            <p:stCondLst>
                              <p:cond delay="500"/>
                            </p:stCondLst>
                            <p:childTnLst>
                              <p:par>
                                <p:cTn id="2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500"/>
                            </p:stCondLst>
                            <p:childTnLst>
                              <p:par>
                                <p:cTn id="2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500"/>
                            </p:stCondLst>
                            <p:childTnLst>
                              <p:par>
                                <p:cTn id="2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1" i="1" lang="de-DE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) да разберем нашите МЛАДЕ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608360" y="1628640"/>
            <a:ext cx="3924360" cy="25894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719280" y="1125360"/>
            <a:ext cx="3384360" cy="30816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663480" y="5032440"/>
            <a:ext cx="786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Ако децата ни стигнат до такова положение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99cc00"/>
                </a:solidFill>
                <a:latin typeface="Arial"/>
              </a:rPr>
              <a:t>.... Ще ги обичаме 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8" dur="indefinite" restart="never" nodeType="tmRoot">
          <p:childTnLst>
            <p:seq>
              <p:cTn id="2179" dur="indefinite" nodeType="mainSeq">
                <p:childTnLst>
                  <p:par>
                    <p:cTn id="2180" fill="hold">
                      <p:stCondLst>
                        <p:cond delay="0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5837400" y="2492280"/>
            <a:ext cx="3055680" cy="24876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1" i="1" lang="de-DE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) Водачество чрез 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04720" y="981000"/>
            <a:ext cx="84600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Arial"/>
              </a:rPr>
              <a:t>ОБУЧАВАНЕ НА НОВО ПОКОЛЕНИЕ ЛИДЕ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68360" y="1773360"/>
            <a:ext cx="794052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99ff"/>
                </a:solidFill>
                <a:latin typeface="Arial"/>
              </a:rPr>
              <a:t>КАКВО Е НЕОБХОДИМО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1. СМИРЕН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Да осъзнаем, че всъщност ние не покриваме всички условия за един ли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Че сме преход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ъде не сме успяли да бъдем добър приме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2. РАЗБИ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да не очакваме същите неща от младежите 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да не обръщаме внимание на това, че следват мод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3. НОВИ ИДЕИ и ПРО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08" dur="indefinite" restart="never" nodeType="tmRoot">
          <p:childTnLst>
            <p:seq>
              <p:cTn id="2209" dur="indefinite" nodeType="mainSeq">
                <p:childTnLst>
                  <p:par>
                    <p:cTn id="2210" fill="hold">
                      <p:stCondLst>
                        <p:cond delay="0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4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6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8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3) Водачество чрез СЛУЖ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4572000" y="3716280"/>
            <a:ext cx="3745080" cy="24861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826920" y="126828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Марк 9:3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И като седна, повика дванадесетте и им каза: “Който иска да бъде пръв, ще бъде последен от всички и служител на всички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77" dur="indefinite" restart="never" nodeType="tmRoot">
          <p:childTnLst>
            <p:seq>
              <p:cTn id="2278" dur="indefinite" nodeType="mainSeq">
                <p:childTnLst>
                  <p:par>
                    <p:cTn id="2279" fill="hold">
                      <p:stCondLst>
                        <p:cond delay="0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6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3) Водачество чрез СЛУЖ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3745080" cy="24861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250920" y="981000"/>
            <a:ext cx="853272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Марк 10:42-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Вие знаете, че онези, които се считат за владетели на народите, господаруват над тях и големците им властват над т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43 Но между вас не е така; а който иска да стане велик между вас, нека ви бъде служите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44 и който иска да бъде пръв между вас, нека бъде слуга на всичките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97" dur="indefinite" restart="never" nodeType="tmRoot">
          <p:childTnLst>
            <p:seq>
              <p:cTn id="2298" dur="indefinite" nodeType="mainSeq">
                <p:childTnLst>
                  <p:par>
                    <p:cTn id="2299" fill="hold">
                      <p:stCondLst>
                        <p:cond delay="0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500"/>
                            </p:stCondLst>
                            <p:childTnLst>
                              <p:par>
                                <p:cTn id="2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6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3) Водачество чрез СЛУЖ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3744720" cy="24861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826920" y="1217520"/>
            <a:ext cx="74170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.Кор 4: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щото ние не проповядваме себе с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а Христос Иисус като Господ, а себе си като ваши слуги заради Иисус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17" dur="indefinite" restart="never" nodeType="tmRoot">
          <p:childTnLst>
            <p:seq>
              <p:cTn id="2318" dur="indefinite" nodeType="mainSeq">
                <p:childTnLst>
                  <p:par>
                    <p:cTn id="2319" fill="hold">
                      <p:stCondLst>
                        <p:cond delay="0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6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3) Водачество чрез СЛУЖ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50920" y="2708280"/>
            <a:ext cx="4824360" cy="35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1.Кор 9: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Нямаме ли и ние право да водим жена от сестрите като другите апостоли и братята на Господа, и Киф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1.Пет 3: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с женския пол и им отдавайте почит като на сънаследници на благодатта на живо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32000" y="981000"/>
            <a:ext cx="6783480" cy="1113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0" bIns="19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ff"/>
                </a:solidFill>
                <a:latin typeface="Arial"/>
              </a:rPr>
              <a:t>ЛИДЕРИТЕ РАБОТЯТ ЗАЕДНО ПО ДВОЙ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ff"/>
                </a:solidFill>
                <a:latin typeface="Arial"/>
              </a:rPr>
              <a:t>(СЪПРУГ И СЪПРУГ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5508720" y="2276640"/>
            <a:ext cx="3389040" cy="451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37" dur="indefinite" restart="never" nodeType="tmRoot">
          <p:childTnLst>
            <p:seq>
              <p:cTn id="2338" dur="indefinite" nodeType="mainSeq">
                <p:childTnLst>
                  <p:par>
                    <p:cTn id="2339" fill="hold">
                      <p:stCondLst>
                        <p:cond delay="0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3) Водачество чрез СЛУЖ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8360" y="2276640"/>
            <a:ext cx="518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Фил 4:2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2 Напътствам Еводия, напътствам и Синтихия да бъдат единомислени в Госп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3 Също и теб умолявам, искрени ми съработнико, помагай на тези жени, които се бориха заедно с мен за благовестието заедно с Климент и с други мои </a:t>
            </a:r>
            <a:r>
              <a:rPr b="1" i="1" lang="bg-BG" sz="2400" spc="-1" strike="noStrike" u="sng">
                <a:solidFill>
                  <a:srgbClr val="ffffff"/>
                </a:solidFill>
                <a:uFillTx/>
                <a:latin typeface="Arial"/>
              </a:rPr>
              <a:t>съработници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, чиито имена са в книгата на живота.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0920" y="981000"/>
            <a:ext cx="6782760" cy="1113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0" bIns="19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ff"/>
                </a:solidFill>
                <a:latin typeface="Arial"/>
              </a:rPr>
              <a:t>ЛИДЕРИТЕ РАБОТЯТ ЗАЕДНО ПО ДВОЙ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ff"/>
                </a:solidFill>
                <a:latin typeface="Arial"/>
              </a:rPr>
              <a:t>(СЪПРУГ И СЪПРУГ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2845080" cy="200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60" dur="indefinite" restart="never" nodeType="tmRoot">
          <p:childTnLst>
            <p:seq>
              <p:cTn id="2361" dur="indefinite" nodeType="mainSeq">
                <p:childTnLst>
                  <p:par>
                    <p:cTn id="2362" fill="hold">
                      <p:stCondLst>
                        <p:cond delay="0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9" fill="hold">
                            <p:stCondLst>
                              <p:cond delay="500"/>
                            </p:stCondLst>
                            <p:childTnLst>
                              <p:par>
                                <p:cTn id="2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fill="hold">
                      <p:stCondLst>
                        <p:cond delay="indefinite"/>
                      </p:stCondLst>
                      <p:childTnLst>
                        <p:par>
                          <p:cTn id="2374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0" fill="hold">
                            <p:stCondLst>
                              <p:cond delay="500"/>
                            </p:stCondLst>
                            <p:childTnLst>
                              <p:par>
                                <p:cTn id="2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3) Водачество чрез СЛУЖ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68360" y="220500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ЗАЩО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щото половината или дори по-голяма част от вярващите са жени – мъжът не може да им служи както тряб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ЗАЩО СЕ СТРУВА ТРУДНО НА МЪЖЕТЕ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щото виждаме воденето на църква повече като ‘власт’ отколкото като слу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ЗАЩО СЕ СТРУВА ТРУДНО НА ЖЕНИ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якои нямат смел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якои още не познават Б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0920" y="981000"/>
            <a:ext cx="6782760" cy="1113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0" bIns="19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ff"/>
                </a:solidFill>
                <a:latin typeface="Arial"/>
              </a:rPr>
              <a:t>ЛИДЕРИТЕ РАБОТЯТ ЗАЕДНО ПО ДВОЙ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ff"/>
                </a:solidFill>
                <a:latin typeface="Arial"/>
              </a:rPr>
              <a:t>(СЪПРУГ И СЪПРУГ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86" dur="indefinite" restart="never" nodeType="tmRoot">
          <p:childTnLst>
            <p:seq>
              <p:cTn id="2387" dur="indefinite" nodeType="mainSeq">
                <p:childTnLst>
                  <p:par>
                    <p:cTn id="2388" fill="hold">
                      <p:stCondLst>
                        <p:cond delay="0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500"/>
                            </p:stCondLst>
                            <p:childTnLst>
                              <p:par>
                                <p:cTn id="2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8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5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0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2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7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9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4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6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1" dur="5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5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3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500" fill="hold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500" fill="hold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0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5" dur="5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7" dur="5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3) Водачество чрез СЛУЖ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68360" y="2205000"/>
            <a:ext cx="403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Лоши пример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Мир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Йезеб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Аталий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99ff"/>
                </a:solidFill>
                <a:latin typeface="Arial"/>
              </a:rPr>
              <a:t>И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99ff"/>
                </a:solidFill>
                <a:latin typeface="Arial"/>
              </a:rPr>
              <a:t>Саму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99ff"/>
                </a:solidFill>
                <a:latin typeface="Arial"/>
              </a:rPr>
              <a:t>Дав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99ff"/>
                </a:solidFill>
                <a:latin typeface="Arial"/>
              </a:rPr>
              <a:t>Солом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79880" y="1125360"/>
            <a:ext cx="8430120" cy="747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0" bIns="19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ff"/>
                </a:solidFill>
                <a:latin typeface="Arial"/>
              </a:rPr>
              <a:t>СЕМЕЙСТВОТО НА ЛИДЕРА ТРЯБВА ДА Е СТАБИ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4211640" y="2133720"/>
            <a:ext cx="3600360" cy="23144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6732720" y="3067200"/>
            <a:ext cx="2160360" cy="32414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5"/>
          <a:stretch/>
        </p:blipFill>
        <p:spPr>
          <a:xfrm>
            <a:off x="4470480" y="4149720"/>
            <a:ext cx="1830240" cy="2289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48" dur="indefinite" restart="never" nodeType="tmRoot">
          <p:childTnLst>
            <p:seq>
              <p:cTn id="2449" dur="indefinite" nodeType="mainSeq">
                <p:childTnLst>
                  <p:par>
                    <p:cTn id="2450" fill="hold">
                      <p:stCondLst>
                        <p:cond delay="0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fill="hold">
                            <p:stCondLst>
                              <p:cond delay="500"/>
                            </p:stCondLst>
                            <p:childTnLst>
                              <p:par>
                                <p:cTn id="2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0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5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6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7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2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4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500"/>
                            </p:stCondLst>
                            <p:childTnLst>
                              <p:par>
                                <p:cTn id="24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5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7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8" fill="hold">
                            <p:stCondLst>
                              <p:cond delay="500"/>
                            </p:stCondLst>
                            <p:childTnLst>
                              <p:par>
                                <p:cTn id="2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4" fill="hold">
                      <p:stCondLst>
                        <p:cond delay="indefinite"/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8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0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fill="hold">
                            <p:stCondLst>
                              <p:cond delay="500"/>
                            </p:stCondLst>
                            <p:childTnLst>
                              <p:par>
                                <p:cTn id="2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3" dur="5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8" dur="5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5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0" dur="500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5" dur="500" fill="hold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6" dur="500" fill="hold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7" dur="500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2" dur="500" fill="hold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3" dur="500" fill="hold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4" dur="500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Длъжности вътре в църкв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852720" y="2781360"/>
            <a:ext cx="3672000" cy="1368360"/>
            <a:chOff x="3852720" y="2781360"/>
            <a:chExt cx="3672000" cy="1368360"/>
          </a:xfrm>
        </p:grpSpPr>
        <p:sp>
          <p:nvSpPr>
            <p:cNvPr id="93" name=""/>
            <p:cNvSpPr/>
            <p:nvPr/>
          </p:nvSpPr>
          <p:spPr>
            <a:xfrm>
              <a:off x="3852720" y="3140280"/>
              <a:ext cx="107964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29080" y="3716280"/>
              <a:ext cx="107964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37162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48360" y="278136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45440" y="31402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29080" y="3284640"/>
              <a:ext cx="50328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445080" y="3213360"/>
              <a:ext cx="431640" cy="576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219280" y="3859200"/>
              <a:ext cx="1009800" cy="1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500720" y="2853000"/>
              <a:ext cx="100800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5795640" y="2852640"/>
              <a:ext cx="115236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932000" y="2995560"/>
              <a:ext cx="863640" cy="793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716000" y="3139920"/>
              <a:ext cx="1584360" cy="64908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5724720" y="2997360"/>
              <a:ext cx="863280" cy="1008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932360" y="3284640"/>
              <a:ext cx="172872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564000" y="4292640"/>
            <a:ext cx="4321080" cy="1152360"/>
            <a:chOff x="3564000" y="4292640"/>
            <a:chExt cx="4321080" cy="1152360"/>
          </a:xfrm>
        </p:grpSpPr>
        <p:sp>
          <p:nvSpPr>
            <p:cNvPr id="108" name=""/>
            <p:cNvSpPr/>
            <p:nvPr/>
          </p:nvSpPr>
          <p:spPr>
            <a:xfrm>
              <a:off x="3564000" y="5084640"/>
              <a:ext cx="863640" cy="36036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16360" y="5084640"/>
              <a:ext cx="863640" cy="36036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69080" y="5084640"/>
              <a:ext cx="863640" cy="36036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21440" y="5084640"/>
              <a:ext cx="863640" cy="36036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51280" y="4292640"/>
              <a:ext cx="216000" cy="720720"/>
            </a:xfrm>
            <a:prstGeom prst="upArrow">
              <a:avLst>
                <a:gd name="adj1" fmla="val 50000"/>
                <a:gd name="adj2" fmla="val 8341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03640" y="4292640"/>
              <a:ext cx="216000" cy="720720"/>
            </a:xfrm>
            <a:prstGeom prst="upArrow">
              <a:avLst>
                <a:gd name="adj1" fmla="val 50000"/>
                <a:gd name="adj2" fmla="val 8341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56360" y="4292640"/>
              <a:ext cx="216000" cy="720720"/>
            </a:xfrm>
            <a:prstGeom prst="upArrow">
              <a:avLst>
                <a:gd name="adj1" fmla="val 50000"/>
                <a:gd name="adj2" fmla="val 8341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08720" y="4292640"/>
              <a:ext cx="216000" cy="720720"/>
            </a:xfrm>
            <a:prstGeom prst="upArrow">
              <a:avLst>
                <a:gd name="adj1" fmla="val 50000"/>
                <a:gd name="adj2" fmla="val 8341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84280" y="4888080"/>
            <a:ext cx="23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ДИАКО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диакон, служите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2360" y="242100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ЕПИСКОП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водач, ръководител, надзорник, лид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6080" y="3317760"/>
            <a:ext cx="193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ПОИ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паст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ПРЕСВИТЕ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старец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1052640"/>
            <a:ext cx="2664000" cy="647640"/>
          </a:xfrm>
          <a:prstGeom prst="can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435640" y="1773360"/>
            <a:ext cx="431640" cy="1008000"/>
          </a:xfrm>
          <a:prstGeom prst="upArrow">
            <a:avLst>
              <a:gd name="adj1" fmla="val 50000"/>
              <a:gd name="adj2" fmla="val 58382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82160" y="2781360"/>
            <a:ext cx="1372320" cy="3384360"/>
            <a:chOff x="7382160" y="2781360"/>
            <a:chExt cx="1372320" cy="3384360"/>
          </a:xfrm>
        </p:grpSpPr>
        <p:sp>
          <p:nvSpPr>
            <p:cNvPr id="122" name=""/>
            <p:cNvSpPr/>
            <p:nvPr/>
          </p:nvSpPr>
          <p:spPr>
            <a:xfrm>
              <a:off x="7908840" y="2781360"/>
              <a:ext cx="574560" cy="3384360"/>
            </a:xfrm>
            <a:custGeom>
              <a:avLst/>
              <a:gdLst>
                <a:gd name="textAreaLeft" fmla="*/ 0 w 574560"/>
                <a:gd name="textAreaRight" fmla="*/ 207360 w 574560"/>
                <a:gd name="textAreaTop" fmla="*/ 88200 h 3384360"/>
                <a:gd name="textAreaBottom" fmla="*/ 3296160 h 33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82160" y="3573360"/>
              <a:ext cx="137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ПОДОБ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на Н.З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897680" y="907920"/>
            <a:ext cx="1245960" cy="1491480"/>
            <a:chOff x="7897680" y="907920"/>
            <a:chExt cx="1245960" cy="1491480"/>
          </a:xfrm>
        </p:grpSpPr>
        <p:sp>
          <p:nvSpPr>
            <p:cNvPr id="125" name=""/>
            <p:cNvSpPr/>
            <p:nvPr/>
          </p:nvSpPr>
          <p:spPr>
            <a:xfrm>
              <a:off x="7897680" y="907920"/>
              <a:ext cx="495360" cy="1280160"/>
            </a:xfrm>
            <a:custGeom>
              <a:avLst/>
              <a:gdLst>
                <a:gd name="textAreaLeft" fmla="*/ 0 w 495360"/>
                <a:gd name="textAreaRight" fmla="*/ 178920 w 495360"/>
                <a:gd name="textAreaTop" fmla="*/ 33120 h 1280160"/>
                <a:gd name="textAreaBottom" fmla="*/ 1247040 h 12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54920" y="1208160"/>
              <a:ext cx="118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cc6600"/>
                  </a:solidFill>
                  <a:latin typeface="Arial"/>
                </a:rPr>
                <a:t>НЕ 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cc6600"/>
                  </a:solidFill>
                  <a:latin typeface="Arial"/>
                </a:rPr>
                <a:t>ПОДОБ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cc6600"/>
                  </a:solidFill>
                  <a:latin typeface="Arial"/>
                </a:rPr>
                <a:t>на Н.З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24000" y="2349360"/>
            <a:ext cx="8351640" cy="0"/>
          </a:xfrm>
          <a:prstGeom prst="line">
            <a:avLst/>
          </a:prstGeom>
          <a:ln w="1015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6165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609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6165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24360" y="609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6165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4036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20000" y="6165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8800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6497640"/>
            <a:ext cx="64800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4364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17236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8000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5013" t="0" r="28136" b="6683"/>
          <a:stretch/>
        </p:blipFill>
        <p:spPr>
          <a:xfrm>
            <a:off x="250920" y="3860640"/>
            <a:ext cx="1873080" cy="196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50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500"/>
                            </p:stCondLst>
                            <p:childTnLst>
                              <p:par>
                                <p:cTn id="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600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5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00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50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0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85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4.8405E-006 L 0.26389 -0.42441 E">
                                      <p:cBhvr>
                                        <p:cTn id="412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48148E-006 L -0.06702 -0.35162 E">
                                      <p:cBhvr>
                                        <p:cTn id="415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77994E-006 L -0.04322 -0.43505 E">
                                      <p:cBhvr>
                                        <p:cTn id="418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62 0.02639 L 0.23229 -0.54722 E">
                                      <p:cBhvr>
                                        <p:cTn id="421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8000"/>
                            </p:stCondLst>
                            <p:childTnLst>
                              <p:par>
                                <p:cTn id="42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22448 -0.4 E">
                                      <p:cBhvr>
                                        <p:cTn id="42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8094E-006 L -1.94444E-006 -0.20976 E">
                                      <p:cBhvr>
                                        <p:cTn id="46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000"/>
                            </p:stCondLst>
                            <p:childTnLst>
                              <p:par>
                                <p:cTn id="4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cc00"/>
                </a:solidFill>
                <a:latin typeface="Arial Black"/>
              </a:rPr>
              <a:t>(4) Водачество чрез СТРАД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9640" y="1484280"/>
            <a:ext cx="7920000" cy="478656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1.Кор 4:9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Защото аз мисля, че Бог изложи нас, апостолите, като най-последни, като осъдени на смърт; защото станахме за показ на света — както на ангелите, така и на хора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10 ние сме безумни заради Христос, а вие сте разумни в Христос; ние — слаби, а вие — силни; вие — почитани, а ние — опозорени. 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35" dur="indefinite" restart="never" nodeType="tmRoot">
          <p:childTnLst>
            <p:seq>
              <p:cTn id="2536" dur="indefinite" nodeType="mainSeq">
                <p:childTnLst>
                  <p:par>
                    <p:cTn id="2537" fill="hold">
                      <p:stCondLst>
                        <p:cond delay="0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4" fill="hold">
                      <p:stCondLst>
                        <p:cond delay="indefinite"/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7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2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3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4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9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0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cc00"/>
                </a:solidFill>
                <a:latin typeface="Arial Black"/>
              </a:rPr>
              <a:t>(4) Водачество чрез СТРАД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26920" y="1557360"/>
            <a:ext cx="7920360" cy="463428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2.Кор 4:10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винаги носещи в тялото си умирането на (Господ) Иисус, за да се яви в тялото ни и животът на Иису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11 Защото ние, живите, винаги сме предавани на смърт заради Иисус, за да се яви и животът на Иисус в нашата смъртна плъ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12 така че смъртта наистина действа в нас, а животът – във вас. 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72" dur="indefinite" restart="never" nodeType="tmRoot">
          <p:childTnLst>
            <p:seq>
              <p:cTn id="2573" dur="indefinite" nodeType="mainSeq">
                <p:childTnLst>
                  <p:par>
                    <p:cTn id="2574" fill="hold">
                      <p:stCondLst>
                        <p:cond delay="0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1" fill="hold">
                      <p:stCondLst>
                        <p:cond delay="indefinite"/>
                      </p:stCondLst>
                      <p:childTnLst>
                        <p:par>
                          <p:cTn id="2582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8" fill="hold">
                      <p:stCondLst>
                        <p:cond delay="indefinite"/>
                      </p:stCondLst>
                      <p:childTnLst>
                        <p:par>
                          <p:cTn id="2589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4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1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6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8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3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4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5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cc00"/>
                </a:solidFill>
                <a:latin typeface="Arial Black"/>
              </a:rPr>
              <a:t>(4) Водачество чрез СТРАД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68360" y="1341360"/>
            <a:ext cx="7920000" cy="259272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Кол  1: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И сега се радвам в страданията си за вас и допълвам в плътта си това, което още не достига на скърбите на Христос за Неговото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тяло, което е църквата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16" dur="indefinite" restart="never" nodeType="tmRoot">
          <p:childTnLst>
            <p:seq>
              <p:cTn id="2617" dur="indefinite" nodeType="mainSeq">
                <p:childTnLst>
                  <p:par>
                    <p:cTn id="2618" fill="hold">
                      <p:stCondLst>
                        <p:cond delay="0"/>
                      </p:stCondLst>
                      <p:childTnLst>
                        <p:par>
                          <p:cTn id="2619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6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8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3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5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Кой може да дава власт на лиде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3905280"/>
            <a:ext cx="8820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Дея 13: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1 А в Антиохийската църква имаше пророци и учители: Варнава, Симеон, наречен Нигер, Киринееца Луиций, Манаин който беше възпитан заедно с четверовластника Ирода, и Саве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2  И като служеха на Господа и постеха, </a:t>
            </a:r>
            <a:r>
              <a:rPr b="0" i="1" lang="bg-BG" sz="1800" spc="-1" strike="noStrike" u="sng">
                <a:solidFill>
                  <a:srgbClr val="ffffff"/>
                </a:solidFill>
                <a:uFillTx/>
                <a:latin typeface="Arial"/>
              </a:rPr>
              <a:t>Светият Дух рече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: Отделете ми Варнава и Савла за работата, на която съм ги призва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3  Тогава, като постиха и се помолиха, положиха ръце на тях и ги изпрати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217520"/>
            <a:ext cx="8820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Дея 6: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3  И тъй, братя, изберете измежду вас седем души с удобрен характер, изпълнени с Духа и с мъдрост, които да поставим на тая работа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5  И това предложение се хареса </a:t>
            </a:r>
            <a:r>
              <a:rPr b="0" i="1" lang="bg-BG" sz="1800" spc="-1" strike="noStrike" u="sng">
                <a:solidFill>
                  <a:srgbClr val="ffffff"/>
                </a:solidFill>
                <a:uFillTx/>
                <a:latin typeface="Arial"/>
              </a:rPr>
              <a:t>на цялото множество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; и </a:t>
            </a:r>
            <a:r>
              <a:rPr b="0" i="1" lang="bg-BG" sz="1800" spc="-1" strike="noStrike" u="sng">
                <a:solidFill>
                  <a:srgbClr val="ffffff"/>
                </a:solidFill>
                <a:uFillTx/>
                <a:latin typeface="Arial"/>
              </a:rPr>
              <a:t>избраха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Стефана, мъж пълен с вяра и със Светия Дух, и Филипа, Прохора, Никанора, Тимона, Пармена и Николая, е д и н прозелит от Антиох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6  Тях поставиха пред апостолите; и те, </a:t>
            </a:r>
            <a:r>
              <a:rPr b="0" i="1" lang="bg-BG" sz="1800" spc="-1" strike="noStrike" u="sng">
                <a:solidFill>
                  <a:srgbClr val="ffffff"/>
                </a:solidFill>
                <a:uFillTx/>
                <a:latin typeface="Arial"/>
              </a:rPr>
              <a:t>като се помолиха, положиха ръце на тях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Кой може да дава власт на лиде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62252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ff"/>
                </a:solidFill>
                <a:latin typeface="Tahoma"/>
              </a:rPr>
              <a:t>1)  МОЛИТВА и П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348000" y="981000"/>
            <a:ext cx="2808360" cy="1800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rcRect l="0" t="13635" r="0" b="0"/>
          <a:stretch/>
        </p:blipFill>
        <p:spPr>
          <a:xfrm>
            <a:off x="3851280" y="2205000"/>
            <a:ext cx="2808360" cy="1819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rcRect l="0" t="0" r="0" b="31730"/>
          <a:stretch/>
        </p:blipFill>
        <p:spPr>
          <a:xfrm>
            <a:off x="4859280" y="3213000"/>
            <a:ext cx="2768760" cy="2016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rcRect l="0" t="3543" r="0" b="0"/>
          <a:stretch/>
        </p:blipFill>
        <p:spPr>
          <a:xfrm>
            <a:off x="5940360" y="4365720"/>
            <a:ext cx="2808360" cy="1989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71640" y="292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ff"/>
                </a:solidFill>
                <a:latin typeface="Tahoma"/>
              </a:rPr>
              <a:t>2)  ГОСПОД ГОВ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76360" y="4149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ff"/>
                </a:solidFill>
                <a:latin typeface="Tahoma"/>
              </a:rPr>
              <a:t>3)  ЦЪРКВАТА ИЗБ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8000" y="51912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ff"/>
                </a:solidFill>
                <a:latin typeface="Tahoma"/>
              </a:rPr>
              <a:t>4)  РЪКОВОДИТЕЛИТЕ ОПЪЛНОМОЩАВАТ ИЗБРАНИЦИТЕ В ИМЕТО НА ЦЪРКВ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Кой може да дава власт на лиде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11280" y="2997360"/>
            <a:ext cx="3671280" cy="1368360"/>
            <a:chOff x="611280" y="2997360"/>
            <a:chExt cx="3671280" cy="1368360"/>
          </a:xfrm>
        </p:grpSpPr>
        <p:sp>
          <p:nvSpPr>
            <p:cNvPr id="159" name=""/>
            <p:cNvSpPr/>
            <p:nvPr/>
          </p:nvSpPr>
          <p:spPr>
            <a:xfrm>
              <a:off x="611280" y="33562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87280" y="39322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27280" y="3932280"/>
              <a:ext cx="107892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6560" y="2997360"/>
              <a:ext cx="107892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03640" y="3356280"/>
              <a:ext cx="107892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87280" y="3500640"/>
              <a:ext cx="50292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203640" y="3429360"/>
              <a:ext cx="431280" cy="576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977840" y="4075200"/>
              <a:ext cx="1009440" cy="1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258560" y="3069000"/>
              <a:ext cx="100764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2554200" y="3068640"/>
              <a:ext cx="115200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690560" y="3211560"/>
              <a:ext cx="863280" cy="793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1474560" y="3355920"/>
              <a:ext cx="1584000" cy="64908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2482560" y="3213360"/>
              <a:ext cx="862920" cy="1008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690200" y="3500640"/>
              <a:ext cx="172836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580000" y="1268280"/>
            <a:ext cx="2664000" cy="648000"/>
          </a:xfrm>
          <a:prstGeom prst="can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659640" y="1988280"/>
            <a:ext cx="431640" cy="86364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3280" y="1052640"/>
            <a:ext cx="0" cy="5256000"/>
          </a:xfrm>
          <a:prstGeom prst="line">
            <a:avLst/>
          </a:prstGeom>
          <a:ln w="1015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003640" y="2997360"/>
            <a:ext cx="3672000" cy="1368360"/>
            <a:chOff x="5003640" y="2997360"/>
            <a:chExt cx="3672000" cy="1368360"/>
          </a:xfrm>
        </p:grpSpPr>
        <p:sp>
          <p:nvSpPr>
            <p:cNvPr id="177" name=""/>
            <p:cNvSpPr/>
            <p:nvPr/>
          </p:nvSpPr>
          <p:spPr>
            <a:xfrm>
              <a:off x="5003640" y="3356280"/>
              <a:ext cx="107964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80000" y="3932280"/>
              <a:ext cx="107964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20000" y="39322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99280" y="299736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96360" y="33562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80000" y="3500640"/>
              <a:ext cx="50328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596000" y="3429360"/>
              <a:ext cx="431640" cy="576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6370200" y="4075200"/>
              <a:ext cx="1009800" cy="1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651640" y="3069000"/>
              <a:ext cx="100800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6946560" y="3068640"/>
              <a:ext cx="115236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082920" y="3211560"/>
              <a:ext cx="863640" cy="793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5866920" y="3355920"/>
              <a:ext cx="1584360" cy="64908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6875640" y="3213360"/>
              <a:ext cx="863280" cy="1008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083280" y="3500640"/>
              <a:ext cx="172872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11280" y="5803920"/>
            <a:ext cx="3600360" cy="793800"/>
            <a:chOff x="611280" y="5803920"/>
            <a:chExt cx="3600360" cy="793800"/>
          </a:xfrm>
        </p:grpSpPr>
        <p:sp>
          <p:nvSpPr>
            <p:cNvPr id="192" name=""/>
            <p:cNvSpPr/>
            <p:nvPr/>
          </p:nvSpPr>
          <p:spPr>
            <a:xfrm>
              <a:off x="611280" y="623556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32000" y="623556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5640" y="58039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03280" y="58039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24000" y="623556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64000" y="623736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43280" y="623556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50920" y="5805360"/>
              <a:ext cx="64800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92360" y="5805360"/>
              <a:ext cx="64800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71640" y="5805360"/>
              <a:ext cx="64800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268360" y="4581360"/>
            <a:ext cx="432000" cy="863640"/>
          </a:xfrm>
          <a:prstGeom prst="upArrow">
            <a:avLst>
              <a:gd name="adj1" fmla="val 50000"/>
              <a:gd name="adj2" fmla="val 49979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932360" y="1052640"/>
            <a:ext cx="3743280" cy="5400720"/>
          </a:xfrm>
          <a:prstGeom prst="line">
            <a:avLst/>
          </a:prstGeom>
          <a:ln w="1015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75280" y="1008000"/>
            <a:ext cx="3673440" cy="5373720"/>
          </a:xfrm>
          <a:prstGeom prst="line">
            <a:avLst/>
          </a:prstGeom>
          <a:ln w="1015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9120" y="1144440"/>
            <a:ext cx="35481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Ред според Библията:</a:t>
            </a:r>
            <a:r>
              <a:rPr b="0" lang="bg-BG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последната дума принадлежи на църкв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лидерите отговарят пред църкв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властта идва отд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4437000"/>
            <a:ext cx="354816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Противоположно на Библията</a:t>
            </a:r>
            <a:r>
              <a:rPr b="0" lang="bg-BG" sz="2000" spc="-1" strike="noStrike">
                <a:solidFill>
                  <a:srgbClr val="ffff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последната дума притежава един човек или деноминаци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лидерите обръщат внимание на този центъ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властта идва отг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500"/>
                            </p:stCondLst>
                            <p:childTnLst>
                              <p:par>
                                <p:cTn id="607" nodeType="afterEffect" fill="hold" presetClass="entr" presetID="17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17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Изисквания за един ЛИД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981000"/>
            <a:ext cx="4176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cc00"/>
                </a:solidFill>
                <a:latin typeface="Arial"/>
              </a:rPr>
              <a:t>1.Петър 5:1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по принуда, а с добра воля,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ато за Бог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за печалба, а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с усърд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като че ли сте господари над онези, които са ви поверени, а като сте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пример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на стадот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отговорни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ед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Пастироначал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869080" y="3452760"/>
            <a:ext cx="2735280" cy="17049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6300720" y="1998720"/>
            <a:ext cx="1800360" cy="12859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4356000" y="5197320"/>
            <a:ext cx="1951200" cy="1660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5867280" y="5383080"/>
            <a:ext cx="2121120" cy="1474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932360" y="981000"/>
            <a:ext cx="3632040" cy="825480"/>
          </a:xfrm>
          <a:prstGeom prst="rect">
            <a:avLst/>
          </a:prstGeom>
          <a:solidFill>
            <a:srgbClr val="000080"/>
          </a:solidFill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99cc00"/>
                </a:solidFill>
                <a:latin typeface="Bookman Old Style"/>
              </a:rPr>
              <a:t>ЗОРЛАН ГЮЗЕЛЛИК ОЛМАЗ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"/>
                            </p:stCondLst>
                            <p:childTnLst>
                              <p:par>
                                <p:cTn id="7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180360" cy="863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ИЗИСКВАНИЯ за един лидер</a:t>
            </a:r>
            <a:br>
              <a:rPr sz="3200"/>
            </a:br>
            <a:r>
              <a:rPr b="1" i="1" lang="bg-BG" sz="2400" spc="-1" strike="noStrike">
                <a:solidFill>
                  <a:srgbClr val="ffcc00"/>
                </a:solidFill>
                <a:latin typeface="Arial Black"/>
              </a:rPr>
              <a:t>Тит 1:5-9 ве 1.Тимотей 3:1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66440" y="1055520"/>
            <a:ext cx="16848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поро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6160" y="1593720"/>
            <a:ext cx="277308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мъж на една ж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5160" y="2170080"/>
            <a:ext cx="243144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ма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верни де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2817720"/>
            <a:ext cx="33847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е своево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56400" y="3429000"/>
            <a:ext cx="199728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е сприх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68360" y="4005360"/>
            <a:ext cx="20401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е пия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3840" y="4545000"/>
            <a:ext cx="21787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е побой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9800" y="5086440"/>
            <a:ext cx="338256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е лаком за печал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1400" y="5661000"/>
            <a:ext cx="183744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гостолюб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4480" y="6237360"/>
            <a:ext cx="25308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бичащ добро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27640" y="981000"/>
            <a:ext cx="24480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благочес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73040" y="1593720"/>
            <a:ext cx="185544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праведл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21680" y="2241720"/>
            <a:ext cx="193644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благочес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09640" y="2817720"/>
            <a:ext cx="20887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амообла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19640" y="3429000"/>
            <a:ext cx="37800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пособен да поуч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41720" y="4005360"/>
            <a:ext cx="111816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кротъ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08720" y="4581360"/>
            <a:ext cx="3203640" cy="825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обре управлява своя 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73400" y="5516640"/>
            <a:ext cx="30139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е нов във вя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35640" y="6035760"/>
            <a:ext cx="4608360" cy="825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трябва да има добро име и сред външ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1835280" y="83664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160720" y="1484280"/>
            <a:ext cx="46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Аз достоен ли съм за тази длъжност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8:37:29Z</dcterms:created>
  <dc:creator>Windows XP</dc:creator>
  <dc:description/>
  <dc:language>en-US</dc:language>
  <cp:lastModifiedBy>PC</cp:lastModifiedBy>
  <dcterms:modified xsi:type="dcterms:W3CDTF">2007-05-13T05:04:50Z</dcterms:modified>
  <cp:revision>186</cp:revision>
  <dc:subject/>
  <dc:title>Иса иле килисе ичин бензетмелер</dc:title>
</cp:coreProperties>
</file>