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C8F-D957-4C50-9556-462B4AE1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895-66C3-4FD2-B2FC-A14EDEC3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D42-39F5-4CE7-A39E-D40C1A55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261-7FDF-4318-88ED-AE790F97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73B-7AEE-42FF-91CA-1AD91EA2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E09-88DE-4B22-9A81-645DB16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8DB-0004-41F4-BE22-8D886C91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C8D-5048-4735-B489-BA983C9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DA0-9116-48FB-9819-D49EA10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759-12AC-468B-B031-CCD466C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175-D087-47E4-A6D0-181687DC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9AB-8F36-4820-AAF1-AFB9543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D04-C271-44B3-88C9-F4BF808C25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1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ак се изгражда църк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384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1268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2421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256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1844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2492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0200" y="41054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7840" y="4437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46101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5480" y="4437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220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4941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94172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4941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94172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5013" t="0" r="43622" b="6683"/>
          <a:stretch/>
        </p:blipFill>
        <p:spPr>
          <a:xfrm>
            <a:off x="0" y="404640"/>
            <a:ext cx="1440000" cy="196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83520" y="285264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5013" t="0" r="2493" b="6683"/>
          <a:stretch/>
        </p:blipFill>
        <p:spPr>
          <a:xfrm>
            <a:off x="-612720" y="765000"/>
            <a:ext cx="2592360" cy="196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836640"/>
            <a:ext cx="86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дна стабилна църква избира евангелизатор, когото изпра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3880" y="1459080"/>
            <a:ext cx="44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Той отива и сее Божието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2060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Ако хората се покаят той ги покръ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321300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Подготвя за лидер някой от повярвал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076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Когато новата църква се стабилизира отива на друго мя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1439640" cy="196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3928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НИМ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изпращащ орган на евангелизатора е ЦЪРКВАта, не деноминацията, не мисията (с кого е свързан евангелизаторът; пред кого се отчи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Евангелизаторът не става пастор на новата църква (за това е необходима друга дар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На своето място лидерът на оставя един човек, а НЯКОЛКО д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1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1"/>
                            </p:stCondLst>
                            <p:childTnLst>
                              <p:par>
                                <p:cTn id="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7989E-006 L 0.26788 0.19255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1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1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1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1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1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1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501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1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1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1"/>
                            </p:stCondLst>
                            <p:childTnLst>
                              <p:par>
                                <p:cTn id="9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1"/>
                            </p:stCondLst>
                            <p:childTnLst>
                              <p:par>
                                <p:cTn id="1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1"/>
                            </p:stCondLst>
                            <p:childTnLst>
                              <p:par>
                                <p:cTn id="1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1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1"/>
                            </p:stCondLst>
                            <p:childTnLst>
                              <p:par>
                                <p:cTn id="1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541E-006 L -0.51771 4.10541E-006 E">
                                      <p:cBhvr>
                                        <p:cTn id="1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Чобан олмак истейенлер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РКУ ве КУ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Диккат един: чобанлък ойунджак де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8435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Тимотейус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Шу сьоз чок дорудур: "Бир кишинин мераъ вар мъ, топ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лулуун гюдюджюсю олсун, демек ийи бир иш истийор."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61080" y="184356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Петрус 5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Ве Башчобан не заман ортая чъкаджакса, о заман солмаз бир шанлълък таджъ аладжанъз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338280" cy="215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140360" y="549360"/>
            <a:ext cx="504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Arial"/>
              </a:rPr>
              <a:t>КАК СЕ ВОДИ ЕДНА ЦЪРК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8360" y="350208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399360" y="3476520"/>
            <a:ext cx="2493720" cy="26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059280" y="4100400"/>
            <a:ext cx="2736720" cy="24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012000" y="3067200"/>
            <a:ext cx="1728720" cy="1658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93000" y="599616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мимб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765000"/>
            <a:ext cx="813564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Болестта ‘Амвон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хората </a:t>
            </a:r>
            <a:r>
              <a:rPr b="1" lang="bg-BG" sz="2200" spc="-1" strike="noStrike" u="sng">
                <a:solidFill>
                  <a:srgbClr val="ffffff"/>
                </a:solidFill>
                <a:uFillTx/>
                <a:latin typeface="Arial"/>
              </a:rPr>
              <a:t>са длъжни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да ни слуш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амвонът автоматично предава авторитет на думите 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като че ли не можем да сме лидери без амво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есто говроим без да мислим и без подгот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рез изобличаване покриваме липсващите ни знания и подгот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90792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Проповя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1413000"/>
            <a:ext cx="43923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Видове проповеди: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ТЕМАтична проповед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например: “Божията любов и светската любов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Проповед върху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ЕДИН СТИХ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например:  Йоан 14:6  “Аз съм пътят, истината, живота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РАЗЯСНЯВАЩА проповед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(например:  Рим 5:1-5  “Преимуществата на спасението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316560" y="1773360"/>
            <a:ext cx="1927440" cy="1400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940360" y="5157720"/>
            <a:ext cx="2592360" cy="165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732720" y="3573360"/>
            <a:ext cx="1927080" cy="1400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1325520" cy="140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V="1">
            <a:off x="5580000" y="2060280"/>
            <a:ext cx="3313080" cy="57636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Защо да поучаваме Божието слово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981000"/>
            <a:ext cx="6985080" cy="522216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.Тим 4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,16-1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Цялата Библия идва от Божия дъх и е полезна за: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учаван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зоблича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правяне на живота ни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ъзпитаване по пътя на доброто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. ЬОйле ки, Аллах адамъ тамам олсун, хер ийи иш ичин хазър олсун.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2880" y="27082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НАНИЕ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г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83480" y="335772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68640" y="4581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МЕЛОСТ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ръ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82360" y="39513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ЕШЕНИЕ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к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9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1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3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Къде трябва да поучаваме Божието сло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916360" y="1031760"/>
            <a:ext cx="3095640" cy="2036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680160" y="3352680"/>
            <a:ext cx="2463840" cy="3505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250920" y="3213000"/>
            <a:ext cx="219384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76120" y="5157720"/>
            <a:ext cx="2063880" cy="154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979640" y="2637000"/>
            <a:ext cx="6119640" cy="38350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Второзаконие 6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6-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 тези думи, които днес ти заповядвам, да бъдат в сърцето ти и на тях да учиш усърдно синовете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за тях да говориш, когато седиш в дома си, когато ходиш по пъ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огато лягаш и когато став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90792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БИБЛЕЙСКИ У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1592280"/>
            <a:ext cx="554364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Къде се провеждат Библейските уроци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а цялата църква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например: Деян 2:46 “единодушно в Божия дом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а домашни групи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(например:  Апо 2:46  “по къщите си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единично 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например:  Деян 18:24-26  “Акила / Прискила и Аполос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228760" cy="152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300720" y="473544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300720" y="1546200"/>
            <a:ext cx="2232000" cy="123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4716360" y="2565360"/>
            <a:ext cx="136836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859280" y="4076640"/>
            <a:ext cx="1225440" cy="432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00720" y="5157720"/>
            <a:ext cx="165564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981000"/>
            <a:ext cx="8459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Откъде идват нашите учения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060640"/>
            <a:ext cx="80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От Библията, от някакъв устав или от някакъв чове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Един пример:  граждански брак или църковен бр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580000" y="4441680"/>
            <a:ext cx="2583000" cy="1992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1187280" y="4440240"/>
            <a:ext cx="2592720" cy="19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720" y="981000"/>
            <a:ext cx="8460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ОТКЪДЕ ИДВАТ НАШИТЕ ПОУЧЕНИЯ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1773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Ромските църкви в България трябва да </a:t>
            </a:r>
            <a:r>
              <a:rPr b="1" lang="bg-BG" sz="2800" spc="-1" strike="noStrike" u="sng">
                <a:solidFill>
                  <a:srgbClr val="ffffff"/>
                </a:solidFill>
                <a:uFillTx/>
                <a:latin typeface="Arial"/>
              </a:rPr>
              <a:t>открият своето учение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6520" y="3284640"/>
            <a:ext cx="22518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ПОГРЕБ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6160" y="4076640"/>
            <a:ext cx="16088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АЗА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5229360"/>
            <a:ext cx="31687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ЦЪРКОВНА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66880" y="3571920"/>
            <a:ext cx="28278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ДУХОВНИ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67240" y="6093000"/>
            <a:ext cx="205236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ОБРЯЗ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46520" y="4292640"/>
            <a:ext cx="16984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4941720"/>
            <a:ext cx="259236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традициите след раждан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2708280"/>
            <a:ext cx="24480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ГОСПОДНАТА ВЕЧ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10520" y="4221000"/>
            <a:ext cx="312192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ВОДНО КРЪ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7080" y="5734080"/>
            <a:ext cx="19429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ОЛЕДА - ВЕЛИК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7524720" y="3357720"/>
            <a:ext cx="1440000" cy="1441440"/>
            <a:chOff x="7524720" y="3357720"/>
            <a:chExt cx="1440000" cy="1441440"/>
          </a:xfrm>
        </p:grpSpPr>
        <p:sp>
          <p:nvSpPr>
            <p:cNvPr id="282" name=""/>
            <p:cNvSpPr/>
            <p:nvPr/>
          </p:nvSpPr>
          <p:spPr>
            <a:xfrm>
              <a:off x="7524720" y="3357720"/>
              <a:ext cx="1440000" cy="1441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7524720" y="3357720"/>
              <a:ext cx="14400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Водачесвт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32000" y="9079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bg-BG" sz="2800" spc="-1" strike="noStrike">
                <a:solidFill>
                  <a:srgbClr val="ffcc00"/>
                </a:solidFill>
                <a:latin typeface="Arial"/>
              </a:rPr>
              <a:t>ЛИЧНО ОБЩЕНИЕ С ХО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1628640"/>
            <a:ext cx="525636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2.Тим 4: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проповядвай словото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бъди готов в подходящо и неподходящо вре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изобличава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порицавай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насърчавай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Върши това непрекъснато и с голямо търпение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940360" y="3359160"/>
            <a:ext cx="1371600" cy="1440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227640" y="4952880"/>
            <a:ext cx="227340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Длъжности вътре в църкв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52720" y="2781360"/>
            <a:ext cx="3672000" cy="1368360"/>
            <a:chOff x="3852720" y="2781360"/>
            <a:chExt cx="3672000" cy="1368360"/>
          </a:xfrm>
        </p:grpSpPr>
        <p:sp>
          <p:nvSpPr>
            <p:cNvPr id="70" name=""/>
            <p:cNvSpPr/>
            <p:nvPr/>
          </p:nvSpPr>
          <p:spPr>
            <a:xfrm>
              <a:off x="3852720" y="3140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9080" y="371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9080" y="371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48360" y="2781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45440" y="3140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9080" y="3284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445080" y="3213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219280" y="3859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500720" y="2853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795640" y="2852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932000" y="2995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4716000" y="3139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5724720" y="2997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932360" y="3284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64000" y="4292640"/>
            <a:ext cx="4321080" cy="1152360"/>
            <a:chOff x="3564000" y="4292640"/>
            <a:chExt cx="4321080" cy="1152360"/>
          </a:xfrm>
        </p:grpSpPr>
        <p:sp>
          <p:nvSpPr>
            <p:cNvPr id="85" name=""/>
            <p:cNvSpPr/>
            <p:nvPr/>
          </p:nvSpPr>
          <p:spPr>
            <a:xfrm>
              <a:off x="356400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1636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908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2144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128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364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5636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872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004040" y="48880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ДИАКО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якон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3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ЕПИСКОП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ръководител, вод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6080" y="3317760"/>
            <a:ext cx="19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ОИ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паст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СВИТЕ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старей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05264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435640" y="177264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309440" y="2781360"/>
            <a:ext cx="2072160" cy="3384360"/>
            <a:chOff x="7309440" y="2781360"/>
            <a:chExt cx="2072160" cy="3384360"/>
          </a:xfrm>
        </p:grpSpPr>
        <p:sp>
          <p:nvSpPr>
            <p:cNvPr id="99" name=""/>
            <p:cNvSpPr/>
            <p:nvPr/>
          </p:nvSpPr>
          <p:spPr>
            <a:xfrm>
              <a:off x="7885080" y="2781360"/>
              <a:ext cx="574560" cy="33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9440" y="35733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ИМА в Библия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246080" y="1125360"/>
            <a:ext cx="2236680" cy="1584360"/>
            <a:chOff x="7246080" y="1125360"/>
            <a:chExt cx="2236680" cy="1584360"/>
          </a:xfrm>
        </p:grpSpPr>
        <p:sp>
          <p:nvSpPr>
            <p:cNvPr id="102" name=""/>
            <p:cNvSpPr/>
            <p:nvPr/>
          </p:nvSpPr>
          <p:spPr>
            <a:xfrm>
              <a:off x="7902360" y="1125360"/>
              <a:ext cx="574560" cy="15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46080" y="149688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НЯМА в Библия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24000" y="2205000"/>
            <a:ext cx="8351640" cy="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72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5013" t="0" r="28136" b="6683"/>
          <a:stretch/>
        </p:blipFill>
        <p:spPr>
          <a:xfrm>
            <a:off x="468360" y="333360"/>
            <a:ext cx="1873080" cy="196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8405E-006 L 0.26389 -0.42441 E">
                                      <p:cBhvr>
                                        <p:cTn id="26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7994E-006 L -0.05903 -0.35113 E">
                                      <p:cBhvr>
                                        <p:cTn id="26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7994E-006 L -0.04322 -0.43505 E">
                                      <p:cBhvr>
                                        <p:cTn id="26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2635 L 0.23021 -0.54646 E">
                                      <p:cBhvr>
                                        <p:cTn id="26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896E-007 L -0.23229 -0.41008 E">
                                      <p:cBhvr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8094E-006 L -1.94444E-006 -0.20976 E">
                                      <p:cBhvr>
                                        <p:cTn id="30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дава длъжностите на лидер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434040"/>
            <a:ext cx="88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еян. 13: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църквата, която беше в Антиохия, имаше някои пророци и уч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арнава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, Симеон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ций,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ан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С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като служеха на Господа и постеха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Святият Дух каз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“Отделете ми Варнава и Савел за работата, за която съм ги призовал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гава, като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остиха и се помолих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оложиха ръце на тях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ги изпрати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836640"/>
            <a:ext cx="88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еян. 6: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това, братя, изберете измежду вас седем души с добро име, изпълнени с Духа и с мъдрост, които да поставим на тази работа...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това предложение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се харес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цялото множество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избраха Стефан, мъж, пълен с вяра и със Светия Дух, и Филип, Прохор, Никанор, Тимон, Пармен и Николай.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 6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ито поставиха пред апостолите; и те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като се помолих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оложиха ръце на 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дава длъжностите на лидер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628640"/>
            <a:ext cx="750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1)  МОЛИТВА - П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2)  БОГ ГОВ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3)  ЦЪРКВАТА ИЗБ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4)  ЛИДЕРИТЕ ДАВАТ ДЛЪЖНОСТИ ОТ ИМЕТО НА ЦЯЛАТА ЦЪР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дава длъжностите на лидер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11280" y="2997360"/>
            <a:ext cx="3671280" cy="1368360"/>
            <a:chOff x="611280" y="2997360"/>
            <a:chExt cx="3671280" cy="1368360"/>
          </a:xfrm>
        </p:grpSpPr>
        <p:sp>
          <p:nvSpPr>
            <p:cNvPr id="129" name=""/>
            <p:cNvSpPr/>
            <p:nvPr/>
          </p:nvSpPr>
          <p:spPr>
            <a:xfrm>
              <a:off x="61128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728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3932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6560" y="299736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356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7280" y="3500640"/>
              <a:ext cx="5029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203640" y="3429360"/>
              <a:ext cx="43128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77840" y="4075200"/>
              <a:ext cx="100944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8560" y="3069000"/>
              <a:ext cx="100764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554200" y="3068640"/>
              <a:ext cx="1152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690560" y="3211560"/>
              <a:ext cx="86328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1474560" y="3355920"/>
              <a:ext cx="158400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482560" y="3213360"/>
              <a:ext cx="86292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90200" y="3500640"/>
              <a:ext cx="172836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580000" y="1268280"/>
            <a:ext cx="2664000" cy="64800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659640" y="198828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052640"/>
            <a:ext cx="0" cy="5256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03640" y="2997360"/>
            <a:ext cx="3672000" cy="1368360"/>
            <a:chOff x="5003640" y="2997360"/>
            <a:chExt cx="3672000" cy="1368360"/>
          </a:xfrm>
        </p:grpSpPr>
        <p:sp>
          <p:nvSpPr>
            <p:cNvPr id="147" name=""/>
            <p:cNvSpPr/>
            <p:nvPr/>
          </p:nvSpPr>
          <p:spPr>
            <a:xfrm>
              <a:off x="5003640" y="335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0000" y="3932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000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99280" y="2997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9636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80000" y="3500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596000" y="3429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70200" y="4075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651640" y="3069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946560" y="3068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82920" y="3211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5866920" y="3355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875640" y="3213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083280" y="3500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11280" y="5803920"/>
            <a:ext cx="3600360" cy="793800"/>
            <a:chOff x="611280" y="5803920"/>
            <a:chExt cx="3600360" cy="793800"/>
          </a:xfrm>
        </p:grpSpPr>
        <p:sp>
          <p:nvSpPr>
            <p:cNvPr id="162" name=""/>
            <p:cNvSpPr/>
            <p:nvPr/>
          </p:nvSpPr>
          <p:spPr>
            <a:xfrm>
              <a:off x="611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2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64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328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4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64000" y="62373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3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092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36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7164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268360" y="458136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9120" y="1144440"/>
            <a:ext cx="35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Ред според Библията: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дната дума принадлежи на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идерите отговарят пред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ластта идва отд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4437000"/>
            <a:ext cx="354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ротивоположно на Библията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дната дума притежава един човек или деномина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идерите обръщат внимание на този цент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ластта идва отг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932360" y="1052640"/>
            <a:ext cx="3743280" cy="5400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5280" y="1008000"/>
            <a:ext cx="3673440" cy="5373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Изисквания за един ЛИ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981000"/>
            <a:ext cx="417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1.Петър 5: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по принуда, а с добра воля,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ато за Бог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за печалба, 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 усърд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като че ли сте господари над онези, които са ви поверени, а като сте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на стадо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тговорн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Пастироначал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981000"/>
            <a:ext cx="3632040" cy="825480"/>
          </a:xfrm>
          <a:prstGeom prst="rect">
            <a:avLst/>
          </a:prstGeom>
          <a:solidFill>
            <a:srgbClr val="00008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Bookman Old Style"/>
              </a:rPr>
              <a:t>НАСИЛА ХУБОСТ НЕ СТ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869080" y="3452760"/>
            <a:ext cx="2735280" cy="1704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00720" y="199872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356000" y="5197320"/>
            <a:ext cx="1951200" cy="1660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867280" y="5383080"/>
            <a:ext cx="2121120" cy="14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80360" cy="86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ИЗИСКВАНИЯ за един лидер</a:t>
            </a:r>
            <a:br>
              <a:rPr sz="3200"/>
            </a:br>
            <a:r>
              <a:rPr b="1" i="1" lang="bg-BG" sz="2400" spc="-1" strike="noStrike">
                <a:solidFill>
                  <a:srgbClr val="ffcc00"/>
                </a:solidFill>
                <a:latin typeface="Arial Black"/>
              </a:rPr>
              <a:t>Тит 1:5-9 ве 1.Тимотей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66440" y="1055520"/>
            <a:ext cx="1684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поро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6160" y="1593720"/>
            <a:ext cx="27730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ъж на една 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55160" y="2170080"/>
            <a:ext cx="2431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ни д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817720"/>
            <a:ext cx="3384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своево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6400" y="3429000"/>
            <a:ext cx="1997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сприх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68360" y="4005360"/>
            <a:ext cx="20401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пия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840" y="4545000"/>
            <a:ext cx="2178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побой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9800" y="5086440"/>
            <a:ext cx="33825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лаком за печал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1400" y="5661000"/>
            <a:ext cx="183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гостолюб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480" y="6237360"/>
            <a:ext cx="2530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ичащ добр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агочес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73040" y="1593720"/>
            <a:ext cx="1855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правед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21680" y="2241720"/>
            <a:ext cx="1936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агочес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09640" y="2817720"/>
            <a:ext cx="2088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мообла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пособен да поуч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41720" y="4005360"/>
            <a:ext cx="11181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рот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ре управлява своя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73400" y="5516640"/>
            <a:ext cx="3013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нов във вя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рябва да има добро име и сред външ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835280" y="836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160720" y="148428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Аз достоен ли съм за тази длъжнос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19700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1850760"/>
            <a:ext cx="867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зекиел 34 2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не човешки, пророкувай против израилевите пастири, пророкувай и им кажи: Така казва Господ Бог на пастирите: “Горко на израилевите пастири, които пасат себе си!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е трябва ли пастирите да пасат стадото?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е подкрепихте немощната и не изцелихте болната, и не превързахте ранената, и не върнахте заблудената, и не потърсихте изгубената; а със сила властвахте над тях и с жестокост. И те се разпръснаха, защото нямаше пастир, и станаха храна на всички полски зверове, и се разпръснаха. Моите овце се скитат по всички планини и по всеки висок хълм, по цялата земя се разпръснаха овцете Ми и няма кой да ги потърси и да попита за тях.” Затова, пастири, слушайте ГОСПОДНОТО слово! Затова, пастири, слушайте Господното слово! Така казва Господ Бог: Аз съм против пастиритеи ще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изисквам овцете си от ръцете им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ще направя да престанат да пасат овцете м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19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771920"/>
            <a:ext cx="86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уханна  10 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Ийи чобан бен'им. Ийи чобан койунлар ичин джанънъ верийор. 12 Ама дийелим вар кираланмъш бир ишчи: о асъл чобан деил, койунлар да онун деил. О гьордю мю, курт якънлъйор, койунларъ бракъп качаджак. Курт да онларъ кападжак ве койунларъ даътъраджак. Шимди, киралан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ъш ишчи неден качъйор - чюнкю анджак кираланмъштър ве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кенди койунларъ ичин дюшюнмез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2212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2452680" cy="2076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3960" y="64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е пази овц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63165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амо извлича полза от овц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30840" y="649116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Гледа единствено своето споко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PC</cp:lastModifiedBy>
  <dcterms:modified xsi:type="dcterms:W3CDTF">2007-05-12T21:56:38Z</dcterms:modified>
  <cp:revision>195</cp:revision>
  <dc:subject/>
  <dc:title>Иса иле килисе ичин бензетмелер</dc:title>
</cp:coreProperties>
</file>