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42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3.jpeg" ContentType="image/jpeg"/>
  <Override PartName="/ppt/media/image47.jpeg" ContentType="image/jpeg"/>
  <Override PartName="/ppt/media/image46.jpeg" ContentType="image/jpeg"/>
  <Override PartName="/ppt/media/image58.png" ContentType="image/png"/>
  <Override PartName="/ppt/media/image45.jpeg" ContentType="image/jpeg"/>
  <Override PartName="/ppt/media/image48.png" ContentType="image/png"/>
  <Override PartName="/ppt/media/image44.png" ContentType="image/png"/>
  <Override PartName="/ppt/media/image40.jpeg" ContentType="image/jpeg"/>
  <Override PartName="/ppt/media/image43.jpeg" ContentType="image/jpeg"/>
  <Override PartName="/ppt/media/image2.jpeg" ContentType="image/jpeg"/>
  <Override PartName="/ppt/media/image23.jpeg" ContentType="image/jpeg"/>
  <Override PartName="/ppt/media/image52.png" ContentType="image/png"/>
  <Override PartName="/ppt/media/image50.jpeg" ContentType="image/jpeg"/>
  <Override PartName="/ppt/media/image27.jpeg" ContentType="image/jpeg"/>
  <Override PartName="/ppt/media/image54.png" ContentType="image/png"/>
  <Override PartName="/ppt/media/image41.jpeg" ContentType="image/jpeg"/>
  <Override PartName="/ppt/media/image14.jpeg" ContentType="image/jpeg"/>
  <Override PartName="/ppt/media/image15.jpeg" ContentType="image/jpeg"/>
  <Override PartName="/ppt/media/image18.jpeg" ContentType="image/jpeg"/>
  <Override PartName="/ppt/media/image49.jpeg" ContentType="image/jpeg"/>
  <Override PartName="/ppt/media/image20.jpeg" ContentType="image/jpeg"/>
  <Override PartName="/ppt/media/image19.png" ContentType="image/pn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35.png" ContentType="image/png"/>
  <Override PartName="/ppt/media/image65.jpeg" ContentType="image/jpeg"/>
  <Override PartName="/ppt/media/image8.jpeg" ContentType="image/jpeg"/>
  <Override PartName="/ppt/media/image36.jpeg" ContentType="image/jpeg"/>
  <Override PartName="/ppt/media/image10.png" ContentType="image/png"/>
  <Override PartName="/ppt/media/image22.jpeg" ContentType="image/jpeg"/>
  <Override PartName="/ppt/media/image67.png" ContentType="image/png"/>
  <Override PartName="/ppt/media/image60.jpeg" ContentType="image/jpeg"/>
  <Override PartName="/ppt/media/image3.jpeg" ContentType="image/jpeg"/>
  <Override PartName="/ppt/media/image37.jpeg" ContentType="image/jpeg"/>
  <Override PartName="/ppt/media/image1.jpeg" ContentType="image/jpeg"/>
  <Override PartName="/ppt/media/image21.png" ContentType="image/png"/>
  <Override PartName="/ppt/media/image64.jpeg" ContentType="image/jpeg"/>
  <Override PartName="/ppt/media/image16.png" ContentType="image/png"/>
  <Override PartName="/ppt/media/image7.jpeg" ContentType="image/jpeg"/>
  <Override PartName="/ppt/media/image38.jpeg" ContentType="image/jpeg"/>
  <Override PartName="/ppt/media/image62.png" ContentType="image/png"/>
  <Override PartName="/ppt/media/image51.jpeg" ContentType="image/jpeg"/>
  <Override PartName="/ppt/media/image24.jpeg" ContentType="image/jpeg"/>
  <Override PartName="/ppt/media/image25.png" ContentType="image/png"/>
  <Override PartName="/ppt/media/image4.jpeg" ContentType="image/jpeg"/>
  <Override PartName="/ppt/media/image26.jpeg" ContentType="image/jpeg"/>
  <Override PartName="/ppt/media/image61.png" ContentType="image/png"/>
  <Override PartName="/ppt/media/image5.jpeg" ContentType="image/jpeg"/>
  <Override PartName="/ppt/media/image63.jpeg" ContentType="image/jpeg"/>
  <Override PartName="/ppt/media/image29.png" ContentType="image/png"/>
  <Override PartName="/ppt/media/image39.jpeg" ContentType="image/jpeg"/>
  <Override PartName="/ppt/media/image17.png" ContentType="image/png"/>
  <Override PartName="/ppt/media/image28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30.jpeg" ContentType="image/jpeg"/>
  <Override PartName="/ppt/media/image31.jpeg" ContentType="image/jpeg"/>
  <Override PartName="/ppt/media/image32.png" ContentType="image/png"/>
  <Override PartName="/ppt/media/image33.jpeg" ContentType="image/jpeg"/>
  <Override PartName="/ppt/media/image3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13B4-1E39-42AF-8E08-B1DA71BCC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3C22-F96D-4009-9106-1E57B104B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626B-A5A7-4486-B1F2-5698D66C2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70F3-83F3-46E8-88CC-24B6F6100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349D-A351-44BA-BC81-6915C449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03E3-D33C-42D4-A7B2-A54E6C9F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07D9-37C9-45C5-81FE-B4DB82A9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0870-4CFD-481B-B78A-8B4B6107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06DF-BD38-405A-889C-A856B0BD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1AB2-9A15-4D0D-B2F8-67CC42C5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DA9C-2C29-453F-B73A-D149C63C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7ACB-831C-4B2E-8B27-E6D4DC4B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F1F8-8FBD-4830-8054-774D5D230F9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image" Target="../media/image53.jpeg"/><Relationship Id="rId4" Type="http://schemas.openxmlformats.org/officeDocument/2006/relationships/image" Target="../media/image54.png"/><Relationship Id="rId5" Type="http://schemas.openxmlformats.org/officeDocument/2006/relationships/image" Target="../media/image55.jpeg"/><Relationship Id="rId6" Type="http://schemas.openxmlformats.org/officeDocument/2006/relationships/image" Target="../media/image56.jpeg"/><Relationship Id="rId7" Type="http://schemas.openxmlformats.org/officeDocument/2006/relationships/image" Target="../media/image57.jpeg"/><Relationship Id="rId8" Type="http://schemas.openxmlformats.org/officeDocument/2006/relationships/image" Target="../media/image58.png"/><Relationship Id="rId9" Type="http://schemas.openxmlformats.org/officeDocument/2006/relationships/image" Target="../media/image59.jpeg"/><Relationship Id="rId10" Type="http://schemas.openxmlformats.org/officeDocument/2006/relationships/image" Target="../media/image60.jpeg"/><Relationship Id="rId11" Type="http://schemas.openxmlformats.org/officeDocument/2006/relationships/image" Target="../media/image61.png"/><Relationship Id="rId12" Type="http://schemas.openxmlformats.org/officeDocument/2006/relationships/image" Target="../media/image62.png"/><Relationship Id="rId13" Type="http://schemas.openxmlformats.org/officeDocument/2006/relationships/image" Target="../media/image63.jpeg"/><Relationship Id="rId1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image" Target="../media/image67.png"/><Relationship Id="rId6" Type="http://schemas.openxmlformats.org/officeDocument/2006/relationships/image" Target="../media/image68.jpeg"/><Relationship Id="rId7" Type="http://schemas.openxmlformats.org/officeDocument/2006/relationships/image" Target="../media/image69.jpeg"/><Relationship Id="rId8" Type="http://schemas.openxmlformats.org/officeDocument/2006/relationships/image" Target="../media/image70.jpeg"/><Relationship Id="rId9" Type="http://schemas.openxmlformats.org/officeDocument/2006/relationships/image" Target="../media/image71.jpeg"/><Relationship Id="rId10" Type="http://schemas.openxmlformats.org/officeDocument/2006/relationships/image" Target="../media/image72.jpeg"/><Relationship Id="rId11" Type="http://schemas.openxmlformats.org/officeDocument/2006/relationships/image" Target="../media/image73.jpeg"/><Relationship Id="rId12" Type="http://schemas.openxmlformats.org/officeDocument/2006/relationships/image" Target="../media/image74.jpeg"/><Relationship Id="rId1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png"/><Relationship Id="rId10" Type="http://schemas.openxmlformats.org/officeDocument/2006/relationships/image" Target="../media/image30.jpeg"/><Relationship Id="rId11" Type="http://schemas.openxmlformats.org/officeDocument/2006/relationships/image" Target="../media/image31.jpeg"/><Relationship Id="rId12" Type="http://schemas.openxmlformats.org/officeDocument/2006/relationships/image" Target="../media/image32.png"/><Relationship Id="rId13" Type="http://schemas.openxmlformats.org/officeDocument/2006/relationships/image" Target="../media/image33.jpeg"/><Relationship Id="rId1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image" Target="../media/image41.jpeg"/><Relationship Id="rId10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pn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image" Target="../media/image48.pn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bed"/>
            </a:gs>
            <a:gs pos="100000">
              <a:srgbClr val="75838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400" spc="-1" strike="noStrike">
                <a:solidFill>
                  <a:srgbClr val="0000cc"/>
                </a:solidFill>
                <a:latin typeface="Century Gothic"/>
              </a:rPr>
              <a:t>Кутсал Китап</a:t>
            </a:r>
            <a:r>
              <a:rPr b="1" i="1" lang="bg-BG" sz="4400" spc="-1" strike="noStrike">
                <a:solidFill>
                  <a:srgbClr val="000000"/>
                </a:solidFill>
                <a:latin typeface="Century Gothic"/>
              </a:rPr>
              <a:t> насъл язълдъ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920" y="1052640"/>
            <a:ext cx="910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Кутсал Китап бир адамън Аллах хаккъндаки фикирлери деилдир. Аллах йерйюзюнде куветли ишлер яптъ; Кутсал Китап да язъйор, Аллах бютюн тарих ичинде кенди халкъна насъл даврандъ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333399"/>
                </a:solidFill>
                <a:latin typeface="Century Gothic"/>
              </a:rPr>
              <a:t>Ески Антлашма</a:t>
            </a:r>
            <a:r>
              <a:rPr b="1" i="1" lang="bg-BG" sz="4000" spc="-1" strike="noStrike">
                <a:solidFill>
                  <a:srgbClr val="000000"/>
                </a:solidFill>
                <a:latin typeface="Century Gothic"/>
              </a:rPr>
              <a:t>нън Китапчъклар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5280" y="1316160"/>
            <a:ext cx="8451720" cy="24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Verdana"/>
              </a:rPr>
              <a:t>5</a:t>
            </a:r>
            <a:r>
              <a:rPr b="1" lang="bg-BG" sz="2800" spc="-1" strike="noStrike">
                <a:solidFill>
                  <a:srgbClr val="990000"/>
                </a:solidFill>
                <a:latin typeface="Verdana"/>
              </a:rPr>
              <a:t> – Кючюк ПЕЙГАМБЕРЛЕР (12 тан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8080"/>
                </a:solidFill>
                <a:latin typeface="Arial"/>
              </a:rPr>
              <a:t>Не заман язълдъла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.ЬО. 840 - 400 сенелерин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8080"/>
                </a:solidFill>
                <a:latin typeface="Arial"/>
              </a:rPr>
              <a:t>Нейи анлатъйор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‘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ючюк’ пеъгамберлер денилийор, чюнкю китапларъ даха късадър. Ама бу демек деил ки, ‘бюйюк’ пейгамберлерден даа аз ьонемлидирлер. Ашаъда пейгамберлерин адларъ ве яшадъкларъ сенелери яздъ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7702560" y="5157720"/>
            <a:ext cx="690480" cy="1700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15" name="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1488960" y="5157720"/>
            <a:ext cx="831960" cy="1700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6227640" y="5157720"/>
            <a:ext cx="722520" cy="1700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17" name="" descr=""/>
          <p:cNvPicPr/>
          <p:nvPr/>
        </p:nvPicPr>
        <p:blipFill>
          <a:blip r:embed="rId5">
            <a:lum contrast="18000"/>
          </a:blip>
          <a:stretch/>
        </p:blipFill>
        <p:spPr>
          <a:xfrm>
            <a:off x="5398920" y="5157720"/>
            <a:ext cx="817560" cy="1700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>
            <a:off x="6964200" y="5157720"/>
            <a:ext cx="719280" cy="1700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19" name="" descr=""/>
          <p:cNvPicPr/>
          <p:nvPr/>
        </p:nvPicPr>
        <p:blipFill>
          <a:blip r:embed="rId7">
            <a:lum contrast="30000"/>
          </a:blip>
          <a:stretch/>
        </p:blipFill>
        <p:spPr>
          <a:xfrm>
            <a:off x="0" y="5157720"/>
            <a:ext cx="787320" cy="1700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20" name="" descr=""/>
          <p:cNvPicPr/>
          <p:nvPr/>
        </p:nvPicPr>
        <p:blipFill>
          <a:blip r:embed="rId8"/>
          <a:stretch/>
        </p:blipFill>
        <p:spPr>
          <a:xfrm>
            <a:off x="3882960" y="5157720"/>
            <a:ext cx="762120" cy="1700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21" name="" descr=""/>
          <p:cNvPicPr/>
          <p:nvPr/>
        </p:nvPicPr>
        <p:blipFill>
          <a:blip r:embed="rId9">
            <a:lum contrast="18000"/>
          </a:blip>
          <a:srcRect l="-157" t="0" r="12559" b="0"/>
          <a:stretch/>
        </p:blipFill>
        <p:spPr>
          <a:xfrm>
            <a:off x="4660920" y="5157720"/>
            <a:ext cx="720720" cy="1700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22" name="" descr=""/>
          <p:cNvPicPr/>
          <p:nvPr/>
        </p:nvPicPr>
        <p:blipFill>
          <a:blip r:embed="rId10"/>
          <a:stretch/>
        </p:blipFill>
        <p:spPr>
          <a:xfrm>
            <a:off x="2340000" y="5157720"/>
            <a:ext cx="727200" cy="1700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23" name="" descr=""/>
          <p:cNvPicPr/>
          <p:nvPr/>
        </p:nvPicPr>
        <p:blipFill>
          <a:blip r:embed="rId11"/>
          <a:stretch/>
        </p:blipFill>
        <p:spPr>
          <a:xfrm>
            <a:off x="798480" y="5157720"/>
            <a:ext cx="681120" cy="1700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24" name="" descr=""/>
          <p:cNvPicPr/>
          <p:nvPr/>
        </p:nvPicPr>
        <p:blipFill>
          <a:blip r:embed="rId12"/>
          <a:stretch/>
        </p:blipFill>
        <p:spPr>
          <a:xfrm>
            <a:off x="3078000" y="5157720"/>
            <a:ext cx="792360" cy="1700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25" name="" descr=""/>
          <p:cNvPicPr/>
          <p:nvPr/>
        </p:nvPicPr>
        <p:blipFill>
          <a:blip r:embed="rId13"/>
          <a:stretch/>
        </p:blipFill>
        <p:spPr>
          <a:xfrm>
            <a:off x="8408880" y="5157720"/>
            <a:ext cx="704880" cy="1700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26" name=""/>
          <p:cNvSpPr/>
          <p:nvPr/>
        </p:nvSpPr>
        <p:spPr>
          <a:xfrm>
            <a:off x="40680" y="3898800"/>
            <a:ext cx="220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Хошеа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-840 -8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Йоел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-830 -75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Амос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-76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43160" y="3900600"/>
            <a:ext cx="222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Овадя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-840 -8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5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Йунус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-780 -74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6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Мика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-740 -7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351320" y="3905280"/>
            <a:ext cx="263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7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Нахум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-640 -620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8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Хавакук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-608 -60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9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Тсефаня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-640 -60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705720" y="3905280"/>
            <a:ext cx="2438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10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Хагай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-52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11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Зекеря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-520 -48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12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Малаки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-420 -4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0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1701"/>
                            </p:stCondLst>
                            <p:childTnLst>
                              <p:par>
                                <p:cTn id="863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601"/>
                            </p:stCondLst>
                            <p:childTnLst>
                              <p:par>
                                <p:cTn id="873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1201"/>
                            </p:stCondLst>
                            <p:childTnLst>
                              <p:par>
                                <p:cTn id="883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1701"/>
                            </p:stCondLst>
                            <p:childTnLst>
                              <p:par>
                                <p:cTn id="893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1701"/>
                            </p:stCondLst>
                            <p:childTnLst>
                              <p:par>
                                <p:cTn id="903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1601"/>
                            </p:stCondLst>
                            <p:childTnLst>
                              <p:par>
                                <p:cTn id="913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1701"/>
                            </p:stCondLst>
                            <p:childTnLst>
                              <p:par>
                                <p:cTn id="923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901"/>
                            </p:stCondLst>
                            <p:childTnLst>
                              <p:par>
                                <p:cTn id="933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901"/>
                            </p:stCondLst>
                            <p:childTnLst>
                              <p:par>
                                <p:cTn id="943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1401"/>
                            </p:stCondLst>
                            <p:childTnLst>
                              <p:par>
                                <p:cTn id="953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901"/>
                            </p:stCondLst>
                            <p:childTnLst>
                              <p:par>
                                <p:cTn id="963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1901"/>
                            </p:stCondLst>
                            <p:childTnLst>
                              <p:par>
                                <p:cTn id="973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000000"/>
                </a:solidFill>
                <a:latin typeface="Century Gothic"/>
              </a:rPr>
              <a:t>Ески Антлашманън Китапчъклар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1600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99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5892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99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0328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99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54764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99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236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99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9708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34000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62728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77164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91636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5928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0364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34800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9236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00000" y="32781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Яратълъ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485440" y="32986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Йеш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107600" y="329724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Ей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680440" y="3278160"/>
            <a:ext cx="9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Йеш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037640" y="327168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Хоше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63528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8000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32108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6400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60836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75308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89744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8324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00808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2616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00808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87052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00808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1488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00808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5960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00808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59124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73416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87708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02144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16580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31052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45344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59780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74216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88688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02944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17416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02520" y="355932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Чъкъ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02160" y="385452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Левили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03600" y="4141800"/>
            <a:ext cx="9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айъ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78040" y="442260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Яасанън Т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482200" y="356544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Хаким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86880" y="3854520"/>
            <a:ext cx="57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Р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76080" y="413532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1.Саму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76080" y="442260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2.Саму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485440" y="471168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1.Кралл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85440" y="500544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2.Кралл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486520" y="529416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1.Тарих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486520" y="558180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2.Тарих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487600" y="58705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Ез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86880" y="615168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Нех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486880" y="644688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Ес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097160" y="443088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Дерлемед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107600" y="414180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Езгил. Ез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06520" y="38480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юл. ЬОз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07240" y="356544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езмурл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80800" y="44308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Дани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681520" y="4141800"/>
            <a:ext cx="12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Хезеки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681160" y="385452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Йер. Аът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680800" y="356544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Йе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022520" y="6446880"/>
            <a:ext cx="10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ал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046640" y="615780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еке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024680" y="5870520"/>
            <a:ext cx="8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Хаг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024320" y="558180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ефанъ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024320" y="529416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Хавак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048440" y="500544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Нах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47720" y="471816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047360" y="44308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Йун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050240" y="41353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Овад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33320" y="385452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Ам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54920" y="355932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Йо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637280" y="1278720"/>
            <a:ext cx="181080" cy="792000"/>
          </a:xfrm>
          <a:custGeom>
            <a:avLst/>
            <a:gdLst>
              <a:gd name="textAreaLeft" fmla="*/ 115920 w 181080"/>
              <a:gd name="textAreaRight" fmla="*/ 181440 w 1810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3168000" y="649080"/>
            <a:ext cx="216000" cy="2016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rot="5400000">
            <a:off x="4842360" y="1278720"/>
            <a:ext cx="181080" cy="792000"/>
          </a:xfrm>
          <a:custGeom>
            <a:avLst/>
            <a:gdLst>
              <a:gd name="textAreaLeft" fmla="*/ 115920 w 181080"/>
              <a:gd name="textAreaRight" fmla="*/ 181440 w 1810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rot="5400000">
            <a:off x="5956920" y="1278720"/>
            <a:ext cx="181080" cy="792000"/>
          </a:xfrm>
          <a:custGeom>
            <a:avLst/>
            <a:gdLst>
              <a:gd name="textAreaLeft" fmla="*/ 115920 w 181080"/>
              <a:gd name="textAreaRight" fmla="*/ 181440 w 1810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rot="5400000">
            <a:off x="7632720" y="649080"/>
            <a:ext cx="216000" cy="201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rot="19699200">
            <a:off x="1351080" y="11250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МУ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19426800">
            <a:off x="2823120" y="114444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ТАР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19453200">
            <a:off x="4449960" y="109872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ХИКМ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19715400">
            <a:off x="5942520" y="105228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Б. ПЕЙ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9743000">
            <a:off x="7238880" y="105228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К. ПЕЙ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000000"/>
                </a:solidFill>
                <a:latin typeface="Century Gothic"/>
              </a:rPr>
              <a:t>Йени Антлашманън Китапчъклар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16000" y="1628640"/>
            <a:ext cx="431640" cy="1152720"/>
          </a:xfrm>
          <a:prstGeom prst="cube">
            <a:avLst>
              <a:gd name="adj" fmla="val 71824"/>
            </a:avLst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258920" y="1628640"/>
            <a:ext cx="431640" cy="1152720"/>
          </a:xfrm>
          <a:prstGeom prst="cube">
            <a:avLst>
              <a:gd name="adj" fmla="val 71824"/>
            </a:avLst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403280" y="1628640"/>
            <a:ext cx="432000" cy="1152720"/>
          </a:xfrm>
          <a:prstGeom prst="cube">
            <a:avLst>
              <a:gd name="adj" fmla="val 71824"/>
            </a:avLst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547640" y="1628640"/>
            <a:ext cx="432000" cy="1152720"/>
          </a:xfrm>
          <a:prstGeom prst="cube">
            <a:avLst>
              <a:gd name="adj" fmla="val 71824"/>
            </a:avLst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130560" y="1628640"/>
            <a:ext cx="43164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273480" y="1628640"/>
            <a:ext cx="43164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416400" y="1628640"/>
            <a:ext cx="43164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560760" y="1628640"/>
            <a:ext cx="43164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705120" y="1628640"/>
            <a:ext cx="43200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49840" y="1628640"/>
            <a:ext cx="43164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992400" y="1628640"/>
            <a:ext cx="43200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137120" y="1628640"/>
            <a:ext cx="43164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281480" y="1628640"/>
            <a:ext cx="43164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425840" y="1628640"/>
            <a:ext cx="43200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900000" y="2997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ат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43520" y="3017880"/>
            <a:ext cx="149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Ромалъл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46400" y="645336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Филиму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276160" y="422100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1.Йуха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750000" y="299088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Ачъ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568760" y="1628640"/>
            <a:ext cx="43200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713120" y="1628640"/>
            <a:ext cx="43200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57840" y="1628640"/>
            <a:ext cx="43164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288040" y="1628640"/>
            <a:ext cx="431640" cy="1152720"/>
          </a:xfrm>
          <a:prstGeom prst="cube">
            <a:avLst>
              <a:gd name="adj" fmla="val 71824"/>
            </a:avLst>
          </a:prstGeom>
          <a:solidFill>
            <a:srgbClr val="3399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432400" y="1628640"/>
            <a:ext cx="432000" cy="1152720"/>
          </a:xfrm>
          <a:prstGeom prst="cube">
            <a:avLst>
              <a:gd name="adj" fmla="val 71824"/>
            </a:avLst>
          </a:prstGeom>
          <a:solidFill>
            <a:srgbClr val="3399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576760" y="1628640"/>
            <a:ext cx="432000" cy="1152720"/>
          </a:xfrm>
          <a:prstGeom prst="cube">
            <a:avLst>
              <a:gd name="adj" fmla="val 71824"/>
            </a:avLst>
          </a:prstGeom>
          <a:solidFill>
            <a:srgbClr val="3399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721480" y="1628640"/>
            <a:ext cx="431640" cy="1152720"/>
          </a:xfrm>
          <a:prstGeom prst="cube">
            <a:avLst>
              <a:gd name="adj" fmla="val 71824"/>
            </a:avLst>
          </a:prstGeom>
          <a:solidFill>
            <a:srgbClr val="3399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5840" y="1628640"/>
            <a:ext cx="431640" cy="1152720"/>
          </a:xfrm>
          <a:prstGeom prst="cube">
            <a:avLst>
              <a:gd name="adj" fmla="val 71824"/>
            </a:avLst>
          </a:prstGeom>
          <a:solidFill>
            <a:srgbClr val="3399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008760" y="1628640"/>
            <a:ext cx="431640" cy="1152720"/>
          </a:xfrm>
          <a:prstGeom prst="cube">
            <a:avLst>
              <a:gd name="adj" fmla="val 71824"/>
            </a:avLst>
          </a:prstGeom>
          <a:solidFill>
            <a:srgbClr val="3399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153120" y="1628640"/>
            <a:ext cx="432000" cy="1152720"/>
          </a:xfrm>
          <a:prstGeom prst="cube">
            <a:avLst>
              <a:gd name="adj" fmla="val 71824"/>
            </a:avLst>
          </a:prstGeom>
          <a:solidFill>
            <a:srgbClr val="3399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97480" y="1628640"/>
            <a:ext cx="432000" cy="1152720"/>
          </a:xfrm>
          <a:prstGeom prst="cube">
            <a:avLst>
              <a:gd name="adj" fmla="val 71824"/>
            </a:avLst>
          </a:prstGeom>
          <a:solidFill>
            <a:srgbClr val="3399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093080" y="1628640"/>
            <a:ext cx="431640" cy="1152720"/>
          </a:xfrm>
          <a:prstGeom prst="cube">
            <a:avLst>
              <a:gd name="adj" fmla="val 71824"/>
            </a:avLst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01800" y="327816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арк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00720" y="357336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Л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902520" y="386064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Йуха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140640" y="328464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1.Коринтли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145320" y="35733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2.Коринтли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134520" y="385452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Галатялъл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134520" y="414180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Ефесли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146400" y="443088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Филипили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144600" y="472428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Колосели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146040" y="501336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1.Селаникли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46040" y="530064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2.Селаникли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148920" y="5589720"/>
            <a:ext cx="15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1.Тимотей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147120" y="5870520"/>
            <a:ext cx="15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2.Тимотей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146400" y="616572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Тит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276880" y="393228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2.Петр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288040" y="364320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1.Петр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286600" y="334980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Яку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286600" y="3067200"/>
            <a:ext cx="14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Ибрани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276160" y="508464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Ях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75800" y="4797360"/>
            <a:ext cx="13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3.Йухан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76160" y="450864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2.Йуха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340000" y="1628640"/>
            <a:ext cx="431640" cy="1152720"/>
          </a:xfrm>
          <a:prstGeom prst="cube">
            <a:avLst>
              <a:gd name="adj" fmla="val 71824"/>
            </a:avLst>
          </a:prstGeom>
          <a:solidFill>
            <a:srgbClr val="00008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990800" y="2997360"/>
            <a:ext cx="121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Апост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Ишле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rot="5400000">
            <a:off x="1564560" y="1107360"/>
            <a:ext cx="180720" cy="792000"/>
          </a:xfrm>
          <a:custGeom>
            <a:avLst/>
            <a:gdLst>
              <a:gd name="textAreaLeft" fmla="*/ 115560 w 180720"/>
              <a:gd name="textAreaRight" fmla="*/ 181080 w 18072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rot="5400000">
            <a:off x="4248000" y="512640"/>
            <a:ext cx="215640" cy="2016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rot="5400000">
            <a:off x="6030360" y="925920"/>
            <a:ext cx="180720" cy="1224000"/>
          </a:xfrm>
          <a:custGeom>
            <a:avLst/>
            <a:gdLst>
              <a:gd name="textAreaLeft" fmla="*/ 115560 w 180720"/>
              <a:gd name="textAreaRight" fmla="*/ 181080 w 1807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rot="5400000">
            <a:off x="2590560" y="1376280"/>
            <a:ext cx="215640" cy="289080"/>
          </a:xfrm>
          <a:custGeom>
            <a:avLst/>
            <a:gdLst>
              <a:gd name="textAreaLeft" fmla="*/ 137880 w 215640"/>
              <a:gd name="textAreaRight" fmla="*/ 216000 w 215640"/>
              <a:gd name="textAreaTop" fmla="*/ 7200 h 289080"/>
              <a:gd name="textAreaBottom" fmla="*/ 281880 h 28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rot="5400000">
            <a:off x="7345080" y="1376280"/>
            <a:ext cx="215640" cy="289080"/>
          </a:xfrm>
          <a:custGeom>
            <a:avLst/>
            <a:gdLst>
              <a:gd name="textAreaLeft" fmla="*/ 137880 w 215640"/>
              <a:gd name="textAreaRight" fmla="*/ 216000 w 215640"/>
              <a:gd name="textAreaTop" fmla="*/ 7200 h 289080"/>
              <a:gd name="textAreaBottom" fmla="*/ 281880 h 28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49160" y="1046160"/>
            <a:ext cx="165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БИО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391120" y="105264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ТАР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497040" y="105264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ПАВЛ. МЕК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365440" y="105264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ГЕНЕЛ МЕК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023240" y="105264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ПЕЙГАМБЕРЛ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0" dur="indefinite" restart="never" nodeType="tmRoot">
          <p:childTnLst>
            <p:seq>
              <p:cTn id="1371" dur="indefinite" nodeType="mainSeq">
                <p:childTnLst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400" spc="-1" strike="noStrike">
                <a:solidFill>
                  <a:srgbClr val="000000"/>
                </a:solidFill>
                <a:latin typeface="Century Gothic"/>
              </a:rPr>
              <a:t>Кючюк Пейгамберл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866840" y="2205000"/>
            <a:ext cx="35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Хошафъ йолладъм амдж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763520" y="3645000"/>
            <a:ext cx="41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Овакът йумурталар микропландъ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650120" y="5006880"/>
            <a:ext cx="430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Насъл, хаваданмъ сервира япайъ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34880" y="6491160"/>
            <a:ext cx="33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Хани закусканън малларъ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4573440" y="1090440"/>
            <a:ext cx="1440000" cy="102096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6373800" y="1111320"/>
            <a:ext cx="1222560" cy="9954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4"/>
          <a:stretch/>
        </p:blipFill>
        <p:spPr>
          <a:xfrm>
            <a:off x="7885080" y="1081080"/>
            <a:ext cx="905040" cy="105264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5"/>
          <a:stretch/>
        </p:blipFill>
        <p:spPr>
          <a:xfrm>
            <a:off x="4832280" y="2637000"/>
            <a:ext cx="887400" cy="97632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6"/>
          <a:stretch/>
        </p:blipFill>
        <p:spPr>
          <a:xfrm>
            <a:off x="6127920" y="2708280"/>
            <a:ext cx="1096920" cy="92088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7"/>
          <a:stretch/>
        </p:blipFill>
        <p:spPr>
          <a:xfrm>
            <a:off x="7711920" y="2565360"/>
            <a:ext cx="790560" cy="10699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4789800" y="414972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8"/>
          <a:stretch/>
        </p:blipFill>
        <p:spPr>
          <a:xfrm>
            <a:off x="7308720" y="4149720"/>
            <a:ext cx="1079640" cy="8208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4872240" y="566100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9"/>
          <a:stretch/>
        </p:blipFill>
        <p:spPr>
          <a:xfrm>
            <a:off x="5651640" y="5462640"/>
            <a:ext cx="1150920" cy="96516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10"/>
          <a:stretch/>
        </p:blipFill>
        <p:spPr>
          <a:xfrm>
            <a:off x="7093080" y="553572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11"/>
          <a:stretch/>
        </p:blipFill>
        <p:spPr>
          <a:xfrm>
            <a:off x="5580000" y="4149720"/>
            <a:ext cx="1295640" cy="86364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12"/>
          <a:stretch/>
        </p:blipFill>
        <p:spPr>
          <a:xfrm>
            <a:off x="826920" y="1773360"/>
            <a:ext cx="297036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2" dur="indefinite" restart="never" nodeType="tmRoot">
          <p:childTnLst>
            <p:seq>
              <p:cTn id="1643" dur="indefinite" nodeType="mainSeq">
                <p:childTnLst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400" spc="-1" strike="noStrike">
                <a:solidFill>
                  <a:srgbClr val="000000"/>
                </a:solidFill>
                <a:latin typeface="Century Gothic"/>
              </a:rPr>
              <a:t>Кючюк Пейгамберл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71240" y="1574640"/>
            <a:ext cx="1383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Хоше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Йо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Ам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Овад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Йун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М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Нах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Хавак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Сефа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Хаг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Зеке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Мала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463200" y="1989000"/>
            <a:ext cx="463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666633"/>
                </a:solidFill>
                <a:latin typeface="Arial"/>
              </a:rPr>
              <a:t>Хошафъ йолладъм амдж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448080" y="2997360"/>
            <a:ext cx="54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666633"/>
                </a:solidFill>
                <a:latin typeface="Arial"/>
              </a:rPr>
              <a:t>Овакът йумурталар микропланд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449520" y="4149720"/>
            <a:ext cx="569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666633"/>
                </a:solidFill>
                <a:latin typeface="Arial"/>
              </a:rPr>
              <a:t>Насъл, хаваданмъ сервира япайъ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421080" y="5203800"/>
            <a:ext cx="44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666633"/>
                </a:solidFill>
                <a:latin typeface="Arial"/>
              </a:rPr>
              <a:t>Хани закусканън малларъ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 flipV="1">
            <a:off x="1856880" y="1915920"/>
            <a:ext cx="12970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1857240" y="220500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1857240" y="2347920"/>
            <a:ext cx="1224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 flipV="1">
            <a:off x="1855440" y="2997000"/>
            <a:ext cx="12970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1855440" y="32860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1855800" y="3429000"/>
            <a:ext cx="1224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 flipV="1">
            <a:off x="1856880" y="4005000"/>
            <a:ext cx="12970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1857240" y="429408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1857240" y="4437000"/>
            <a:ext cx="1224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 flipV="1">
            <a:off x="1855440" y="5157360"/>
            <a:ext cx="12970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1855440" y="54468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1855800" y="5589720"/>
            <a:ext cx="1224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716280"/>
            <a:ext cx="9144000" cy="289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51" y="0"/>
                </a:lnTo>
                <a:lnTo>
                  <a:pt x="21600" y="10800"/>
                </a:lnTo>
                <a:lnTo>
                  <a:pt x="2095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99cc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400" spc="-1" strike="noStrike">
                <a:solidFill>
                  <a:srgbClr val="0000cc"/>
                </a:solidFill>
                <a:latin typeface="Century Gothic"/>
              </a:rPr>
              <a:t>Кутсал Китап</a:t>
            </a:r>
            <a:r>
              <a:rPr b="1" i="1" lang="bg-BG" sz="4400" spc="-1" strike="noStrike">
                <a:solidFill>
                  <a:srgbClr val="000000"/>
                </a:solidFill>
                <a:latin typeface="Century Gothic"/>
              </a:rPr>
              <a:t> насъл язълдъ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4315" r="0" b="14186"/>
          <a:stretch/>
        </p:blipFill>
        <p:spPr>
          <a:xfrm>
            <a:off x="3635280" y="1125360"/>
            <a:ext cx="1800360" cy="1438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22200" y="3357720"/>
            <a:ext cx="793800" cy="930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H="1">
            <a:off x="684360" y="2637000"/>
            <a:ext cx="2808000" cy="64764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547280" y="2708280"/>
            <a:ext cx="2232360" cy="5763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411280" y="2781360"/>
            <a:ext cx="1656000" cy="5032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276720" y="2781360"/>
            <a:ext cx="1008000" cy="5032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4140360" y="2781360"/>
            <a:ext cx="287280" cy="5032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16360" y="2781360"/>
            <a:ext cx="287280" cy="5032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148360" y="2781360"/>
            <a:ext cx="1584360" cy="5032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35640" y="2708280"/>
            <a:ext cx="2089080" cy="5763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08720" y="2565360"/>
            <a:ext cx="2950920" cy="7192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59280" y="2781360"/>
            <a:ext cx="1008000" cy="5032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>
            <a:lum contrast="54000"/>
          </a:blip>
          <a:stretch/>
        </p:blipFill>
        <p:spPr>
          <a:xfrm>
            <a:off x="4019400" y="5084640"/>
            <a:ext cx="1128960" cy="1657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4360" y="4365720"/>
            <a:ext cx="3095640" cy="863640"/>
          </a:xfrm>
          <a:prstGeom prst="line">
            <a:avLst/>
          </a:prstGeom>
          <a:ln w="3816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47640" y="4365720"/>
            <a:ext cx="2303640" cy="718920"/>
          </a:xfrm>
          <a:prstGeom prst="line">
            <a:avLst/>
          </a:prstGeom>
          <a:ln w="3816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11280" y="4365720"/>
            <a:ext cx="1656000" cy="647640"/>
          </a:xfrm>
          <a:prstGeom prst="line">
            <a:avLst/>
          </a:prstGeom>
          <a:ln w="3816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4365720"/>
            <a:ext cx="1008000" cy="647640"/>
          </a:xfrm>
          <a:prstGeom prst="line">
            <a:avLst/>
          </a:prstGeom>
          <a:ln w="3816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365720"/>
            <a:ext cx="360360" cy="647640"/>
          </a:xfrm>
          <a:prstGeom prst="line">
            <a:avLst/>
          </a:prstGeom>
          <a:ln w="3816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716360" y="4365720"/>
            <a:ext cx="287280" cy="647640"/>
          </a:xfrm>
          <a:prstGeom prst="line">
            <a:avLst/>
          </a:prstGeom>
          <a:ln w="3816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859280" y="4365720"/>
            <a:ext cx="1008000" cy="647640"/>
          </a:xfrm>
          <a:prstGeom prst="line">
            <a:avLst/>
          </a:prstGeom>
          <a:ln w="3816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48000" y="4365720"/>
            <a:ext cx="1584360" cy="647640"/>
          </a:xfrm>
          <a:prstGeom prst="line">
            <a:avLst/>
          </a:prstGeom>
          <a:ln w="3816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292360" y="4365720"/>
            <a:ext cx="2376360" cy="792000"/>
          </a:xfrm>
          <a:prstGeom prst="line">
            <a:avLst/>
          </a:prstGeom>
          <a:ln w="3816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435280" y="4365720"/>
            <a:ext cx="3025800" cy="934920"/>
          </a:xfrm>
          <a:prstGeom prst="line">
            <a:avLst/>
          </a:prstGeom>
          <a:ln w="3816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1125360"/>
            <a:ext cx="3384720" cy="916920"/>
          </a:xfrm>
          <a:prstGeom prst="rect">
            <a:avLst/>
          </a:pr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) 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Бютюн китабън асъл язаръ: Аллахън кендиси – Кутсал Рух олар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2276640"/>
            <a:ext cx="3384720" cy="916920"/>
          </a:xfrm>
          <a:prstGeom prst="rect">
            <a:avLst/>
          </a:pr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) </a:t>
            </a:r>
            <a:r>
              <a:rPr b="1" lang="bg-BG" sz="1800" spc="-1" strike="noStrike">
                <a:solidFill>
                  <a:srgbClr val="800000"/>
                </a:solidFill>
                <a:latin typeface="Arial"/>
              </a:rPr>
              <a:t>Кърк адам 1500 сене ичинде Аллахън ишине шахитлик яптъл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5105520"/>
            <a:ext cx="3384720" cy="1191240"/>
          </a:xfrm>
          <a:prstGeom prst="rect">
            <a:avLst/>
          </a:pr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8080"/>
                </a:solidFill>
                <a:latin typeface="Arial"/>
              </a:rPr>
              <a:t>3)</a:t>
            </a: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8080"/>
                </a:solidFill>
                <a:latin typeface="Arial"/>
              </a:rPr>
              <a:t>Аллхън халкъ Кутсал Рух’ун сесини танъйъп Кутсал Язъларъ бир китап халине гетир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5013360"/>
            <a:ext cx="3348000" cy="916920"/>
          </a:xfrm>
          <a:prstGeom prst="rect">
            <a:avLst/>
          </a:pr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8080"/>
                </a:solidFill>
                <a:latin typeface="Times New Roman"/>
              </a:rPr>
              <a:t>“</a:t>
            </a:r>
            <a:r>
              <a:rPr b="1" lang="tr-TR" sz="1800" spc="-1" strike="noStrike">
                <a:solidFill>
                  <a:srgbClr val="008080"/>
                </a:solidFill>
                <a:latin typeface="Times New Roman"/>
              </a:rPr>
              <a:t>Беним койунларъм беним сесими ишитийорлар.</a:t>
            </a:r>
            <a:r>
              <a:rPr b="1" lang="bg-BG" sz="2000" spc="-1" strike="noStrike">
                <a:solidFill>
                  <a:srgbClr val="00808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808080"/>
                </a:solidFill>
                <a:latin typeface="Arial"/>
              </a:rPr>
              <a:t>Йуханна 10: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24360" y="2236680"/>
            <a:ext cx="3419640" cy="978120"/>
          </a:xfrm>
          <a:prstGeom prst="rect">
            <a:avLst/>
          </a:pr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Times New Roman"/>
              </a:rPr>
              <a:t>“</a:t>
            </a:r>
            <a:r>
              <a:rPr b="1" lang="tr-TR" sz="1800" spc="-1" strike="noStrike">
                <a:solidFill>
                  <a:srgbClr val="800000"/>
                </a:solidFill>
                <a:latin typeface="Times New Roman"/>
              </a:rPr>
              <a:t>Кутсал Рух кишилери ьон</a:t>
            </a:r>
            <a:r>
              <a:rPr b="1" lang="bg-BG" sz="1800" spc="-1" strike="noStrike">
                <a:solidFill>
                  <a:srgbClr val="800000"/>
                </a:solidFill>
                <a:latin typeface="Times New Roman"/>
              </a:rPr>
              <a:t>-</a:t>
            </a:r>
            <a:r>
              <a:rPr b="1" lang="tr-TR" sz="1800" spc="-1" strike="noStrike">
                <a:solidFill>
                  <a:srgbClr val="800000"/>
                </a:solidFill>
                <a:latin typeface="Times New Roman"/>
              </a:rPr>
              <a:t>терди де ьойле Аллах'тан конуштулар.</a:t>
            </a:r>
            <a:r>
              <a:rPr b="1" lang="bg-BG" sz="2000" spc="-1" strike="noStrike">
                <a:solidFill>
                  <a:srgbClr val="800000"/>
                </a:solidFill>
                <a:latin typeface="Times New Roman"/>
              </a:rPr>
              <a:t>”</a:t>
            </a:r>
            <a:r>
              <a:rPr b="1" lang="bg-BG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bg-BG" sz="1400" spc="-1" strike="noStrike">
                <a:solidFill>
                  <a:srgbClr val="808080"/>
                </a:solidFill>
                <a:latin typeface="Arial"/>
              </a:rPr>
              <a:t>2.Петрус 1:20-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1176480"/>
            <a:ext cx="3419640" cy="886320"/>
          </a:xfrm>
          <a:prstGeom prst="rect">
            <a:avLst/>
          </a:pr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1" lang="tr-TR" sz="1800" spc="-1" strike="noStrike">
                <a:solidFill>
                  <a:srgbClr val="000066"/>
                </a:solidFill>
                <a:latin typeface="Times New Roman"/>
              </a:rPr>
              <a:t>Китабъ-Мукаддес'ин хепси Аллахън солуундан </a:t>
            </a:r>
            <a:r>
              <a:rPr b="1" lang="bg-BG" sz="1800" spc="-1" strike="noStrike">
                <a:solidFill>
                  <a:srgbClr val="000066"/>
                </a:solidFill>
                <a:latin typeface="Times New Roman"/>
              </a:rPr>
              <a:t>гелийор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808080"/>
                </a:solidFill>
                <a:latin typeface="Arial"/>
              </a:rPr>
              <a:t>2.Тимотейус </a:t>
            </a: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3</a:t>
            </a:r>
            <a:r>
              <a:rPr b="1" i="1" lang="bg-BG" sz="1400" spc="-1" strike="noStrike">
                <a:solidFill>
                  <a:srgbClr val="808080"/>
                </a:solidFill>
                <a:latin typeface="Arial"/>
              </a:rPr>
              <a:t>: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1187280" y="3357720"/>
            <a:ext cx="792360" cy="934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4732200" y="3357720"/>
            <a:ext cx="720720" cy="934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5557680" y="3357720"/>
            <a:ext cx="727200" cy="934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2955960" y="3357720"/>
            <a:ext cx="792000" cy="934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9"/>
          <a:stretch/>
        </p:blipFill>
        <p:spPr>
          <a:xfrm>
            <a:off x="3851280" y="3357720"/>
            <a:ext cx="792000" cy="9302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0"/>
          <a:stretch/>
        </p:blipFill>
        <p:spPr>
          <a:xfrm>
            <a:off x="6372360" y="3357720"/>
            <a:ext cx="792000" cy="934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1"/>
          <a:stretch/>
        </p:blipFill>
        <p:spPr>
          <a:xfrm>
            <a:off x="7251840" y="3357720"/>
            <a:ext cx="792000" cy="934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2"/>
          <a:stretch/>
        </p:blipFill>
        <p:spPr>
          <a:xfrm>
            <a:off x="2076480" y="3357720"/>
            <a:ext cx="792000" cy="934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3"/>
          <a:stretch/>
        </p:blipFill>
        <p:spPr>
          <a:xfrm>
            <a:off x="8116920" y="3357720"/>
            <a:ext cx="7635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601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601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301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4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4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3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7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7" presetSubtype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3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7" presetSubtype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3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7" presetSubtype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3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3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3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3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7" presetSubtype="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3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3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7" presetSubtype="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3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3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3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3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7" presetSubtype="1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3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201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701"/>
                            </p:stCondLst>
                            <p:childTnLst>
                              <p:par>
                                <p:cTn id="16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201"/>
                            </p:stCondLst>
                            <p:childTnLst>
                              <p:par>
                                <p:cTn id="17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401"/>
                            </p:stCondLst>
                            <p:childTnLst>
                              <p:par>
                                <p:cTn id="18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601"/>
                            </p:stCondLst>
                            <p:childTnLst>
                              <p:par>
                                <p:cTn id="18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801"/>
                            </p:stCondLst>
                            <p:childTnLst>
                              <p:par>
                                <p:cTn id="19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6001"/>
                            </p:stCondLst>
                            <p:childTnLst>
                              <p:par>
                                <p:cTn id="20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6201"/>
                            </p:stCondLst>
                            <p:childTnLst>
                              <p:par>
                                <p:cTn id="21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401"/>
                            </p:stCondLst>
                            <p:childTnLst>
                              <p:par>
                                <p:cTn id="2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601"/>
                            </p:stCondLst>
                            <p:childTnLst>
                              <p:par>
                                <p:cTn id="2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6801"/>
                            </p:stCondLst>
                            <p:childTnLst>
                              <p:par>
                                <p:cTn id="2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7001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0000cc"/>
                </a:solidFill>
                <a:latin typeface="Century Gothic"/>
              </a:rPr>
              <a:t>Кутсал Китап</a:t>
            </a:r>
            <a:r>
              <a:rPr b="1" i="1" lang="bg-BG" sz="3200" spc="-1" strike="noStrike">
                <a:solidFill>
                  <a:srgbClr val="000000"/>
                </a:solidFill>
                <a:latin typeface="Century Gothic"/>
              </a:rPr>
              <a:t> ве </a:t>
            </a:r>
            <a:r>
              <a:rPr b="1" i="1" lang="bg-BG" sz="3600" spc="-1" strike="noStrike">
                <a:solidFill>
                  <a:srgbClr val="339933"/>
                </a:solidFill>
                <a:latin typeface="Century Gothic"/>
              </a:rPr>
              <a:t>Куран</a:t>
            </a:r>
            <a:r>
              <a:rPr b="1" i="1" lang="bg-BG" sz="3200" spc="-1" strike="noStrike">
                <a:solidFill>
                  <a:srgbClr val="000000"/>
                </a:solidFill>
                <a:latin typeface="Century Gothic"/>
              </a:rPr>
              <a:t> насъл язълдъ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rcRect l="0" t="14315" r="0" b="14186"/>
          <a:stretch/>
        </p:blipFill>
        <p:spPr>
          <a:xfrm>
            <a:off x="539640" y="1052640"/>
            <a:ext cx="1800360" cy="1438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042920" y="2637000"/>
            <a:ext cx="1656000" cy="2082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116000" y="1628640"/>
            <a:ext cx="3095640" cy="916920"/>
          </a:xfrm>
          <a:prstGeom prst="rect">
            <a:avLst/>
          </a:pr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. 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Кутсал Рух 1500 сене бойунджа 40 кишинин ичинде чалъшт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5218200" y="2637000"/>
            <a:ext cx="1655640" cy="2092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4643280" y="1052640"/>
            <a:ext cx="1800360" cy="1439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1476360" y="4941720"/>
            <a:ext cx="1513080" cy="1511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5722920" y="4941720"/>
            <a:ext cx="1511280" cy="1511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924360" y="907920"/>
            <a:ext cx="1368360" cy="5950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3808440"/>
            <a:ext cx="3240000" cy="916920"/>
          </a:xfrm>
          <a:prstGeom prst="rect">
            <a:avLst/>
          </a:pr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. </a:t>
            </a:r>
            <a:r>
              <a:rPr b="1" lang="bg-BG" sz="1800" spc="-1" strike="noStrike">
                <a:solidFill>
                  <a:srgbClr val="800000"/>
                </a:solidFill>
                <a:latin typeface="Arial"/>
              </a:rPr>
              <a:t>Онлар Аллахън сьозюню алъркен кафа-ларъ нормал ишлер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63640" y="6021360"/>
            <a:ext cx="3240000" cy="642600"/>
          </a:xfrm>
          <a:prstGeom prst="rect">
            <a:avLst/>
          </a:pr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808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. </a:t>
            </a:r>
            <a:r>
              <a:rPr b="1" lang="bg-BG" sz="1800" spc="-1" strike="noStrike">
                <a:solidFill>
                  <a:srgbClr val="008080"/>
                </a:solidFill>
                <a:latin typeface="Arial"/>
              </a:rPr>
              <a:t>КК’ън язарларъ ШАХИТ оларак кулланълдъ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56360" y="1628640"/>
            <a:ext cx="2952720" cy="916920"/>
          </a:xfrm>
          <a:prstGeom prst="rect">
            <a:avLst/>
          </a:pr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. 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Кьотю рухлар 23 сене бойунджа 1 кишинин ичинде чалъштъ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92720" y="3808440"/>
            <a:ext cx="3816360" cy="916920"/>
          </a:xfrm>
          <a:prstGeom prst="rect">
            <a:avLst/>
          </a:pr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. </a:t>
            </a:r>
            <a:r>
              <a:rPr b="1" lang="bg-BG" sz="1800" spc="-1" strike="noStrike">
                <a:solidFill>
                  <a:srgbClr val="800000"/>
                </a:solidFill>
                <a:latin typeface="Arial"/>
              </a:rPr>
              <a:t>Онларън сьозлерини алър-кен Мухаммед кендинден гечип контролуну кайбер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4360" y="6021360"/>
            <a:ext cx="3384720" cy="642600"/>
          </a:xfrm>
          <a:prstGeom prst="rect">
            <a:avLst/>
          </a:pr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808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. </a:t>
            </a:r>
            <a:r>
              <a:rPr b="1" lang="bg-BG" sz="1800" spc="-1" strike="noStrike">
                <a:solidFill>
                  <a:srgbClr val="008080"/>
                </a:solidFill>
                <a:latin typeface="Arial"/>
              </a:rPr>
              <a:t>Мухаммед бир МАШИНА гиби кулланълдъ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62200" y="2492280"/>
            <a:ext cx="5834160" cy="2933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c0c0c0"/>
                </a:solidFill>
                <a:latin typeface="Garamond"/>
              </a:rPr>
              <a:t>“</a:t>
            </a:r>
            <a:r>
              <a:rPr b="1" lang="tr-TR" sz="4000" spc="-1" strike="noStrike">
                <a:solidFill>
                  <a:srgbClr val="c0c0c0"/>
                </a:solidFill>
                <a:latin typeface="Garamond"/>
              </a:rPr>
              <a:t>Пейгамберлерин рухларъ пейгамберлери сеслийорлар.</a:t>
            </a:r>
            <a:r>
              <a:rPr b="1" lang="bg-BG" sz="4000" spc="-1" strike="noStrike">
                <a:solidFill>
                  <a:srgbClr val="c0c0c0"/>
                </a:solidFill>
                <a:latin typeface="Garamond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(1.Коринтлилер 14: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77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1" dur="770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3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5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bed"/>
            </a:gs>
            <a:gs pos="100000">
              <a:srgbClr val="75838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400" spc="-1" strike="noStrike">
                <a:solidFill>
                  <a:srgbClr val="0000cc"/>
                </a:solidFill>
                <a:latin typeface="Century Gothic"/>
              </a:rPr>
              <a:t>Кутсал Китап</a:t>
            </a:r>
            <a:r>
              <a:rPr b="1" i="1" lang="bg-BG" sz="4400" spc="-1" strike="noStrike">
                <a:solidFill>
                  <a:srgbClr val="000000"/>
                </a:solidFill>
                <a:latin typeface="Century Gothic"/>
              </a:rPr>
              <a:t> насъл язълдъ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105264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3399"/>
                </a:solidFill>
                <a:latin typeface="Arial"/>
              </a:rPr>
              <a:t>ИСА МЕСИХ, Кутсал Китабън ортасъдъ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00000" y="3048120"/>
            <a:ext cx="6782040" cy="3809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419640" y="1773360"/>
            <a:ext cx="2054160" cy="3097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50920" y="1989000"/>
            <a:ext cx="2900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Ески Антлашма онун  </a:t>
            </a:r>
            <a:r>
              <a:rPr b="1" lang="bg-BG" sz="2000" spc="-1" strike="noStrike">
                <a:solidFill>
                  <a:srgbClr val="00ccff"/>
                </a:solidFill>
                <a:latin typeface="Arial"/>
              </a:rPr>
              <a:t>ГЕЛЕДЖЕИНИ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гьостери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03840" y="1989000"/>
            <a:ext cx="2900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Йени Антлашма онун  </a:t>
            </a:r>
            <a:r>
              <a:rPr b="1" lang="bg-BG" sz="2000" spc="-1" strike="noStrike">
                <a:solidFill>
                  <a:srgbClr val="ff9933"/>
                </a:solidFill>
                <a:latin typeface="Arial"/>
              </a:rPr>
              <a:t>ГЕЛДИИНИ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гьостери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3068640"/>
            <a:ext cx="3024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Йени Антлашма  олмадан, Ески Атнлашма ексик калъйор – Аллахън вердии сьозлер каршълъксъз калъ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6000" y="3068640"/>
            <a:ext cx="3168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Ески Антлашма  олмадан, Йени Атнлашмайъ бютюн оларак анламаяджаз – Иса Месихин ишини ве ьонемини там анлаямаядж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5370480"/>
            <a:ext cx="9144000" cy="1373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d3ebed"/>
                </a:solidFill>
                <a:latin typeface="Garamond"/>
              </a:rPr>
              <a:t>“</a:t>
            </a:r>
            <a:r>
              <a:rPr b="1" lang="tr-TR" sz="2200" spc="-1" strike="noStrike">
                <a:solidFill>
                  <a:srgbClr val="d3ebed"/>
                </a:solidFill>
                <a:latin typeface="Arial"/>
              </a:rPr>
              <a:t>Сонра Муса ве бютюн пейгамберлерден тутуп бютюн Кутсал Китап'та кендисинден ичин не кадар шейлер язълмъшса, онлара ачъкламая башладъ.</a:t>
            </a:r>
            <a:r>
              <a:rPr b="0" lang="tr-TR" sz="2200" spc="-1" strike="noStrike">
                <a:solidFill>
                  <a:srgbClr val="d3ebed"/>
                </a:solidFill>
                <a:latin typeface="Arial"/>
              </a:rPr>
              <a:t> </a:t>
            </a:r>
            <a:r>
              <a:rPr b="1" lang="bg-BG" sz="2200" spc="-1" strike="noStrike">
                <a:solidFill>
                  <a:srgbClr val="d3ebed"/>
                </a:solidFill>
                <a:latin typeface="Garamond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(1.Коринтлилер 14: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77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0" dur="770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2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4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3db9"/>
            </a:gs>
            <a:gs pos="100000">
              <a:srgbClr val="1c1c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44000" cy="907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Arial"/>
              </a:rPr>
              <a:t>Кутсал Китабън Китапчъклар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73080" y="1268280"/>
            <a:ext cx="59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99cc00"/>
                </a:solidFill>
                <a:latin typeface="Arial"/>
              </a:rPr>
              <a:t>Кутсал Китап аслънда бир китап деилдир, кючюк бир библиотекадъ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99cc00"/>
                </a:solidFill>
                <a:latin typeface="Arial"/>
              </a:rPr>
              <a:t>66 китапчък = 39 ЕА + 27 Й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87280" y="4383000"/>
            <a:ext cx="72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 u="sng">
                <a:solidFill>
                  <a:srgbClr val="99ccff"/>
                </a:solidFill>
                <a:uFillTx/>
                <a:latin typeface="Arial"/>
              </a:rPr>
              <a:t>Ески</a:t>
            </a:r>
            <a:r>
              <a:rPr b="1" lang="bg-BG" sz="2000" spc="-1" strike="noStrike">
                <a:solidFill>
                  <a:srgbClr val="99ccff"/>
                </a:solidFill>
                <a:latin typeface="Arial"/>
              </a:rPr>
              <a:t> Антлашма’нън тел. Нумарасъ:</a:t>
            </a:r>
            <a:r>
              <a:rPr b="1" lang="bg-BG" sz="2000" spc="-1" strike="noStrike">
                <a:solidFill>
                  <a:srgbClr val="ffff66"/>
                </a:solidFill>
                <a:latin typeface="Arial"/>
              </a:rPr>
              <a:t>  5 - 12</a:t>
            </a:r>
            <a:r>
              <a:rPr b="1" lang="tr-T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66"/>
                </a:solidFill>
                <a:latin typeface="Arial"/>
              </a:rPr>
              <a:t>-</a:t>
            </a:r>
            <a:r>
              <a:rPr b="0" lang="tr-T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66"/>
                </a:solidFill>
                <a:latin typeface="Arial"/>
              </a:rPr>
              <a:t>5 - 5 -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 u="sng">
                <a:solidFill>
                  <a:srgbClr val="99ccff"/>
                </a:solidFill>
                <a:uFillTx/>
                <a:latin typeface="Arial"/>
              </a:rPr>
              <a:t>Йени</a:t>
            </a:r>
            <a:r>
              <a:rPr b="1" lang="bg-BG" sz="2000" spc="-1" strike="noStrike">
                <a:solidFill>
                  <a:srgbClr val="99ccff"/>
                </a:solidFill>
                <a:latin typeface="Arial"/>
              </a:rPr>
              <a:t> Антлашма’нън тел. Нумарасъ:</a:t>
            </a:r>
            <a:r>
              <a:rPr b="1" lang="bg-BG" sz="2000" spc="-1" strike="noStrike">
                <a:solidFill>
                  <a:srgbClr val="ffff66"/>
                </a:solidFill>
                <a:latin typeface="Arial"/>
              </a:rPr>
              <a:t>  4 - 1 - 13 - </a:t>
            </a:r>
            <a:r>
              <a:rPr b="1" lang="tr-TR" sz="2000" spc="-1" strike="noStrike">
                <a:solidFill>
                  <a:srgbClr val="ffff66"/>
                </a:solidFill>
                <a:latin typeface="Arial"/>
              </a:rPr>
              <a:t>8</a:t>
            </a:r>
            <a:r>
              <a:rPr b="1" lang="bg-BG" sz="2000" spc="-1" strike="noStrike">
                <a:solidFill>
                  <a:srgbClr val="ffff66"/>
                </a:solidFill>
                <a:latin typeface="Arial"/>
              </a:rPr>
              <a:t> 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948360" y="1268280"/>
            <a:ext cx="1440000" cy="12495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4476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8768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3204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76400" y="3068640"/>
            <a:ext cx="432000" cy="1152360"/>
          </a:xfrm>
          <a:prstGeom prst="cube">
            <a:avLst>
              <a:gd name="adj" fmla="val 71824"/>
            </a:avLst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20760" y="3068640"/>
            <a:ext cx="432000" cy="1152360"/>
          </a:xfrm>
          <a:prstGeom prst="cube">
            <a:avLst>
              <a:gd name="adj" fmla="val 71824"/>
            </a:avLst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54200" y="3068640"/>
            <a:ext cx="432000" cy="1152360"/>
          </a:xfrm>
          <a:prstGeom prst="cube">
            <a:avLst>
              <a:gd name="adj" fmla="val 71824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97120" y="3068640"/>
            <a:ext cx="432000" cy="1152360"/>
          </a:xfrm>
          <a:prstGeom prst="cube">
            <a:avLst>
              <a:gd name="adj" fmla="val 71824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4004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84400" y="3068640"/>
            <a:ext cx="432000" cy="1152360"/>
          </a:xfrm>
          <a:prstGeom prst="cube">
            <a:avLst>
              <a:gd name="adj" fmla="val 71824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2912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7348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1640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6076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05120" y="3068640"/>
            <a:ext cx="432000" cy="1152360"/>
          </a:xfrm>
          <a:prstGeom prst="cube">
            <a:avLst>
              <a:gd name="adj" fmla="val 71824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4984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82920" y="3068640"/>
            <a:ext cx="432000" cy="115236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25840" y="3068640"/>
            <a:ext cx="432000" cy="115236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056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1492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5784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9128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bff9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33840" y="3068640"/>
            <a:ext cx="432000" cy="1152360"/>
          </a:xfrm>
          <a:prstGeom prst="cube">
            <a:avLst>
              <a:gd name="adj" fmla="val 71824"/>
            </a:avLst>
          </a:prstGeom>
          <a:solidFill>
            <a:srgbClr val="bff9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7856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bff9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2292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bff9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584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bff9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29928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bff9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4220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bff9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58512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bff9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2948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bff9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73840" y="3068640"/>
            <a:ext cx="432000" cy="1152360"/>
          </a:xfrm>
          <a:prstGeom prst="cube">
            <a:avLst>
              <a:gd name="adj" fmla="val 71824"/>
            </a:avLst>
          </a:prstGeom>
          <a:solidFill>
            <a:srgbClr val="bff9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018200" y="3068640"/>
            <a:ext cx="432000" cy="1152360"/>
          </a:xfrm>
          <a:prstGeom prst="cube">
            <a:avLst>
              <a:gd name="adj" fmla="val 71824"/>
            </a:avLst>
          </a:prstGeom>
          <a:solidFill>
            <a:srgbClr val="bff9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61120" y="3068640"/>
            <a:ext cx="432000" cy="1152360"/>
          </a:xfrm>
          <a:prstGeom prst="cube">
            <a:avLst>
              <a:gd name="adj" fmla="val 71824"/>
            </a:avLst>
          </a:prstGeom>
          <a:solidFill>
            <a:srgbClr val="bff9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0584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bff9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45020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bff9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74920" y="5300640"/>
            <a:ext cx="431640" cy="1152720"/>
          </a:xfrm>
          <a:prstGeom prst="cube">
            <a:avLst>
              <a:gd name="adj" fmla="val 71824"/>
            </a:avLst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17840" y="5300640"/>
            <a:ext cx="431640" cy="1152720"/>
          </a:xfrm>
          <a:prstGeom prst="cube">
            <a:avLst>
              <a:gd name="adj" fmla="val 71824"/>
            </a:avLst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2200" y="5300640"/>
            <a:ext cx="431640" cy="1152720"/>
          </a:xfrm>
          <a:prstGeom prst="cube">
            <a:avLst>
              <a:gd name="adj" fmla="val 71824"/>
            </a:avLst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6560" y="5300640"/>
            <a:ext cx="432000" cy="1152720"/>
          </a:xfrm>
          <a:prstGeom prst="cube">
            <a:avLst>
              <a:gd name="adj" fmla="val 71824"/>
            </a:avLst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89480" y="5300640"/>
            <a:ext cx="43164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32040" y="5300640"/>
            <a:ext cx="43200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774960" y="5300640"/>
            <a:ext cx="43200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19680" y="5300640"/>
            <a:ext cx="43164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064040" y="5300640"/>
            <a:ext cx="43164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08400" y="5300640"/>
            <a:ext cx="43200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351320" y="5300640"/>
            <a:ext cx="43164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95680" y="5300640"/>
            <a:ext cx="43200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40400" y="5300640"/>
            <a:ext cx="43164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84760" y="5300640"/>
            <a:ext cx="43164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927680" y="5300640"/>
            <a:ext cx="43164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72040" y="5300640"/>
            <a:ext cx="43200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6400" y="5300640"/>
            <a:ext cx="43200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646600" y="5300640"/>
            <a:ext cx="432000" cy="1152720"/>
          </a:xfrm>
          <a:prstGeom prst="cube">
            <a:avLst>
              <a:gd name="adj" fmla="val 71824"/>
            </a:avLst>
          </a:prstGeom>
          <a:solidFill>
            <a:srgbClr val="3399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91320" y="5300640"/>
            <a:ext cx="431640" cy="1152720"/>
          </a:xfrm>
          <a:prstGeom prst="cube">
            <a:avLst>
              <a:gd name="adj" fmla="val 71824"/>
            </a:avLst>
          </a:prstGeom>
          <a:solidFill>
            <a:srgbClr val="3399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35680" y="5300640"/>
            <a:ext cx="431640" cy="1152720"/>
          </a:xfrm>
          <a:prstGeom prst="cube">
            <a:avLst>
              <a:gd name="adj" fmla="val 71824"/>
            </a:avLst>
          </a:prstGeom>
          <a:solidFill>
            <a:srgbClr val="3399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80040" y="5300640"/>
            <a:ext cx="432000" cy="1152720"/>
          </a:xfrm>
          <a:prstGeom prst="cube">
            <a:avLst>
              <a:gd name="adj" fmla="val 71824"/>
            </a:avLst>
          </a:prstGeom>
          <a:solidFill>
            <a:srgbClr val="3399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224760" y="5300640"/>
            <a:ext cx="431640" cy="1152720"/>
          </a:xfrm>
          <a:prstGeom prst="cube">
            <a:avLst>
              <a:gd name="adj" fmla="val 71824"/>
            </a:avLst>
          </a:prstGeom>
          <a:solidFill>
            <a:srgbClr val="3399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67320" y="5300640"/>
            <a:ext cx="432000" cy="1152720"/>
          </a:xfrm>
          <a:prstGeom prst="cube">
            <a:avLst>
              <a:gd name="adj" fmla="val 71824"/>
            </a:avLst>
          </a:prstGeom>
          <a:solidFill>
            <a:srgbClr val="3399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512040" y="5300640"/>
            <a:ext cx="431640" cy="1152720"/>
          </a:xfrm>
          <a:prstGeom prst="cube">
            <a:avLst>
              <a:gd name="adj" fmla="val 71824"/>
            </a:avLst>
          </a:prstGeom>
          <a:solidFill>
            <a:srgbClr val="3399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656400" y="5300640"/>
            <a:ext cx="431640" cy="1152720"/>
          </a:xfrm>
          <a:prstGeom prst="cube">
            <a:avLst>
              <a:gd name="adj" fmla="val 71824"/>
            </a:avLst>
          </a:prstGeom>
          <a:solidFill>
            <a:srgbClr val="3399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451640" y="5300640"/>
            <a:ext cx="432000" cy="1152720"/>
          </a:xfrm>
          <a:prstGeom prst="cube">
            <a:avLst>
              <a:gd name="adj" fmla="val 71824"/>
            </a:avLst>
          </a:prstGeom>
          <a:solidFill>
            <a:srgbClr val="bff90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8920" y="5300640"/>
            <a:ext cx="431640" cy="1152720"/>
          </a:xfrm>
          <a:prstGeom prst="cube">
            <a:avLst>
              <a:gd name="adj" fmla="val 71824"/>
            </a:avLst>
          </a:prstGeom>
          <a:solidFill>
            <a:srgbClr val="00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333399"/>
                </a:solidFill>
                <a:latin typeface="Century Gothic"/>
              </a:rPr>
              <a:t>Ески Антлашма</a:t>
            </a:r>
            <a:r>
              <a:rPr b="1" i="1" lang="bg-BG" sz="4000" spc="-1" strike="noStrike">
                <a:solidFill>
                  <a:srgbClr val="000000"/>
                </a:solidFill>
                <a:latin typeface="Century Gothic"/>
              </a:rPr>
              <a:t>нън Китапчъклар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1160" y="1130400"/>
            <a:ext cx="874872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990000"/>
                </a:solidFill>
                <a:latin typeface="Verdana"/>
              </a:rPr>
              <a:t>1 - МУСА’нън китапларъ (5 тан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8080"/>
                </a:solidFill>
                <a:latin typeface="Arial"/>
              </a:rPr>
              <a:t>Не заман язълдъла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.ЬО. 1500 сенелерин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8080"/>
                </a:solidFill>
                <a:latin typeface="Arial"/>
              </a:rPr>
              <a:t>Ханги заманъ анлатъйор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юнянън яратълъшъндан, Муса’нън ьолюмюне кад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8080"/>
                </a:solidFill>
                <a:latin typeface="Arial"/>
              </a:rPr>
              <a:t>Китаплар ве ен ьонемли олайла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Яратълъш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: дюнянън яратълъшъ - Аден бахчеси - Нух’ун гемиси - Бабил кулеси - Ибрахим’ин хаятъ -  Исхак’ън хаятъ - Якуп’ун хаятъ - Йусуф’ун хаятъ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Чъкъш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: Мъсърдаки кьолелик - Муса - Мъсърдан чъкъш - Аллах канунунун верилмес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Левилилер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: Муса’нън кану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4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Сайъм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: кърк сене чьолде гезмек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5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Яса’нън текраръ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: Муса’нън кануну йениден верилийор, Муса’нън ьолюм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110040" y="5445000"/>
            <a:ext cx="718920" cy="115272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2390760" y="5445000"/>
            <a:ext cx="720720" cy="115272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1670040" y="5445000"/>
            <a:ext cx="720720" cy="115272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231840" y="5445000"/>
            <a:ext cx="718920" cy="115272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pic>
        <p:nvPicPr>
          <p:cNvPr id="178" name="" descr=""/>
          <p:cNvPicPr/>
          <p:nvPr/>
        </p:nvPicPr>
        <p:blipFill>
          <a:blip r:embed="rId6"/>
          <a:stretch/>
        </p:blipFill>
        <p:spPr>
          <a:xfrm>
            <a:off x="938160" y="5445000"/>
            <a:ext cx="731880" cy="115272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3830760" y="5445000"/>
            <a:ext cx="720720" cy="115272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pic>
        <p:nvPicPr>
          <p:cNvPr id="180" name="" descr=""/>
          <p:cNvPicPr/>
          <p:nvPr/>
        </p:nvPicPr>
        <p:blipFill>
          <a:blip r:embed="rId8"/>
          <a:stretch/>
        </p:blipFill>
        <p:spPr>
          <a:xfrm>
            <a:off x="4551480" y="5445000"/>
            <a:ext cx="712800" cy="115272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9"/>
          <a:stretch/>
        </p:blipFill>
        <p:spPr>
          <a:xfrm>
            <a:off x="5270400" y="5445000"/>
            <a:ext cx="719280" cy="115272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10"/>
          <a:stretch/>
        </p:blipFill>
        <p:spPr>
          <a:xfrm>
            <a:off x="5991120" y="5445000"/>
            <a:ext cx="720720" cy="115272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11"/>
          <a:stretch/>
        </p:blipFill>
        <p:spPr>
          <a:xfrm>
            <a:off x="6710400" y="5445000"/>
            <a:ext cx="763560" cy="115272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12"/>
          <a:stretch/>
        </p:blipFill>
        <p:spPr>
          <a:xfrm>
            <a:off x="7431120" y="5445000"/>
            <a:ext cx="720720" cy="115272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pic>
        <p:nvPicPr>
          <p:cNvPr id="185" name="" descr=""/>
          <p:cNvPicPr/>
          <p:nvPr/>
        </p:nvPicPr>
        <p:blipFill>
          <a:blip r:embed="rId13"/>
          <a:stretch/>
        </p:blipFill>
        <p:spPr>
          <a:xfrm>
            <a:off x="8151840" y="5445000"/>
            <a:ext cx="741240" cy="115272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500"/>
                            </p:stCondLst>
                            <p:childTnLst>
                              <p:par>
                                <p:cTn id="45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500"/>
                            </p:stCondLst>
                            <p:childTnLst>
                              <p:par>
                                <p:cTn id="46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3000"/>
                            </p:stCondLst>
                            <p:childTnLst>
                              <p:par>
                                <p:cTn id="47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500"/>
                            </p:stCondLst>
                            <p:childTnLst>
                              <p:par>
                                <p:cTn id="48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4500"/>
                            </p:stCondLst>
                            <p:childTnLst>
                              <p:par>
                                <p:cTn id="49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0"/>
                            </p:stCondLst>
                            <p:childTnLst>
                              <p:par>
                                <p:cTn id="5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500"/>
                            </p:stCondLst>
                            <p:childTnLst>
                              <p:par>
                                <p:cTn id="50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6000"/>
                            </p:stCondLst>
                            <p:childTnLst>
                              <p:par>
                                <p:cTn id="5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333399"/>
                </a:solidFill>
                <a:latin typeface="Century Gothic"/>
              </a:rPr>
              <a:t>Ески Антлашма</a:t>
            </a:r>
            <a:r>
              <a:rPr b="1" i="1" lang="bg-BG" sz="4000" spc="-1" strike="noStrike">
                <a:solidFill>
                  <a:srgbClr val="000000"/>
                </a:solidFill>
                <a:latin typeface="Century Gothic"/>
              </a:rPr>
              <a:t>нън Китапчъклар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5280" y="1087560"/>
            <a:ext cx="8451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990000"/>
                </a:solidFill>
                <a:latin typeface="Verdana"/>
              </a:rPr>
              <a:t>2 - ТАРИХ китапларъ (12 тан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8080"/>
                </a:solidFill>
                <a:latin typeface="Arial"/>
              </a:rPr>
              <a:t>Не заман язълдъла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.ЬО. 1400 - 465 сенелерин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8080"/>
                </a:solidFill>
                <a:latin typeface="Arial"/>
              </a:rPr>
              <a:t>Ханги заманъ анлатъйор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сраил халкънън Кенан топракларъна гирмесинден сонраки тарих. Дьорт айръ заман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‘Хакимлер’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заманъ: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Йешу, Хакимлер, Р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‘Бирлешик краллък’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заманъ (Саул, Давут, Сюлейман):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1.&amp;2.Саму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‘Бьолюнмюш краллък’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заманъ (Сюлейманън ьолюмюнден Бабил сюргюнлюе кадар):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1.&amp;2.Краллар, 1.&amp;2.Тарих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4)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‘Бабил сюргюнлюю ве дьонюш’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Езра, Нехемя, Ес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0" y="5229360"/>
            <a:ext cx="1222200" cy="1628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9" name="" descr=""/>
          <p:cNvPicPr/>
          <p:nvPr/>
        </p:nvPicPr>
        <p:blipFill>
          <a:blip r:embed="rId3"/>
          <a:srcRect l="21312" t="0" r="20892" b="0"/>
          <a:stretch/>
        </p:blipFill>
        <p:spPr>
          <a:xfrm>
            <a:off x="3422520" y="5229360"/>
            <a:ext cx="1149480" cy="1628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5732640" y="5229360"/>
            <a:ext cx="1144440" cy="1628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8028000" y="5229360"/>
            <a:ext cx="1116000" cy="1628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6877080" y="5229360"/>
            <a:ext cx="1150920" cy="1628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3" name="" descr=""/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1187280" y="5229360"/>
            <a:ext cx="1152720" cy="1628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4" name="" descr=""/>
          <p:cNvPicPr/>
          <p:nvPr/>
        </p:nvPicPr>
        <p:blipFill>
          <a:blip r:embed="rId8"/>
          <a:stretch/>
        </p:blipFill>
        <p:spPr>
          <a:xfrm>
            <a:off x="2340000" y="5229360"/>
            <a:ext cx="1079640" cy="1628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5" name="" descr=""/>
          <p:cNvPicPr/>
          <p:nvPr/>
        </p:nvPicPr>
        <p:blipFill>
          <a:blip r:embed="rId9"/>
          <a:stretch/>
        </p:blipFill>
        <p:spPr>
          <a:xfrm>
            <a:off x="4570560" y="5229360"/>
            <a:ext cx="1153800" cy="1628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000"/>
                            </p:stCondLst>
                            <p:childTnLst>
                              <p:par>
                                <p:cTn id="6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3500"/>
                            </p:stCondLst>
                            <p:childTnLst>
                              <p:par>
                                <p:cTn id="6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4000"/>
                            </p:stCondLst>
                            <p:childTnLst>
                              <p:par>
                                <p:cTn id="6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333399"/>
                </a:solidFill>
                <a:latin typeface="Century Gothic"/>
              </a:rPr>
              <a:t>Ески Антлашма</a:t>
            </a:r>
            <a:r>
              <a:rPr b="1" i="1" lang="bg-BG" sz="4000" spc="-1" strike="noStrike">
                <a:solidFill>
                  <a:srgbClr val="000000"/>
                </a:solidFill>
                <a:latin typeface="Century Gothic"/>
              </a:rPr>
              <a:t>нън Китапчъклар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1052640"/>
            <a:ext cx="8451720" cy="39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990000"/>
                </a:solidFill>
                <a:latin typeface="Verdana"/>
              </a:rPr>
              <a:t>3 - ХИКМЕТ китапларъ (5 тан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8080"/>
                </a:solidFill>
                <a:latin typeface="Arial"/>
              </a:rPr>
              <a:t>Не заман язълдъла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.ЬО. 1000 - 300 сенелерин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8080"/>
                </a:solidFill>
                <a:latin typeface="Arial"/>
              </a:rPr>
              <a:t>Нейи анлатъйор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Бу китаплар мензуме, поезия стилиндедир. Белли бир заманъ анлатмъйор, ама сонсуз хакикатлар ортая койуйуор. Амачларъ: инсан дору карар веребилме дурумуна гелси (хикме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Ейуб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– тема: Аллах адамларъ неден аджъ чекийорлар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Мезмурлар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– бунлар Исраил халкънън илахи китабъдъ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Сюлейманън ЬОздейишлери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– тема: гюнделик хаят ичин акъ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Дерлемеджи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– тема: Хаятън анламъ недир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5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Езгилер Езгиси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– каръ коджанън арасъндаки севги не кадар ьонем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755640" y="5300640"/>
            <a:ext cx="1441440" cy="1440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7093080" y="5300640"/>
            <a:ext cx="1412640" cy="1440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5508720" y="5300640"/>
            <a:ext cx="1433520" cy="1440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2340000" y="5300640"/>
            <a:ext cx="1440000" cy="1440000"/>
          </a:xfrm>
          <a:prstGeom prst="rect">
            <a:avLst/>
          </a:prstGeom>
          <a:ln w="0">
            <a:noFill/>
          </a:ln>
        </p:spPr>
      </p:pic>
      <p:grpSp>
        <p:nvGrpSpPr>
          <p:cNvPr id="202" name=""/>
          <p:cNvGrpSpPr/>
          <p:nvPr/>
        </p:nvGrpSpPr>
        <p:grpSpPr>
          <a:xfrm>
            <a:off x="3924360" y="5300640"/>
            <a:ext cx="1422000" cy="1439640"/>
            <a:chOff x="3924360" y="5300640"/>
            <a:chExt cx="1422000" cy="1439640"/>
          </a:xfrm>
        </p:grpSpPr>
        <p:pic>
          <p:nvPicPr>
            <p:cNvPr id="203" name="" descr=""/>
            <p:cNvPicPr/>
            <p:nvPr/>
          </p:nvPicPr>
          <p:blipFill>
            <a:blip r:embed="rId6"/>
            <a:srcRect l="4876" t="0" r="6616" b="-983"/>
            <a:stretch/>
          </p:blipFill>
          <p:spPr>
            <a:xfrm>
              <a:off x="3924360" y="5300640"/>
              <a:ext cx="1422000" cy="14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3924360" y="6569640"/>
              <a:ext cx="156600" cy="158400"/>
            </a:xfrm>
            <a:prstGeom prst="rect">
              <a:avLst/>
            </a:prstGeom>
            <a:solidFill>
              <a:srgbClr val="d3eb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333399"/>
                </a:solidFill>
                <a:latin typeface="Century Gothic"/>
              </a:rPr>
              <a:t>Ески Антлашма</a:t>
            </a:r>
            <a:r>
              <a:rPr b="1" i="1" lang="bg-BG" sz="4000" spc="-1" strike="noStrike">
                <a:solidFill>
                  <a:srgbClr val="000000"/>
                </a:solidFill>
                <a:latin typeface="Century Gothic"/>
              </a:rPr>
              <a:t>нън Китапчъклар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8040" y="1058760"/>
            <a:ext cx="8452080" cy="39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990000"/>
                </a:solidFill>
                <a:latin typeface="Verdana"/>
              </a:rPr>
              <a:t>4 – Бюйюк ПЕЙГАМБЕРЛЕР (5 тан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8080"/>
                </a:solidFill>
                <a:latin typeface="Arial"/>
              </a:rPr>
              <a:t>Не заман язълдъла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.ЬО. 1000 - 300 сенелерин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8080"/>
                </a:solidFill>
                <a:latin typeface="Arial"/>
              </a:rPr>
              <a:t>Нейи анлатъйор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Бу китаплар мензуме, поезия стилиндедир. Белли бир заманъ анлатмъйор, ама сонсуз хакикатлар ортая койуйуор. Амачларъ: инсан дору карар веребилме дурумуна гелси (хикме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Йешая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– тема: Аллах адамларъ неден аджъ чекийорлар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Йеремя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– бунлар Исраил халкънън илахи китабъдъ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Йер.’нън Аътларъ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– тема: гюнделик хаят ичин акъ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Хезекиел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– тема: Хаятън анламъ недир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5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Даниел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– каръ коджанън арасъндаки севги не кадар ьонемл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2627280" y="5084640"/>
            <a:ext cx="1440000" cy="15130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1042920" y="5084640"/>
            <a:ext cx="1440000" cy="15130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4211640" y="5084640"/>
            <a:ext cx="1440000" cy="15130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5759280" y="5084640"/>
            <a:ext cx="1332000" cy="15130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6"/>
          <a:stretch/>
        </p:blipFill>
        <p:spPr>
          <a:xfrm>
            <a:off x="7192800" y="5084640"/>
            <a:ext cx="141156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0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500"/>
                            </p:stCondLst>
                            <p:childTnLst>
                              <p:par>
                                <p:cTn id="8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2500"/>
                            </p:stCondLst>
                            <p:childTnLst>
                              <p:par>
                                <p:cTn id="8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11:39:12Z</dcterms:created>
  <dc:creator>Windows XP</dc:creator>
  <dc:description/>
  <dc:language>en-US</dc:language>
  <cp:lastModifiedBy>asd</cp:lastModifiedBy>
  <dcterms:modified xsi:type="dcterms:W3CDTF">2009-06-19T11:28:26Z</dcterms:modified>
  <cp:revision>104</cp:revision>
  <dc:subject/>
  <dc:title>Кутсал Китабън Китапчъкларъ</dc:title>
</cp:coreProperties>
</file>