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280-65F8-42CB-A910-435B9496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0AF-237B-49BE-A851-A721EB2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B69-8E4E-447B-8080-F2514C83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19D-FEE0-4F90-892B-B9149C28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FBA-2E90-49D7-AFDE-39FC5EA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E29-69F1-45CF-93E4-5360679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65-EAC8-4531-903E-6E7EC7A0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F73-7F50-4D64-9853-0BE8E1B7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D6C-EF86-4B15-89B2-198242B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858-2C7F-4507-B647-E978EA5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929-DFDE-4CEF-A40A-606974A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BCB-B7BC-43EA-A8C0-91441A6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4EF0-483F-46D2-84D3-DD8042D7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175440" y="836640"/>
            <a:ext cx="2604960" cy="367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5440" y="836640"/>
            <a:ext cx="5576760" cy="36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4651560"/>
            <a:ext cx="9144000" cy="21049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:</a:t>
            </a:r>
            <a:r>
              <a:rPr b="1" lang="bg-BG" sz="2200" spc="-1" strike="noStrike">
                <a:solidFill>
                  <a:srgbClr val="6699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00"/>
                </a:solidFill>
                <a:latin typeface="Arial"/>
              </a:rPr>
              <a:t>В третата година от царуването на Юдовия цар Иоаким дойде вавилонския цар Навуходоносор в Eрусалим и го обсади.</a:t>
            </a:r>
            <a:r>
              <a:rPr b="0" lang="tr-TR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00"/>
                </a:solidFill>
                <a:latin typeface="Arial"/>
              </a:rPr>
              <a:t>И Господ предаде в ръката му Юдовия цар Иоаким и част от съдовете в Божия дом; и той ги занесе в земята Сенаар, в капището на своя бог, и съдовете внесе в съкровищницата на своя бог.</a:t>
            </a:r>
            <a:r>
              <a:rPr b="0" lang="tr-TR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095480"/>
            <a:ext cx="3967200" cy="5573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393200"/>
            <a:ext cx="4321080" cy="5033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Дан 1:8-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Но Даниил реши си да се не оскверни от изрядните ястия на царя, нито от виното, което той пиеш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Тогава Даниил рече на надзирателя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Опитай, моля, слугите си десет дни, през което време да ни се даде зеленчук да ядем и вода да пием;</a:t>
            </a:r>
            <a:r>
              <a:rPr b="0" lang="tr-TR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00"/>
                </a:solidFill>
                <a:latin typeface="Arial"/>
              </a:rPr>
              <a:t>после нека се прегледат пред тебе нашите лица и лицата на юношите, които ядат от изрядните ястия на царя; и според каквото видиш постъпи със слугите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5080" y="836640"/>
            <a:ext cx="439092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831600"/>
            <a:ext cx="4103640" cy="48488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: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на края на десетте дена техните лица изглеждаха по-красиви и по-пълни, отколкото лицата на всичките юноши, които ядяха от изрядните ястия на царя.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тъй, надзирателят отнемаше от тях изрядното ястие и виното, което трябваше да пият, и им даваше зеленч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66880"/>
            <a:ext cx="4103640" cy="265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: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 на тия четири юноша Бог даде знание и разум във  всяко учение и мъд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рост; и Даниил можеше да проумява всички видения и съну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176720" cy="5666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3797280"/>
            <a:ext cx="43923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6600"/>
                </a:solidFill>
                <a:latin typeface="Arial"/>
              </a:rPr>
              <a:t>Даниил сякаш е втори Йоси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Като млад недоброволно бива изпратен в чужб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В царския двор взима п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2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Има дарбата да проумява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ънищ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978360" cy="4824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479600"/>
            <a:ext cx="4030560" cy="44830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: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8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на края на дните, когато царят бе заповядал да ги въведат, началникът на скопците ги въведе пред Навуходоносора.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като разговаря с тях царят, между всички тях не се намери подобен на Даниила, Анания, Мисаила, и Азария; за това, те стояха пред 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4020" b="0"/>
          <a:stretch/>
        </p:blipFill>
        <p:spPr>
          <a:xfrm>
            <a:off x="4975200" y="981000"/>
            <a:ext cx="3989520" cy="554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50040"/>
            <a:ext cx="4608720" cy="55803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: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царят заповяда на началника на скопците си Асфеназ да доведе някой от израиляните, сиреч, от царския род и от благородните,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юноши без никакъв недостатък, красиви на глед, които проумяваха всякаква мъдрост, вещи във всякакво знание, такива, които владееха науките и бяха достойни да стоят в царския палат, та да ги учението и езика на халдейц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4020" b="0"/>
          <a:stretch/>
        </p:blipFill>
        <p:spPr>
          <a:xfrm>
            <a:off x="6608880" y="2205000"/>
            <a:ext cx="2355840" cy="327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Това е първата трудност на юно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43700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същото време искаше да има служител от всяка държава в царския пал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е са в чужбина, повече никога нямаше да се върнат в родината и нямаше да видят родителите 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360" y="573408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Младежите трябваха да научат чужди езици, да имат друга култура, да станат изцяло Вавило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85264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Те не бяха обикновени юноши, бяха благородни. Цар Навугходоносор ги взе като гаранция: ако цар Йоаким ги нападне те ще ум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667" t="0" r="0" b="1428"/>
          <a:stretch/>
        </p:blipFill>
        <p:spPr>
          <a:xfrm>
            <a:off x="4356000" y="1052640"/>
            <a:ext cx="4529160" cy="54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1121040"/>
            <a:ext cx="3888000" cy="41173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:</a:t>
            </a: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царят им определи за всеки ден дял от царските изрядни ястия и от виното, което той пиеше, с които да ги хранят три години, за да стоят пред царя след изтичането на това време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Това е втората трудност за юно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87812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 години щяха да ядат най-добрата храна – но измежду тях имаше храни забранени за тях: забранени по закона на Мойсей и жевртви на идолопокло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3974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Ако бяха слушали Царя трябваше да се противопоставят на Б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667" t="0" r="0" b="1428"/>
          <a:stretch/>
        </p:blipFill>
        <p:spPr>
          <a:xfrm>
            <a:off x="5651640" y="2708280"/>
            <a:ext cx="2860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360" y="1425960"/>
            <a:ext cx="4175280" cy="2288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Дан 1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началникът на скопците преименува, като нарече Даниила Валтасасар, и Анания Седрах, Мисаила Мисах, и Азария, Авденаг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rcRect l="1929" t="1451" r="2864" b="5994"/>
          <a:stretch/>
        </p:blipFill>
        <p:spPr>
          <a:xfrm>
            <a:off x="826920" y="4365720"/>
            <a:ext cx="36007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643280" y="1052640"/>
            <a:ext cx="4248000" cy="3878280"/>
            <a:chOff x="4643280" y="1052640"/>
            <a:chExt cx="4248000" cy="38782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643280" y="1052640"/>
              <a:ext cx="4248000" cy="38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4643280" y="1070280"/>
              <a:ext cx="3456000" cy="20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-6000"/>
          </a:blip>
          <a:srcRect l="1929" t="1451" r="2864" b="5994"/>
          <a:stretch/>
        </p:blipFill>
        <p:spPr>
          <a:xfrm>
            <a:off x="468360" y="3213000"/>
            <a:ext cx="525600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9800" y="1989000"/>
            <a:ext cx="124308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Дани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67880" y="1989000"/>
            <a:ext cx="122328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А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6360" y="1996920"/>
            <a:ext cx="127656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Мис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9960" y="1998720"/>
            <a:ext cx="119736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Аз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7880" y="2467080"/>
            <a:ext cx="185256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Валтасас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16120" y="2468520"/>
            <a:ext cx="123840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Сед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7440" y="2467080"/>
            <a:ext cx="108000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Ми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38920" y="2467080"/>
            <a:ext cx="150948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Авден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680" y="1100160"/>
            <a:ext cx="7188120" cy="459720"/>
          </a:xfrm>
          <a:prstGeom prst="rect">
            <a:avLst/>
          </a:prstGeom>
          <a:solidFill>
            <a:srgbClr val="a9f5b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Началникът на евнусите им даде нови имена...”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4880" y="4057560"/>
            <a:ext cx="2737080" cy="2433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57360" y="2276640"/>
            <a:ext cx="1353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35120" y="2276640"/>
            <a:ext cx="158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84640" y="2276640"/>
            <a:ext cx="1582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2766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51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51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Това е третата трудност за юно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511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имената на Даниил и приятелите му се споменава името на истинския Бог (‘Ел’ и ‘Ях’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808080"/>
                </a:solidFill>
                <a:latin typeface="Arial"/>
              </a:rPr>
              <a:t>Но във Вавилон им дадоха такива имена, съдържащи идолски им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 този начин стават посветени на идол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64000" y="2276640"/>
            <a:ext cx="3238560" cy="2955600"/>
            <a:chOff x="5364000" y="2276640"/>
            <a:chExt cx="3238560" cy="29556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364000" y="2276640"/>
              <a:ext cx="3238560" cy="29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364000" y="2289960"/>
              <a:ext cx="2634480" cy="159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7720" y="981000"/>
            <a:ext cx="124308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0000"/>
                </a:solidFill>
                <a:uFillTx/>
                <a:latin typeface="Arial"/>
              </a:rPr>
              <a:t>Дани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1120" y="2289240"/>
            <a:ext cx="122328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0000"/>
                </a:solidFill>
                <a:uFillTx/>
                <a:latin typeface="Arial"/>
              </a:rPr>
              <a:t>А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4520" y="3635280"/>
            <a:ext cx="127656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0000"/>
                </a:solidFill>
                <a:uFillTx/>
                <a:latin typeface="Arial"/>
              </a:rPr>
              <a:t>Мис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600" y="4951440"/>
            <a:ext cx="1197360" cy="45972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0000"/>
                </a:solidFill>
                <a:uFillTx/>
                <a:latin typeface="Arial"/>
              </a:rPr>
              <a:t>Аз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9920" y="10335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Бог съ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2316240"/>
            <a:ext cx="25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Яхве е милостив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90360" y="365616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Кой е като Бог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0240" y="499752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Яхве помогн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520" y="1459080"/>
            <a:ext cx="1852560" cy="459720"/>
          </a:xfrm>
          <a:prstGeom prst="rect">
            <a:avLst/>
          </a:prstGeom>
          <a:solidFill>
            <a:srgbClr val="ffcc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Валтасас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7960" y="1484280"/>
            <a:ext cx="34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 u="sng">
                <a:solidFill>
                  <a:srgbClr val="009900"/>
                </a:solidFill>
                <a:uFillTx/>
                <a:latin typeface="Arial"/>
              </a:rPr>
              <a:t>Вал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а опази живота т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2768760"/>
            <a:ext cx="1238400" cy="459720"/>
          </a:xfrm>
          <a:prstGeom prst="rect">
            <a:avLst/>
          </a:prstGeom>
          <a:solidFill>
            <a:srgbClr val="ffcc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Сед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240" y="4105440"/>
            <a:ext cx="1080000" cy="459720"/>
          </a:xfrm>
          <a:prstGeom prst="rect">
            <a:avLst/>
          </a:prstGeom>
          <a:solidFill>
            <a:srgbClr val="ffcc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Ми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419800"/>
            <a:ext cx="1509480" cy="459720"/>
          </a:xfrm>
          <a:prstGeom prst="rect">
            <a:avLst/>
          </a:prstGeom>
          <a:solidFill>
            <a:srgbClr val="ffcc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Авден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63720" y="27939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аповедта на </a:t>
            </a:r>
            <a:r>
              <a:rPr b="1" lang="bg-BG" sz="2000" spc="-1" strike="noStrike" u="sng">
                <a:solidFill>
                  <a:srgbClr val="9966ff"/>
                </a:solidFill>
                <a:uFillTx/>
                <a:latin typeface="Arial"/>
              </a:rPr>
              <a:t>Аку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200" y="422100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ое е като </a:t>
            </a:r>
            <a:r>
              <a:rPr b="1" lang="bg-BG" sz="2000" spc="-1" strike="noStrike" u="sng">
                <a:solidFill>
                  <a:srgbClr val="9966ff"/>
                </a:solidFill>
                <a:uFillTx/>
                <a:latin typeface="Arial"/>
              </a:rPr>
              <a:t>Аку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3320" y="5479920"/>
            <a:ext cx="22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луга на </a:t>
            </a:r>
            <a:r>
              <a:rPr b="1" lang="bg-BG" sz="2000" spc="-1" strike="noStrike" u="sng">
                <a:solidFill>
                  <a:srgbClr val="ff3300"/>
                </a:solidFill>
                <a:uFillTx/>
                <a:latin typeface="Arial"/>
              </a:rPr>
              <a:t>Неб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251000"/>
            <a:ext cx="388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549520"/>
            <a:ext cx="453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889440"/>
            <a:ext cx="4390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229360"/>
            <a:ext cx="396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08800" y="2089080"/>
            <a:ext cx="1603800" cy="2538360"/>
            <a:chOff x="5608800" y="2089080"/>
            <a:chExt cx="1603800" cy="2538360"/>
          </a:xfrm>
        </p:grpSpPr>
        <p:pic>
          <p:nvPicPr>
            <p:cNvPr id="112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5608800" y="2089080"/>
              <a:ext cx="152208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396480" y="220500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9900"/>
                  </a:solidFill>
                  <a:latin typeface="Arial"/>
                </a:rPr>
                <a:t>Б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18160" y="4672080"/>
            <a:ext cx="1521000" cy="2114640"/>
            <a:chOff x="5618160" y="4672080"/>
            <a:chExt cx="1521000" cy="2114640"/>
          </a:xfrm>
        </p:grpSpPr>
        <p:pic>
          <p:nvPicPr>
            <p:cNvPr id="115" name="" descr=""/>
            <p:cNvPicPr/>
            <p:nvPr/>
          </p:nvPicPr>
          <p:blipFill>
            <a:blip r:embed="rId2">
              <a:lum contrast="36000"/>
            </a:blip>
            <a:stretch/>
          </p:blipFill>
          <p:spPr>
            <a:xfrm>
              <a:off x="5618160" y="4672080"/>
              <a:ext cx="152100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636160" y="49212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9966ff"/>
                  </a:solidFill>
                  <a:latin typeface="Arial"/>
                </a:rPr>
                <a:t>А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216920" y="2092320"/>
            <a:ext cx="1869840" cy="4708440"/>
            <a:chOff x="7216920" y="2092320"/>
            <a:chExt cx="1869840" cy="470844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7216920" y="2092320"/>
              <a:ext cx="1869840" cy="47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475400" y="59626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ff3300"/>
                  </a:solidFill>
                  <a:latin typeface="Arial"/>
                </a:rPr>
                <a:t>НЕБ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Даниил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64200" y="15746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9900"/>
                </a:solidFill>
                <a:latin typeface="Arial"/>
              </a:rPr>
              <a:t>Вавилонски ид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401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901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1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701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38:30Z</dcterms:created>
  <dc:creator>Barish</dc:creator>
  <dc:description/>
  <dc:language>en-US</dc:language>
  <cp:lastModifiedBy>asd</cp:lastModifiedBy>
  <dcterms:modified xsi:type="dcterms:W3CDTF">2009-05-28T10:49:16Z</dcterms:modified>
  <cp:revision>68</cp:revision>
  <dc:subject/>
  <dc:title>Даниел 1</dc:title>
</cp:coreProperties>
</file>