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DA6-BE79-4FDF-8FDF-0D9B038F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C97-A112-493E-A2C4-495211A2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EA0-89F5-4665-B487-39BB9F39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8FE-4124-4E33-90C5-DEFE39FA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C60-FF18-4ABB-9924-ADFE406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C28-5A09-4C23-9B87-7ADD3F0D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048-71A6-462D-BAE1-EA1E2013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0A2-3EAA-4F12-9B0D-8C92DF06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AD1-9AF6-437B-AAE0-48ECFB1E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A06-599D-486E-B444-1FF2700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068-05C7-48CC-9191-5F538D5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42C-85AB-496C-8A38-595E0C1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0F48-0552-4CFA-9BB4-8A31BBC95FC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езму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125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1 Не ичин миллетлерин бу кайнашмасъ, халкларън бу бош мърмърданмасъ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2 Дюнянън кралларъ кафа калдъръйорлар ве пренслер араларънда сьозлешийорлар, РАБ'бе ве онун Месих’ине карш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696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уханна 1:41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4: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920" y="1341360"/>
            <a:ext cx="7848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О да ен биринджи кардешини Симун'у булуйор ве она дийор ки, "Биз Месихи булдук (бунун грекчеси гене 'Христос'тур)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"Гелин, гьорюн о адамъ, бен хер не япмъшсам бана анлатърдъ. Олабилир ми, Месих бу олсун?"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357336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696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Лука 9:20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Йух 11: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5480" y="1341360"/>
            <a:ext cx="727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Иса онлара сорду: "Я сиз? Не дерсиниз, бен кимим?“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Петрус джевап верип деди: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"Сен Аллахън Месихи'син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Она "Евет, Раб!" деди. "Бен артък инандъм, Месих сенсин, дюняя гелен Аллахън Олу сенсин."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002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696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атта 16:20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Йух 10: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26920" y="141264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Сонра Иса ьоренджилере чок съкъ ъсмарладъ, хич кимсейе анлатърмасънлар, хани Месих Одур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О заман Яхудилер Онун етрафънъ саръп шьойле сордулар: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"Не замана кадар бизи тетикте тутаджан. Егер сен Месих исен, бизе ачък ачък сьойле."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1417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6119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атта 22:41-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4360" y="1052280"/>
            <a:ext cx="77752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Ферисилер топланмъшкен, Иса онлара бир сору сорду: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"Месихтен ичин не дюшюнюйорсунуз? Сиздже о кимин олу?“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Она, "Давуд'ун олу" дедилер.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Иса онлара деди: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"Пеки, мадем ьойле, Давут Аллахън Рухуйла она насъл 'Раб' дийебилир? Чюнкю дийор: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'Раб Раббиме деди: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'Сенин дюшманларънъ аякларъна бир басамак япаджам.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О замана кадар сен беним саъмда отур.‘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Мадем Давут она 'Раб' дийор, насъл онун олу оладжак?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Артък хич кимсе Иса'я тек бир лаф биле сьойлейемеди. Ве о гюнден сонра кимсе куражланамадъ, Она бир шей даха сорсу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60483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атта 26: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60000" y="1341000"/>
            <a:ext cx="6983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Ама Иса хеп сусту. Аллахевинин гюдюджюсю Она дед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"Яшаян Аллахън адъна сана йемин еттирийорум - сьойле бизе, Месих сен мисин, Аллахън Олу сен мисин?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92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Лука 24:25-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73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Ама Иса онлара деди: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"Ей сиз акълсъз адамлар! Пейгамберлерин сьойледиклерини йюректен чок зор инанъйорсунуз! Хани Месих, лазъм деил ми иди, бу шейлери чексин де ьойле шанъна гирсин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Сонра Муса ве бютюн пейгамберлерден тутуп бютюн Кутсал Китап'та кендисинден ичин не кадар шейлер язълмъшса, онлара ачъкламая башладъ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92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п. Ишлери 2: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44360" y="1700280"/>
            <a:ext cx="7343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Онун ичин, бютюн Исраил халкъ шуну кесин оларак билсин: бу Иса, хани сиз ону хача гердиниз, Аллах Ону хем Раб, хем Месих яптъ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92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атта 24: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89080" y="1844280"/>
            <a:ext cx="6983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Чюнкю чок киши беним адъмла гелип, 'Месих беним' дийеджеклер ве бирчокларънъ саптъраджаклар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92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п.Ишлери 11: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71640" y="134100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Саул'у булунджа, ону Антакя'я гетирди. Ве ьойле олду, бютюн бир сене бойунджа о топлулуа катълдълар ве чок киши ьоретир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дилер. Сефте оларак Антакя касабасънда ьоренджилере 'Месихчи‘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демейе башладълар.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92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п.Ишлери 26:28-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920" y="1267920"/>
            <a:ext cx="7632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Агрипа да Павлус'а шьойле джевап верди: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"Сен бени бу кадар азла мъ Месихчи япмая калкъйорсун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Павлус да деди: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"Аллахтан дилийорум, истер азла, истер чокла, деил саде сен, ама бугюн бени сеслейен херкес, там беним гиби олсун... ех, бу зинджирлерден башка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п.Ишлери 4:26-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1198440"/>
            <a:ext cx="72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Дюнянън кралларъ аякландълар,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е гюдюджюлери топландълар,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Раббе каршъ ве Онун Месихине каршъ.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Чюнкю сен кутсал кулуну Иса'йъ сахиден де месхеттин. Ве бу касабада хем Хиродес, хем де Понтуслу Пилатус, хем Аллахсъз миллетлер, хем де Исраил халкъндан оланлар бир арая гелип топландълар.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92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1.Петрус 4: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92360" y="1773360"/>
            <a:ext cx="6121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Ама киши Месихчи оларак чеки чекерсе, ондан утанмасън; о адла Аллахъ шанласъ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92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1.Йуханна 2: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98200" y="1412640"/>
            <a:ext cx="7418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Ама сиз Ондан бир месхетме алдънъз, о да сизде девамлъ калъйор. Ве ихтияджънъз йок, бириси сизи ьоретирсин. О месхетме, иште, сизи хер бир темада ьоретирен одур. Ве о хакикаттър, ялан деилдир.  О сизи насъл ьоретирдийсе, сиз Рабде девамлъ ьойле калъ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атта 12:16-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560" y="1125000"/>
            <a:ext cx="741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Ама онлара ъсмарладъ, Онун адънъ яймасънлар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ЬОйле ки, пейгамбер Ишая'нън аазъндан сьойленен шу сьоз йерине гелс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"Бакън, беним сечтиим хизметчим. Беним севгилим, Онунла ферахланъйорум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О, кавга етмейеджек, баъръп чъърмаяджак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Сокакта кимсе Онун сесини дуймаяджак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Дорулук йенгийи казанаджак. Она йенгийи казандъран да беним хизметчимдир. О замана кадар езилмиш бир камъшъ кърмаяджак,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тютен бир фитили де сьондюрмейеджек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Ве Аллахсъз миллетлер Онун адъна умут едеджеклер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ешая 61:1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47640" y="1773360"/>
            <a:ext cx="655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Егемен РАБ’бин Руху юзеримде. Чюнкю йоксуллара мюжде илетмек ичин бени О месхет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Лука 4:17-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920" y="1196640"/>
            <a:ext cx="7490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Она Ишая пейгамберинин китабънъ вердилер. Китабъ ачъп шу айетлери булд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'Раббин Руху беним юзеримдедир: Чюнкю бени месхетти, фукаралара ийи хабери гетирейим дийе. Бени йолладъ, мапуста оланлара 'чъкабилирсиниз' ве кьорлере 'гьореджеиниз' илан едейим дийе, езиленлери сербест едейим дий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Раббин севинч ве куртулуш сенесини илан едейим дийе.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60483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Галатиялълар  3: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14200" y="1341000"/>
            <a:ext cx="748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Шимди, Аллахън сьозю Ибрахим'е ве онун тохумуна верилди. Демийор 'ве онун тохум</a:t>
            </a:r>
            <a:r>
              <a:rPr b="1" lang="tr-TR" sz="3600" spc="-1" strike="noStrike" u="sng">
                <a:solidFill>
                  <a:srgbClr val="000000"/>
                </a:solidFill>
                <a:uFillTx/>
                <a:latin typeface="Arial"/>
              </a:rPr>
              <a:t>лар</a:t>
            </a:r>
            <a:r>
              <a:rPr b="0" lang="tr-TR" sz="3600" spc="-1" strike="noStrike" u="sng">
                <a:solidFill>
                  <a:srgbClr val="000000"/>
                </a:solidFill>
                <a:uFillTx/>
                <a:latin typeface="Arial"/>
              </a:rPr>
              <a:t>ъна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' санки бирчокларъ имиш. Хайър, дийор 'Сенин тохуму</a:t>
            </a:r>
            <a:r>
              <a:rPr b="1" lang="tr-TR" sz="36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' санки саде бир киши имиш гиби. О да Месихти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60483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Лука 2:25-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848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Ве иште, Йерушалим'де Симеон адънда бир адам вардъ. О дюрюст бир Аллах адамъ иди. Хеп беклерди, Исраил'ин зор гюнлери битсин. Кутсал Рух да онун юзеринде иди. </a:t>
            </a: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утсал Рух она гьостермишти ки, Раббин Месихини гьормеден ьолмейеджейди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696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Лука 2:11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Матта 2: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848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Чюнкю сизин ичин бугюн Давуд'ун касабасънда бир куртаръджъ доду. О да Раб Месихти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Ве халкън бютюн гюдюджюлерини, хани Аллахевинин гюдюджюлерини ве канун муаллимлерини, бир арая топладъ. Онлардан ьоренмек истеди, Месих нереде доадж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99736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696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Лука 3:15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Йух 3: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920" y="1198080"/>
            <a:ext cx="7848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Шимди халк там биршейлер беклерди. Херкес йюреинде Яхя ичин шьойле дюшюндю: "Аджаба Месих бу му?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Яхя джевап верип деди 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Бен хеп шьойле дердим (ве сиз де бунун ичин шахитлеримсиниз): бен 'Месих деилим, ама Онун ьонюнден гидейим дийе гьондерилдим.'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29242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5:11:20Z</dcterms:created>
  <dc:creator>asd</dc:creator>
  <dc:description/>
  <dc:language>en-US</dc:language>
  <cp:lastModifiedBy>asd</cp:lastModifiedBy>
  <dcterms:modified xsi:type="dcterms:W3CDTF">2009-05-21T10:28:54Z</dcterms:modified>
  <cp:revision>60</cp:revision>
  <dc:subject/>
  <dc:title>Матта 11:27</dc:title>
</cp:coreProperties>
</file>