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4.png" ContentType="image/png"/>
  <Override PartName="/ppt/media/image22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10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42.png" ContentType="image/png"/>
  <Override PartName="/ppt/media/image5.jpeg" ContentType="image/jpeg"/>
  <Override PartName="/ppt/media/image50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44.jpeg" ContentType="image/jpeg"/>
  <Override PartName="/ppt/media/image9.png" ContentType="image/png"/>
  <Override PartName="/ppt/media/image7.jpeg" ContentType="image/jpeg"/>
  <Override PartName="/ppt/media/image38.jpeg" ContentType="image/jpeg"/>
  <Override PartName="/ppt/media/image35.png" ContentType="image/png"/>
  <Override PartName="/ppt/media/image32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8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3C08-D28E-4DA1-9FA9-583D7974C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91D8-4A3C-4E83-8244-4490F01C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97A3-3DCF-4926-910F-F813CF100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313E-A7E4-4099-B53E-9D2DBED57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741A-BA04-4CD4-AAF9-099D388D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142A-7FF2-4CAB-B8B2-E0ED2DCB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3BA5-8D83-451C-A7CC-0FA80489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B6BA-7EA3-481F-96D3-71DE376B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C8BA-8A60-496F-B703-0B6C10EA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0D78-D990-4A2C-B298-A5C2C258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E7BB-E34A-4BDB-9763-085575E1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3217-3822-4D52-8C06-764D7393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6A92-6C88-4CBE-9CF8-2625CDCAFAF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png"/><Relationship Id="rId7" Type="http://schemas.openxmlformats.org/officeDocument/2006/relationships/image" Target="../media/image51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324240" y="4797360"/>
            <a:ext cx="55245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ffffff"/>
                </a:solidFill>
                <a:latin typeface="Verdana"/>
              </a:rPr>
              <a:t>Гюдюджюлерин ьорне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3000" y="1073160"/>
            <a:ext cx="3960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172f75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илисенин</a:t>
            </a:r>
            <a:endParaRPr b="0" lang="en-US" sz="1800" spc="1" strike="noStrike">
              <a:ln w="19080">
                <a:solidFill>
                  <a:srgbClr val="99cc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43000" y="2421000"/>
            <a:ext cx="5229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172f75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рганизасйону</a:t>
            </a:r>
            <a:endParaRPr b="0" lang="en-US" sz="1800" spc="1" strike="noStrike">
              <a:ln w="19080">
                <a:solidFill>
                  <a:srgbClr val="99cc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468360" y="1628640"/>
            <a:ext cx="8280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Апо 6:3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3 Ама сиз аранъздан йеди адам сечин. Онлар лазъм ийи оларак танънсънлар, хем де Кутсал Рух ве анлайъшла долу олсунлар. Онларъ бу ишин башъна кояджаз.“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...   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5 </a:t>
            </a:r>
            <a:r>
              <a:rPr b="1" lang="tr-TR" sz="1800" spc="-1" strike="noStrike" u="sng">
                <a:solidFill>
                  <a:srgbClr val="ffffff"/>
                </a:solidFill>
                <a:uFillTx/>
                <a:latin typeface="Arial"/>
              </a:rPr>
              <a:t>Бютюн топлулук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 бу лафа разъ гелди. Бьойлеликле шу кишилери </a:t>
            </a:r>
            <a:r>
              <a:rPr b="1" lang="tr-TR" sz="1800" spc="-1" strike="noStrike" u="sng">
                <a:solidFill>
                  <a:srgbClr val="ffffff"/>
                </a:solidFill>
                <a:uFillTx/>
                <a:latin typeface="Arial"/>
              </a:rPr>
              <a:t>сечтилер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: Стефанус (иман ве Кутсал Рух'ла долу олан бир адам), Филип, Прохорус, Никанор, Тимон, Парменас ве Николас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...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. 6 Бунларъ апостолларън ьонюне гетирдилер. Онлар да </a:t>
            </a:r>
            <a:r>
              <a:rPr b="1" lang="tr-TR" sz="1800" spc="-1" strike="noStrike" u="sng">
                <a:solidFill>
                  <a:srgbClr val="ffffff"/>
                </a:solidFill>
                <a:uFillTx/>
                <a:latin typeface="Arial"/>
              </a:rPr>
              <a:t>дуа еттиктен сонра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1800" spc="-1" strike="noStrike" u="sng">
                <a:solidFill>
                  <a:srgbClr val="ffffff"/>
                </a:solidFill>
                <a:uFillTx/>
                <a:latin typeface="Arial"/>
              </a:rPr>
              <a:t>еллерини бу кишилерин юзерине койдулар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Апо 13:1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1 Антакя'даки топлулуун ичинде пейгамберлер ве муаллимлер вардъ: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Бар-Набас, Симеон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Лукийус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Манаен ве Сау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2 Онлар оруч тутуп Раббе хизмет еттилер. О вакът </a:t>
            </a:r>
            <a:r>
              <a:rPr b="1" lang="tr-TR" sz="1800" spc="-1" strike="noStrike" u="sng">
                <a:solidFill>
                  <a:srgbClr val="ffffff"/>
                </a:solidFill>
                <a:uFillTx/>
                <a:latin typeface="Arial"/>
              </a:rPr>
              <a:t>Кутсал Рух шьойле конушту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"Бана Бар-Набас'ъ ве Саул'у айърън. Бен онларъ бир иш ичин чаърдъм." 3 Ондан сонра </a:t>
            </a:r>
            <a:r>
              <a:rPr b="1" lang="tr-TR" sz="1800" spc="-1" strike="noStrike" u="sng">
                <a:solidFill>
                  <a:srgbClr val="ffffff"/>
                </a:solidFill>
                <a:uFillTx/>
                <a:latin typeface="Arial"/>
              </a:rPr>
              <a:t>оруч тутуп дуа еттилер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. Ве </a:t>
            </a:r>
            <a:r>
              <a:rPr b="1" lang="tr-TR" sz="1800" spc="-1" strike="noStrike" u="sng">
                <a:solidFill>
                  <a:srgbClr val="ffffff"/>
                </a:solidFill>
                <a:uFillTx/>
                <a:latin typeface="Arial"/>
              </a:rPr>
              <a:t>еллерини онларън юзерине койуйуп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 онларъ йолджу еттил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50920" y="98100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99"/>
              </a:buClr>
              <a:buFont typeface="Garamond"/>
              <a:buChar char="•"/>
              <a:tabLst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66ff99"/>
                </a:solidFill>
                <a:latin typeface="Garamond"/>
              </a:rPr>
              <a:t> </a:t>
            </a:r>
            <a:r>
              <a:rPr b="1" lang="bg-BG" sz="2800" spc="-1" strike="noStrike">
                <a:solidFill>
                  <a:srgbClr val="66ff99"/>
                </a:solidFill>
                <a:latin typeface="Garamond"/>
              </a:rPr>
              <a:t>Ашаъдаки айетлерде бир съра гьоребилир мийиз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ьоревлилере </a:t>
            </a: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насъл гьорев верили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0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1484280"/>
            <a:ext cx="914400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08080"/>
              </a:gs>
              <a:gs pos="100000">
                <a:srgbClr val="000000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64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Verdana"/>
              </a:rPr>
              <a:t>1)</a:t>
            </a:r>
            <a:r>
              <a:rPr b="1" lang="bg-BG" sz="2800" spc="-1" strike="noStrike">
                <a:solidFill>
                  <a:srgbClr val="ffffff"/>
                </a:solidFill>
                <a:latin typeface="Verdana"/>
              </a:rPr>
              <a:t> ДУА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ве</a:t>
            </a:r>
            <a:r>
              <a:rPr b="1" lang="bg-BG" sz="2800" spc="-1" strike="noStrike">
                <a:solidFill>
                  <a:srgbClr val="ffffff"/>
                </a:solidFill>
                <a:latin typeface="Verdana"/>
              </a:rPr>
              <a:t> ОРУЧ </a:t>
            </a: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япълъй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2637000"/>
            <a:ext cx="914400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08080"/>
              </a:gs>
              <a:gs pos="100000">
                <a:srgbClr val="000000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64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Verdana"/>
              </a:rPr>
              <a:t>2)</a:t>
            </a:r>
            <a:r>
              <a:rPr b="1" lang="bg-BG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bg-BG" sz="2800" spc="-1" strike="noStrike">
                <a:solidFill>
                  <a:srgbClr val="ffff00"/>
                </a:solidFill>
                <a:latin typeface="Verdana"/>
              </a:rPr>
              <a:t>Аллах </a:t>
            </a:r>
            <a:r>
              <a:rPr b="1" lang="bg-BG" sz="2800" spc="-1" strike="noStrike">
                <a:solidFill>
                  <a:srgbClr val="ffff00"/>
                </a:solidFill>
                <a:latin typeface="Verdana"/>
              </a:rPr>
              <a:t>КОНУШУЙ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3716280"/>
            <a:ext cx="914400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08080"/>
              </a:gs>
              <a:gs pos="100000">
                <a:srgbClr val="000000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64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99cc00"/>
                </a:solidFill>
                <a:latin typeface="Verdana"/>
              </a:rPr>
              <a:t>3)</a:t>
            </a:r>
            <a:r>
              <a:rPr b="1" lang="bg-BG" sz="2800" spc="-1" strike="noStrike">
                <a:solidFill>
                  <a:srgbClr val="99cc00"/>
                </a:solidFill>
                <a:latin typeface="Verdana"/>
              </a:rPr>
              <a:t> </a:t>
            </a:r>
            <a:r>
              <a:rPr b="0" lang="bg-BG" sz="2800" spc="-1" strike="noStrike">
                <a:solidFill>
                  <a:srgbClr val="99cc00"/>
                </a:solidFill>
                <a:latin typeface="Verdana"/>
              </a:rPr>
              <a:t>Топлулук</a:t>
            </a:r>
            <a:r>
              <a:rPr b="1" lang="bg-BG" sz="2800" spc="-1" strike="noStrike">
                <a:solidFill>
                  <a:srgbClr val="99cc00"/>
                </a:solidFill>
                <a:latin typeface="Verdana"/>
              </a:rPr>
              <a:t> СЕЧИЙОР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4800600"/>
            <a:ext cx="914400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08080"/>
              </a:gs>
              <a:gs pos="100000">
                <a:srgbClr val="000000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64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c99ff"/>
                </a:solidFill>
                <a:latin typeface="Verdana"/>
              </a:rPr>
              <a:t>4)</a:t>
            </a:r>
            <a:r>
              <a:rPr b="1" lang="bg-BG" sz="2800" spc="-1" strike="noStrike">
                <a:solidFill>
                  <a:srgbClr val="cc99ff"/>
                </a:solidFill>
                <a:latin typeface="Verdana"/>
              </a:rPr>
              <a:t> </a:t>
            </a:r>
            <a:r>
              <a:rPr b="0" lang="bg-BG" sz="2800" spc="-1" strike="noStrike">
                <a:solidFill>
                  <a:srgbClr val="cc99ff"/>
                </a:solidFill>
                <a:latin typeface="Verdana"/>
              </a:rPr>
              <a:t>Гюдюджюлер </a:t>
            </a:r>
            <a:r>
              <a:rPr b="1" lang="bg-BG" sz="2800" spc="-1" strike="noStrike">
                <a:solidFill>
                  <a:srgbClr val="cc99ff"/>
                </a:solidFill>
                <a:latin typeface="Verdana"/>
              </a:rPr>
              <a:t>ГЬОРЕВ ВЕРИЙ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ьоревлилере </a:t>
            </a: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насъл гьорев верили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0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1449360"/>
            <a:ext cx="9144000" cy="520560"/>
          </a:xfrm>
          <a:prstGeom prst="rect">
            <a:avLst/>
          </a:prstGeom>
          <a:gradFill rotWithShape="0">
            <a:gsLst>
              <a:gs pos="0">
                <a:srgbClr val="2f1700"/>
              </a:gs>
              <a:gs pos="50000">
                <a:srgbClr val="663300"/>
              </a:gs>
              <a:gs pos="100000">
                <a:srgbClr val="2f1700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cc00"/>
                </a:solidFill>
                <a:latin typeface="Verdana"/>
              </a:rPr>
              <a:t>1)  </a:t>
            </a:r>
            <a:r>
              <a:rPr b="1" lang="bg-BG" sz="2800" spc="-1" strike="noStrike">
                <a:solidFill>
                  <a:srgbClr val="ffcc00"/>
                </a:solidFill>
                <a:latin typeface="Verdana"/>
              </a:rPr>
              <a:t>ШИФА</a:t>
            </a:r>
            <a:r>
              <a:rPr b="0" lang="bg-BG" sz="2800" spc="-1" strike="noStrike">
                <a:solidFill>
                  <a:srgbClr val="ffcc00"/>
                </a:solidFill>
                <a:latin typeface="Verdana"/>
              </a:rPr>
              <a:t> вермек ич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2743200"/>
            <a:ext cx="9144000" cy="520560"/>
          </a:xfrm>
          <a:prstGeom prst="rect">
            <a:avLst/>
          </a:prstGeom>
          <a:gradFill rotWithShape="0">
            <a:gsLst>
              <a:gs pos="0">
                <a:srgbClr val="001700"/>
              </a:gs>
              <a:gs pos="50000">
                <a:srgbClr val="003300"/>
              </a:gs>
              <a:gs pos="100000">
                <a:srgbClr val="001700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buClr>
                <a:srgbClr val="ffcc00"/>
              </a:buClr>
              <a:buFont typeface="Verdan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bg-BG" sz="2800" spc="-1" strike="noStrike">
                <a:solidFill>
                  <a:srgbClr val="ffcc00"/>
                </a:solidFill>
                <a:latin typeface="Verdana"/>
              </a:rPr>
              <a:t>Бир кишийи </a:t>
            </a:r>
            <a:r>
              <a:rPr b="1" lang="bg-BG" sz="2800" spc="-1" strike="noStrike">
                <a:solidFill>
                  <a:srgbClr val="ffcc00"/>
                </a:solidFill>
                <a:latin typeface="Verdana"/>
              </a:rPr>
              <a:t>БЕРЕКЕТЛЕМЕК</a:t>
            </a:r>
            <a:r>
              <a:rPr b="0" lang="bg-BG" sz="2800" spc="-1" strike="noStrike">
                <a:solidFill>
                  <a:srgbClr val="ffcc00"/>
                </a:solidFill>
                <a:latin typeface="Verdana"/>
              </a:rPr>
              <a:t> ич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4005360"/>
            <a:ext cx="9144000" cy="520560"/>
          </a:xfrm>
          <a:prstGeom prst="rect">
            <a:avLst/>
          </a:prstGeom>
          <a:gradFill rotWithShape="0">
            <a:gsLst>
              <a:gs pos="0">
                <a:srgbClr val="232323"/>
              </a:gs>
              <a:gs pos="50000">
                <a:srgbClr val="4d4d4d"/>
              </a:gs>
              <a:gs pos="100000">
                <a:srgbClr val="232323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cc00"/>
                </a:solidFill>
                <a:latin typeface="Verdana"/>
              </a:rPr>
              <a:t>3)  Кутсал Рухун </a:t>
            </a:r>
            <a:r>
              <a:rPr b="1" lang="bg-BG" sz="2800" spc="-1" strike="noStrike">
                <a:solidFill>
                  <a:srgbClr val="ffcc00"/>
                </a:solidFill>
                <a:latin typeface="Verdana"/>
              </a:rPr>
              <a:t>ВЕРГИСИ</a:t>
            </a:r>
            <a:r>
              <a:rPr b="0" lang="bg-BG" sz="2800" spc="-1" strike="noStrike">
                <a:solidFill>
                  <a:srgbClr val="ffcc00"/>
                </a:solidFill>
                <a:latin typeface="Verdana"/>
              </a:rPr>
              <a:t> алмак ич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5392800"/>
            <a:ext cx="9144000" cy="5205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cc00"/>
                </a:solidFill>
                <a:latin typeface="Verdana"/>
              </a:rPr>
              <a:t>4)  Рухсал бир </a:t>
            </a:r>
            <a:r>
              <a:rPr b="1" lang="bg-BG" sz="2800" spc="-1" strike="noStrike">
                <a:solidFill>
                  <a:srgbClr val="ffcc00"/>
                </a:solidFill>
                <a:latin typeface="Verdana"/>
              </a:rPr>
              <a:t>ГЬОРЕВ</a:t>
            </a:r>
            <a:r>
              <a:rPr b="0" lang="bg-BG" sz="2800" spc="-1" strike="noStrike">
                <a:solidFill>
                  <a:srgbClr val="ffcc00"/>
                </a:solidFill>
                <a:latin typeface="Verdana"/>
              </a:rPr>
              <a:t> вермек ичин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Ел коймак</a:t>
            </a: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 меселе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5000" y="882720"/>
            <a:ext cx="624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Кутсал Китап’та биркач амачла ел коймак ва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38640" y="2023920"/>
            <a:ext cx="59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Иса, хаста бир кадъна ел койду (Лука 13: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39000" y="3354480"/>
            <a:ext cx="602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Иса, кючюк  къзанлара ел койду (Лука 10: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40440" y="4672080"/>
            <a:ext cx="556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Топл. ихтиярларъ Тимотейус’а ел кой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(1.Тим. 4:14; 2.Тим. 1: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11280" y="6040440"/>
            <a:ext cx="67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Топл. гюдюджюлери, Павлус ве Барнабас’а ел койдулар (Апо 13: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7524720" y="1268280"/>
            <a:ext cx="1368360" cy="936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524720" y="2565360"/>
            <a:ext cx="1368360" cy="93672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524720" y="3860640"/>
            <a:ext cx="1381320" cy="8636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-92160" y="2297160"/>
            <a:ext cx="970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4920" y="765000"/>
            <a:ext cx="9144000" cy="4608720"/>
          </a:xfrm>
          <a:prstGeom prst="rect">
            <a:avLst/>
          </a:prstGeom>
          <a:solidFill>
            <a:srgbClr val="80808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5"/>
          <a:stretch/>
        </p:blipFill>
        <p:spPr>
          <a:xfrm>
            <a:off x="7524720" y="5167440"/>
            <a:ext cx="1389240" cy="9255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0" y="5157720"/>
            <a:ext cx="7236000" cy="1008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6300720" y="4652640"/>
            <a:ext cx="71928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995640" y="4005360"/>
            <a:ext cx="454716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8fccd1"/>
                </a:solidFill>
                <a:latin typeface="Arial"/>
              </a:rPr>
              <a:t>Саде буна бакадж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0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8" nodeType="afterEffect" fill="hold" presetClass="emph" presetID="21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99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00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01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202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1501"/>
                            </p:stCondLst>
                            <p:childTnLst>
                              <p:par>
                                <p:cTn id="1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2001"/>
                            </p:stCondLst>
                            <p:childTnLst>
                              <p:par>
                                <p:cTn id="1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Ел коймак</a:t>
            </a: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 меселе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-92160" y="2297160"/>
            <a:ext cx="970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765000"/>
            <a:ext cx="9180360" cy="2014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Апо 13:1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1 Антакя'даки топлулуун ичинде пейгамберлер ве муаллимлер вардъ: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Бар-Набас, Симеон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Лукийус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Манаен ве Саул.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2 Онлар оруч тутуп Раббе хизмет еттилер. О вакът </a:t>
            </a:r>
            <a:r>
              <a:rPr b="1" lang="tr-TR" sz="1800" spc="-1" strike="noStrike" u="sng">
                <a:solidFill>
                  <a:srgbClr val="ffffff"/>
                </a:solidFill>
                <a:uFillTx/>
                <a:latin typeface="Arial"/>
              </a:rPr>
              <a:t>Кутсал Рух шьойле конушту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"Бана Бар-Набас'ъ ве Саул'у айърън. Бен онларъ бир иш ичин чаърдъм." 3 Ондан сонра </a:t>
            </a:r>
            <a:r>
              <a:rPr b="1" lang="tr-TR" sz="1800" spc="-1" strike="noStrike" u="sng">
                <a:solidFill>
                  <a:srgbClr val="ffffff"/>
                </a:solidFill>
                <a:uFillTx/>
                <a:latin typeface="Arial"/>
              </a:rPr>
              <a:t>оруч тутуп дуа еттилер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. Ве </a:t>
            </a:r>
            <a:r>
              <a:rPr b="1" lang="tr-TR" sz="1800" spc="-1" strike="noStrike" u="sng">
                <a:solidFill>
                  <a:srgbClr val="ffffff"/>
                </a:solidFill>
                <a:uFillTx/>
                <a:latin typeface="Arial"/>
              </a:rPr>
              <a:t>еллерини онларън юзерине койуйуп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 онларъ йолджу еттил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4000" y="2924280"/>
            <a:ext cx="6049800" cy="25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825"/>
              </a:spcAft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bg-BG" sz="2200" spc="-1" strike="noStrike">
                <a:solidFill>
                  <a:srgbClr val="ffff66"/>
                </a:solidFill>
                <a:latin typeface="Arial"/>
              </a:rPr>
              <a:t>Антакя килисеси Павлус ве Барнабас’а гьорев верди, Исанън хаберини яйсънлар.</a:t>
            </a:r>
            <a:r>
              <a:rPr b="1" lang="bg-BG" sz="2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25"/>
              </a:spcAft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bg-BG" sz="2200" spc="-1" strike="noStrike">
                <a:solidFill>
                  <a:srgbClr val="99cc00"/>
                </a:solidFill>
                <a:latin typeface="Arial"/>
              </a:rPr>
              <a:t>Бу ишин ичинде онлара хер тюрлю ярдъм ве дестек вердилер. Павлус ве Барнабас Антакя килисесине хесап верирдиле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5905440" y="3429000"/>
            <a:ext cx="2914560" cy="194328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358920" y="5472000"/>
            <a:ext cx="889308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825"/>
              </a:spcAft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bg-BG" sz="2200" spc="-1" strike="noStrike">
                <a:solidFill>
                  <a:srgbClr val="ffff66"/>
                </a:solidFill>
                <a:latin typeface="Arial"/>
              </a:rPr>
              <a:t>Ел коймак садедже бир иш ичиндир, кишийи даха йюксек бир дереджейе гетирмез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25"/>
              </a:spcAft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bg-BG" sz="2200" spc="-1" strike="noStrike">
                <a:solidFill>
                  <a:srgbClr val="99cc00"/>
                </a:solidFill>
                <a:latin typeface="Arial"/>
              </a:rPr>
              <a:t>Бу гьорев биттиктен сонра, ел койманън еткиси де битийо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0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Ел коймак</a:t>
            </a: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 меселе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-92160" y="2297160"/>
            <a:ext cx="970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826920" y="1844640"/>
            <a:ext cx="2700360" cy="18003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79280" y="393372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Еллери коян кишилер, ону </a:t>
            </a:r>
            <a:r>
              <a:rPr b="1" lang="bg-BG" sz="1800" spc="-1" strike="noStrike">
                <a:solidFill>
                  <a:srgbClr val="99ccff"/>
                </a:solidFill>
                <a:latin typeface="Arial"/>
              </a:rPr>
              <a:t>ТОПЛУЛУУН АДЪНА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япъйорлар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110240" y="981000"/>
            <a:ext cx="216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Инджилдеки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c99ff"/>
                </a:solidFill>
                <a:latin typeface="Arial"/>
              </a:rPr>
              <a:t>ДОРУ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съ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788000" y="981000"/>
            <a:ext cx="42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Бугюн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тутулан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9900"/>
                </a:solidFill>
                <a:latin typeface="Arial"/>
              </a:rPr>
              <a:t>ЯНЛЪШ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съ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>
            <a:off x="6300720" y="1844640"/>
            <a:ext cx="1368360" cy="180036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4"/>
          <a:stretch/>
        </p:blipFill>
        <p:spPr>
          <a:xfrm>
            <a:off x="7524720" y="1844640"/>
            <a:ext cx="1368360" cy="180036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5">
            <a:lum contrast="30000"/>
          </a:blip>
          <a:stretch/>
        </p:blipFill>
        <p:spPr>
          <a:xfrm>
            <a:off x="4933800" y="1844640"/>
            <a:ext cx="1368720" cy="180036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4572000" y="765000"/>
            <a:ext cx="0" cy="6093000"/>
          </a:xfrm>
          <a:prstGeom prst="line">
            <a:avLst/>
          </a:prstGeom>
          <a:ln w="1015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32360" y="328464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Ортодокс    Католик    Протес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32360" y="394020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... ону </a:t>
            </a:r>
            <a:r>
              <a:rPr b="1" lang="bg-BG" sz="1800" spc="-1" strike="noStrike">
                <a:solidFill>
                  <a:srgbClr val="ff9900"/>
                </a:solidFill>
                <a:latin typeface="Arial"/>
              </a:rPr>
              <a:t>ДЕНОМИНАЦИЯНЪН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адъна япъйорл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79280" y="458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Киме ел койулурса, о даха юстюн бир категорийе </a:t>
            </a:r>
            <a:r>
              <a:rPr b="1" lang="bg-BG" sz="1800" spc="-1" strike="noStrike">
                <a:solidFill>
                  <a:srgbClr val="99ccff"/>
                </a:solidFill>
                <a:latin typeface="Arial"/>
              </a:rPr>
              <a:t>ГЕЧМИ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932360" y="458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... О киши </a:t>
            </a:r>
            <a:r>
              <a:rPr b="1" lang="bg-BG" sz="1800" spc="-1" strike="noStrike">
                <a:solidFill>
                  <a:srgbClr val="ff9900"/>
                </a:solidFill>
                <a:latin typeface="Arial"/>
              </a:rPr>
              <a:t>ДАХА ЮСТЮН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бир сънъфа гечй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79280" y="53085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Ел коймак, </a:t>
            </a:r>
            <a:r>
              <a:rPr b="1" lang="bg-BG" sz="1800" spc="-1" strike="noStrike">
                <a:solidFill>
                  <a:srgbClr val="99ccff"/>
                </a:solidFill>
                <a:latin typeface="Arial"/>
              </a:rPr>
              <a:t>БИР ИШ ИЧИН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гечерлид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932360" y="530856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... </a:t>
            </a:r>
            <a:r>
              <a:rPr b="1" lang="bg-BG" sz="1800" spc="-1" strike="noStrike">
                <a:solidFill>
                  <a:srgbClr val="ff9900"/>
                </a:solidFill>
                <a:latin typeface="Arial"/>
              </a:rPr>
              <a:t>БЮТЮН ХАЯТ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ичин гечерлидир.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79280" y="602136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Хер иманлъ хер рухсал</a:t>
            </a:r>
            <a:r>
              <a:rPr b="1" lang="bg-BG" sz="18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иши</a:t>
            </a:r>
            <a:r>
              <a:rPr b="1" lang="bg-BG" sz="1800" spc="-1" strike="noStrike">
                <a:solidFill>
                  <a:srgbClr val="99ccff"/>
                </a:solidFill>
                <a:latin typeface="Arial"/>
              </a:rPr>
              <a:t> ЯПАБИЛИР</a:t>
            </a:r>
            <a:r>
              <a:rPr b="1" lang="bg-BG" sz="1800" spc="-1" strike="noStrike">
                <a:solidFill>
                  <a:srgbClr val="cc99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932360" y="60213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...  хер рухсал</a:t>
            </a:r>
            <a:r>
              <a:rPr b="1" lang="bg-BG" sz="18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иши </a:t>
            </a:r>
            <a:r>
              <a:rPr b="1" lang="bg-BG" sz="1800" spc="-1" strike="noStrike">
                <a:solidFill>
                  <a:srgbClr val="ff9900"/>
                </a:solidFill>
                <a:latin typeface="Arial"/>
              </a:rPr>
              <a:t>ЯПАМАЗ.</a:t>
            </a:r>
            <a:r>
              <a:rPr b="1" lang="bg-BG" sz="1800" spc="-1" strike="noStrike">
                <a:solidFill>
                  <a:srgbClr val="cc99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0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500"/>
                            </p:stCondLst>
                            <p:childTnLst>
                              <p:par>
                                <p:cTn id="1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4716360" y="765000"/>
            <a:ext cx="4427640" cy="1671480"/>
          </a:xfrm>
          <a:prstGeom prst="rect">
            <a:avLst/>
          </a:prstGeom>
          <a:gradFill rotWithShape="0">
            <a:gsLst>
              <a:gs pos="0">
                <a:srgbClr val="004646"/>
              </a:gs>
              <a:gs pos="50000">
                <a:srgbClr val="009999"/>
              </a:gs>
              <a:gs pos="100000">
                <a:srgbClr val="00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6600"/>
                </a:solidFill>
                <a:latin typeface="Arial"/>
              </a:rPr>
              <a:t>Инджиле айкъръ</a:t>
            </a:r>
            <a:r>
              <a:rPr b="0" lang="bg-BG" sz="2400" spc="-1" strike="noStrike">
                <a:solidFill>
                  <a:srgbClr val="ff6600"/>
                </a:solidFill>
                <a:latin typeface="Arial"/>
              </a:rPr>
              <a:t>:</a:t>
            </a:r>
            <a:r>
              <a:rPr b="0" lang="bg-BG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сон сьоз бир кишиде, деноминация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гюдюжюлер меркезе хесап вери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йетки (власт) йукраъдан гели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611280" y="3645000"/>
            <a:ext cx="3671280" cy="1368360"/>
            <a:chOff x="611280" y="3645000"/>
            <a:chExt cx="3671280" cy="1368360"/>
          </a:xfrm>
        </p:grpSpPr>
        <p:sp>
          <p:nvSpPr>
            <p:cNvPr id="373" name=""/>
            <p:cNvSpPr/>
            <p:nvPr/>
          </p:nvSpPr>
          <p:spPr>
            <a:xfrm>
              <a:off x="611280" y="400392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187280" y="457992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627280" y="4579920"/>
              <a:ext cx="107892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06560" y="3645000"/>
              <a:ext cx="107892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203640" y="4003920"/>
              <a:ext cx="107892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187280" y="4148280"/>
              <a:ext cx="502920" cy="50472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3203640" y="4077000"/>
              <a:ext cx="431280" cy="5760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1977840" y="4722840"/>
              <a:ext cx="1009440" cy="18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1258560" y="3716640"/>
              <a:ext cx="1007640" cy="3603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flipV="1">
              <a:off x="2554200" y="3716280"/>
              <a:ext cx="1152000" cy="3603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1690560" y="3859200"/>
              <a:ext cx="863280" cy="7938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 flipV="1">
              <a:off x="1474560" y="4003560"/>
              <a:ext cx="1584000" cy="64908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 flipV="1">
              <a:off x="2482560" y="3861000"/>
              <a:ext cx="862920" cy="10080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1690200" y="4148280"/>
              <a:ext cx="1728360" cy="50472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5580000" y="2637000"/>
            <a:ext cx="2664000" cy="647640"/>
          </a:xfrm>
          <a:prstGeom prst="can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643280" y="765000"/>
            <a:ext cx="0" cy="6093000"/>
          </a:xfrm>
          <a:prstGeom prst="line">
            <a:avLst/>
          </a:prstGeom>
          <a:ln w="1015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5148360" y="3645000"/>
            <a:ext cx="3671280" cy="1368360"/>
            <a:chOff x="5148360" y="3645000"/>
            <a:chExt cx="3671280" cy="1368360"/>
          </a:xfrm>
        </p:grpSpPr>
        <p:sp>
          <p:nvSpPr>
            <p:cNvPr id="390" name=""/>
            <p:cNvSpPr/>
            <p:nvPr/>
          </p:nvSpPr>
          <p:spPr>
            <a:xfrm>
              <a:off x="5148360" y="400356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724360" y="457992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164360" y="4579920"/>
              <a:ext cx="107892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443640" y="3645000"/>
              <a:ext cx="1078920" cy="43308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740720" y="4003560"/>
              <a:ext cx="107892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V="1">
            <a:off x="6659640" y="3357720"/>
            <a:ext cx="431640" cy="8632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611280" y="5948280"/>
            <a:ext cx="3600360" cy="793800"/>
            <a:chOff x="611280" y="5948280"/>
            <a:chExt cx="3600360" cy="793800"/>
          </a:xfrm>
        </p:grpSpPr>
        <p:sp>
          <p:nvSpPr>
            <p:cNvPr id="397" name=""/>
            <p:cNvSpPr/>
            <p:nvPr/>
          </p:nvSpPr>
          <p:spPr>
            <a:xfrm>
              <a:off x="611280" y="637992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32000" y="637992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55640" y="594828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403280" y="594828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24000" y="637992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64000" y="638172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43280" y="637992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050920" y="5949720"/>
              <a:ext cx="64800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492360" y="5949720"/>
              <a:ext cx="64800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771640" y="5949720"/>
              <a:ext cx="64800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2268360" y="5013360"/>
            <a:ext cx="432000" cy="863640"/>
          </a:xfrm>
          <a:prstGeom prst="upArrow">
            <a:avLst>
              <a:gd name="adj1" fmla="val 50000"/>
              <a:gd name="adj2" fmla="val 499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765000"/>
            <a:ext cx="4572000" cy="1709280"/>
          </a:xfrm>
          <a:prstGeom prst="rect">
            <a:avLst/>
          </a:prstGeom>
          <a:gradFill rotWithShape="0">
            <a:gsLst>
              <a:gs pos="0">
                <a:srgbClr val="004646"/>
              </a:gs>
              <a:gs pos="50000">
                <a:srgbClr val="009999"/>
              </a:gs>
              <a:gs pos="100000">
                <a:srgbClr val="00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Инджилин сърасъ:</a:t>
            </a: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сон сьоз топлулу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гюдюжюлер топлантъя хесап вери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йетки (власт) ашаъда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гели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859280" y="1052280"/>
            <a:ext cx="3816360" cy="5545080"/>
          </a:xfrm>
          <a:prstGeom prst="line">
            <a:avLst/>
          </a:prstGeom>
          <a:ln w="1015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075280" y="1008000"/>
            <a:ext cx="3817800" cy="5589720"/>
          </a:xfrm>
          <a:prstGeom prst="line">
            <a:avLst/>
          </a:prstGeom>
          <a:ln w="1015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5435640" y="4939560"/>
            <a:ext cx="216000" cy="576360"/>
          </a:xfrm>
          <a:prstGeom prst="upArrow">
            <a:avLst>
              <a:gd name="adj1" fmla="val 50000"/>
              <a:gd name="adj2" fmla="val 66708"/>
            </a:avLst>
          </a:prstGeom>
          <a:solidFill>
            <a:srgbClr val="8fcc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8244000" y="4939560"/>
            <a:ext cx="215640" cy="576360"/>
          </a:xfrm>
          <a:prstGeom prst="upArrow">
            <a:avLst>
              <a:gd name="adj1" fmla="val 50000"/>
              <a:gd name="adj2" fmla="val 66820"/>
            </a:avLst>
          </a:prstGeom>
          <a:solidFill>
            <a:srgbClr val="8fcc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6875640" y="4939560"/>
            <a:ext cx="215640" cy="576360"/>
          </a:xfrm>
          <a:prstGeom prst="upArrow">
            <a:avLst>
              <a:gd name="adj1" fmla="val 50000"/>
              <a:gd name="adj2" fmla="val 66820"/>
            </a:avLst>
          </a:prstGeom>
          <a:solidFill>
            <a:srgbClr val="8fcc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7594560" y="4939560"/>
            <a:ext cx="216000" cy="576360"/>
          </a:xfrm>
          <a:prstGeom prst="upArrow">
            <a:avLst>
              <a:gd name="adj1" fmla="val 50000"/>
              <a:gd name="adj2" fmla="val 66708"/>
            </a:avLst>
          </a:prstGeom>
          <a:solidFill>
            <a:srgbClr val="8fcc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6154560" y="4939560"/>
            <a:ext cx="216000" cy="576360"/>
          </a:xfrm>
          <a:prstGeom prst="upArrow">
            <a:avLst>
              <a:gd name="adj1" fmla="val 50000"/>
              <a:gd name="adj2" fmla="val 66708"/>
            </a:avLst>
          </a:prstGeom>
          <a:solidFill>
            <a:srgbClr val="8fcc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5148360" y="5948280"/>
            <a:ext cx="3600360" cy="793800"/>
            <a:chOff x="5148360" y="5948280"/>
            <a:chExt cx="3600360" cy="793800"/>
          </a:xfrm>
        </p:grpSpPr>
        <p:sp>
          <p:nvSpPr>
            <p:cNvPr id="417" name=""/>
            <p:cNvSpPr/>
            <p:nvPr/>
          </p:nvSpPr>
          <p:spPr>
            <a:xfrm>
              <a:off x="5148360" y="637992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869080" y="637992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292720" y="594828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940360" y="594828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661080" y="637992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101080" y="638172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80360" y="637992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588000" y="5949720"/>
              <a:ext cx="64800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029440" y="5949720"/>
              <a:ext cx="64800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308720" y="5949720"/>
              <a:ext cx="64800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5651640" y="3645000"/>
            <a:ext cx="2538360" cy="25606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ьоревлилере </a:t>
            </a: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ким гьорев вери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0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500"/>
                            </p:stCondLst>
                            <p:childTnLst>
                              <p:par>
                                <p:cTn id="1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500"/>
                            </p:stCondLst>
                            <p:childTnLst>
                              <p:par>
                                <p:cTn id="13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500"/>
                            </p:stCondLst>
                            <p:childTnLst>
                              <p:par>
                                <p:cTn id="142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2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500"/>
                            </p:stCondLst>
                            <p:childTnLst>
                              <p:par>
                                <p:cTn id="14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500"/>
                            </p:stCondLst>
                            <p:childTnLst>
                              <p:par>
                                <p:cTn id="147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473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500"/>
                            </p:stCondLst>
                            <p:childTnLst>
                              <p:par>
                                <p:cTn id="15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1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3" dur="77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4" dur="770" fill="hold"/>
                                        <p:tgtEl>
                                          <p:spTgt spid="4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6" dur="77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8" dur="77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ьоревлилере </a:t>
            </a: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ким гьорев вери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340000" y="1773360"/>
            <a:ext cx="6048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2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гьорев вермек ичин ескиден зейтин яъ кишинин кафасъна дьокердилер (месхетме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юч чешит адам месхедилирд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4861080" y="3500280"/>
            <a:ext cx="1439640" cy="207828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3"/>
          <a:srcRect l="15626" t="5765" r="12347" b="5804"/>
          <a:stretch/>
        </p:blipFill>
        <p:spPr>
          <a:xfrm>
            <a:off x="2844720" y="3500280"/>
            <a:ext cx="1440000" cy="208944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4">
            <a:lum contrast="24000"/>
          </a:blip>
          <a:stretch/>
        </p:blipFill>
        <p:spPr>
          <a:xfrm>
            <a:off x="6948360" y="3500280"/>
            <a:ext cx="1417680" cy="208944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2557440" y="5732640"/>
            <a:ext cx="21081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ГЬОРЕВЛИ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ffff"/>
                </a:solidFill>
                <a:latin typeface="Arial"/>
              </a:rPr>
              <a:t>(Муса, Харун’у месхедийор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573440" y="5732640"/>
            <a:ext cx="2108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КРАЛЛ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ffff"/>
                </a:solidFill>
                <a:latin typeface="Arial"/>
              </a:rPr>
              <a:t>(Самуел, Давуд’у месхедийор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640560" y="5732640"/>
            <a:ext cx="21081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ПЕЙГАМБЕР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ffff"/>
                </a:solidFill>
                <a:latin typeface="Arial"/>
              </a:rPr>
              <a:t>(Иляс, Елиша’йъ месхедийор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5"/>
          <a:stretch/>
        </p:blipFill>
        <p:spPr>
          <a:xfrm>
            <a:off x="250920" y="1773360"/>
            <a:ext cx="1396800" cy="172692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395280" y="9810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9933"/>
                </a:solidFill>
                <a:latin typeface="Arial"/>
              </a:rPr>
              <a:t>Хер иманлъ Аллахън ишинде гьорев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30" dur="indefinite" restart="never" nodeType="tmRoot">
          <p:childTnLst>
            <p:seq>
              <p:cTn id="1531" dur="indefinite" nodeType="mainSeq">
                <p:childTnLst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500"/>
                            </p:stCondLst>
                            <p:childTnLst>
                              <p:par>
                                <p:cTn id="15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2411280" y="2421000"/>
            <a:ext cx="2305080" cy="2881080"/>
          </a:xfrm>
          <a:prstGeom prst="rect">
            <a:avLst/>
          </a:prstGeom>
          <a:solidFill>
            <a:srgbClr val="0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ьоревлилере </a:t>
            </a: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ким гьорев вери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979640" y="1574640"/>
            <a:ext cx="71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Бугюнлерде </a:t>
            </a:r>
            <a:r>
              <a:rPr b="1" lang="bg-BG" sz="2000" spc="-1" strike="noStrike">
                <a:solidFill>
                  <a:srgbClr val="cc99ff"/>
                </a:solidFill>
                <a:latin typeface="Arial"/>
              </a:rPr>
              <a:t>ХЕР ИМАНЛЪ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месхедилмишти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Зейтиняаъ саде семболд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аслъсъ </a:t>
            </a:r>
            <a:r>
              <a:rPr b="1" lang="bg-BG" sz="2000" spc="-1" strike="noStrike">
                <a:solidFill>
                  <a:srgbClr val="cc99ff"/>
                </a:solidFill>
                <a:latin typeface="Arial"/>
              </a:rPr>
              <a:t>КУТСАЛ РУХ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1396800" cy="17269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250920" y="90792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9933"/>
                </a:solidFill>
                <a:latin typeface="Arial"/>
              </a:rPr>
              <a:t>Хер иманлъ Аллахън ишинде гьорев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6012000" y="2349360"/>
            <a:ext cx="2313000" cy="28800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4"/>
          <a:srcRect l="14413" t="19199" r="12491" b="7754"/>
          <a:stretch/>
        </p:blipFill>
        <p:spPr>
          <a:xfrm>
            <a:off x="2411280" y="2422440"/>
            <a:ext cx="2305080" cy="287964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5580000" y="5373720"/>
            <a:ext cx="38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9933"/>
                </a:solidFill>
                <a:latin typeface="Arial"/>
              </a:rPr>
              <a:t>Апо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 2:</a:t>
            </a:r>
            <a:r>
              <a:rPr b="1" lang="tr-TR" sz="1800" spc="-1" strike="noStrike">
                <a:solidFill>
                  <a:srgbClr val="ff9933"/>
                </a:solidFill>
                <a:latin typeface="Arial"/>
              </a:rPr>
              <a:t>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Аллах дийор: Сон гюнлерде ьойле оладжак ки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Рухуму бютюн инсанларън юзерине дьокедж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195640" y="5380200"/>
            <a:ext cx="302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9933"/>
                </a:solidFill>
                <a:latin typeface="Arial"/>
              </a:rPr>
              <a:t>Кол 2: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Бютюн бунлар, геледжектеки шейлерин гьолгеси иди. Ама аслъсъ Месихти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92" dur="indefinite" restart="never" nodeType="tmRoot">
          <p:childTnLst>
            <p:seq>
              <p:cTn id="1593" dur="indefinite" nodeType="mainSeq">
                <p:childTnLst>
                  <p:par>
                    <p:cTn id="1594" fill="hold">
                      <p:stCondLst>
                        <p:cond delay="0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500"/>
                            </p:stCondLst>
                            <p:childTnLst>
                              <p:par>
                                <p:cTn id="1601" autoRev="1" nodeType="after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2" dur="20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4500"/>
                            </p:stCondLst>
                            <p:childTnLst>
                              <p:par>
                                <p:cTn id="16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7" dur="2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2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9" dur="2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200"/>
                            </p:stCondLst>
                            <p:childTnLst>
                              <p:par>
                                <p:cTn id="163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6" dur="73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72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0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2" dur="5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1">
                                  <p:stCondLst>
                                    <p:cond delay="120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4572000" y="4222800"/>
            <a:ext cx="3313080" cy="247644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1258920" y="4222800"/>
            <a:ext cx="3313080" cy="244800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250920" y="1464840"/>
            <a:ext cx="853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Петрус 2: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Ама сиз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90360">
              <a:buClr>
                <a:srgbClr val="ffffff"/>
              </a:buClr>
              <a:buFont typeface="Arial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сечилмиш бир халксънъз,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краллар гибисиниз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90360">
              <a:buClr>
                <a:srgbClr val="ffffff"/>
              </a:buClr>
              <a:buFont typeface="Arial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кутсал </a:t>
            </a:r>
            <a:r>
              <a:rPr b="1" lang="tr-TR" sz="2000" spc="-1" strike="noStrike" u="sng">
                <a:solidFill>
                  <a:srgbClr val="ffffff"/>
                </a:solidFill>
                <a:uFillTx/>
                <a:latin typeface="Arial"/>
              </a:rPr>
              <a:t>Аллах гьоревлилерисиниз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90360">
              <a:buClr>
                <a:srgbClr val="ffffff"/>
              </a:buClr>
              <a:buFont typeface="Arial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кутсал бир миллетсиниз, Аллахън кенди халкъсънъз.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90360">
              <a:buClr>
                <a:srgbClr val="ff66ff"/>
              </a:buClr>
              <a:buFont typeface="Arial"/>
              <a:buChar char="-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ff"/>
                </a:solidFill>
                <a:latin typeface="Arial"/>
              </a:rPr>
              <a:t>Ескиси гиби Аллах халкънън ичинде бир айръм йок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1258920" y="3789360"/>
          <a:ext cx="6626160" cy="2892600"/>
        </p:xfrm>
        <a:graphic>
          <a:graphicData uri="http://schemas.openxmlformats.org/drawingml/2006/table">
            <a:tbl>
              <a:tblPr/>
              <a:tblGrid>
                <a:gridCol w="3313080"/>
                <a:gridCol w="3313080"/>
              </a:tblGrid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ИСАДАН ЬОНДЖ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БУГЮ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 indent="-181080">
                        <a:spcBef>
                          <a:spcPts val="499"/>
                        </a:spcBef>
                        <a:buClr>
                          <a:srgbClr val="8fccd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8fccd1"/>
                          </a:solidFill>
                          <a:latin typeface="Arial"/>
                        </a:rPr>
                        <a:t>Саде гьоревлиле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 indent="-181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8fccd1"/>
                          </a:solidFill>
                          <a:latin typeface="Arial"/>
                        </a:rPr>
                        <a:t>   </a:t>
                      </a:r>
                      <a:r>
                        <a:rPr b="1" lang="bg-BG" sz="2000" spc="-1" strike="noStrike" u="sng">
                          <a:solidFill>
                            <a:srgbClr val="8fccd1"/>
                          </a:solidFill>
                          <a:uFillTx/>
                          <a:latin typeface="Arial"/>
                        </a:rPr>
                        <a:t>дуа </a:t>
                      </a:r>
                      <a:r>
                        <a:rPr b="1" lang="bg-BG" sz="2000" spc="-1" strike="noStrike">
                          <a:solidFill>
                            <a:srgbClr val="8fccd1"/>
                          </a:solidFill>
                          <a:latin typeface="Arial"/>
                        </a:rPr>
                        <a:t>едердилер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 indent="-181080">
                        <a:spcBef>
                          <a:spcPts val="499"/>
                        </a:spcBef>
                        <a:buClr>
                          <a:srgbClr val="ff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ff9999"/>
                          </a:solidFill>
                          <a:latin typeface="Arial"/>
                        </a:rPr>
                        <a:t>Артък хер иманл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 indent="-1810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ff9999"/>
                          </a:solidFill>
                          <a:latin typeface="Arial"/>
                        </a:rPr>
                        <a:t>   </a:t>
                      </a:r>
                      <a:r>
                        <a:rPr b="1" lang="bg-BG" sz="2000" spc="-1" strike="noStrike" u="sng">
                          <a:solidFill>
                            <a:srgbClr val="ff9999"/>
                          </a:solidFill>
                          <a:uFillTx/>
                          <a:latin typeface="Arial"/>
                        </a:rPr>
                        <a:t>дуа</a:t>
                      </a:r>
                      <a:r>
                        <a:rPr b="1" lang="bg-BG" sz="2000" spc="-1" strike="noStrike">
                          <a:solidFill>
                            <a:srgbClr val="ff9999"/>
                          </a:solidFill>
                          <a:latin typeface="Arial"/>
                        </a:rPr>
                        <a:t> едийо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 indent="-181080">
                        <a:spcBef>
                          <a:spcPts val="499"/>
                        </a:spcBef>
                        <a:buClr>
                          <a:srgbClr val="8fccd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8fccd1"/>
                          </a:solidFill>
                          <a:latin typeface="Arial"/>
                        </a:rPr>
                        <a:t>Саде гьоревлилер </a:t>
                      </a:r>
                      <a:r>
                        <a:rPr b="1" lang="bg-BG" sz="2000" spc="-1" strike="noStrike" u="sng">
                          <a:solidFill>
                            <a:srgbClr val="8fccd1"/>
                          </a:solidFill>
                          <a:uFillTx/>
                          <a:latin typeface="Arial"/>
                        </a:rPr>
                        <a:t>кутсал</a:t>
                      </a:r>
                      <a:r>
                        <a:rPr b="1" lang="bg-BG" sz="2000" spc="-1" strike="noStrike">
                          <a:solidFill>
                            <a:srgbClr val="8fccd1"/>
                          </a:solidFill>
                          <a:latin typeface="Arial"/>
                        </a:rPr>
                        <a:t> сайълърдъ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 indent="-181080">
                        <a:spcBef>
                          <a:spcPts val="499"/>
                        </a:spcBef>
                        <a:buClr>
                          <a:srgbClr val="ff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ff9999"/>
                          </a:solidFill>
                          <a:latin typeface="Arial"/>
                        </a:rPr>
                        <a:t>Артък хер иманлъ </a:t>
                      </a:r>
                      <a:r>
                        <a:rPr b="1" lang="bg-BG" sz="2000" spc="-1" strike="noStrike" u="sng">
                          <a:solidFill>
                            <a:srgbClr val="ff9999"/>
                          </a:solidFill>
                          <a:uFillTx/>
                          <a:latin typeface="Arial"/>
                        </a:rPr>
                        <a:t>кутсалдър</a:t>
                      </a:r>
                      <a:r>
                        <a:rPr b="1" lang="bg-BG" sz="2000" spc="-1" strike="noStrike">
                          <a:solidFill>
                            <a:srgbClr val="ff9999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 indent="-181080">
                        <a:spcBef>
                          <a:spcPts val="499"/>
                        </a:spcBef>
                        <a:buClr>
                          <a:srgbClr val="8fccd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8fccd1"/>
                          </a:solidFill>
                          <a:latin typeface="Arial"/>
                        </a:rPr>
                        <a:t>Саде гьоревлилер </a:t>
                      </a:r>
                      <a:r>
                        <a:rPr b="1" lang="bg-BG" sz="2000" spc="-1" strike="noStrike" u="sng">
                          <a:solidFill>
                            <a:srgbClr val="8fccd1"/>
                          </a:solidFill>
                          <a:uFillTx/>
                          <a:latin typeface="Arial"/>
                        </a:rPr>
                        <a:t>курбан</a:t>
                      </a:r>
                      <a:r>
                        <a:rPr b="1" lang="bg-BG" sz="2000" spc="-1" strike="noStrike">
                          <a:solidFill>
                            <a:srgbClr val="8fccd1"/>
                          </a:solidFill>
                          <a:latin typeface="Arial"/>
                        </a:rPr>
                        <a:t> сунардъла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 indent="-181080">
                        <a:spcBef>
                          <a:spcPts val="499"/>
                        </a:spcBef>
                        <a:buClr>
                          <a:srgbClr val="ff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ff9999"/>
                          </a:solidFill>
                          <a:latin typeface="Arial"/>
                        </a:rPr>
                        <a:t>Артък хер иманлъ </a:t>
                      </a:r>
                      <a:r>
                        <a:rPr b="1" lang="bg-BG" sz="2000" spc="-1" strike="noStrike" u="sng">
                          <a:solidFill>
                            <a:srgbClr val="ff9999"/>
                          </a:solidFill>
                          <a:uFillTx/>
                          <a:latin typeface="Arial"/>
                        </a:rPr>
                        <a:t>курбан</a:t>
                      </a:r>
                      <a:r>
                        <a:rPr b="1" lang="bg-BG" sz="2000" spc="-1" strike="noStrike">
                          <a:solidFill>
                            <a:srgbClr val="ff9999"/>
                          </a:solidFill>
                          <a:latin typeface="Arial"/>
                        </a:rPr>
                        <a:t> сунуйо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2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ьоревлилере </a:t>
            </a: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ким гьорев вери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0920" y="90792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9933"/>
                </a:solidFill>
                <a:latin typeface="Arial"/>
              </a:rPr>
              <a:t>Иса Месих йенилик гетир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45" dur="indefinite" restart="never" nodeType="tmRoot">
          <p:childTnLst>
            <p:seq>
              <p:cTn id="1646" dur="indefinite" nodeType="mainSeq">
                <p:childTnLst>
                  <p:par>
                    <p:cTn id="1647" fill="hold">
                      <p:stCondLst>
                        <p:cond delay="0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3" fill="hold">
                            <p:stCondLst>
                              <p:cond delay="500"/>
                            </p:stCondLst>
                            <p:childTnLst>
                              <p:par>
                                <p:cTn id="1654" autoRev="1" nodeType="after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5" dur="2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9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5" dur="24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0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3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5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250920" y="1617840"/>
            <a:ext cx="8532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Матта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23: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Сизе гене 'муаллим' демесинлер, чюнкю тек бир Муаллиминиз вар, </a:t>
            </a:r>
            <a:r>
              <a:rPr b="1" lang="tr-TR" sz="2000" spc="-1" strike="noStrike" u="sng">
                <a:solidFill>
                  <a:srgbClr val="ffffff"/>
                </a:solidFill>
                <a:uFillTx/>
                <a:latin typeface="Arial"/>
              </a:rPr>
              <a:t>ве сиз хепиниз кардешсиниз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. Ве йерйюзюнде кимсейе 'баба' демейин. Чюнкю тек бир Бабанъз вар, О да гьоктедир. Сизе 'гюдюджю' демесинлер. Чюнкю тек бир Гюдюджюнюз вар, о да Месихтир. Ама сизин аранъзда ен бюйюк олан, сизин хизмет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кярънъз олсун. Хер ким кендини йюкселтирирсе, о алчалтъръл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аджак. Ве хер ким кендини алчалтърърса, о йюкселтириледжек.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ьоревлилере </a:t>
            </a: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ким гьорев вери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324000" y="4292640"/>
            <a:ext cx="2736720" cy="24271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3492360" y="4287960"/>
            <a:ext cx="4897440" cy="24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Aft>
                <a:spcPts val="67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Ферисилерин хатасъ: иманлъарън арасънда айръм гетирдилер: СЪРАДАН иманлълар ве БИРИНДЖИ СЪНЪФ иманлил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67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Месихин топлантъсънда херкес ‘кардештир’ – ики айръ категори й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67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Онун ичин киме ел конулурса, о киши бир юст категорийе гечми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50920" y="90792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9933"/>
                </a:solidFill>
                <a:latin typeface="Arial"/>
              </a:rPr>
              <a:t>Гюдюджюлюк = КАРДЕШИНЕ ХИЗМ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06" dur="indefinite" restart="never" nodeType="tmRoot">
          <p:childTnLst>
            <p:seq>
              <p:cTn id="1707" dur="indefinite" nodeType="mainSeq">
                <p:childTnLst>
                  <p:par>
                    <p:cTn id="1708" fill="hold">
                      <p:stCondLst>
                        <p:cond delay="0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fill="hold">
                            <p:stCondLst>
                              <p:cond delay="500"/>
                            </p:stCondLst>
                            <p:childTnLst>
                              <p:par>
                                <p:cTn id="1715" autoRev="1" nodeType="after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6" dur="2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1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8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417680"/>
            <a:ext cx="4859280" cy="825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21236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Деил саде бир пасто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ама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биркач гюдюдж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168720"/>
            <a:ext cx="4859280" cy="11912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21236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Килисейе ярдъмл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гелмесин, ама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ендим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сорумлулук алалъ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162400"/>
            <a:ext cx="4932360" cy="11912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21236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3) Деил саде илахиле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ама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утсал Китаба ьонем верилс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76720" y="1397160"/>
            <a:ext cx="1366920" cy="1056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631280" y="1374840"/>
            <a:ext cx="1512720" cy="1101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91280" y="1158840"/>
            <a:ext cx="99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600" spc="-1" strike="noStrike">
                <a:solidFill>
                  <a:srgbClr val="cc6600"/>
                </a:solidFill>
                <a:latin typeface="Arial"/>
              </a:rPr>
              <a:t>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16720" y="1735200"/>
            <a:ext cx="1152360" cy="287280"/>
          </a:xfrm>
          <a:custGeom>
            <a:avLst/>
            <a:gdLst>
              <a:gd name="textAreaLeft" fmla="*/ 144000 w 1152360"/>
              <a:gd name="textAreaRight" fmla="*/ 1008360 w 1152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88000" y="5450040"/>
            <a:ext cx="1152720" cy="287280"/>
          </a:xfrm>
          <a:custGeom>
            <a:avLst/>
            <a:gdLst>
              <a:gd name="textAreaLeft" fmla="*/ 144000 w 1152720"/>
              <a:gd name="textAreaRight" fmla="*/ 1008720 w 1152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16720" y="3573360"/>
            <a:ext cx="1152360" cy="287280"/>
          </a:xfrm>
          <a:custGeom>
            <a:avLst/>
            <a:gdLst>
              <a:gd name="textAreaLeft" fmla="*/ 144000 w 1152360"/>
              <a:gd name="textAreaRight" fmla="*/ 1008360 w 1152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292720" y="314640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7885080" y="3141720"/>
            <a:ext cx="1031760" cy="1249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64000" y="2924280"/>
            <a:ext cx="99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600" spc="-1" strike="noStrike">
                <a:solidFill>
                  <a:srgbClr val="cc6600"/>
                </a:solidFill>
                <a:latin typeface="Arial"/>
              </a:rPr>
              <a:t>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7885080" y="4973760"/>
            <a:ext cx="1011240" cy="1341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5292720" y="4873680"/>
            <a:ext cx="1109520" cy="1479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64000" y="4869000"/>
            <a:ext cx="99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600" spc="-1" strike="noStrike">
                <a:solidFill>
                  <a:srgbClr val="cc6600"/>
                </a:solidFill>
                <a:latin typeface="Arial"/>
              </a:rPr>
              <a:t>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Саалам топлулуклар ичин </a:t>
            </a:r>
            <a:r>
              <a:rPr b="1" lang="bg-BG" sz="4000" spc="-1" strike="noStrike">
                <a:solidFill>
                  <a:srgbClr val="cc99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3 пренси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ьоревлер </a:t>
            </a:r>
            <a:r>
              <a:rPr b="1" lang="bg-BG" sz="4000" spc="-1" strike="noStrike">
                <a:solidFill>
                  <a:srgbClr val="ffffff"/>
                </a:solidFill>
                <a:latin typeface="Garamond"/>
              </a:rPr>
              <a:t>иле</a:t>
            </a: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3300"/>
                </a:solidFill>
                <a:latin typeface="Garamond"/>
              </a:rPr>
              <a:t>Вергил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39640" y="1197000"/>
            <a:ext cx="39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Хер бир </a:t>
            </a:r>
            <a:r>
              <a:rPr b="1" lang="bg-BG" sz="3200" spc="-1" strike="noStrike">
                <a:solidFill>
                  <a:srgbClr val="cc99ff"/>
                </a:solidFill>
                <a:latin typeface="Arial"/>
              </a:rPr>
              <a:t>ИШ</a:t>
            </a: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 ичин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бу ише гьоре бир </a:t>
            </a:r>
            <a:r>
              <a:rPr b="1" lang="bg-BG" sz="3200" spc="-1" strike="noStrike">
                <a:solidFill>
                  <a:srgbClr val="ff3300"/>
                </a:solidFill>
                <a:latin typeface="Arial"/>
              </a:rPr>
              <a:t>КУВЕТ</a:t>
            </a: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 лазъ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6948360" y="1052640"/>
            <a:ext cx="1800360" cy="20890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4716360" y="1052640"/>
            <a:ext cx="1800360" cy="208908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539640" y="3692520"/>
            <a:ext cx="396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cc99ff"/>
                </a:solidFill>
                <a:latin typeface="Arial"/>
              </a:rPr>
              <a:t>РАББИН ИШИНИ</a:t>
            </a: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 япмак ичин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Раб тарафъндан бир </a:t>
            </a:r>
            <a:r>
              <a:rPr b="1" lang="bg-BG" sz="3200" spc="-1" strike="noStrike">
                <a:solidFill>
                  <a:srgbClr val="ff3300"/>
                </a:solidFill>
                <a:latin typeface="Arial"/>
              </a:rPr>
              <a:t>ВЕРГИ</a:t>
            </a: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 лазъ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4"/>
          <a:stretch/>
        </p:blipFill>
        <p:spPr>
          <a:xfrm>
            <a:off x="6948360" y="3591000"/>
            <a:ext cx="1800360" cy="207648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5"/>
          <a:stretch/>
        </p:blipFill>
        <p:spPr>
          <a:xfrm>
            <a:off x="4716360" y="3591000"/>
            <a:ext cx="1800360" cy="20890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1760040" y="6093000"/>
            <a:ext cx="67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Ама бьойле Рух вергиси кимлере верилди?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54" dur="indefinite" restart="never" nodeType="tmRoot">
          <p:childTnLst>
            <p:seq>
              <p:cTn id="1755" dur="indefinite" nodeType="mainSeq">
                <p:childTnLst>
                  <p:par>
                    <p:cTn id="1756" fill="hold">
                      <p:stCondLst>
                        <p:cond delay="0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9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9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0" y="763200"/>
            <a:ext cx="91440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Ефес 4: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1199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Ама </a:t>
            </a: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МЕСИХ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 хер биримизе мерхаметинден верип дередже дередже вергилер даътърдъ.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ьоревлер </a:t>
            </a:r>
            <a:r>
              <a:rPr b="1" lang="bg-BG" sz="4000" spc="-1" strike="noStrike">
                <a:solidFill>
                  <a:srgbClr val="ffffff"/>
                </a:solidFill>
                <a:latin typeface="Garamond"/>
              </a:rPr>
              <a:t>иле</a:t>
            </a: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3300"/>
                </a:solidFill>
                <a:latin typeface="Garamond"/>
              </a:rPr>
              <a:t>Вергил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6084720" y="2276640"/>
            <a:ext cx="2880000" cy="20286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3">
            <a:lum contrast="42000"/>
          </a:blip>
          <a:stretch/>
        </p:blipFill>
        <p:spPr>
          <a:xfrm>
            <a:off x="326880" y="2276640"/>
            <a:ext cx="2876760" cy="424800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4"/>
          <a:stretch/>
        </p:blipFill>
        <p:spPr>
          <a:xfrm>
            <a:off x="6084720" y="4508640"/>
            <a:ext cx="2880000" cy="204624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3348000" y="2492280"/>
            <a:ext cx="2664000" cy="32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ffff00"/>
                </a:solidFill>
                <a:latin typeface="Arial"/>
              </a:rPr>
              <a:t>Иса бурада гьостерилийор йенгийи казанан бир</a:t>
            </a:r>
            <a:r>
              <a:rPr b="1" i="1" lang="bg-BG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bg-BG" sz="1800" spc="-1" strike="noStrike" u="sng">
                <a:solidFill>
                  <a:srgbClr val="cc99ff"/>
                </a:solidFill>
                <a:uFillTx/>
                <a:latin typeface="Arial"/>
              </a:rPr>
              <a:t>генерал</a:t>
            </a:r>
            <a:r>
              <a:rPr b="1" i="1" lang="bg-BG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bg-BG" sz="1800" spc="-1" strike="noStrike">
                <a:solidFill>
                  <a:srgbClr val="ffff00"/>
                </a:solidFill>
                <a:latin typeface="Arial"/>
              </a:rPr>
              <a:t>гиб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Дюшманъ йенип онун малларънъ еле гечир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Сонра бюйюк алай япъп херкесе о маллардан бола гани даътърд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878840" y="29242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903240" y="587700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Шей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08" dur="indefinite" restart="never" nodeType="tmRoot">
          <p:childTnLst>
            <p:seq>
              <p:cTn id="1809" dur="indefinite" nodeType="mainSeq">
                <p:childTnLst>
                  <p:par>
                    <p:cTn id="1810" fill="hold">
                      <p:stCondLst>
                        <p:cond delay="0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0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2" fill="hold">
                            <p:stCondLst>
                              <p:cond delay="500"/>
                            </p:stCondLst>
                            <p:childTnLst>
                              <p:par>
                                <p:cTn id="1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6" dur="5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1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fill="hold">
                            <p:stCondLst>
                              <p:cond delay="500"/>
                            </p:stCondLst>
                            <p:childTnLst>
                              <p:par>
                                <p:cTn id="18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500"/>
                            </p:stCondLst>
                            <p:childTnLst>
                              <p:par>
                                <p:cTn id="18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ьоревлер </a:t>
            </a:r>
            <a:r>
              <a:rPr b="1" lang="bg-BG" sz="4000" spc="-1" strike="noStrike">
                <a:solidFill>
                  <a:srgbClr val="ffffff"/>
                </a:solidFill>
                <a:latin typeface="Garamond"/>
              </a:rPr>
              <a:t>иле</a:t>
            </a: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3300"/>
                </a:solidFill>
                <a:latin typeface="Garamond"/>
              </a:rPr>
              <a:t>Вергил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484360" y="2205000"/>
            <a:ext cx="59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cc00"/>
                </a:solidFill>
                <a:latin typeface="Arial"/>
              </a:rPr>
              <a:t>Иса Шейтанън елинден не алдъ да бизе верд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763200"/>
            <a:ext cx="91440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Ефес 4: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1199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Ама Месих хер биримизе мерхаметинден верип дередже дередже </a:t>
            </a: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ВЕРГИЛЕР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 даътърдъ.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79280" y="566100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Инсан нормал халинде </a:t>
            </a:r>
            <a:r>
              <a:rPr b="1" lang="bg-BG" sz="1800" spc="-1" strike="noStrike">
                <a:solidFill>
                  <a:srgbClr val="cc99ff"/>
                </a:solidFill>
                <a:latin typeface="Arial"/>
              </a:rPr>
              <a:t>ЕГОИСТ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тир, саде кендини дюшюнюйор, башкасъна хизмет етмек истемий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859280" y="5661000"/>
            <a:ext cx="39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Иса Месих бизе бахшиш оларак кувет верийор, башкасъна </a:t>
            </a:r>
            <a:r>
              <a:rPr b="1" lang="bg-BG" sz="1800" spc="-1" strike="noStrike">
                <a:solidFill>
                  <a:srgbClr val="cc99ff"/>
                </a:solidFill>
                <a:latin typeface="Arial"/>
              </a:rPr>
              <a:t>ХИЗМЕТ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едел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6227640" y="3500280"/>
            <a:ext cx="2448000" cy="2089440"/>
          </a:xfrm>
          <a:prstGeom prst="rect">
            <a:avLst/>
          </a:prstGeom>
          <a:ln w="0">
            <a:noFill/>
          </a:ln>
        </p:spPr>
      </p:pic>
      <p:grpSp>
        <p:nvGrpSpPr>
          <p:cNvPr id="481" name=""/>
          <p:cNvGrpSpPr/>
          <p:nvPr/>
        </p:nvGrpSpPr>
        <p:grpSpPr>
          <a:xfrm>
            <a:off x="1401840" y="3500280"/>
            <a:ext cx="2449440" cy="2087280"/>
            <a:chOff x="1401840" y="3500280"/>
            <a:chExt cx="2449440" cy="2087280"/>
          </a:xfrm>
        </p:grpSpPr>
        <p:sp>
          <p:nvSpPr>
            <p:cNvPr id="482" name=""/>
            <p:cNvSpPr/>
            <p:nvPr/>
          </p:nvSpPr>
          <p:spPr>
            <a:xfrm>
              <a:off x="1401840" y="3500280"/>
              <a:ext cx="2447640" cy="208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3" name="" descr=""/>
            <p:cNvPicPr/>
            <p:nvPr/>
          </p:nvPicPr>
          <p:blipFill>
            <a:blip r:embed="rId3"/>
            <a:stretch/>
          </p:blipFill>
          <p:spPr>
            <a:xfrm>
              <a:off x="1401840" y="3787560"/>
              <a:ext cx="2449440" cy="1630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4" name="" descr=""/>
          <p:cNvPicPr/>
          <p:nvPr/>
        </p:nvPicPr>
        <p:blipFill>
          <a:blip r:embed="rId4"/>
          <a:stretch/>
        </p:blipFill>
        <p:spPr>
          <a:xfrm>
            <a:off x="0" y="2997360"/>
            <a:ext cx="1800360" cy="131904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5"/>
          <a:srcRect l="0" t="18871" r="0" b="16307"/>
          <a:stretch/>
        </p:blipFill>
        <p:spPr>
          <a:xfrm>
            <a:off x="4643280" y="2986200"/>
            <a:ext cx="1800360" cy="130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74" dur="indefinite" restart="never" nodeType="tmRoot">
          <p:childTnLst>
            <p:seq>
              <p:cTn id="1875" dur="indefinite" nodeType="mainSeq">
                <p:childTnLst>
                  <p:par>
                    <p:cTn id="1876" fill="hold">
                      <p:stCondLst>
                        <p:cond delay="0"/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fill="hold">
                            <p:stCondLst>
                              <p:cond delay="500"/>
                            </p:stCondLst>
                            <p:childTnLst>
                              <p:par>
                                <p:cTn id="18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574560" y="3354120"/>
            <a:ext cx="8569440" cy="20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Ефес 4: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1001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Ама Месих хер биримизе мерхаметинден верип дередже дередже вергилер даътърдъ.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ff"/>
                </a:solidFill>
                <a:latin typeface="Arial"/>
              </a:rPr>
              <a:t>- Иса, Шейтанън гюджюню къръп бизи бенджилликтен сербест етти. Артък башкаларъна хизмет едебилир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ff"/>
                </a:solidFill>
                <a:latin typeface="Arial"/>
              </a:rPr>
              <a:t>- Демек, Раб хепимизе фърсат верди, килиседе ишлейел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ьоревлилере </a:t>
            </a: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ким гьорев вери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308600" y="1052640"/>
            <a:ext cx="632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99ff"/>
                </a:solidFill>
                <a:latin typeface="Comic Sans MS"/>
              </a:rPr>
              <a:t>ГЬОРЕВЛЕР</a:t>
            </a:r>
            <a:r>
              <a:rPr b="1" lang="bg-BG" sz="3600" spc="-1" strike="noStrike">
                <a:solidFill>
                  <a:srgbClr val="000000"/>
                </a:solidFill>
                <a:latin typeface="Comic Sans MS"/>
              </a:rPr>
              <a:t> иле </a:t>
            </a:r>
            <a:r>
              <a:rPr b="1" lang="bg-BG" sz="3600" spc="-1" strike="noStrike">
                <a:solidFill>
                  <a:srgbClr val="ff6600"/>
                </a:solidFill>
                <a:latin typeface="Comic Sans MS"/>
              </a:rPr>
              <a:t>ВЕРГИЛ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60360" y="1936800"/>
            <a:ext cx="87487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Раббин ишинде ьонемли бир пренси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Саде о иманлълар Раббин </a:t>
            </a:r>
            <a:r>
              <a:rPr b="0" lang="bg-BG" sz="3200" spc="-1" strike="noStrike">
                <a:solidFill>
                  <a:srgbClr val="cc99ff"/>
                </a:solidFill>
                <a:latin typeface="Arial"/>
              </a:rPr>
              <a:t>ишини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япсънла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киме Раб о иш ичин бир </a:t>
            </a:r>
            <a:r>
              <a:rPr b="0" lang="bg-BG" sz="3200" spc="-1" strike="noStrike">
                <a:solidFill>
                  <a:srgbClr val="ff6600"/>
                </a:solidFill>
                <a:latin typeface="Arial"/>
              </a:rPr>
              <a:t>верги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вердийсе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25" dur="indefinite" restart="never" nodeType="tmRoot">
          <p:childTnLst>
            <p:seq>
              <p:cTn id="1926" dur="indefinite" nodeType="mainSeq">
                <p:childTnLst>
                  <p:par>
                    <p:cTn id="1927" fill="hold">
                      <p:stCondLst>
                        <p:cond delay="0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4" dur="500" fill="hold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466560" y="1044000"/>
            <a:ext cx="8569440" cy="20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Ефес 4: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1001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Ама Месих хер биримизе мерхаметинден верип дередже дередже вергилер даътърдъ.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ff"/>
                </a:solidFill>
                <a:latin typeface="Arial"/>
              </a:rPr>
              <a:t>- Иса, Шейтанън гюджюню къръп бизи бенджилликтен сербест етти. Артък башкаларъна хизмет едебилир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ff"/>
                </a:solidFill>
                <a:latin typeface="Arial"/>
              </a:rPr>
              <a:t>- Демек, Раб хепимизе фърсат верди, килиседе ишлейел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1762200" y="3429000"/>
            <a:ext cx="2244600" cy="295272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4498920" y="3429000"/>
            <a:ext cx="2211480" cy="295272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ьоревлилере </a:t>
            </a: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ким гьорев вери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55" dur="indefinite" restart="never" nodeType="tmRoot">
          <p:childTnLst>
            <p:seq>
              <p:cTn id="1956" dur="indefinite" nodeType="mainSeq">
                <p:childTnLst>
                  <p:par>
                    <p:cTn id="1957" fill="hold">
                      <p:stCondLst>
                        <p:cond delay="0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fill="hold">
                      <p:stCondLst>
                        <p:cond delay="indefinite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5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1" dur="5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3" fill="hold">
                            <p:stCondLst>
                              <p:cond delay="500"/>
                            </p:stCondLst>
                            <p:childTnLst>
                              <p:par>
                                <p:cTn id="19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395280" y="903960"/>
            <a:ext cx="8532720" cy="38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Ром 12: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Гене де, бизе верилен мерхамете гьоре, айръ айръ вергилеримиз ва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егер пейгамберлик исе, иманън дереджесине гьоре олсун.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- егер хизмет етмек исе, хизмет етмек олсу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- егер </a:t>
            </a:r>
            <a:r>
              <a:rPr b="1" lang="tr-TR" sz="2000" spc="-1" strike="noStrike">
                <a:solidFill>
                  <a:srgbClr val="ff5050"/>
                </a:solidFill>
                <a:latin typeface="Arial"/>
              </a:rPr>
              <a:t>ьоретирмек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исе, ьоретирмек олсу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егер кураж вермек исе, кураж вермек олсу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- ким пара ярдъмъ япарса, онун ели ачък олсу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- ким </a:t>
            </a:r>
            <a:r>
              <a:rPr b="1" lang="tr-TR" sz="2000" spc="-1" strike="noStrike">
                <a:solidFill>
                  <a:srgbClr val="ff5050"/>
                </a:solidFill>
                <a:latin typeface="Arial"/>
              </a:rPr>
              <a:t>гюдюджюлюк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япарса, ону диккатла япсъ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- ким башкаларъна аджърса, ону севинчле япсън.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ff"/>
                </a:solidFill>
                <a:latin typeface="Arial"/>
              </a:rPr>
              <a:t>- Демек, Раб кими кишилере фърсат верди, топлулукта гюдюджюлюк япсънла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7794720" y="5084640"/>
            <a:ext cx="1206360" cy="136872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5275440" y="5084640"/>
            <a:ext cx="1290600" cy="13687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3"/>
          <a:stretch/>
        </p:blipFill>
        <p:spPr>
          <a:xfrm>
            <a:off x="179280" y="5084640"/>
            <a:ext cx="1203480" cy="136872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4"/>
          <a:stretch/>
        </p:blipFill>
        <p:spPr>
          <a:xfrm>
            <a:off x="1386000" y="5084640"/>
            <a:ext cx="1323720" cy="136872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5"/>
          <a:stretch/>
        </p:blipFill>
        <p:spPr>
          <a:xfrm>
            <a:off x="2682720" y="5084640"/>
            <a:ext cx="1297080" cy="136872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6"/>
          <a:stretch/>
        </p:blipFill>
        <p:spPr>
          <a:xfrm>
            <a:off x="6553080" y="5084640"/>
            <a:ext cx="1241640" cy="136872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7"/>
          <a:stretch/>
        </p:blipFill>
        <p:spPr>
          <a:xfrm>
            <a:off x="3978360" y="5084640"/>
            <a:ext cx="1295280" cy="13687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ьоревлилере </a:t>
            </a: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ким гьорев вери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97" dur="indefinite" restart="never" nodeType="tmRoot">
          <p:childTnLst>
            <p:seq>
              <p:cTn id="1998" dur="indefinite" nodeType="mainSeq">
                <p:childTnLst>
                  <p:par>
                    <p:cTn id="1999" fill="hold">
                      <p:stCondLst>
                        <p:cond delay="0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8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0" dur="5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fill="hold">
                      <p:stCondLst>
                        <p:cond delay="indefinite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2" dur="500" fill="hold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3" fill="hold">
                            <p:stCondLst>
                              <p:cond delay="500"/>
                            </p:stCondLst>
                            <p:childTnLst>
                              <p:par>
                                <p:cTn id="20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3" dur="500" fill="hold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4" dur="500" fill="hold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5" fill="hold">
                            <p:stCondLst>
                              <p:cond delay="500"/>
                            </p:stCondLst>
                            <p:childTnLst>
                              <p:par>
                                <p:cTn id="20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5" dur="500" fill="hold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7" fill="hold">
                            <p:stCondLst>
                              <p:cond delay="500"/>
                            </p:stCondLst>
                            <p:childTnLst>
                              <p:par>
                                <p:cTn id="20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fill="hold">
                      <p:stCondLst>
                        <p:cond delay="indefinite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7" dur="500" fill="hold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8" dur="500" fill="hold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9" fill="hold">
                            <p:stCondLst>
                              <p:cond delay="500"/>
                            </p:stCondLst>
                            <p:childTnLst>
                              <p:par>
                                <p:cTn id="20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9" dur="500" fill="hold"/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0" dur="500" fill="hold"/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1" fill="hold">
                            <p:stCondLst>
                              <p:cond delay="500"/>
                            </p:stCondLst>
                            <p:childTnLst>
                              <p:par>
                                <p:cTn id="20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fill="hold">
                      <p:stCondLst>
                        <p:cond delay="indefinite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4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2" dur="500" fill="hold"/>
                                        <p:tgtEl>
                                          <p:spTgt spid="4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3" fill="hold">
                            <p:stCondLst>
                              <p:cond delay="500"/>
                            </p:stCondLst>
                            <p:childTnLst>
                              <p:par>
                                <p:cTn id="20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delay="indefinite"/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3" dur="500" fill="hold"/>
                                        <p:tgtEl>
                                          <p:spTgt spid="4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4" dur="500" fill="hold"/>
                                        <p:tgtEl>
                                          <p:spTgt spid="4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5" fill="hold">
                            <p:stCondLst>
                              <p:cond delay="500"/>
                            </p:stCondLst>
                            <p:childTnLst>
                              <p:par>
                                <p:cTn id="210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07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9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10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091280" y="5084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13440" y="541656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24720" y="558972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34160" y="54878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50920" y="1700280"/>
            <a:ext cx="2519280" cy="1584360"/>
            <a:chOff x="250920" y="1700280"/>
            <a:chExt cx="2519280" cy="1584360"/>
          </a:xfrm>
        </p:grpSpPr>
        <p:sp>
          <p:nvSpPr>
            <p:cNvPr id="65" name=""/>
            <p:cNvSpPr/>
            <p:nvPr/>
          </p:nvSpPr>
          <p:spPr>
            <a:xfrm>
              <a:off x="324000" y="184500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22560" y="239256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87640" y="170028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7280" y="285300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51280" y="184500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87640" y="227664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64000" y="292428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0920" y="239256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7813800" y="592128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48360" y="5921280"/>
            <a:ext cx="64800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45440" y="544500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4720" y="5921280"/>
            <a:ext cx="64800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1125360"/>
            <a:ext cx="70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. Олгун топлулук бир </a:t>
            </a:r>
            <a:r>
              <a:rPr b="1" lang="bg-BG" sz="2000" spc="-1" strike="noStrike">
                <a:solidFill>
                  <a:srgbClr val="cccc00"/>
                </a:solidFill>
                <a:latin typeface="Arial"/>
              </a:rPr>
              <a:t>мюждеджи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сечип гьондери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27320" y="1844640"/>
            <a:ext cx="52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. О да гидип </a:t>
            </a:r>
            <a:r>
              <a:rPr b="1" lang="bg-BG" sz="2000" spc="-1" strike="noStrike">
                <a:solidFill>
                  <a:srgbClr val="cccc00"/>
                </a:solidFill>
                <a:latin typeface="Arial"/>
              </a:rPr>
              <a:t>Аллахън сьозюню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еки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8000" y="2422440"/>
            <a:ext cx="26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. Кишилер тьовбе едерсе онларъ </a:t>
            </a:r>
            <a:r>
              <a:rPr b="1" lang="bg-BG" sz="2000" spc="-1" strike="noStrike">
                <a:solidFill>
                  <a:srgbClr val="cccc00"/>
                </a:solidFill>
                <a:latin typeface="Arial"/>
              </a:rPr>
              <a:t>вафтиз еди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95640" y="488808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. Бунларън арасъндан </a:t>
            </a:r>
            <a:r>
              <a:rPr b="1" lang="bg-BG" sz="2000" spc="-1" strike="noStrike">
                <a:solidFill>
                  <a:srgbClr val="cccc00"/>
                </a:solidFill>
                <a:latin typeface="Arial"/>
              </a:rPr>
              <a:t>гюдюджю йетиштири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582300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. Йени топлулук олгунлаштъ мъ, </a:t>
            </a:r>
            <a:r>
              <a:rPr b="1" lang="bg-BG" sz="2000" spc="-1" strike="noStrike">
                <a:solidFill>
                  <a:srgbClr val="cccc00"/>
                </a:solidFill>
                <a:latin typeface="Arial"/>
              </a:rPr>
              <a:t>башка йере гиди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Топлулук</a:t>
            </a:r>
            <a:r>
              <a:rPr b="1" lang="bg-BG" sz="4000" spc="-1" strike="noStrike">
                <a:solidFill>
                  <a:srgbClr val="cc99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насъл курулу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rcRect l="0" t="0" r="48148" b="0"/>
          <a:stretch/>
        </p:blipFill>
        <p:spPr>
          <a:xfrm>
            <a:off x="395280" y="1413000"/>
            <a:ext cx="1728720" cy="2504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rcRect l="0" t="0" r="-1512" b="0"/>
          <a:stretch/>
        </p:blipFill>
        <p:spPr>
          <a:xfrm>
            <a:off x="4572000" y="2563920"/>
            <a:ext cx="3384720" cy="2504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6877080" y="3645000"/>
            <a:ext cx="1541520" cy="1800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4572000" y="2579760"/>
            <a:ext cx="1800360" cy="250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401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401"/>
                            </p:stCondLst>
                            <p:childTnLst>
                              <p:par>
                                <p:cTn id="1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59259E-006 L 0.45677 0.1743 E">
                                      <p:cBhvr>
                                        <p:cTn id="162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401"/>
                            </p:stCondLst>
                            <p:childTnLst>
                              <p:par>
                                <p:cTn id="1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401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401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401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901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401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901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6401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6901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7401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401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3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1"/>
                            </p:stCondLst>
                            <p:childTnLst>
                              <p:par>
                                <p:cTn id="23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3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1"/>
                            </p:stCondLst>
                            <p:childTnLst>
                              <p:par>
                                <p:cTn id="24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4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-4.44444E-006 L -0.59445 0.11551 E">
                                      <p:cBhvr>
                                        <p:cTn id="262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95280" y="1011240"/>
            <a:ext cx="8352000" cy="51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9999"/>
                </a:solidFill>
                <a:latin typeface="Times New Roman"/>
                <a:ea typeface="Times New Roman"/>
              </a:rPr>
              <a:t>Базъ ьонемли хакикатлар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  <a:ea typeface="Arial"/>
              </a:rPr>
              <a:t>1) Мюждеджийи гьондерен КИЛИСЕд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деил деноминация, деил мис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- Мюждеджи киме баалъдър, киме хесап вереджек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  <a:ea typeface="Arial"/>
              </a:rPr>
              <a:t>2) Мюждеджи йени топлулуунун ПАСТОРУ ОЛМУЙ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- Бир топлулуу курмак ичин ве ону узун заман гютмек ичин башка Рух вергиси лазъ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  <a:ea typeface="Arial"/>
              </a:rPr>
              <a:t>3) Мюждеджи кенди йерине бир кишийи деил, БИРКАЧ киши бракъй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- башка рух вергиси олдуу ичин, топлантъйъ БИР киши башлатъръйор, ама БИРКАЧ киши девам еттирийо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Топлулук</a:t>
            </a:r>
            <a:r>
              <a:rPr b="1" lang="bg-BG" sz="4000" spc="-1" strike="noStrike">
                <a:solidFill>
                  <a:srgbClr val="cc99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насъл курулу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52720" y="3859200"/>
            <a:ext cx="1079640" cy="433440"/>
          </a:xfrm>
          <a:prstGeom prst="can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29080" y="4435560"/>
            <a:ext cx="1079640" cy="433440"/>
          </a:xfrm>
          <a:prstGeom prst="can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9080" y="4435560"/>
            <a:ext cx="1079280" cy="433440"/>
          </a:xfrm>
          <a:prstGeom prst="can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48360" y="3500280"/>
            <a:ext cx="1079280" cy="433440"/>
          </a:xfrm>
          <a:prstGeom prst="can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45080" y="3859200"/>
            <a:ext cx="1079640" cy="433440"/>
          </a:xfrm>
          <a:prstGeom prst="can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9080" y="4003560"/>
            <a:ext cx="503280" cy="505080"/>
          </a:xfrm>
          <a:prstGeom prst="line">
            <a:avLst/>
          </a:prstGeom>
          <a:ln w="82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445080" y="3932280"/>
            <a:ext cx="432000" cy="576360"/>
          </a:xfrm>
          <a:prstGeom prst="line">
            <a:avLst/>
          </a:prstGeom>
          <a:ln w="82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219280" y="4578480"/>
            <a:ext cx="1009800" cy="1440"/>
          </a:xfrm>
          <a:prstGeom prst="line">
            <a:avLst/>
          </a:prstGeom>
          <a:ln w="82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500720" y="3571920"/>
            <a:ext cx="1008000" cy="360360"/>
          </a:xfrm>
          <a:prstGeom prst="line">
            <a:avLst/>
          </a:prstGeom>
          <a:ln w="82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5795640" y="3571560"/>
            <a:ext cx="1152360" cy="360360"/>
          </a:xfrm>
          <a:prstGeom prst="line">
            <a:avLst/>
          </a:prstGeom>
          <a:ln w="82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932000" y="3714840"/>
            <a:ext cx="863640" cy="793800"/>
          </a:xfrm>
          <a:prstGeom prst="line">
            <a:avLst/>
          </a:prstGeom>
          <a:ln w="82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716000" y="3859200"/>
            <a:ext cx="1584360" cy="649440"/>
          </a:xfrm>
          <a:prstGeom prst="line">
            <a:avLst/>
          </a:prstGeom>
          <a:ln w="82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5724000" y="3716280"/>
            <a:ext cx="863640" cy="1008000"/>
          </a:xfrm>
          <a:prstGeom prst="line">
            <a:avLst/>
          </a:prstGeom>
          <a:ln w="82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932360" y="4003560"/>
            <a:ext cx="1728720" cy="505080"/>
          </a:xfrm>
          <a:prstGeom prst="line">
            <a:avLst/>
          </a:prstGeom>
          <a:ln w="82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42920" y="3213000"/>
            <a:ext cx="25192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ЕПИСКОПО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(гюдджюю, ьондер, гьозетмен, назъ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47280" y="4197240"/>
            <a:ext cx="1566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ПОЙМЕН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(чоба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4360" y="616572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5600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9280" y="609300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27280" y="616572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0328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24360" y="609300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92720" y="616572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4036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20000" y="616572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08720" y="6497640"/>
            <a:ext cx="64800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4364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17236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8000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07360" y="4916520"/>
            <a:ext cx="2386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ПРЕСВИТЕРО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(ихтия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765000"/>
            <a:ext cx="9144000" cy="185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274680">
              <a:spcAft>
                <a:spcPts val="451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Топлантъйъ куран мюждеджи, заманла иманлъларън арасъндан кишилери йетиштирийор, онлара гюдюджюлюк гьоревини верий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spcAft>
                <a:spcPts val="451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Бу адамлар бирлик ичинде топлантъйъ гютмейе башлъйорлар. Мюждеджи чекилий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Бу гьорев ичин Грекчеде юч айръ ад вар (ве онлар да терджюмеден терджюмейе деишийорлар), ама кишилерин иши хеп айнъдър, текти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70120" y="2909880"/>
            <a:ext cx="2881080" cy="2809800"/>
          </a:xfrm>
          <a:prstGeom prst="ellipse">
            <a:avLst/>
          </a:prstGeom>
          <a:noFill/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Топлулук</a:t>
            </a:r>
            <a:r>
              <a:rPr b="1" lang="bg-BG" sz="4000" spc="-1" strike="noStrike">
                <a:solidFill>
                  <a:srgbClr val="cc99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насъл курулу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5680" y="3716280"/>
            <a:ext cx="3333960" cy="2505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01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50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4500"/>
                            </p:stCondLst>
                            <p:childTnLst>
                              <p:par>
                                <p:cTn id="4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0"/>
                            </p:stCondLst>
                            <p:childTnLst>
                              <p:par>
                                <p:cTn id="421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3.98844E-006 L 0.25608 -0.31977 E">
                                      <p:cBhvr>
                                        <p:cTn id="422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7000"/>
                            </p:stCondLst>
                            <p:childTnLst>
                              <p:par>
                                <p:cTn id="42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84971E-006 L -0.06702 -0.24647 E">
                                      <p:cBhvr>
                                        <p:cTn id="425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8000"/>
                            </p:stCondLst>
                            <p:childTnLst>
                              <p:par>
                                <p:cTn id="42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4971E-006 L -0.03541 -0.3304 E">
                                      <p:cBhvr>
                                        <p:cTn id="428" dur="1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9000"/>
                            </p:stCondLst>
                            <p:childTnLst>
                              <p:par>
                                <p:cTn id="430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62 0.02635 L 0.23229 -0.43122 E">
                                      <p:cBhvr>
                                        <p:cTn id="431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5087E-006 L -0.22448 -0.2948 E">
                                      <p:cBhvr>
                                        <p:cTn id="434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500"/>
                            </p:stCondLst>
                            <p:childTnLst>
                              <p:par>
                                <p:cTn id="4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500"/>
                            </p:stCondLst>
                            <p:childTnLst>
                              <p:par>
                                <p:cTn id="4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000"/>
                            </p:stCondLst>
                            <p:childTnLst>
                              <p:par>
                                <p:cTn id="47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4000"/>
                            </p:stCondLst>
                            <p:childTnLst>
                              <p:par>
                                <p:cTn id="48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500"/>
                            </p:stCondLst>
                            <p:childTnLst>
                              <p:par>
                                <p:cTn id="4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5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60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6500"/>
                            </p:stCondLst>
                            <p:childTnLst>
                              <p:par>
                                <p:cTn id="5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7000"/>
                            </p:stCondLst>
                            <p:childTnLst>
                              <p:par>
                                <p:cTn id="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7500"/>
                            </p:stCondLst>
                            <p:childTnLst>
                              <p:par>
                                <p:cTn id="5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8000"/>
                            </p:stCondLst>
                            <p:childTnLst>
                              <p:par>
                                <p:cTn id="5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850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900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9500"/>
                            </p:stCondLst>
                            <p:childTnLst>
                              <p:par>
                                <p:cTn id="53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3852720" y="2351160"/>
            <a:ext cx="3672000" cy="1368360"/>
            <a:chOff x="3852720" y="2351160"/>
            <a:chExt cx="3672000" cy="1368360"/>
          </a:xfrm>
        </p:grpSpPr>
        <p:sp>
          <p:nvSpPr>
            <p:cNvPr id="127" name=""/>
            <p:cNvSpPr/>
            <p:nvPr/>
          </p:nvSpPr>
          <p:spPr>
            <a:xfrm>
              <a:off x="3852720" y="2710080"/>
              <a:ext cx="107964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29080" y="3286080"/>
              <a:ext cx="107964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869080" y="328608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48360" y="235116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45440" y="271008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29080" y="2854440"/>
              <a:ext cx="503280" cy="50472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6445080" y="2783160"/>
              <a:ext cx="431640" cy="5760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219280" y="3429000"/>
              <a:ext cx="1009800" cy="18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500720" y="2422800"/>
              <a:ext cx="1008000" cy="3603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5795640" y="2422440"/>
              <a:ext cx="1152360" cy="3603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4932000" y="2565360"/>
              <a:ext cx="863640" cy="7938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4716000" y="2709720"/>
              <a:ext cx="1584360" cy="64908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5724720" y="2567160"/>
              <a:ext cx="863280" cy="10080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932360" y="2854440"/>
              <a:ext cx="1728720" cy="50472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3564000" y="5084640"/>
            <a:ext cx="863640" cy="360360"/>
          </a:xfrm>
          <a:prstGeom prst="can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16360" y="5084640"/>
            <a:ext cx="863640" cy="360360"/>
          </a:xfrm>
          <a:prstGeom prst="can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69080" y="5084640"/>
            <a:ext cx="863640" cy="360360"/>
          </a:xfrm>
          <a:prstGeom prst="can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21440" y="5084640"/>
            <a:ext cx="863640" cy="360360"/>
          </a:xfrm>
          <a:prstGeom prst="can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4005360"/>
            <a:ext cx="301680" cy="1008000"/>
          </a:xfrm>
          <a:prstGeom prst="upArrow">
            <a:avLst>
              <a:gd name="adj1" fmla="val 50000"/>
              <a:gd name="adj2" fmla="val 83532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03640" y="4005360"/>
            <a:ext cx="301680" cy="1008000"/>
          </a:xfrm>
          <a:prstGeom prst="upArrow">
            <a:avLst>
              <a:gd name="adj1" fmla="val 50000"/>
              <a:gd name="adj2" fmla="val 83532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56360" y="4005360"/>
            <a:ext cx="301680" cy="1008000"/>
          </a:xfrm>
          <a:prstGeom prst="upArrow">
            <a:avLst>
              <a:gd name="adj1" fmla="val 50000"/>
              <a:gd name="adj2" fmla="val 83532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08720" y="4005360"/>
            <a:ext cx="301680" cy="1008000"/>
          </a:xfrm>
          <a:prstGeom prst="upArrow">
            <a:avLst>
              <a:gd name="adj1" fmla="val 50000"/>
              <a:gd name="adj2" fmla="val 83532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5360" y="4862520"/>
            <a:ext cx="21574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cccc"/>
                </a:solidFill>
                <a:latin typeface="Arial"/>
              </a:rPr>
              <a:t>“</a:t>
            </a:r>
            <a:r>
              <a:rPr b="1" lang="bg-BG" sz="2000" spc="-1" strike="noStrike">
                <a:solidFill>
                  <a:srgbClr val="33cccc"/>
                </a:solidFill>
                <a:latin typeface="Arial"/>
              </a:rPr>
              <a:t>ДИАКОНО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(диакон, гьорев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шемма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1919160"/>
            <a:ext cx="25196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ЕПИСКОПО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(гюдджюю, ьондер, гьозетмен, назъ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04400" y="2901960"/>
            <a:ext cx="1566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ПОЙМЕН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(чоба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6093000"/>
            <a:ext cx="64800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63640" y="609300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8360" y="6497640"/>
            <a:ext cx="64800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00360" y="609300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0328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08360" y="609300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9564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93080" y="609300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85928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08720" y="6497640"/>
            <a:ext cx="64800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27640" y="6093000"/>
            <a:ext cx="64800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5164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2280" y="3621240"/>
            <a:ext cx="2386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ПРЕСВИТЕРО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(ихтия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1628640"/>
            <a:ext cx="2952720" cy="2737080"/>
          </a:xfrm>
          <a:prstGeom prst="ellipse">
            <a:avLst/>
          </a:prstGeom>
          <a:noFill/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4797360"/>
            <a:ext cx="2736720" cy="1079640"/>
          </a:xfrm>
          <a:prstGeom prst="ellipse">
            <a:avLst/>
          </a:prstGeom>
          <a:noFill/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765000"/>
            <a:ext cx="9144000" cy="103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274680">
              <a:spcAft>
                <a:spcPts val="451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Топлулук, базъ ьозел ишлер ве гьоревлер ичин, гьоревлилер сечийо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spcAft>
                <a:spcPts val="451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Онларън иши даха сънърлъдър, ве гюдюджюлерин ярдъмджъларъдъ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spcAft>
                <a:spcPts val="451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Демек, Инджиле гьоре, килисе ичинде саде </a:t>
            </a:r>
            <a:r>
              <a:rPr b="1" lang="bg-BG" sz="1800" spc="-1" strike="noStrike">
                <a:solidFill>
                  <a:srgbClr val="ccff33"/>
                </a:solidFill>
                <a:latin typeface="Arial"/>
              </a:rPr>
              <a:t>ики чешит гьорев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в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00720" y="609300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4920" y="2565360"/>
            <a:ext cx="647640" cy="719280"/>
            <a:chOff x="34920" y="2565360"/>
            <a:chExt cx="647640" cy="719280"/>
          </a:xfrm>
        </p:grpSpPr>
        <p:sp>
          <p:nvSpPr>
            <p:cNvPr id="171" name=""/>
            <p:cNvSpPr/>
            <p:nvPr/>
          </p:nvSpPr>
          <p:spPr>
            <a:xfrm>
              <a:off x="34920" y="2637000"/>
              <a:ext cx="647640" cy="64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0960" y="256536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4000" spc="-1" strike="noStrike">
                  <a:solidFill>
                    <a:srgbClr val="ff6600"/>
                  </a:solidFill>
                  <a:latin typeface="Verdana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4920" y="4869000"/>
            <a:ext cx="647640" cy="718560"/>
            <a:chOff x="34920" y="4869000"/>
            <a:chExt cx="647640" cy="718560"/>
          </a:xfrm>
        </p:grpSpPr>
        <p:sp>
          <p:nvSpPr>
            <p:cNvPr id="174" name=""/>
            <p:cNvSpPr/>
            <p:nvPr/>
          </p:nvSpPr>
          <p:spPr>
            <a:xfrm>
              <a:off x="34920" y="4940280"/>
              <a:ext cx="647640" cy="64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0960" y="48690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4000" spc="-1" strike="noStrike">
                  <a:solidFill>
                    <a:srgbClr val="ff6600"/>
                  </a:solidFill>
                  <a:latin typeface="Verdana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203640" y="645336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64000" y="6093000"/>
            <a:ext cx="64800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51672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Топлулуун</a:t>
            </a:r>
            <a:r>
              <a:rPr b="1" lang="bg-BG" sz="4000" spc="-1" strike="noStrike">
                <a:solidFill>
                  <a:srgbClr val="cc99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организасйо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01"/>
                            </p:stCondLst>
                            <p:childTnLst>
                              <p:par>
                                <p:cTn id="5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98844E-006 L 0.10625 -0.14151 E">
                                      <p:cBhvr>
                                        <p:cTn id="581" dur="5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56069E-006 L 0.17726 -0.19399 E">
                                      <p:cBhvr>
                                        <p:cTn id="584" dur="5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500"/>
                            </p:stCondLst>
                            <p:childTnLst>
                              <p:par>
                                <p:cTn id="5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98844E-006 L 0.06701 -0.14151 E">
                                      <p:cBhvr>
                                        <p:cTn id="587" dur="5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45087E-006 L 0.06684 -0.20047 E">
                                      <p:cBhvr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500"/>
                            </p:stCondLst>
                            <p:childTnLst>
                              <p:par>
                                <p:cTn id="5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500"/>
                            </p:stCondLst>
                            <p:childTnLst>
                              <p:par>
                                <p:cTn id="6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50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500"/>
                            </p:stCondLst>
                            <p:childTnLst>
                              <p:par>
                                <p:cTn id="67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4" dur="1000" autoRev="1" fill="hold"/>
                                        <p:tgtEl>
                                          <p:spTgt spid="1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7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7" dur="1000" autoRev="1" fill="hold"/>
                                        <p:tgtEl>
                                          <p:spTgt spid="1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852720" y="3933720"/>
            <a:ext cx="3672000" cy="1368360"/>
            <a:chOff x="3852720" y="3933720"/>
            <a:chExt cx="3672000" cy="1368360"/>
          </a:xfrm>
        </p:grpSpPr>
        <p:sp>
          <p:nvSpPr>
            <p:cNvPr id="181" name=""/>
            <p:cNvSpPr/>
            <p:nvPr/>
          </p:nvSpPr>
          <p:spPr>
            <a:xfrm>
              <a:off x="3852720" y="4292640"/>
              <a:ext cx="107964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429080" y="4868640"/>
              <a:ext cx="107964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69080" y="486864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48360" y="393372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45440" y="429264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29080" y="4437000"/>
              <a:ext cx="503280" cy="50472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6445080" y="4365720"/>
              <a:ext cx="431640" cy="5760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5219280" y="5011560"/>
              <a:ext cx="1009800" cy="18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4500720" y="4005360"/>
              <a:ext cx="1008000" cy="3603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5795640" y="4005000"/>
              <a:ext cx="1152360" cy="3603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4932000" y="4147920"/>
              <a:ext cx="863640" cy="7938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4716000" y="4292280"/>
              <a:ext cx="1584360" cy="64908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5724720" y="4149720"/>
              <a:ext cx="863280" cy="10080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4932360" y="4437000"/>
              <a:ext cx="1728720" cy="50472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564000" y="5445000"/>
            <a:ext cx="4321080" cy="1152360"/>
            <a:chOff x="3564000" y="5445000"/>
            <a:chExt cx="4321080" cy="1152360"/>
          </a:xfrm>
        </p:grpSpPr>
        <p:sp>
          <p:nvSpPr>
            <p:cNvPr id="196" name=""/>
            <p:cNvSpPr/>
            <p:nvPr/>
          </p:nvSpPr>
          <p:spPr>
            <a:xfrm>
              <a:off x="3564000" y="6237000"/>
              <a:ext cx="863640" cy="360360"/>
            </a:xfrm>
            <a:prstGeom prst="can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16360" y="6237000"/>
              <a:ext cx="863640" cy="360360"/>
            </a:xfrm>
            <a:prstGeom prst="can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869080" y="6237000"/>
              <a:ext cx="863640" cy="360360"/>
            </a:xfrm>
            <a:prstGeom prst="can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021440" y="6237000"/>
              <a:ext cx="863640" cy="360360"/>
            </a:xfrm>
            <a:prstGeom prst="can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51280" y="5445000"/>
              <a:ext cx="216000" cy="720720"/>
            </a:xfrm>
            <a:prstGeom prst="upArrow">
              <a:avLst>
                <a:gd name="adj1" fmla="val 50000"/>
                <a:gd name="adj2" fmla="val 8341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03640" y="5445000"/>
              <a:ext cx="216000" cy="720720"/>
            </a:xfrm>
            <a:prstGeom prst="upArrow">
              <a:avLst>
                <a:gd name="adj1" fmla="val 50000"/>
                <a:gd name="adj2" fmla="val 8341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56360" y="5445000"/>
              <a:ext cx="216000" cy="720720"/>
            </a:xfrm>
            <a:prstGeom prst="upArrow">
              <a:avLst>
                <a:gd name="adj1" fmla="val 50000"/>
                <a:gd name="adj2" fmla="val 8341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08720" y="5445000"/>
              <a:ext cx="216000" cy="720720"/>
            </a:xfrm>
            <a:prstGeom prst="upArrow">
              <a:avLst>
                <a:gd name="adj1" fmla="val 50000"/>
                <a:gd name="adj2" fmla="val 8341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 flipV="1">
            <a:off x="5435640" y="2851920"/>
            <a:ext cx="431640" cy="863640"/>
          </a:xfrm>
          <a:prstGeom prst="upArrow">
            <a:avLst>
              <a:gd name="adj1" fmla="val 50000"/>
              <a:gd name="adj2" fmla="val 50021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7687080" y="3284640"/>
            <a:ext cx="1346760" cy="3095640"/>
            <a:chOff x="7687080" y="3284640"/>
            <a:chExt cx="1346760" cy="3095640"/>
          </a:xfrm>
        </p:grpSpPr>
        <p:sp>
          <p:nvSpPr>
            <p:cNvPr id="206" name=""/>
            <p:cNvSpPr/>
            <p:nvPr/>
          </p:nvSpPr>
          <p:spPr>
            <a:xfrm>
              <a:off x="8033040" y="3284640"/>
              <a:ext cx="410400" cy="3095640"/>
            </a:xfrm>
            <a:custGeom>
              <a:avLst/>
              <a:gdLst>
                <a:gd name="textAreaLeft" fmla="*/ 0 w 410400"/>
                <a:gd name="textAreaRight" fmla="*/ 148320 w 410400"/>
                <a:gd name="textAreaTop" fmla="*/ 80640 h 3095640"/>
                <a:gd name="textAreaBottom" fmla="*/ 3015000 h 30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687080" y="4010400"/>
              <a:ext cx="134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ffffff"/>
                  </a:solidFill>
                  <a:latin typeface="Arial"/>
                </a:rPr>
                <a:t>Инджилд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ffffff"/>
                  </a:solidFill>
                  <a:latin typeface="Arial"/>
                </a:rPr>
                <a:t>ВА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7747200" y="2062080"/>
            <a:ext cx="1213920" cy="1006560"/>
            <a:chOff x="7747200" y="2062080"/>
            <a:chExt cx="1213920" cy="1006560"/>
          </a:xfrm>
        </p:grpSpPr>
        <p:sp>
          <p:nvSpPr>
            <p:cNvPr id="209" name=""/>
            <p:cNvSpPr/>
            <p:nvPr/>
          </p:nvSpPr>
          <p:spPr>
            <a:xfrm>
              <a:off x="8061120" y="2062080"/>
              <a:ext cx="367920" cy="1006560"/>
            </a:xfrm>
            <a:custGeom>
              <a:avLst/>
              <a:gdLst>
                <a:gd name="textAreaLeft" fmla="*/ 0 w 367920"/>
                <a:gd name="textAreaRight" fmla="*/ 132840 w 367920"/>
                <a:gd name="textAreaTop" fmla="*/ 25920 h 1006560"/>
                <a:gd name="textAreaBottom" fmla="*/ 980640 h 100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47200" y="2312640"/>
              <a:ext cx="1213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ff3300"/>
                  </a:solidFill>
                  <a:latin typeface="Arial"/>
                </a:rPr>
                <a:t>Инджилд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ff3300"/>
                  </a:solidFill>
                  <a:latin typeface="Arial"/>
                </a:rPr>
                <a:t>Й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0" y="3141720"/>
            <a:ext cx="9144000" cy="0"/>
          </a:xfrm>
          <a:prstGeom prst="line">
            <a:avLst/>
          </a:prstGeom>
          <a:ln w="1015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765000"/>
            <a:ext cx="9144000" cy="124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274680">
              <a:spcAft>
                <a:spcPts val="451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Исадан 100 сене сонра: чок кишилик гюдюджюлюк системинден </a:t>
            </a:r>
            <a:r>
              <a:rPr b="1" lang="bg-BG" sz="1800" spc="-1" strike="noStrike">
                <a:solidFill>
                  <a:srgbClr val="ccff33"/>
                </a:solidFill>
                <a:latin typeface="Arial"/>
              </a:rPr>
              <a:t>тек кишилик систем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ине гечтилер. О тек гюдюджюйе ‘епископос’ адънъ тактълар, (аслънда о ‘чобан’ ве ‘ихтияр’ гьоревинден фарклъ деи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spcAft>
                <a:spcPts val="451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Артък ики катлъ деил, юч катлъ гюдюджюлюк системи олуш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1280" y="3216240"/>
            <a:ext cx="2519280" cy="94752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ЕПИСКОПО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(гюдджюю, ьондер, гьозетмен, назъ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04400" y="4199040"/>
            <a:ext cx="1566360" cy="6732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ПОЙМЕН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(чоба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2280" y="4917960"/>
            <a:ext cx="2386080" cy="6732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ПРЕСВИТЕРО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(ихтия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7800" y="5734080"/>
            <a:ext cx="21574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cccc"/>
                </a:solidFill>
                <a:latin typeface="Arial"/>
              </a:rPr>
              <a:t>“</a:t>
            </a:r>
            <a:r>
              <a:rPr b="1" lang="bg-BG" sz="2000" spc="-1" strike="noStrike">
                <a:solidFill>
                  <a:srgbClr val="33cccc"/>
                </a:solidFill>
                <a:latin typeface="Arial"/>
              </a:rPr>
              <a:t>ДИАКОНО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(диакон, гьорев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шемма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" y="3068640"/>
            <a:ext cx="2952720" cy="2592360"/>
          </a:xfrm>
          <a:prstGeom prst="ellipse">
            <a:avLst/>
          </a:prstGeom>
          <a:noFill/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6560" y="5662440"/>
            <a:ext cx="2737080" cy="1079640"/>
          </a:xfrm>
          <a:prstGeom prst="ellipse">
            <a:avLst/>
          </a:prstGeom>
          <a:noFill/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356000" y="2131920"/>
            <a:ext cx="2664000" cy="647640"/>
          </a:xfrm>
          <a:prstGeom prst="can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8360" y="1989000"/>
            <a:ext cx="2736720" cy="1079640"/>
          </a:xfrm>
          <a:prstGeom prst="ellipse">
            <a:avLst/>
          </a:prstGeom>
          <a:noFill/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4920" y="2135160"/>
            <a:ext cx="647640" cy="719280"/>
            <a:chOff x="34920" y="2135160"/>
            <a:chExt cx="647640" cy="719280"/>
          </a:xfrm>
        </p:grpSpPr>
        <p:sp>
          <p:nvSpPr>
            <p:cNvPr id="222" name=""/>
            <p:cNvSpPr/>
            <p:nvPr/>
          </p:nvSpPr>
          <p:spPr>
            <a:xfrm>
              <a:off x="34920" y="2206800"/>
              <a:ext cx="647640" cy="64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0960" y="213516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4000" spc="-1" strike="noStrike">
                  <a:solidFill>
                    <a:srgbClr val="ff6600"/>
                  </a:solidFill>
                  <a:latin typeface="Verdana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34920" y="4005360"/>
            <a:ext cx="647640" cy="718560"/>
            <a:chOff x="34920" y="4005360"/>
            <a:chExt cx="647640" cy="718560"/>
          </a:xfrm>
        </p:grpSpPr>
        <p:sp>
          <p:nvSpPr>
            <p:cNvPr id="225" name=""/>
            <p:cNvSpPr/>
            <p:nvPr/>
          </p:nvSpPr>
          <p:spPr>
            <a:xfrm>
              <a:off x="34920" y="4076640"/>
              <a:ext cx="647640" cy="64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0960" y="400536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4000" spc="-1" strike="noStrike">
                  <a:solidFill>
                    <a:srgbClr val="ff6600"/>
                  </a:solidFill>
                  <a:latin typeface="Verdana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4920" y="5877000"/>
            <a:ext cx="647640" cy="718560"/>
            <a:chOff x="34920" y="5877000"/>
            <a:chExt cx="647640" cy="718560"/>
          </a:xfrm>
        </p:grpSpPr>
        <p:sp>
          <p:nvSpPr>
            <p:cNvPr id="228" name=""/>
            <p:cNvSpPr/>
            <p:nvPr/>
          </p:nvSpPr>
          <p:spPr>
            <a:xfrm>
              <a:off x="34920" y="5948280"/>
              <a:ext cx="647640" cy="64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0960" y="58770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4000" spc="-1" strike="noStrike">
                  <a:solidFill>
                    <a:srgbClr val="ff6600"/>
                  </a:solidFill>
                  <a:latin typeface="Verdana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780000" y="3860640"/>
            <a:ext cx="3816360" cy="15130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51280" y="4292640"/>
            <a:ext cx="1079640" cy="433440"/>
          </a:xfrm>
          <a:prstGeom prst="can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27640" y="4869000"/>
            <a:ext cx="1079280" cy="433080"/>
          </a:xfrm>
          <a:prstGeom prst="can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867280" y="4869000"/>
            <a:ext cx="1079640" cy="433080"/>
          </a:xfrm>
          <a:prstGeom prst="can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46560" y="3933720"/>
            <a:ext cx="1079640" cy="433440"/>
          </a:xfrm>
          <a:prstGeom prst="can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443640" y="4292640"/>
            <a:ext cx="1079640" cy="433440"/>
          </a:xfrm>
          <a:prstGeom prst="can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284720" y="3284640"/>
            <a:ext cx="2808360" cy="1007280"/>
            <a:chOff x="4284720" y="3284640"/>
            <a:chExt cx="2808360" cy="1007280"/>
          </a:xfrm>
        </p:grpSpPr>
        <p:sp>
          <p:nvSpPr>
            <p:cNvPr id="237" name=""/>
            <p:cNvSpPr/>
            <p:nvPr/>
          </p:nvSpPr>
          <p:spPr>
            <a:xfrm>
              <a:off x="4284720" y="3284640"/>
              <a:ext cx="216000" cy="1005120"/>
            </a:xfrm>
            <a:prstGeom prst="upArrow">
              <a:avLst>
                <a:gd name="adj1" fmla="val 50000"/>
                <a:gd name="adj2" fmla="val 116333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580360" y="3284640"/>
              <a:ext cx="216000" cy="1005120"/>
            </a:xfrm>
            <a:prstGeom prst="upArrow">
              <a:avLst>
                <a:gd name="adj1" fmla="val 50000"/>
                <a:gd name="adj2" fmla="val 116333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77440" y="3284640"/>
              <a:ext cx="215640" cy="1005120"/>
            </a:xfrm>
            <a:prstGeom prst="upArrow">
              <a:avLst>
                <a:gd name="adj1" fmla="val 50000"/>
                <a:gd name="adj2" fmla="val 116528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932720" y="3286800"/>
              <a:ext cx="215640" cy="1005120"/>
            </a:xfrm>
            <a:prstGeom prst="upArrow">
              <a:avLst>
                <a:gd name="adj1" fmla="val 50000"/>
                <a:gd name="adj2" fmla="val 116528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28000" y="3286800"/>
              <a:ext cx="216000" cy="1005120"/>
            </a:xfrm>
            <a:prstGeom prst="upArrow">
              <a:avLst>
                <a:gd name="adj1" fmla="val 50000"/>
                <a:gd name="adj2" fmla="val 116333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Топлулуун</a:t>
            </a:r>
            <a:r>
              <a:rPr b="1" lang="bg-BG" sz="4000" spc="-1" strike="noStrike">
                <a:solidFill>
                  <a:srgbClr val="cc99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организасйо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01"/>
                            </p:stCondLst>
                            <p:childTnLst>
                              <p:par>
                                <p:cTn id="6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04046E-006 L -1.38889E-006 -0.1637 E">
                                      <p:cBhvr>
                                        <p:cTn id="698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500"/>
                            </p:stCondLst>
                            <p:childTnLst>
                              <p:par>
                                <p:cTn id="7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500"/>
                            </p:stCondLst>
                            <p:childTnLst>
                              <p:par>
                                <p:cTn id="71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000"/>
                            </p:stCondLst>
                            <p:childTnLst>
                              <p:par>
                                <p:cTn id="72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2500"/>
                            </p:stCondLst>
                            <p:childTnLst>
                              <p:par>
                                <p:cTn id="7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4500"/>
                            </p:stCondLst>
                            <p:childTnLst>
                              <p:par>
                                <p:cTn id="73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73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73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500"/>
                            </p:stCondLst>
                            <p:childTnLst>
                              <p:par>
                                <p:cTn id="75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9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0" dur="1000" autoRev="1" fill="hold"/>
                                        <p:tgtEl>
                                          <p:spTgt spid="2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6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3" dur="1000" autoRev="1" fill="hold"/>
                                        <p:tgtEl>
                                          <p:spTgt spid="2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3500"/>
                            </p:stCondLst>
                            <p:childTnLst>
                              <p:par>
                                <p:cTn id="7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2" dur="1000" autoRev="1" fill="hold"/>
                                        <p:tgtEl>
                                          <p:spTgt spid="2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Топлулуун</a:t>
            </a:r>
            <a:r>
              <a:rPr b="1" lang="bg-BG" sz="4000" spc="-1" strike="noStrike">
                <a:solidFill>
                  <a:srgbClr val="cc99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организасйо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-34920" y="765000"/>
            <a:ext cx="9144000" cy="60753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227640" y="3789360"/>
            <a:ext cx="576360" cy="547560"/>
          </a:xfrm>
          <a:prstGeom prst="star5">
            <a:avLst/>
          </a:prstGeom>
          <a:solidFill>
            <a:srgbClr val="ccff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435640" y="3284640"/>
            <a:ext cx="288720" cy="274680"/>
          </a:xfrm>
          <a:prstGeom prst="star5">
            <a:avLst/>
          </a:prstGeom>
          <a:solidFill>
            <a:srgbClr val="ccff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95640" y="3284640"/>
            <a:ext cx="289080" cy="274680"/>
          </a:xfrm>
          <a:prstGeom prst="star5">
            <a:avLst/>
          </a:prstGeom>
          <a:solidFill>
            <a:srgbClr val="ccff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16360" y="3213000"/>
            <a:ext cx="289080" cy="274680"/>
          </a:xfrm>
          <a:prstGeom prst="star5">
            <a:avLst/>
          </a:prstGeom>
          <a:solidFill>
            <a:srgbClr val="ccff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32000" y="5734080"/>
            <a:ext cx="288720" cy="274680"/>
          </a:xfrm>
          <a:prstGeom prst="star5">
            <a:avLst/>
          </a:prstGeom>
          <a:solidFill>
            <a:srgbClr val="ccff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227640" y="1700280"/>
            <a:ext cx="289080" cy="274680"/>
          </a:xfrm>
          <a:prstGeom prst="star5">
            <a:avLst/>
          </a:prstGeom>
          <a:solidFill>
            <a:srgbClr val="ccff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675640" y="2781360"/>
            <a:ext cx="289080" cy="274680"/>
          </a:xfrm>
          <a:prstGeom prst="star5">
            <a:avLst/>
          </a:prstGeom>
          <a:solidFill>
            <a:srgbClr val="ccff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524720" y="4221000"/>
            <a:ext cx="289080" cy="274680"/>
          </a:xfrm>
          <a:prstGeom prst="star5">
            <a:avLst/>
          </a:prstGeom>
          <a:solidFill>
            <a:srgbClr val="ccff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6165720"/>
            <a:ext cx="289080" cy="274680"/>
          </a:xfrm>
          <a:prstGeom prst="star5">
            <a:avLst/>
          </a:prstGeom>
          <a:solidFill>
            <a:srgbClr val="ccff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4520" y="544500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ff33"/>
                </a:solidFill>
                <a:latin typeface="Arial"/>
              </a:rPr>
              <a:t>Салам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989800" y="313380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ff33"/>
                </a:solidFill>
                <a:latin typeface="Arial"/>
              </a:rPr>
              <a:t>Мерс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142520" y="29242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ff33"/>
                </a:solidFill>
                <a:latin typeface="Arial"/>
              </a:rPr>
              <a:t>Тарс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21800" y="2924280"/>
            <a:ext cx="8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ff33"/>
                </a:solidFill>
                <a:latin typeface="Arial"/>
              </a:rPr>
              <a:t>Ад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55240" y="141300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ff33"/>
                </a:solidFill>
                <a:latin typeface="Arial"/>
              </a:rPr>
              <a:t>Кайсерий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176320" y="248616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ff33"/>
                </a:solidFill>
                <a:latin typeface="Arial"/>
              </a:rPr>
              <a:t>Ед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167240" y="392580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ff33"/>
                </a:solidFill>
                <a:latin typeface="Arial"/>
              </a:rPr>
              <a:t>Дама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87600" y="63086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ff33"/>
                </a:solidFill>
                <a:latin typeface="Arial"/>
              </a:rPr>
              <a:t>Хайф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14880" y="3357720"/>
            <a:ext cx="14302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6600"/>
                </a:solidFill>
                <a:latin typeface="Arial"/>
              </a:rPr>
              <a:t>АНТАК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547640" y="5877000"/>
            <a:ext cx="439272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1476360" y="3429000"/>
            <a:ext cx="2664000" cy="24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1403280" y="3429000"/>
            <a:ext cx="4176720" cy="24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476360" y="3429000"/>
            <a:ext cx="3382920" cy="24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476360" y="4365720"/>
            <a:ext cx="619128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0000" y="3500280"/>
            <a:ext cx="432000" cy="273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4932000" y="3357720"/>
            <a:ext cx="576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443640" y="1916280"/>
            <a:ext cx="230508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140360" y="34290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651640" y="3429000"/>
            <a:ext cx="2016000" cy="93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5651640" y="1916280"/>
            <a:ext cx="720720" cy="151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4859280" y="1916280"/>
            <a:ext cx="1441440" cy="144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140360" y="1844640"/>
            <a:ext cx="223200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6011640" y="1916280"/>
            <a:ext cx="360360" cy="43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7596360" y="2924280"/>
            <a:ext cx="1152360" cy="151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580000" y="2924280"/>
            <a:ext cx="3168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403280" y="2924280"/>
            <a:ext cx="7345440" cy="29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6012000" y="4221000"/>
            <a:ext cx="504720" cy="20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659640" y="4076640"/>
            <a:ext cx="100800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6372000" y="1916280"/>
            <a:ext cx="144360" cy="2017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 flipV="1">
            <a:off x="4140360" y="3428640"/>
            <a:ext cx="223200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1476360" y="4149720"/>
            <a:ext cx="4896000" cy="172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6588000" y="2923920"/>
            <a:ext cx="216072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6012000" y="4365360"/>
            <a:ext cx="1655640" cy="19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140360" y="3499920"/>
            <a:ext cx="1800000" cy="280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372360" y="1844640"/>
            <a:ext cx="1295280" cy="24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-36360" y="765000"/>
            <a:ext cx="5760720" cy="207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276120">
              <a:spcAft>
                <a:spcPts val="451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Ен Башта хер касабанън килисеси айръ иди. Хепси бирбирлерийле баалантъ курурдулар. Бир ‘център’ йок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276120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2) Месела, Антакя килисеси ен биринджи иди. Хепси она сайгъ гьостерирдилер. Башка килиселерде проблем олунджа, акъл верирдилер, ама сон карар о килисенинди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0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000"/>
                            </p:stCondLst>
                            <p:childTnLst>
                              <p:par>
                                <p:cTn id="8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500"/>
                            </p:stCondLst>
                            <p:childTnLst>
                              <p:par>
                                <p:cTn id="8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000"/>
                            </p:stCondLst>
                            <p:childTnLst>
                              <p:par>
                                <p:cTn id="8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2500"/>
                            </p:stCondLst>
                            <p:childTnLst>
                              <p:par>
                                <p:cTn id="8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3000"/>
                            </p:stCondLst>
                            <p:childTnLst>
                              <p:par>
                                <p:cTn id="8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3500"/>
                            </p:stCondLst>
                            <p:childTnLst>
                              <p:par>
                                <p:cTn id="8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4000"/>
                            </p:stCondLst>
                            <p:childTnLst>
                              <p:par>
                                <p:cTn id="8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4500"/>
                            </p:stCondLst>
                            <p:childTnLst>
                              <p:par>
                                <p:cTn id="8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0"/>
                            </p:stCondLst>
                            <p:childTnLst>
                              <p:par>
                                <p:cTn id="8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500"/>
                            </p:stCondLst>
                            <p:childTnLst>
                              <p:par>
                                <p:cTn id="8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6000"/>
                            </p:stCondLst>
                            <p:childTnLst>
                              <p:par>
                                <p:cTn id="8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6500"/>
                            </p:stCondLst>
                            <p:childTnLst>
                              <p:par>
                                <p:cTn id="8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7000"/>
                            </p:stCondLst>
                            <p:childTnLst>
                              <p:par>
                                <p:cTn id="8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750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8000"/>
                            </p:stCondLst>
                            <p:childTnLst>
                              <p:par>
                                <p:cTn id="8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8500"/>
                            </p:stCondLst>
                            <p:childTnLst>
                              <p:par>
                                <p:cTn id="8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9000"/>
                            </p:stCondLst>
                            <p:childTnLst>
                              <p:par>
                                <p:cTn id="8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9500"/>
                            </p:stCondLst>
                            <p:childTnLst>
                              <p:par>
                                <p:cTn id="8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500"/>
                            </p:stCondLst>
                            <p:childTnLst>
                              <p:par>
                                <p:cTn id="8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1000"/>
                            </p:stCondLst>
                            <p:childTnLst>
                              <p:par>
                                <p:cTn id="8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1500"/>
                            </p:stCondLst>
                            <p:childTnLst>
                              <p:par>
                                <p:cTn id="8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12500"/>
                            </p:stCondLst>
                            <p:childTnLst>
                              <p:par>
                                <p:cTn id="9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13000"/>
                            </p:stCondLst>
                            <p:childTnLst>
                              <p:par>
                                <p:cTn id="9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500"/>
                            </p:stCondLst>
                            <p:childTnLst>
                              <p:par>
                                <p:cTn id="918" nodeType="afterEffect" fill="hold" presetClass="emph" presetID="23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1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2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2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2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1000"/>
                            </p:stCondLst>
                            <p:childTnLst>
                              <p:par>
                                <p:cTn id="9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5" dur="2000" fill="hold"/>
                                        <p:tgtEl>
                                          <p:spTgt spid="2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3000"/>
                            </p:stCondLst>
                            <p:childTnLst>
                              <p:par>
                                <p:cTn id="927" nodeType="afterEffect" fill="hold" presetClass="emph" presetID="23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2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2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-34920" y="765000"/>
            <a:ext cx="9144000" cy="60753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5435640" y="3284640"/>
            <a:ext cx="288720" cy="274680"/>
          </a:xfrm>
          <a:prstGeom prst="star5">
            <a:avLst/>
          </a:prstGeom>
          <a:solidFill>
            <a:srgbClr val="ccff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995640" y="3284640"/>
            <a:ext cx="289080" cy="274680"/>
          </a:xfrm>
          <a:prstGeom prst="star5">
            <a:avLst/>
          </a:prstGeom>
          <a:solidFill>
            <a:srgbClr val="ccff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716360" y="3213000"/>
            <a:ext cx="289080" cy="274680"/>
          </a:xfrm>
          <a:prstGeom prst="star5">
            <a:avLst/>
          </a:prstGeom>
          <a:solidFill>
            <a:srgbClr val="ccff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332000" y="5734080"/>
            <a:ext cx="288720" cy="274680"/>
          </a:xfrm>
          <a:prstGeom prst="star5">
            <a:avLst/>
          </a:prstGeom>
          <a:solidFill>
            <a:srgbClr val="ccff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227640" y="1700280"/>
            <a:ext cx="289080" cy="274680"/>
          </a:xfrm>
          <a:prstGeom prst="star5">
            <a:avLst/>
          </a:prstGeom>
          <a:solidFill>
            <a:srgbClr val="ccff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675640" y="2781360"/>
            <a:ext cx="289080" cy="274680"/>
          </a:xfrm>
          <a:prstGeom prst="star5">
            <a:avLst/>
          </a:prstGeom>
          <a:solidFill>
            <a:srgbClr val="ccff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524720" y="4221000"/>
            <a:ext cx="289080" cy="274680"/>
          </a:xfrm>
          <a:prstGeom prst="star5">
            <a:avLst/>
          </a:prstGeom>
          <a:solidFill>
            <a:srgbClr val="ccff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867280" y="6165720"/>
            <a:ext cx="289080" cy="274680"/>
          </a:xfrm>
          <a:prstGeom prst="star5">
            <a:avLst/>
          </a:prstGeom>
          <a:solidFill>
            <a:srgbClr val="ccff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14520" y="544500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ff33"/>
                </a:solidFill>
                <a:latin typeface="Arial"/>
              </a:rPr>
              <a:t>Салам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989800" y="313380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ff33"/>
                </a:solidFill>
                <a:latin typeface="Arial"/>
              </a:rPr>
              <a:t>Мерс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142520" y="29242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ff33"/>
                </a:solidFill>
                <a:latin typeface="Arial"/>
              </a:rPr>
              <a:t>Тарс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221800" y="2924280"/>
            <a:ext cx="8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ff33"/>
                </a:solidFill>
                <a:latin typeface="Arial"/>
              </a:rPr>
              <a:t>Ад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655240" y="141300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ff33"/>
                </a:solidFill>
                <a:latin typeface="Arial"/>
              </a:rPr>
              <a:t>Кайсерий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176320" y="248616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ff33"/>
                </a:solidFill>
                <a:latin typeface="Arial"/>
              </a:rPr>
              <a:t>Ед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167240" y="392580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ff33"/>
                </a:solidFill>
                <a:latin typeface="Arial"/>
              </a:rPr>
              <a:t>Дама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087600" y="63086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ff33"/>
                </a:solidFill>
                <a:latin typeface="Arial"/>
              </a:rPr>
              <a:t>Хайф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012000" y="4221000"/>
            <a:ext cx="504720" cy="2087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659640" y="4076640"/>
            <a:ext cx="1008000" cy="2890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6372000" y="1916280"/>
            <a:ext cx="144360" cy="20174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4140360" y="3428640"/>
            <a:ext cx="2232000" cy="576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1476360" y="4149720"/>
            <a:ext cx="4896000" cy="17272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588000" y="2923920"/>
            <a:ext cx="2160720" cy="10810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-36360" y="765000"/>
            <a:ext cx="5651280" cy="1797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276120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Заманла бюйюк касабалардаки килиселер ‘център’ олду, етрафтаки килиселер она бааланд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276120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) ‘Епископос’ адънъ ташъян ьондерлер артък деил саде бир килисенин, ама бютюн областтаки килиселерин башъ олдул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580000" y="3429000"/>
            <a:ext cx="936720" cy="576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788000" y="3357720"/>
            <a:ext cx="1655640" cy="647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084720" y="3573360"/>
            <a:ext cx="863640" cy="792360"/>
          </a:xfrm>
          <a:prstGeom prst="star5">
            <a:avLst/>
          </a:prstGeom>
          <a:solidFill>
            <a:srgbClr val="ccff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6588000" y="1773360"/>
            <a:ext cx="1343160" cy="20635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6234120" y="3116160"/>
            <a:ext cx="14302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6600"/>
                </a:solidFill>
                <a:latin typeface="Arial"/>
              </a:rPr>
              <a:t>АНТАК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Топлулуун</a:t>
            </a:r>
            <a:r>
              <a:rPr b="1" lang="bg-BG" sz="4000" spc="-1" strike="noStrike">
                <a:solidFill>
                  <a:srgbClr val="cc99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организасйо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0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500"/>
                            </p:stCondLst>
                            <p:childTnLst>
                              <p:par>
                                <p:cTn id="9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3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800"/>
                            </p:stCondLst>
                            <p:childTnLst>
                              <p:par>
                                <p:cTn id="9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3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1100"/>
                            </p:stCondLst>
                            <p:childTnLst>
                              <p:par>
                                <p:cTn id="9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3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1400"/>
                            </p:stCondLst>
                            <p:childTnLst>
                              <p:par>
                                <p:cTn id="9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3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1700"/>
                            </p:stCondLst>
                            <p:childTnLst>
                              <p:par>
                                <p:cTn id="9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3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2000"/>
                            </p:stCondLst>
                            <p:childTnLst>
                              <p:par>
                                <p:cTn id="9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3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2300"/>
                            </p:stCondLst>
                            <p:childTnLst>
                              <p:par>
                                <p:cTn id="9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3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2600"/>
                            </p:stCondLst>
                            <p:childTnLst>
                              <p:par>
                                <p:cTn id="9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3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2900"/>
                            </p:stCondLst>
                            <p:childTnLst>
                              <p:par>
                                <p:cTn id="981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2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3" dur="500" autoRev="1" fill="hold"/>
                                        <p:tgtEl>
                                          <p:spTgt spid="3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8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6" dur="500" autoRev="1" fill="hold"/>
                                        <p:tgtEl>
                                          <p:spTgt spid="3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8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9" dur="500" autoRev="1" fill="hold"/>
                                        <p:tgtEl>
                                          <p:spTgt spid="3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9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2" dur="500" autoRev="1" fill="hold"/>
                                        <p:tgtEl>
                                          <p:spTgt spid="3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9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4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5" dur="500" autoRev="1" fill="hold"/>
                                        <p:tgtEl>
                                          <p:spTgt spid="3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9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8" dur="500" autoRev="1" fill="hold"/>
                                        <p:tgtEl>
                                          <p:spTgt spid="3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9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1" dur="500" autoRev="1" fill="hold"/>
                                        <p:tgtEl>
                                          <p:spTgt spid="3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0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4" dur="500" autoRev="1" fill="hold"/>
                                        <p:tgtEl>
                                          <p:spTgt spid="3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500"/>
                            </p:stCondLst>
                            <p:childTnLst>
                              <p:par>
                                <p:cTn id="10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8:37:29Z</dcterms:created>
  <dc:creator>Windows XP</dc:creator>
  <dc:description/>
  <dc:language>en-US</dc:language>
  <cp:lastModifiedBy>asd</cp:lastModifiedBy>
  <dcterms:modified xsi:type="dcterms:W3CDTF">2009-11-29T06:42:40Z</dcterms:modified>
  <cp:revision>311</cp:revision>
  <dc:subject/>
  <dc:title>Иса иле килисе ичин бензетмелер</dc:title>
</cp:coreProperties>
</file>