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22C-0E3A-4AC5-A3C6-250EDE31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030-AAEA-425F-8698-F8E107E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B45-7E6F-4C79-8D2F-99ABFD62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7ED-218E-4244-AF02-826091EB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9EB-4C4F-4571-8163-BFDA25B5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FDA-A155-4678-87A3-27C3A9F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F6A-0A83-4131-868B-A7D9F247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E32-5854-4865-926C-0D07EC1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981-8629-472B-B528-3E3104B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D12-354D-4EA0-B555-4D8C8E4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2EC-6A37-4382-9232-B5456623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925-C0EF-45D7-84EB-A3787AE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352492-2E68-4486-A04B-C63A10F9A366}" type="slidenum"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506600"/>
            <a:ext cx="78483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етру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3: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Сиз </a:t>
            </a: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сюсленмейин дъшаръдан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есела ьордююнюз </a:t>
            </a:r>
            <a:r>
              <a:rPr b="0" lang="tr-TR" sz="2400" spc="-1" strike="noStrike">
                <a:solidFill>
                  <a:srgbClr val="ff3399"/>
                </a:solidFill>
                <a:latin typeface="Arial"/>
              </a:rPr>
              <a:t>сачлар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стъънъз </a:t>
            </a:r>
            <a:r>
              <a:rPr b="0" lang="tr-TR" sz="2400" spc="-1" strike="noStrike">
                <a:solidFill>
                  <a:srgbClr val="ff3399"/>
                </a:solidFill>
                <a:latin typeface="Arial"/>
              </a:rPr>
              <a:t>алтънлар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ла я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гийидииниз </a:t>
            </a:r>
            <a:r>
              <a:rPr b="0" lang="tr-TR" sz="2400" spc="-1" strike="noStrike">
                <a:solidFill>
                  <a:srgbClr val="ff3399"/>
                </a:solidFill>
                <a:latin typeface="Arial"/>
              </a:rPr>
              <a:t>рубалар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4 Хайър, сиз йюректеки </a:t>
            </a: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саклъ кишиликле сюсленин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99cc00"/>
                </a:solidFill>
                <a:latin typeface="Arial"/>
              </a:rPr>
              <a:t>Яваш ве сакин бир рухла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сюсле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йле бир гюзеллик хич солмаядж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ве Аллах катънда чок къйметли бир шейд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4437000"/>
            <a:ext cx="1504800" cy="1505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1916280"/>
            <a:ext cx="1504800" cy="150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4800" y="1484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99"/>
                </a:solidFill>
                <a:latin typeface="Arial"/>
              </a:rPr>
              <a:t>БУНУ ЯПМАЙЪ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34280" y="60148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99"/>
                </a:solidFill>
                <a:latin typeface="Arial"/>
              </a:rPr>
              <a:t>БУНУ ЯПЪ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2560" y="5661000"/>
            <a:ext cx="5924520" cy="916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де биринджисини япмамак йетерли деил, икинджисини япмак лазъм. Йокса буйруу верен киши мемнун калмаядж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" y="450864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а) я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б) иф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в) дедик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г) иленмек (Аллах бойнуну кърсън; кьор оласан...)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959280" cy="282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040" y="126828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ДУДАК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конуштуумуз сьозлере диккат едел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57508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Якуп 3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Хепимиз бирчок меселеде гюнаха дюшюйоруз. Ама сьозлерийле гюнах ишлемейен киши, о тастамам бир кишид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23080" y="1341360"/>
            <a:ext cx="2806560" cy="431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960" y="1125360"/>
            <a:ext cx="50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ФЪ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Кадънън ийи ишлери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276640"/>
            <a:ext cx="54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Есин</a:t>
            </a: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леме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 19: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Кетен рубаларъ да кутсалларън дору ишлерид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tr-TR" sz="2000" spc="-1" strike="noStrike">
                <a:solidFill>
                  <a:srgbClr val="9999ff"/>
                </a:solidFill>
                <a:latin typeface="Arial"/>
              </a:rPr>
              <a:t>1.Тимотейус 2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"Бен Аллахтан коркуйорум" дийен кадънлара насъл лайъкса, ьойле сюсленсинлер, демек ийи ишле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tr-TR" sz="2000" spc="-1" strike="noStrike">
                <a:solidFill>
                  <a:srgbClr val="9999ff"/>
                </a:solidFill>
                <a:latin typeface="Arial"/>
              </a:rPr>
              <a:t>Титус 3:4-5,10</a:t>
            </a:r>
            <a:r>
              <a:rPr b="1" i="1" lang="tr-TR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енч кадънлара шунларъ ьоретирсинлер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коджаларънъ севмейи,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ьойлеликле хер меселеде куртаръджъмъз Аллахън ьоретишини сюслесинлер.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959280" cy="2617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2040" y="1268280"/>
            <a:ext cx="43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ПАБУЧЛ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Аякларъмъз бизи ише гетирирл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= сенин ишин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938760"/>
            <a:ext cx="75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bg-BG" sz="2000" spc="-1" strike="noStrike">
                <a:solidFill>
                  <a:srgbClr val="9999ff"/>
                </a:solidFill>
                <a:latin typeface="Arial"/>
              </a:rPr>
              <a:t>Ефеслилер 6: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Аякларънъза да хазърлъъ гийийин: баръш хаберин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яймая хазър оласънъ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b2b2b2"/>
                </a:solidFill>
                <a:latin typeface="Arial"/>
              </a:rPr>
              <a:t>- Пара казанмак ичин чок урашъйоруз. Ама Раб бизе башка иш де верди: Исанън ийи хаберини яймак. Ичерден гюзел олан бир кадън о конуда да ишл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040" y="98100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БАЗЪ ЬОРНЕК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- ИЧЕРДЕН ГЮЗЕЛ ОЛАН КАДЪНЛАР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010040"/>
            <a:ext cx="86756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Катарина Лутер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артин Лутерин каръсъ, зор гюнлерде она дестек верд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Алма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Флоренц Найтингейл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лк хемшире; Крим савашънда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юркийеде 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Ейми Кармайкъл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сйонер; Индияда йюзлердже ьоксюзю куртар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bg-BG" sz="1800" spc="-1" strike="noStrike">
                <a:solidFill>
                  <a:srgbClr val="ffff99"/>
                </a:solidFill>
                <a:latin typeface="Arial"/>
              </a:rPr>
              <a:t>Кори Тен-Боом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Яхудилери сакладъъ ичин конзлагере дюштю (Холандия)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Джеки Пулингер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сионер; Хонг Конг’да фукаралара Инджили яй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917720"/>
            <a:ext cx="1459080" cy="201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359080" y="1917720"/>
            <a:ext cx="1334880" cy="2012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27720" y="1917720"/>
            <a:ext cx="147780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824280" y="1917720"/>
            <a:ext cx="1441440" cy="201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064280" y="1917720"/>
            <a:ext cx="1468440" cy="198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" y="6111720"/>
            <a:ext cx="9144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b2b2b2"/>
                </a:solidFill>
                <a:latin typeface="Times New Roman"/>
              </a:rPr>
              <a:t>Бунлар ‘бюйюк’ ьорнеклер. Ама хепимиз кенди чевремизде онлар гиби олабилириз. Гене де, бьойле кишилер арамъдан да чъксън дийе урашалъ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dur="indefinite" fill="hold">
                      <p:stCondLst>
                        <p:cond delay="indefinite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dur="indefinite" fill="hold">
                      <p:stCondLst>
                        <p:cond delay="indefinite"/>
                      </p:stCondLst>
                      <p:childTnLst>
                        <p:par>
                          <p:cTn id="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484280"/>
            <a:ext cx="8137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964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Сюлейманън ЬОздейишлери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11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:</a:t>
            </a: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2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2</a:t>
            </a:r>
            <a:r>
              <a:rPr b="0" lang="tr-TR" sz="28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Домузун бурнунда алтън халка не исе, анлайъшъ олмаян гюзел кадън да ьойледир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”</a:t>
            </a:r>
            <a:r>
              <a:rPr b="0" lang="tr-TR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441972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dur="indefinite" fill="hold">
                      <p:stCondLst>
                        <p:cond delay="indefinite"/>
                      </p:stCondLst>
                      <p:childTnLst>
                        <p:par>
                          <p:cTn id="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dur="indefinite" fill="hold">
                      <p:stCondLst>
                        <p:cond delay="indefinite"/>
                      </p:stCondLst>
                      <p:childTnLst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9320" y="1268280"/>
            <a:ext cx="25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ЬОРЮЛМЮШ САЧЛ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757600" cy="374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560" y="2505240"/>
            <a:ext cx="2746440" cy="337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64000" y="3860640"/>
            <a:ext cx="1940040" cy="270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64000" y="1197000"/>
            <a:ext cx="1944720" cy="252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49480" y="6165720"/>
            <a:ext cx="497232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Ромалъ сач моделл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2349360"/>
            <a:ext cx="4319640" cy="347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4040" y="153180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АЛТЪН СЮС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5240" y="6021360"/>
            <a:ext cx="345420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Индиядан г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3360600"/>
            <a:ext cx="309564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2670120" cy="400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00" y="145908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СЮСЛЮ РУБ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5950080"/>
            <a:ext cx="211464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Сон м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5840" y="2421000"/>
            <a:ext cx="358488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1800" y="1484280"/>
            <a:ext cx="36738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99"/>
                </a:solidFill>
                <a:latin typeface="Arial"/>
              </a:rPr>
              <a:t>Дъшаръдаки гюзел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8480" y="1484280"/>
            <a:ext cx="33415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99"/>
                </a:solidFill>
                <a:latin typeface="Arial"/>
              </a:rPr>
              <a:t>Ичеридеки гюзел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1341360"/>
            <a:ext cx="1800" cy="51120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8200" y="2224080"/>
            <a:ext cx="35478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Aft>
                <a:spcPts val="751"/>
              </a:spcAft>
              <a:buClr>
                <a:srgbClr val="bbe0e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гечиджидир, чабук бит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bbe0e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пара иле алън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bbe0e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ьортюйор, бизи алдатър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bbe0e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херкес алабил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bbe0e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саде инсанларън хошуна ги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2205000"/>
            <a:ext cx="354816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Aft>
                <a:spcPts val="751"/>
              </a:spcAft>
              <a:buClr>
                <a:srgbClr val="99cc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калъджъдър, хич битмейед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99cc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пара иле алънм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99cc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ачъа вуруйор, герчек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лери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99cc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херкес алам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751"/>
              </a:spcAft>
              <a:buClr>
                <a:srgbClr val="99cc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инсанларън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ве Раббин хошуна ги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9320" y="1700280"/>
            <a:ext cx="27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САЧ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227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ff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99"/>
                </a:solidFill>
                <a:latin typeface="Arial"/>
              </a:rPr>
              <a:t>КУЛАК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000" y="2852640"/>
            <a:ext cx="21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buClr>
                <a:srgbClr val="0099cc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0099cc"/>
                </a:solidFill>
                <a:latin typeface="Arial"/>
              </a:rPr>
              <a:t>ГЬОЗ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9320" y="342900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66ff33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66ff33"/>
                </a:solidFill>
                <a:latin typeface="Arial"/>
              </a:rPr>
              <a:t>ДУДАК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000" y="4005360"/>
            <a:ext cx="20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buClr>
                <a:srgbClr val="b2b2b2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b2b2b2"/>
                </a:solidFill>
                <a:latin typeface="Arial"/>
              </a:rPr>
              <a:t>ФЪ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2560" y="458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АБУЧЛ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700280"/>
            <a:ext cx="576000" cy="3311280"/>
          </a:xfrm>
          <a:custGeom>
            <a:avLst/>
            <a:gdLst>
              <a:gd name="textAreaLeft" fmla="*/ 0 w 576000"/>
              <a:gd name="textAreaRight" fmla="*/ 208080 w 57600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2205000"/>
            <a:ext cx="40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унларлън даа дерин маанъсънъ анлаялъм. Бу конуларда яваш 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черден гюзеллешел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1773360"/>
            <a:ext cx="204768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2040" y="1268280"/>
            <a:ext cx="61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САЧЛАР</a:t>
            </a:r>
            <a:r>
              <a:rPr b="1" lang="de-DE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Сачларън алтънда бейин булунур = Кафанда не в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76600"/>
            <a:ext cx="601164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964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1 - Д</a:t>
            </a:r>
            <a:r>
              <a:rPr b="1" lang="tr-TR" sz="2000" spc="-1" strike="noStrike">
                <a:solidFill>
                  <a:srgbClr val="ffff99"/>
                </a:solidFill>
                <a:latin typeface="Arial"/>
              </a:rPr>
              <a:t>юшюнджелеримизде йениле</a:t>
            </a: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н</a:t>
            </a:r>
            <a:r>
              <a:rPr b="1" lang="tr-TR" sz="2000" spc="-1" strike="noStrike">
                <a:solidFill>
                  <a:srgbClr val="ffff99"/>
                </a:solidFill>
                <a:latin typeface="Arial"/>
              </a:rPr>
              <a:t>мек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Ром</a:t>
            </a:r>
            <a:r>
              <a:rPr b="1" lang="bg-BG" sz="2000" spc="-1" strike="noStrike">
                <a:solidFill>
                  <a:srgbClr val="9999ff"/>
                </a:solidFill>
                <a:latin typeface="Arial"/>
              </a:rPr>
              <a:t>алълар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 12:1-2</a:t>
            </a:r>
            <a:r>
              <a:rPr b="0" lang="tr-TR" sz="2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у елалеме де уймайън. Ама дюшюнджениз йен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енсин, ве бьойлеликле бамбашка кишилер олун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2 - С</a:t>
            </a:r>
            <a:r>
              <a:rPr b="1" lang="tr-TR" sz="2000" spc="-1" strike="noStrike">
                <a:solidFill>
                  <a:srgbClr val="ffff99"/>
                </a:solidFill>
                <a:latin typeface="Arial"/>
              </a:rPr>
              <a:t>акин рухлу олмак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tr-TR" sz="2000" spc="-1" strike="noStrike">
                <a:solidFill>
                  <a:srgbClr val="9999ff"/>
                </a:solidFill>
                <a:latin typeface="Arial"/>
              </a:rPr>
              <a:t>1.Петрус 3: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из йуректеки саклъ кишиликле сюсленин. Яваш ве сакин бир рухла сюсленин. ЬОйле бир гюзеллик хич солмаяджак ве Аллах катънда чок къйметли бир шейди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00960" y="1844640"/>
            <a:ext cx="211284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2040" y="1268280"/>
            <a:ext cx="61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КУЛАКЛА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Кулаклар диккат етсинлер нейи ишит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ирлер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, киме диккат ед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ерле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863800"/>
            <a:ext cx="599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1 -  бир лаф ишитиндже диккат едийору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джаба дуйдуум шейлер дору му, деил ми? Бен лазъм мъйъм, буну ишитейим? О киши хаккънда кьоту дюшюнмек лазъм мъ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вги хершейи ьортер, хер шейе инанър, хер шейе умут едер, хер шейе даянър.” 1.Кор 13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2 -  Раббин сесини ишит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ббин сесини, кенди сесимизи ве Шейтанън сесини фарк едебилм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Самуел пейгамбер – 1.Са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679920" cy="245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200" y="1527120"/>
            <a:ext cx="44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buClr>
                <a:srgbClr val="ff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ГЬОЗ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Ачгьозлю ол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21000"/>
            <a:ext cx="889308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tr-TR" sz="2200" spc="-1" strike="noStrike">
                <a:solidFill>
                  <a:srgbClr val="9999ff"/>
                </a:solidFill>
                <a:latin typeface="Arial"/>
              </a:rPr>
              <a:t>1.Йух 2: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у дюняда саде шунлар ва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беден табийетинин истедикле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гьозлерин истедиклер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у хаятън бош гуру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Ве бунлар Баба'дан деил, дюнядандърлар. Бу дюня ве бу дюнянън севдаларъ гечмектедир. Ама ким Аллахън истедиини йерине гетирирсе, о сонсуза кадар дурадж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9999ff"/>
                </a:solidFill>
                <a:latin typeface="Arial"/>
              </a:rPr>
              <a:t>Матта 6:22-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еденин айдънлъъ, онун гьозюндедир. Мадем ьойле, гьозюнюз темиз олду му, бютюн беден де айдънлък оладжак. Ама гьозюн кьотю олду му, бютюн беденин каранлък оладжак. Ве сендеки айдънлък каранлък олду му, о вакът о каранлък не кадар да коркунч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4:39:45Z</dcterms:created>
  <dc:creator>Windows XP</dc:creator>
  <dc:description/>
  <dc:language>en-US</dc:language>
  <cp:lastModifiedBy>asd</cp:lastModifiedBy>
  <dcterms:modified xsi:type="dcterms:W3CDTF">2009-04-27T14:06:57Z</dcterms:modified>
  <cp:revision>47</cp:revision>
  <dc:subject/>
  <dc:title>Асъл гюзеллик</dc:title>
</cp:coreProperties>
</file>