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94CA-774C-479F-95DE-FA45A862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8CBE-4EEB-4244-9072-75FB82B3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3DC-38F2-4A4B-8FA6-617C9D5F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8B44-CB10-4D0D-9921-9E3C4870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9D5-15F5-45D3-AC63-7DE601A3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193-DFD1-462E-ABB5-4A56BA14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11C-4A19-4B8A-B9CA-A1F72B7D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C08-5B33-4E20-BC98-81EF74C3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6599-F56A-4CC6-8184-825DD8FC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5B5D-F360-4B05-93D3-931378AF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4F2-B42A-404E-9D4B-F4E5A90B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AE3D-915D-4714-8D46-2B90F576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7717-4F97-4321-89D0-34015C6117D6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671" t="0" r="196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35280" y="2923920"/>
            <a:ext cx="5473440" cy="10810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3366ff"/>
                </a:solidFill>
                <a:latin typeface="Arial"/>
              </a:rPr>
              <a:t>ИЛЯС’ън Хаят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2. 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ллар Китапларъндан дерс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360" y="5157720"/>
            <a:ext cx="9076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000" spc="-1" strike="noStrike">
                <a:solidFill>
                  <a:srgbClr val="000099"/>
                </a:solidFill>
                <a:latin typeface="Arial"/>
              </a:rPr>
              <a:t>5. дерс:</a:t>
            </a:r>
            <a:r>
              <a:rPr b="1" i="1" lang="bg-BG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000" spc="-1" strike="noStrike">
                <a:solidFill>
                  <a:srgbClr val="ccff66"/>
                </a:solidFill>
                <a:latin typeface="Arial"/>
              </a:rPr>
              <a:t>“</a:t>
            </a:r>
            <a:r>
              <a:rPr b="1" i="1" lang="bg-BG" sz="3000" spc="-1" strike="noStrike">
                <a:solidFill>
                  <a:srgbClr val="ccff66"/>
                </a:solidFill>
                <a:latin typeface="Arial"/>
              </a:rPr>
              <a:t>Навот’ун юзюм баъ ве Ахав’ън ьолюмю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5124960"/>
            <a:ext cx="8459640" cy="1618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34-2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34 О сърада бир аскер расгеле аттъъ бир окла Исраил Кралъ'нъ зърхънън парчаларънън бирлештии йерден вурду. Крал арабаджъсъна, "Дьонюп бени саваш аланъндан чъкар, яраландъм" де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1052640"/>
            <a:ext cx="17287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Ахав’ън ьолюм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594684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277240"/>
            <a:ext cx="8459640" cy="1618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3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37 Крал ьолмюштю. Ону Самирийе'йе гетирип орада гьомдюлер. 38 Арабасъ Самирийе Хавузу'нун кенарънда темизлениркен РАБ'бин сьозю уярънджа кьопеклер канънъ яладъ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87640" y="115920"/>
            <a:ext cx="3384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Ахав’ън ьолюм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924360" y="1844640"/>
            <a:ext cx="4968720" cy="3446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12960" y="836640"/>
            <a:ext cx="3659040" cy="41036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306360"/>
            <a:ext cx="3671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Навот’ун юзюм ба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3922920"/>
            <a:ext cx="8459640" cy="2838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:1-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Йизреел'де Самирийе Кралъ Ахав'ън сарайънън янънда Йизреелли Навот'ун бир баъ вардъ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2 Бир гюн Ахав, Навот'а шуну ьонерди: "Баънъ бана вер. Сарайъма якън олдуу ичин орайъ себзе бахчеси оларак кулланмак истийорум. Каршълъънда бен де сана даха ийи бир ба верейим, я да истерсен деерини гюмюш оларак ьодейейим.". 3 Ама Навот, "Аталаръмън бана бърактъъ мирасъ сана вермектен РАБ бени есиргесин" дийе каршълък вер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9292" b="0"/>
          <a:stretch/>
        </p:blipFill>
        <p:spPr>
          <a:xfrm>
            <a:off x="1042920" y="1027080"/>
            <a:ext cx="3672000" cy="268596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003640" y="1027080"/>
            <a:ext cx="3745080" cy="268920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765000"/>
            <a:ext cx="3672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Навот’ун юзюм ба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3280" y="834840"/>
            <a:ext cx="2952720" cy="5582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: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"Аталаръмън бана бърактъъ мирасъ сана вермем" дийен Йизреелли Навот'ун бу сьозлерине съкълъп ьофкеленен Ахав сарайъна дьондю. Асък бир йюзле ятаъна узанъп хичбир шей йемеди. 5 Каръсъ Изебел янъна гелип, "Неден бу кадар съкълъйорсун? Неден йемек йемийорсун?" дийе сорду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5111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476280"/>
            <a:ext cx="3671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Навот’ун юзюм ба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76720" y="1266480"/>
            <a:ext cx="3924360" cy="4972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: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5 Каръсъ Изебел янъна гелип, "Неден бу кадар съкълъйорсун? Неден йемек йемийорсун?" дийе сор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Сен Исраил'е бьойле ми краллък япъйорсун?" деди, "Калк, йемеини йе, кейфини бозма. Йизреелли Навот'ун баънъ сана бен вереджеим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8 Изебел Ахав'ън мюхюрюню кулланарак онун адъна мектуплар яздъ, Навот'ун яшадъъ кентин илери геленлерийле сойлуларъна гьондер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410688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476280"/>
            <a:ext cx="3671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Навот’ун юзюм ба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19640" y="1411200"/>
            <a:ext cx="3745080" cy="4972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: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Мектупларда шунларъ яздъ: "Оруч илан едип Навот'у халкън ьонюне отурту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10 Каршъсъна да, 'Навот Танръ'я ве крала сьовдю' дийен ики яланджъ танък койун. Сонра ону дъшаръ чъкаръп ташлаярак ьолдюрюн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11 Навот'ун яшадъъ кентин илери геленлерийле сойлуларъ Изебел'ин гьондердии мектупларда яздъкларънъ уйгуладъла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3171" t="0" r="3591" b="4597"/>
          <a:stretch/>
        </p:blipFill>
        <p:spPr>
          <a:xfrm>
            <a:off x="755640" y="1197000"/>
            <a:ext cx="424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476280"/>
            <a:ext cx="3671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Навот’ун юзюм ба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8360" y="1868400"/>
            <a:ext cx="3744720" cy="4057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: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Изебел, Навот'ун ташланъп ьолдюрюлдююню дуяр дуймаз, Ахав'а, "Калк, Йизреелли Навот'ун сана гюмюш каршълъънда сатмак истемедии баънъ сахиплен" деди, "Чюнкю о артък яшамъйор, ьолдю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16 Ахав, Йизреелли Навот'ун ьолдююню дуйунджа, онун баънъ алмая гитти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019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57387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89000"/>
            <a:ext cx="3671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Навот’ун юзюм ба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003920"/>
            <a:ext cx="8459640" cy="2838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:20-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Ахав, Иляс'а, "Ей дюшманъм, бени булдун, деил ми?" деди. Иляс шьойле каршълък верди: "Евет, булдум. Чюнкю сен РАБ'бин гьозюнде кьотю оланъ япарак кендини саттъ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21 РАБ дийор ки: 'Сени съкънтълара сокаджаъм ве йок едеджеим. Исраил'де сенин сойундан гелен генч яшлъ бютюн еркеклерин кьокюню курутаджаъм. 23 "РАБ Изебел ичин де, 'Изебел'и Йизреел Кенти'нин сурларъ дибинде кьопеклер йийеджек' дий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18734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Навот’ун юзюм ба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4021200"/>
            <a:ext cx="8459640" cy="2838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:2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Ахав бу сьозлери динледиктен сонра, юстюню башънъ йърттъ, чула сарънъп оруч тутмая башладъ. Чул ичинде ятъп калкарак, алчакгьонюллю бир йол тут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28 РАБ, Тишбели Иляс'а шьойле деди: 29 "Ахав'ън ьонюмде не денли алчакгьонюллю даврандъънъ гьордюн мю? Бу алчакгьонюллюлююнден ьотюрю яшамъ бойунджа бен де ону съкънтъя сокмаяджаъм. Ама олунун заманънда аилесине съкънтъ вереджеим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3574" t="2741" r="1404" b="2741"/>
          <a:stretch/>
        </p:blipFill>
        <p:spPr>
          <a:xfrm>
            <a:off x="3203640" y="0"/>
            <a:ext cx="59403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476280"/>
            <a:ext cx="18734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Ахав’ън ьолюм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675680"/>
            <a:ext cx="8459640" cy="1923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2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29 Исраил Кралъ Ахав'ла Яхуда Кралъ Йехошафат Рамот-Гилат'а салдърмак ичин йола чъктъла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30 Исраил Кралъ, Йехошафат'а, "Бен кълък деиштирип саваша ьойле гиреджеим, ама сен крал гийсилерини гий" деди. Бьойледже Исраил Кралъ кълъънъ деиштирип саваша гир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708360" y="106200"/>
            <a:ext cx="53643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7:40:18Z</dcterms:created>
  <dc:creator>asd</dc:creator>
  <dc:description/>
  <dc:language>en-US</dc:language>
  <cp:lastModifiedBy>asd</cp:lastModifiedBy>
  <dcterms:modified xsi:type="dcterms:W3CDTF">2009-09-05T21:29:00Z</dcterms:modified>
  <cp:revision>138</cp:revision>
  <dc:subject/>
  <dc:title>ИЛЯС’ън Хаятъ</dc:title>
</cp:coreProperties>
</file>