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png" ContentType="image/png"/>
  <Override PartName="/ppt/media/image4.jpeg" ContentType="image/jpeg"/>
  <Override PartName="/ppt/media/image48.jpeg" ContentType="image/jpeg"/>
  <Override PartName="/ppt/media/image47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.jpeg" ContentType="image/jpeg"/>
  <Override PartName="/ppt/media/image67.png" ContentType="image/png"/>
  <Override PartName="/ppt/media/image37.jpeg" ContentType="image/jpeg"/>
  <Override PartName="/ppt/media/image15.png" ContentType="image/png"/>
  <Override PartName="/ppt/media/image24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21.jpeg" ContentType="image/jpeg"/>
  <Override PartName="/ppt/media/image80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79.jpeg" ContentType="image/jpeg"/>
  <Override PartName="/ppt/media/image76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0.jpeg" ContentType="image/jpeg"/>
  <Override PartName="/ppt/media/image9.png" ContentType="image/png"/>
  <Override PartName="/ppt/media/image22.jpeg" ContentType="image/jpeg"/>
  <Override PartName="/ppt/media/image69.jpeg" ContentType="image/jpeg"/>
  <Override PartName="/ppt/media/image19.jpeg" ContentType="image/jpeg"/>
  <Override PartName="/ppt/media/image63.jpeg" ContentType="image/jpeg"/>
  <Override PartName="/ppt/media/image71.png" ContentType="image/png"/>
  <Override PartName="/ppt/media/image6.jpeg" ContentType="image/jpeg"/>
  <Override PartName="/ppt/media/image66.jpeg" ContentType="image/jpeg"/>
  <Override PartName="/ppt/media/image64.jpeg" ContentType="image/jpeg"/>
  <Override PartName="/ppt/media/image16.png" ContentType="image/png"/>
  <Override PartName="/ppt/media/image7.jpeg" ContentType="image/jpeg"/>
  <Override PartName="/ppt/media/image62.png" ContentType="image/png"/>
  <Override PartName="/ppt/media/image61.jpeg" ContentType="image/jpeg"/>
  <Override PartName="/ppt/media/image74.png" ContentType="image/png"/>
  <Override PartName="/ppt/media/image78.jpeg" ContentType="image/jpeg"/>
  <Override PartName="/ppt/media/image23.jpeg" ContentType="image/jpeg"/>
  <Override PartName="/ppt/media/image49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50.jpeg" ContentType="image/jpeg"/>
  <Override PartName="/ppt/media/image28.jpeg" ContentType="image/jpeg"/>
  <Override PartName="/ppt/media/image11.jpeg" ContentType="image/jpeg"/>
  <Override PartName="/ppt/media/image38.jpeg" ContentType="image/jpeg"/>
  <Override PartName="/ppt/media/image72.png" ContentType="image/png"/>
  <Override PartName="/ppt/media/image1.png" ContentType="image/png"/>
  <Override PartName="/ppt/media/image52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C409-9629-4505-973A-5EF5815B8EBE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Пред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9E4F-DB22-40BF-ACE2-3E5D266A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00E7-15BD-471D-B76A-E34BB24C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492-D901-4C7F-9AE1-67655086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A23B-4CAC-468B-82B1-199B5BFA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19A-9EA0-4BE6-B379-94B39E7A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488-4AF2-42F5-8CB3-66770F98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7C3-A6D3-471A-9EDE-C1A9FC4C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96B2-5E74-4DA5-9B53-85042719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D732-0918-46B4-A5DC-DA34E394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5C5F-3659-49B5-AF55-82003A4A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AE8-4FC6-470F-BBFE-16418571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D9F1-D021-4767-9EB4-2023D98C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EE35-EB3E-4F14-BFBA-556177B40D2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image" Target="../media/image40.jpe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image" Target="../media/image43.jpeg"/><Relationship Id="rId18" Type="http://schemas.openxmlformats.org/officeDocument/2006/relationships/image" Target="../media/image43.jpeg"/><Relationship Id="rId19" Type="http://schemas.openxmlformats.org/officeDocument/2006/relationships/image" Target="../media/image36.jpeg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3.jpeg"/><Relationship Id="rId9" Type="http://schemas.openxmlformats.org/officeDocument/2006/relationships/image" Target="../media/image43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5.jpeg"/><Relationship Id="rId13" Type="http://schemas.openxmlformats.org/officeDocument/2006/relationships/image" Target="../media/image34.jpeg"/><Relationship Id="rId14" Type="http://schemas.openxmlformats.org/officeDocument/2006/relationships/image" Target="../media/image33.jpeg"/><Relationship Id="rId15" Type="http://schemas.openxmlformats.org/officeDocument/2006/relationships/image" Target="../media/image36.jpeg"/><Relationship Id="rId16" Type="http://schemas.openxmlformats.org/officeDocument/2006/relationships/image" Target="../media/image35.jpeg"/><Relationship Id="rId17" Type="http://schemas.openxmlformats.org/officeDocument/2006/relationships/image" Target="../media/image36.jpeg"/><Relationship Id="rId18" Type="http://schemas.openxmlformats.org/officeDocument/2006/relationships/image" Target="../media/image39.jpeg"/><Relationship Id="rId19" Type="http://schemas.openxmlformats.org/officeDocument/2006/relationships/image" Target="../media/image36.jpeg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0.jpe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8.pn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6.jpeg"/><Relationship Id="rId4" Type="http://schemas.openxmlformats.org/officeDocument/2006/relationships/image" Target="../media/image67.pn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0.jpe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jpeg"/><Relationship Id="rId6" Type="http://schemas.openxmlformats.org/officeDocument/2006/relationships/image" Target="../media/image2.jpeg"/><Relationship Id="rId7" Type="http://schemas.openxmlformats.org/officeDocument/2006/relationships/image" Target="../media/image74.png"/><Relationship Id="rId8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7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30.jpeg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08000" y="2708280"/>
            <a:ext cx="142920" cy="201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4797360"/>
            <a:ext cx="142920" cy="1646280"/>
          </a:xfrm>
          <a:custGeom>
            <a:avLst/>
            <a:gdLst>
              <a:gd name="textAreaLeft" fmla="*/ 91440 w 142920"/>
              <a:gd name="textAreaRight" fmla="*/ 143280 w 142920"/>
              <a:gd name="textAreaTop" fmla="*/ 42840 h 1646280"/>
              <a:gd name="textAreaBottom" fmla="*/ 1603440 h 164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3357720"/>
            <a:ext cx="13381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6699ff"/>
                </a:solidFill>
                <a:latin typeface="Arial"/>
              </a:rPr>
              <a:t>рели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5373720"/>
            <a:ext cx="1219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И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6699ff"/>
                </a:solidFill>
                <a:latin typeface="Arial"/>
              </a:rPr>
              <a:t>вя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6165720"/>
            <a:ext cx="6408720" cy="268560"/>
          </a:xfrm>
          <a:prstGeom prst="rect">
            <a:avLst/>
          </a:prstGeom>
          <a:solidFill>
            <a:srgbClr val="0a04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1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Аллах  (ВАХДЕТ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16200" y="5897520"/>
            <a:ext cx="5888160" cy="262080"/>
          </a:xfrm>
          <a:prstGeom prst="rect">
            <a:avLst/>
          </a:prstGeom>
          <a:solidFill>
            <a:srgbClr val="1d076f"/>
          </a:solidFill>
          <a:ln w="9360">
            <a:solidFill>
              <a:srgbClr val="1a07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2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ангелите  (МЕЛЕКЛЕ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5608800"/>
            <a:ext cx="5329440" cy="288720"/>
          </a:xfrm>
          <a:prstGeom prst="rect">
            <a:avLst/>
          </a:prstGeom>
          <a:solidFill>
            <a:srgbClr val="2409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3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пророците  (ПЕЙГАМБЕРле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4680" y="5362560"/>
            <a:ext cx="4783320" cy="252360"/>
          </a:xfrm>
          <a:prstGeom prst="rect">
            <a:avLst/>
          </a:prstGeom>
          <a:solidFill>
            <a:srgbClr val="2a0b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4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свещените книги  (КИТАПла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41680" y="5105520"/>
            <a:ext cx="4199040" cy="261720"/>
          </a:xfrm>
          <a:prstGeom prst="rect">
            <a:avLst/>
          </a:prstGeom>
          <a:solidFill>
            <a:srgbClr val="340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5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страшния съд  (АХРЕТ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21040" y="4842000"/>
            <a:ext cx="3654360" cy="263520"/>
          </a:xfrm>
          <a:prstGeom prst="rect">
            <a:avLst/>
          </a:prstGeom>
          <a:solidFill>
            <a:srgbClr val="3d0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6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съдбата</a:t>
            </a:r>
            <a:r>
              <a:rPr b="1" lang="de-DE" sz="13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 (КАДЕ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52720" y="2657520"/>
            <a:ext cx="252720" cy="21826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36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Д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2637000"/>
            <a:ext cx="250920" cy="2195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36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43640" y="2646360"/>
            <a:ext cx="252360" cy="2189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36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08720" y="2646360"/>
            <a:ext cx="252360" cy="21956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36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01080" y="2646360"/>
            <a:ext cx="252360" cy="21956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36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852720" y="1442880"/>
            <a:ext cx="3600360" cy="1214280"/>
            <a:chOff x="3852720" y="1442880"/>
            <a:chExt cx="3600360" cy="1214280"/>
          </a:xfrm>
        </p:grpSpPr>
        <p:sp>
          <p:nvSpPr>
            <p:cNvPr id="64" name=""/>
            <p:cNvSpPr/>
            <p:nvPr/>
          </p:nvSpPr>
          <p:spPr>
            <a:xfrm>
              <a:off x="3852720" y="1442880"/>
              <a:ext cx="3600360" cy="12142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65720" y="2134800"/>
              <a:ext cx="2729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ffffff"/>
                  </a:solidFill>
                  <a:latin typeface="Arial"/>
                </a:rPr>
                <a:t>Ла</a:t>
              </a:r>
              <a:r>
                <a:rPr b="1" lang="tr-TR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bg-BG" sz="1400" spc="-1" strike="noStrike">
                  <a:solidFill>
                    <a:srgbClr val="ffffff"/>
                  </a:solidFill>
                  <a:latin typeface="Arial"/>
                </a:rPr>
                <a:t>иллах илла Аллах ва Мохамед Ресул-улл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435640" y="162864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99cc00"/>
                </a:solidFill>
                <a:latin typeface="Arial"/>
              </a:rPr>
              <a:t>Няма друг бог освен Аллах и Мохамед е неговият прате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280" y="1484280"/>
            <a:ext cx="25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КЕЛИМЕ-и-ШЕХА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(Шаха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51640" y="2841480"/>
            <a:ext cx="16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Келиме-и-Шеха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Нам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Зек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Ору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Ха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Схема на ислямската вя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8880" y="1197000"/>
            <a:ext cx="2620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КЪБ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Посоката:  към Мек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076720" y="1197000"/>
            <a:ext cx="3600720" cy="5257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ДИН - </a:t>
            </a: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2. стълба:  ПО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2637000"/>
            <a:ext cx="3979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Къблето е компас на мюсюлманина в джамията, показва направлението за молитва - към Мек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в течението на история къблето се е променяло два пъти - посока Мекка-Ерусалим-Мек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ДИН - </a:t>
            </a: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2. стълба:  ПО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-6480" y="1989000"/>
            <a:ext cx="9258480" cy="3810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710880" y="836640"/>
            <a:ext cx="53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cc00"/>
                </a:solidFill>
                <a:latin typeface="Arial"/>
              </a:rPr>
              <a:t>Компютерен УКАЗАТЕЛ за НАМ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81440" y="1341360"/>
            <a:ext cx="320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4360" y="1306440"/>
            <a:ext cx="31636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6523"/>
              <a:gd name="adj5" fmla="val 467449"/>
              <a:gd name="adj6" fmla="val -107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3399"/>
                </a:solidFill>
                <a:latin typeface="Arial"/>
              </a:rPr>
              <a:t>Времена за нам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ff3399"/>
                </a:solidFill>
                <a:latin typeface="Arial"/>
              </a:rPr>
              <a:t>(първят ‘имсак’ е доброволн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32320" y="1441440"/>
            <a:ext cx="3956040" cy="474840"/>
          </a:xfrm>
          <a:prstGeom prst="borderCallout2">
            <a:avLst>
              <a:gd name="adj1" fmla="val 18750"/>
              <a:gd name="adj2" fmla="val -8333"/>
              <a:gd name="adj3" fmla="val 24078"/>
              <a:gd name="adj4" fmla="val -7263"/>
              <a:gd name="adj5" fmla="val 190967"/>
              <a:gd name="adj6" fmla="val -128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3399"/>
                </a:solidFill>
                <a:latin typeface="Arial"/>
              </a:rPr>
              <a:t>Дата по ислямскирт кален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5978520"/>
            <a:ext cx="216036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08449"/>
              <a:gd name="adj5" fmla="val -337500"/>
              <a:gd name="adj6" fmla="val 113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3399"/>
                </a:solidFill>
                <a:latin typeface="Arial"/>
              </a:rPr>
              <a:t>Дата и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3399"/>
                </a:solidFill>
                <a:latin typeface="Arial"/>
              </a:rPr>
              <a:t>(12.07. 2007 – Четв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6021360"/>
            <a:ext cx="1206360" cy="433440"/>
          </a:xfrm>
          <a:prstGeom prst="borderCallout2">
            <a:avLst>
              <a:gd name="adj1" fmla="val 18750"/>
              <a:gd name="adj2" fmla="val -8333"/>
              <a:gd name="adj3" fmla="val 26375"/>
              <a:gd name="adj4" fmla="val 127236"/>
              <a:gd name="adj5" fmla="val -287546"/>
              <a:gd name="adj6" fmla="val 149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3399"/>
                </a:solidFill>
                <a:latin typeface="Arial"/>
              </a:rPr>
              <a:t>Къбл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48360" y="6021360"/>
            <a:ext cx="3744720" cy="465120"/>
          </a:xfrm>
          <a:prstGeom prst="borderCallout2">
            <a:avLst>
              <a:gd name="adj1" fmla="val 18750"/>
              <a:gd name="adj2" fmla="val -8333"/>
              <a:gd name="adj3" fmla="val 24574"/>
              <a:gd name="adj4" fmla="val 59134"/>
              <a:gd name="adj5" fmla="val -455291"/>
              <a:gd name="adj6" fmla="val 591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3399"/>
                </a:solidFill>
                <a:latin typeface="Arial"/>
              </a:rPr>
              <a:t>Важи само за град Истанб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708360" y="2844720"/>
            <a:ext cx="2030400" cy="3240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780000" y="2844720"/>
            <a:ext cx="1989000" cy="3168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3564000" y="342108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rcRect l="0" t="0" r="3675" b="0"/>
          <a:stretch/>
        </p:blipFill>
        <p:spPr>
          <a:xfrm>
            <a:off x="2556000" y="4049640"/>
            <a:ext cx="4248000" cy="24685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3564000" y="342108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2556000" y="4048200"/>
            <a:ext cx="4319640" cy="2396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3780000" y="2844720"/>
            <a:ext cx="1995480" cy="3600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9"/>
          <a:stretch/>
        </p:blipFill>
        <p:spPr>
          <a:xfrm>
            <a:off x="3708360" y="2844720"/>
            <a:ext cx="2114640" cy="3457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0"/>
          <a:stretch/>
        </p:blipFill>
        <p:spPr>
          <a:xfrm>
            <a:off x="3708360" y="2844720"/>
            <a:ext cx="1990800" cy="3600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984960" y="1239840"/>
            <a:ext cx="1514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РЕК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(дви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3348000" y="4070520"/>
            <a:ext cx="2448000" cy="2447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2556000" y="4103640"/>
            <a:ext cx="4321080" cy="2414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3635280" y="2917800"/>
            <a:ext cx="1994040" cy="3573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3635280" y="2917800"/>
            <a:ext cx="1944720" cy="3602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"/>
          <a:stretch/>
        </p:blipFill>
        <p:spPr>
          <a:xfrm>
            <a:off x="3635280" y="2917800"/>
            <a:ext cx="2016360" cy="36068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"/>
          <a:stretch/>
        </p:blipFill>
        <p:spPr>
          <a:xfrm>
            <a:off x="3635280" y="2917800"/>
            <a:ext cx="1994040" cy="3602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7"/>
          <a:stretch/>
        </p:blipFill>
        <p:spPr>
          <a:xfrm>
            <a:off x="3635280" y="2917800"/>
            <a:ext cx="1994040" cy="3602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8"/>
          <a:stretch/>
        </p:blipFill>
        <p:spPr>
          <a:xfrm>
            <a:off x="3635280" y="2917800"/>
            <a:ext cx="1994040" cy="3602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9"/>
          <a:srcRect l="0" t="0" r="2079" b="0"/>
          <a:stretch/>
        </p:blipFill>
        <p:spPr>
          <a:xfrm>
            <a:off x="2556000" y="4068720"/>
            <a:ext cx="4248000" cy="24177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ДИН - </a:t>
            </a: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2. стълба:  ПО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000"/>
                            </p:stCondLst>
                            <p:childTnLst>
                              <p:par>
                                <p:cTn id="58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7000"/>
                            </p:stCondLst>
                            <p:childTnLst>
                              <p:par>
                                <p:cTn id="59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8000"/>
                            </p:stCondLst>
                            <p:childTnLst>
                              <p:par>
                                <p:cTn id="59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9000"/>
                            </p:stCondLst>
                            <p:childTnLst>
                              <p:par>
                                <p:cTn id="60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34" dur="1" fill="hold"/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16200" y="1311120"/>
            <a:ext cx="1720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НАМАЗ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(Сал’а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875640" y="2492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859280" y="2492280"/>
            <a:ext cx="1943280" cy="1086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1546200" y="2492280"/>
            <a:ext cx="603360" cy="1081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2193840" y="2492280"/>
            <a:ext cx="576360" cy="1081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3490920" y="2492280"/>
            <a:ext cx="665280" cy="1086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898560" y="2492280"/>
            <a:ext cx="598320" cy="10810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8"/>
          <a:stretch/>
        </p:blipFill>
        <p:spPr>
          <a:xfrm>
            <a:off x="2843280" y="2492280"/>
            <a:ext cx="598320" cy="1081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9"/>
          <a:stretch/>
        </p:blipFill>
        <p:spPr>
          <a:xfrm>
            <a:off x="4210200" y="2492280"/>
            <a:ext cx="598320" cy="1081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0"/>
          <a:stretch/>
        </p:blipFill>
        <p:spPr>
          <a:xfrm>
            <a:off x="4211640" y="3645000"/>
            <a:ext cx="598320" cy="1079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1"/>
          <a:stretch/>
        </p:blipFill>
        <p:spPr>
          <a:xfrm>
            <a:off x="3490920" y="3645000"/>
            <a:ext cx="660240" cy="1079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2"/>
          <a:stretch/>
        </p:blipFill>
        <p:spPr>
          <a:xfrm>
            <a:off x="6875640" y="364500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3"/>
          <a:stretch/>
        </p:blipFill>
        <p:spPr>
          <a:xfrm>
            <a:off x="3994200" y="4797360"/>
            <a:ext cx="677880" cy="1079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4"/>
          <a:stretch/>
        </p:blipFill>
        <p:spPr>
          <a:xfrm>
            <a:off x="4757760" y="4797360"/>
            <a:ext cx="676080" cy="1079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5"/>
          <a:stretch/>
        </p:blipFill>
        <p:spPr>
          <a:xfrm>
            <a:off x="4859280" y="3645000"/>
            <a:ext cx="1944720" cy="1079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6"/>
          <a:stretch/>
        </p:blipFill>
        <p:spPr>
          <a:xfrm>
            <a:off x="2843280" y="479736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7"/>
          <a:srcRect l="0" t="0" r="2079" b="0"/>
          <a:stretch/>
        </p:blipFill>
        <p:spPr>
          <a:xfrm>
            <a:off x="898560" y="3645000"/>
            <a:ext cx="1871640" cy="1079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8"/>
          <a:stretch/>
        </p:blipFill>
        <p:spPr>
          <a:xfrm>
            <a:off x="2843280" y="3645000"/>
            <a:ext cx="596880" cy="1079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9"/>
          <a:srcRect l="0" t="0" r="3675" b="0"/>
          <a:stretch/>
        </p:blipFill>
        <p:spPr>
          <a:xfrm>
            <a:off x="898560" y="4797360"/>
            <a:ext cx="1871640" cy="10875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ДИН - </a:t>
            </a: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2. стълба:  ПО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6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6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6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4000"/>
                            </p:stCondLst>
                            <p:childTnLst>
                              <p:par>
                                <p:cTn id="67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4500"/>
                            </p:stCondLst>
                            <p:childTnLst>
                              <p:par>
                                <p:cTn id="67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0"/>
                            </p:stCondLst>
                            <p:childTnLst>
                              <p:par>
                                <p:cTn id="67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500"/>
                            </p:stCondLst>
                            <p:childTnLst>
                              <p:par>
                                <p:cTn id="67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6000"/>
                            </p:stCondLst>
                            <p:childTnLst>
                              <p:par>
                                <p:cTn id="68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6500"/>
                            </p:stCondLst>
                            <p:childTnLst>
                              <p:par>
                                <p:cTn id="68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8000"/>
                            </p:stCondLst>
                            <p:childTnLst>
                              <p:par>
                                <p:cTn id="69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8500"/>
                            </p:stCondLst>
                            <p:childTnLst>
                              <p:par>
                                <p:cTn id="69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9000"/>
                            </p:stCondLst>
                            <p:childTnLst>
                              <p:par>
                                <p:cTn id="70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4720" y="1311120"/>
            <a:ext cx="14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ЗЕК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ДИН - </a:t>
            </a: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3. стълба:  МИЛОСТИ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250920" y="3716280"/>
            <a:ext cx="2409840" cy="2860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539640" y="1989000"/>
            <a:ext cx="1809720" cy="1524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3203640" y="3933720"/>
            <a:ext cx="3924360" cy="26481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629080" y="981000"/>
            <a:ext cx="6264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одсигурява пътя към Р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задължително да се дават 4 процен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доброволно се дава за роднини, самотни, бедни, отиващи на ха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олучаващи милостиня не са задължени да благодарят, те спомагат на даващия да достигне 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24360" y="1125360"/>
            <a:ext cx="1308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ОРУ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(Сау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ДИН - </a:t>
            </a: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4. стълба:  П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050920" y="4791240"/>
            <a:ext cx="2089440" cy="14792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050920" y="3141720"/>
            <a:ext cx="2095560" cy="1439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2050920" y="1413000"/>
            <a:ext cx="2089440" cy="1557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479840" y="1647720"/>
            <a:ext cx="434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рез ноща около 3-4ч. Става и закусв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(Сахур). От изгрев до залез на слънцето, не се я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51480" y="3089160"/>
            <a:ext cx="4273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огато се залязва слънцето, се прави голяма гощавка с семейство или приятели (Ифта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00720" y="4745160"/>
            <a:ext cx="4205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рез ноща се ходи на джамия, да се покланя допълнителен намаз (Терави). Понякога проявява се веселба до късно вр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ДИН - </a:t>
            </a: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5. стълба:  ХА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78280" y="126828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1. Подготв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04200" y="5877000"/>
            <a:ext cx="14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Обличане на их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9640" y="4869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почист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4427640" y="4280040"/>
            <a:ext cx="3089160" cy="23176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435640" y="1700280"/>
            <a:ext cx="3240000" cy="21542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395280" y="1700280"/>
            <a:ext cx="2149560" cy="2997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6"/>
          <a:stretch/>
        </p:blipFill>
        <p:spPr>
          <a:xfrm>
            <a:off x="2340000" y="2295360"/>
            <a:ext cx="2100240" cy="43023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256360" y="378936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Деклариране на волята 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ДИН - </a:t>
            </a: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5. стълба:  ХА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105264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2. Таваф  (седмократно обикалене на Кааб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1619280" y="1704960"/>
            <a:ext cx="4319640" cy="3236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5435640" y="4199040"/>
            <a:ext cx="1778040" cy="24699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516720" y="1704960"/>
            <a:ext cx="1862280" cy="3141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395280" y="4365720"/>
            <a:ext cx="2592360" cy="22255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7432560" y="517680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Целуване на черния камъ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82760" y="5300640"/>
            <a:ext cx="14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Сафа и Мер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ДИН - </a:t>
            </a: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5. стълба:  ХА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3800" y="148428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3. Равнината на Араф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51577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Тук слушат пропов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324000" y="2205000"/>
            <a:ext cx="4249440" cy="2825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4716360" y="3357720"/>
            <a:ext cx="4248360" cy="28414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4860000" y="256536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4. Нощуване в Муздали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ДИН - </a:t>
            </a: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5. стълба:  ХА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25960" y="110016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5. Хвърляне на камъни в Сат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539640" y="1709640"/>
            <a:ext cx="6048360" cy="40244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5076720" y="4505400"/>
            <a:ext cx="367200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4000" y="1268280"/>
            <a:ext cx="143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И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вя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6165720"/>
            <a:ext cx="6408720" cy="268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240985"/>
                </a:solidFill>
                <a:latin typeface="Arial"/>
              </a:rPr>
              <a:t>1. </a:t>
            </a:r>
            <a:r>
              <a:rPr b="1" lang="bg-BG" sz="1300" spc="-1" strike="noStrike">
                <a:solidFill>
                  <a:srgbClr val="240985"/>
                </a:solidFill>
                <a:latin typeface="Arial"/>
              </a:rPr>
              <a:t>Вяра в Аллах  (ВАХДЕТ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16200" y="5897520"/>
            <a:ext cx="5888160" cy="262080"/>
          </a:xfrm>
          <a:prstGeom prst="rect">
            <a:avLst/>
          </a:prstGeom>
          <a:solidFill>
            <a:srgbClr val="1d076f"/>
          </a:solidFill>
          <a:ln w="9360">
            <a:solidFill>
              <a:srgbClr val="1a07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2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ангелите  (МЕЛЕКЛЕ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5608800"/>
            <a:ext cx="5329440" cy="288720"/>
          </a:xfrm>
          <a:prstGeom prst="rect">
            <a:avLst/>
          </a:prstGeom>
          <a:solidFill>
            <a:srgbClr val="2409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3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пророците  (ПЕЙГАМБЕРле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4680" y="5362560"/>
            <a:ext cx="4783320" cy="252360"/>
          </a:xfrm>
          <a:prstGeom prst="rect">
            <a:avLst/>
          </a:prstGeom>
          <a:solidFill>
            <a:srgbClr val="2a0b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4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свещените книги  (КИТАПла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1680" y="5105520"/>
            <a:ext cx="4199040" cy="261720"/>
          </a:xfrm>
          <a:prstGeom prst="rect">
            <a:avLst/>
          </a:prstGeom>
          <a:solidFill>
            <a:srgbClr val="340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5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страшния съд  (АХРЕТ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21040" y="4842000"/>
            <a:ext cx="3654360" cy="263520"/>
          </a:xfrm>
          <a:prstGeom prst="rect">
            <a:avLst/>
          </a:prstGeom>
          <a:solidFill>
            <a:srgbClr val="3d0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6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съдбата</a:t>
            </a:r>
            <a:r>
              <a:rPr b="1" lang="de-DE" sz="13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 (КАДЕ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ИМАН – </a:t>
            </a: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1.точка:  АЛЛ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50920" y="3213000"/>
            <a:ext cx="2376360" cy="2338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987640" y="1773360"/>
            <a:ext cx="570852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Аллах е единствен бог и няма придруж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вахдет’ – фактъ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че има само един б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ширк’ – да прилагаш някой друг към Аллах (най-големият гря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Не е възможно да потвърдиш че бог е ... (на пример ‘Бог е светлина’ – 1.Йоан 1: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Аллах няма ‘богословско съдържание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ДИН - </a:t>
            </a: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5. стълба:  ХА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1280" y="981000"/>
            <a:ext cx="79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6. Жертвоприношение – Курбан Байрам (Еид-ал Фит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4360" y="623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Богатите колят кам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1619280" y="1557360"/>
            <a:ext cx="3467160" cy="2279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6012000" y="1628640"/>
            <a:ext cx="2684160" cy="35989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684360" y="4005360"/>
            <a:ext cx="3095640" cy="2195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6"/>
          <a:stretch/>
        </p:blipFill>
        <p:spPr>
          <a:xfrm>
            <a:off x="4140360" y="4005360"/>
            <a:ext cx="22320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ДИН - </a:t>
            </a: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5. стълба:  ХА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1640" y="98100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7. Втория път тав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76720" y="1557360"/>
            <a:ext cx="33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8. Пиене на вода  от извора Земз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46920" y="206064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9. Поклонение в Макам Ибрах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3780000" y="4581360"/>
            <a:ext cx="2160360" cy="1584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6443640" y="3141720"/>
            <a:ext cx="2182680" cy="29779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>
            <a:off x="3780000" y="2708280"/>
            <a:ext cx="2160360" cy="1584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6"/>
          <a:stretch/>
        </p:blipFill>
        <p:spPr>
          <a:xfrm>
            <a:off x="900000" y="1641600"/>
            <a:ext cx="235116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03120" y="2022480"/>
            <a:ext cx="3908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99ccff"/>
                </a:solidFill>
                <a:latin typeface="Arial"/>
              </a:rPr>
              <a:t>С името на Всемилостивия и Милосърден Ал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9999"/>
                </a:solidFill>
                <a:latin typeface="Arial"/>
              </a:rPr>
              <a:t>Слава на Аллах, Господаря на светове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9999"/>
                </a:solidFill>
                <a:latin typeface="Arial"/>
              </a:rPr>
              <a:t>Всемилостивия, Милосърд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9999"/>
                </a:solidFill>
                <a:latin typeface="Arial"/>
              </a:rPr>
              <a:t>Владетеля на Съдния д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ред Тебе се прекланяме и от Тебе очакваме помо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Води ни Правия път,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Пътя на тези, които си благословил, не пътя на заблудените и заслужили Твоя гняв.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88000" y="2004840"/>
            <a:ext cx="421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99ccff"/>
                </a:solidFill>
                <a:latin typeface="Arial"/>
              </a:rPr>
              <a:t>А вие се молете така</a:t>
            </a:r>
            <a:r>
              <a:rPr b="1" lang="tr-TR" sz="2000" spc="-1" strike="noStrike">
                <a:solidFill>
                  <a:srgbClr val="99ccff"/>
                </a:solidFill>
                <a:latin typeface="Arial"/>
              </a:rPr>
              <a:t>: `</a:t>
            </a:r>
            <a:r>
              <a:rPr b="1" lang="bg-BG" sz="2000" spc="-1" strike="noStrike">
                <a:solidFill>
                  <a:srgbClr val="99ccff"/>
                </a:solidFill>
                <a:latin typeface="Arial"/>
              </a:rPr>
              <a:t>Отче наш, който си на небеса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да се свети Твоето им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Да дойде Твоето царство; да бъде твоята воля, както на небето, така и на земят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Дай ни днес нясъщния хляб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и прости ни дълговете, както и ние простихме на нашите длъжниц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И не ни въвеждай в изкушение, но избави ни от лукавия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9999"/>
                </a:solidFill>
                <a:latin typeface="Arial"/>
              </a:rPr>
              <a:t>Защото е Твое царството и силата, и славата, до вековете. Амин!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2840" y="1287360"/>
            <a:ext cx="3158640" cy="459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Фатиха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ърва су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36680" y="1268280"/>
            <a:ext cx="3785040" cy="459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Отче Наш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Матей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6:9-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7640" y="1268280"/>
            <a:ext cx="0" cy="55897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19640" y="836640"/>
            <a:ext cx="58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ОБРЪЩЕНИЕ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 – </a:t>
            </a:r>
            <a:r>
              <a:rPr b="1" lang="bg-BG" sz="1800" spc="-1" strike="noStrike">
                <a:solidFill>
                  <a:srgbClr val="ff9999"/>
                </a:solidFill>
                <a:latin typeface="Arial"/>
              </a:rPr>
              <a:t>СЛАВА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 – ПОКЛОНЕНИЕ -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ИСК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Двете най-важни молитв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68360" y="1268280"/>
            <a:ext cx="842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 името на Всемилостивия и Милосърден Аллах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Бисм-иллах-и-рахман-и-рахим (Бесмел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е намира във всичките сури освен 9а (и 2 пъти в сура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7: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Много ислямски учени твърдят, че бесмелето не беше част от сурите, но по-късно бе възлож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обръщането на посланник преди да чете писмото от господаря 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обръщането на магьосник преди да прави маг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Аллах = Рахман = Рахим   само хармонията на зв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Аллах-у-екбер” = Аллах е по-велик  (не: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велик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и не: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най-велики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) от какво? – от всичко- дори по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велик от всички мисления за нег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19640" y="901800"/>
            <a:ext cx="56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ОБРЪЩАНЕ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9999"/>
                </a:solidFill>
                <a:latin typeface="Arial"/>
              </a:rPr>
              <a:t>– СЛАВА – ПОКЛОНЕНИЕ - ИСК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4572000" y="5084640"/>
            <a:ext cx="960480" cy="1484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5651640" y="5229360"/>
            <a:ext cx="1944720" cy="13474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1835280" y="5661000"/>
            <a:ext cx="2627280" cy="10047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7667640" y="530064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ФАТИХА (първа су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7"/>
          <a:stretch/>
        </p:blipFill>
        <p:spPr>
          <a:xfrm>
            <a:off x="468360" y="5445000"/>
            <a:ext cx="288144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11280" y="1341360"/>
            <a:ext cx="8064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лава на Аллах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ffff00"/>
                </a:solidFill>
                <a:latin typeface="Arial"/>
              </a:rPr>
              <a:t>(Ал Хамд ул-илл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Мюслюманин не може да смее да говори директно с Аллах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фразата е много обикална: “Аллах е собственика на славата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оклонението е видима символизацията на ислямската вя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Господаря на световете” </a:t>
            </a:r>
            <a:r>
              <a:rPr b="0" lang="bg-BG" sz="2000" spc="-1" strike="noStrike">
                <a:solidFill>
                  <a:srgbClr val="ffff00"/>
                </a:solidFill>
                <a:latin typeface="Arial"/>
              </a:rPr>
              <a:t>(Раб-ул-алем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Видима и невидима свят Аллах контролира всички случаи в човешкия живот (каде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5:8 и 74:31 Аллах води когото иска в правилня път = Човекът не е отговорен за греховете си   4:29 Човекът бе създаден със слабостта = прави грешки, а не грехове (няма грехопад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Всемилостивия, Милосърдния” </a:t>
            </a:r>
            <a:r>
              <a:rPr b="0" lang="bg-BG" sz="2000" spc="-1" strike="noStrike">
                <a:solidFill>
                  <a:srgbClr val="ffff00"/>
                </a:solidFill>
                <a:latin typeface="Arial"/>
              </a:rPr>
              <a:t>(Рахман и Рахи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амо празни думи, защото никой няма обещание от бога (включително Мохамед – САВ  Салаху ве салах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19640" y="9748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ОБРЪШАНЕ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 – </a:t>
            </a:r>
            <a:r>
              <a:rPr b="1" lang="bg-BG" sz="1800" spc="-1" strike="noStrike">
                <a:solidFill>
                  <a:srgbClr val="ff9999"/>
                </a:solidFill>
                <a:latin typeface="Arial"/>
              </a:rPr>
              <a:t>СЛАВА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 – 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ПОКЛОНЕНИЕ - ИСК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ФАТИХА (първа су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0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39640" y="1484280"/>
            <a:ext cx="806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Пред Тебе се прекланяме..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буквално: предавам себе си като р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никой няма право да отпусне от тази връзка (смъртно наказание за ‘муртеди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... и от Тебе очакваме помощ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в реалността не е така: гробниците на светите, магия, му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в исляма няма “благодаря” а “Господ да го приема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19640" y="90792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9999"/>
                </a:solidFill>
                <a:latin typeface="Arial"/>
              </a:rPr>
              <a:t>ОБРЪШАНЕ – СЛАВА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 – ПОКЛОНЕНИЕ - </a:t>
            </a:r>
            <a:r>
              <a:rPr b="1" lang="bg-BG" sz="1800" spc="-1" strike="noStrike">
                <a:solidFill>
                  <a:srgbClr val="009999"/>
                </a:solidFill>
                <a:latin typeface="Arial"/>
              </a:rPr>
              <a:t>ИСК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362560" y="4365720"/>
            <a:ext cx="2841480" cy="2233440"/>
            <a:chOff x="5362560" y="4365720"/>
            <a:chExt cx="2841480" cy="2233440"/>
          </a:xfrm>
        </p:grpSpPr>
        <p:pic>
          <p:nvPicPr>
            <p:cNvPr id="314" name="" descr=""/>
            <p:cNvPicPr/>
            <p:nvPr/>
          </p:nvPicPr>
          <p:blipFill>
            <a:blip r:embed="rId2"/>
            <a:stretch/>
          </p:blipFill>
          <p:spPr>
            <a:xfrm>
              <a:off x="5967360" y="4365720"/>
              <a:ext cx="144612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5362560" y="623088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99ccff"/>
                  </a:solidFill>
                  <a:latin typeface="Arial"/>
                </a:rPr>
                <a:t>ДЕМИР БАБА (Разград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198880" y="4357800"/>
            <a:ext cx="2922480" cy="2241360"/>
            <a:chOff x="2198880" y="4357800"/>
            <a:chExt cx="2922480" cy="2241360"/>
          </a:xfrm>
        </p:grpSpPr>
        <p:pic>
          <p:nvPicPr>
            <p:cNvPr id="317" name="" descr=""/>
            <p:cNvPicPr/>
            <p:nvPr/>
          </p:nvPicPr>
          <p:blipFill>
            <a:blip r:embed="rId3"/>
            <a:stretch/>
          </p:blipFill>
          <p:spPr>
            <a:xfrm>
              <a:off x="2682720" y="4357800"/>
              <a:ext cx="160020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2198880" y="6230880"/>
              <a:ext cx="29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99ccff"/>
                  </a:solidFill>
                  <a:latin typeface="Arial"/>
                </a:rPr>
                <a:t>ОСМАН БАБА (Хасково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ФАТИХА (първа су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11280" y="119700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”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Води ни в Правия път,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пътя на тези, които си благословил, не пътя на заблудените и заслужили Твоя гняв.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19640" y="83664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9999"/>
                </a:solidFill>
                <a:latin typeface="Arial"/>
              </a:rPr>
              <a:t>ОБРЪШАНЕ – СЛАВА – ПОКЛОНЕНИЕ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 -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ИСК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287280" y="287280"/>
            <a:ext cx="117360" cy="9360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971640" y="2205000"/>
            <a:ext cx="1601640" cy="2133720"/>
            <a:chOff x="971640" y="2205000"/>
            <a:chExt cx="1601640" cy="2133720"/>
          </a:xfrm>
        </p:grpSpPr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971640" y="2205000"/>
              <a:ext cx="15778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203120" y="3862440"/>
              <a:ext cx="13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ЕВРЕИ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012000" y="4149720"/>
            <a:ext cx="2303280" cy="1836720"/>
            <a:chOff x="6012000" y="4149720"/>
            <a:chExt cx="2303280" cy="1836720"/>
          </a:xfrm>
        </p:grpSpPr>
        <p:pic>
          <p:nvPicPr>
            <p:cNvPr id="327" name="" descr=""/>
            <p:cNvPicPr/>
            <p:nvPr/>
          </p:nvPicPr>
          <p:blipFill>
            <a:blip r:embed="rId4"/>
            <a:stretch/>
          </p:blipFill>
          <p:spPr>
            <a:xfrm>
              <a:off x="6012000" y="4149720"/>
              <a:ext cx="230328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6261840" y="5618160"/>
              <a:ext cx="190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ХРИСТИЯНИ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2627280" y="2349360"/>
            <a:ext cx="482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6699ff"/>
                </a:solidFill>
                <a:latin typeface="Arial"/>
              </a:rPr>
              <a:t> ‘</a:t>
            </a:r>
            <a:r>
              <a:rPr b="1" lang="bg-BG" sz="2000" spc="-1" strike="noStrike">
                <a:solidFill>
                  <a:srgbClr val="6699ff"/>
                </a:solidFill>
                <a:latin typeface="Arial"/>
              </a:rPr>
              <a:t>заслужили Твоя гняв’ = евреите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(Аллах е сключил завета му с тях и те го разчупиха, те са разпростаниха в целия цвят до края на све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9640" y="6200640"/>
            <a:ext cx="86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= ежедневна имунизация срещу закон на господа и евангелие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26920" y="4653000"/>
            <a:ext cx="518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6699ff"/>
                </a:solidFill>
                <a:latin typeface="Arial"/>
              </a:rPr>
              <a:t> ‘</a:t>
            </a:r>
            <a:r>
              <a:rPr b="1" lang="bg-BG" sz="2000" spc="-1" strike="noStrike">
                <a:solidFill>
                  <a:srgbClr val="6699ff"/>
                </a:solidFill>
                <a:latin typeface="Arial"/>
              </a:rPr>
              <a:t>заблудените'  = християн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(Господ като Отец, Исус като син на Аллах, и Светя Дух живущ в новороден вярващ = тройно идолопокланст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ФАТИХА (първа су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Пътища на благата вест </a:t>
            </a:r>
            <a:br>
              <a:rPr sz="3200"/>
            </a:b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към сърцата на мюслюм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1280" y="1708200"/>
            <a:ext cx="8064360" cy="46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1 – </a:t>
            </a:r>
            <a:r>
              <a:rPr b="1" lang="bg-BG" sz="2600" spc="-1" strike="noStrike">
                <a:solidFill>
                  <a:srgbClr val="ffcc00"/>
                </a:solidFill>
                <a:latin typeface="Arial"/>
              </a:rPr>
              <a:t>Сънища и видения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morethandreams.org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2 – </a:t>
            </a:r>
            <a:r>
              <a:rPr b="1" lang="bg-BG" sz="2600" spc="-1" strike="noStrike">
                <a:solidFill>
                  <a:srgbClr val="ffcc00"/>
                </a:solidFill>
                <a:latin typeface="Arial"/>
              </a:rPr>
              <a:t>Четенето на Новия Завет</a:t>
            </a: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 и разбирането на голям контраст с Кор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3 – Показването на </a:t>
            </a:r>
            <a:r>
              <a:rPr b="1" lang="bg-BG" sz="2600" spc="-1" strike="noStrike">
                <a:solidFill>
                  <a:srgbClr val="ffcc00"/>
                </a:solidFill>
                <a:latin typeface="Arial"/>
              </a:rPr>
              <a:t>величието на Исус от Кора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4 – </a:t>
            </a:r>
            <a:r>
              <a:rPr b="1" lang="bg-BG" sz="2600" spc="-1" strike="noStrike">
                <a:solidFill>
                  <a:srgbClr val="ffcc00"/>
                </a:solidFill>
                <a:latin typeface="Arial"/>
              </a:rPr>
              <a:t>Недоволствие</a:t>
            </a: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 от религията си и разбиране-то на нейните грешки и слабости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(н.п.: Иран)</a:t>
            </a: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5 – </a:t>
            </a:r>
            <a:r>
              <a:rPr b="1" lang="bg-BG" sz="2600" spc="-1" strike="noStrike">
                <a:solidFill>
                  <a:srgbClr val="ffcc00"/>
                </a:solidFill>
                <a:latin typeface="Arial"/>
              </a:rPr>
              <a:t>Практическата помощ</a:t>
            </a: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 и показването на християнската любов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н.п.: войната в Босния 1992г.; цунами 2004г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0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11280" y="1628640"/>
            <a:ext cx="8064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1 - Имай искрена любов към човека, дори да мразиш религията 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99"/>
                </a:solidFill>
                <a:latin typeface="Arial"/>
              </a:rPr>
              <a:t>2 - Сподели евангелието и не започвай ислямските теми, ако не е нуж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00"/>
                </a:solidFill>
                <a:latin typeface="Arial"/>
              </a:rPr>
              <a:t>3 - Задавай повече въпроси, отколкото говориш (“защо”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9900"/>
                </a:solidFill>
                <a:latin typeface="Arial"/>
              </a:rPr>
              <a:t>4 - Бъди приятел на човека и спечели доверието му (Помаци - Турци - Миллети)</a:t>
            </a: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d60093"/>
                </a:solidFill>
                <a:latin typeface="Arial"/>
              </a:rPr>
              <a:t>5 - Моли се за душата на човека – войната е духо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Съвети как да споделиш </a:t>
            </a:r>
            <a:br>
              <a:rPr sz="3200"/>
            </a:b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Исус с мюлюма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0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79280" y="1268280"/>
            <a:ext cx="5975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оден без баща (ибн-Мерйем)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3:45,47,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ророк на Аллах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- 4:163,171; 5:75; 6:85; 57: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Божието слово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(‘Келамет-уллах’) -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Божий Дух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(‘Рух-уллах’)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4: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той получил 'инджил' (Новия Завет)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- 3:48; 5:46; 57: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отвърждава Теврата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- 5: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безгрешен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19: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Божият мир е върху Него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- 19: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чудесата на Исус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- 2:87,253; 3:46,49; 61: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Юдеите са се опитали да го убият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3:54,55; 4:157; 5: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не е умрял, бил е възнесен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- 3:45-55; 4:157-1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ак ще дойде на земята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- 43:61; 5:109-1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триединство = баща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майка и син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- 5:116-1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6443640" y="3933720"/>
            <a:ext cx="2448000" cy="2251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6192720" y="1413000"/>
            <a:ext cx="2951280" cy="22176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Исус в Ко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1268280"/>
            <a:ext cx="143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И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вя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6165720"/>
            <a:ext cx="6408720" cy="268560"/>
          </a:xfrm>
          <a:prstGeom prst="rect">
            <a:avLst/>
          </a:prstGeom>
          <a:solidFill>
            <a:srgbClr val="0a04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1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Аллах  (ВАХДЕТ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16200" y="5897520"/>
            <a:ext cx="5888160" cy="262080"/>
          </a:xfrm>
          <a:prstGeom prst="rect">
            <a:avLst/>
          </a:prstGeom>
          <a:solidFill>
            <a:srgbClr val="99cc00"/>
          </a:solidFill>
          <a:ln w="9360">
            <a:solidFill>
              <a:srgbClr val="1a07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240985"/>
                </a:solidFill>
                <a:latin typeface="Arial"/>
              </a:rPr>
              <a:t>2. </a:t>
            </a:r>
            <a:r>
              <a:rPr b="1" lang="bg-BG" sz="1300" spc="-1" strike="noStrike">
                <a:solidFill>
                  <a:srgbClr val="240985"/>
                </a:solidFill>
                <a:latin typeface="Arial"/>
              </a:rPr>
              <a:t>Вяра в ангелите  (МЕЛЕКЛЕ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7640" y="5608800"/>
            <a:ext cx="5329440" cy="288720"/>
          </a:xfrm>
          <a:prstGeom prst="rect">
            <a:avLst/>
          </a:prstGeom>
          <a:solidFill>
            <a:srgbClr val="2409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3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пророците  (ПЕЙГАМБЕРле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4680" y="5362560"/>
            <a:ext cx="4783320" cy="252360"/>
          </a:xfrm>
          <a:prstGeom prst="rect">
            <a:avLst/>
          </a:prstGeom>
          <a:solidFill>
            <a:srgbClr val="2a0b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4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свещените книги  (КИТАПла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41680" y="5105520"/>
            <a:ext cx="4199040" cy="261720"/>
          </a:xfrm>
          <a:prstGeom prst="rect">
            <a:avLst/>
          </a:prstGeom>
          <a:solidFill>
            <a:srgbClr val="340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5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страшния съд  (АХРЕТ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21040" y="4842000"/>
            <a:ext cx="3654360" cy="263520"/>
          </a:xfrm>
          <a:prstGeom prst="rect">
            <a:avLst/>
          </a:prstGeom>
          <a:solidFill>
            <a:srgbClr val="3d0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6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съдбата</a:t>
            </a:r>
            <a:r>
              <a:rPr b="1" lang="de-DE" sz="13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 (КАДЕ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00360" y="2995560"/>
            <a:ext cx="1368360" cy="73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240985"/>
                </a:solidFill>
                <a:latin typeface="Arial"/>
              </a:rPr>
              <a:t>Джебра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ангелът на откров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ИМАН – </a:t>
            </a: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2.точка:  МЕЛЕКЛ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140360" y="907920"/>
            <a:ext cx="1353960" cy="2014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700360" y="907920"/>
            <a:ext cx="1368360" cy="201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5581800" y="907920"/>
            <a:ext cx="1439640" cy="2014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>
            <a:lum contrast="12000"/>
          </a:blip>
          <a:stretch/>
        </p:blipFill>
        <p:spPr>
          <a:xfrm>
            <a:off x="7093080" y="907920"/>
            <a:ext cx="1439640" cy="2016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40360" y="2995560"/>
            <a:ext cx="1366560" cy="73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240985"/>
                </a:solidFill>
                <a:latin typeface="Arial"/>
              </a:rPr>
              <a:t>Михал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ангел защи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81800" y="2995560"/>
            <a:ext cx="1439640" cy="73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240985"/>
                </a:solidFill>
                <a:latin typeface="Arial"/>
              </a:rPr>
              <a:t>Азра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ангелът на смърт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93080" y="2995560"/>
            <a:ext cx="1439640" cy="73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240985"/>
                </a:solidFill>
                <a:latin typeface="Arial"/>
              </a:rPr>
              <a:t>Асраф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ангелът на страш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9760" y="3933720"/>
            <a:ext cx="659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Ангелите играят голяма роля в мюслюман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Аллах говори с тях, защото не приемат триедин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4 главните ангели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24000" y="1346040"/>
            <a:ext cx="8351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- 7:157 -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Мохамед приемал, че Новият Завет е валиден при неговото време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- 61:6 -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Мохамед твърдил, че Исус потвърдил думите на Мойсей и предсказал идването на Мохаме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Според Мохамед Теврат и Инджил възвестили идването на Мохамед. Сега срещат трудности при намирането на тези стихо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bbe0e3"/>
                </a:solidFill>
                <a:latin typeface="Arial"/>
              </a:rPr>
              <a:t>-  Второзаконие </a:t>
            </a:r>
            <a:r>
              <a:rPr b="1" lang="tr-TR" sz="2200" spc="-1" strike="noStrike">
                <a:solidFill>
                  <a:srgbClr val="bbe0e3"/>
                </a:solidFill>
                <a:latin typeface="Arial"/>
              </a:rPr>
              <a:t>18:18 - </a:t>
            </a:r>
            <a:r>
              <a:rPr b="1" lang="bg-BG" sz="2200" spc="-1" strike="noStrike">
                <a:solidFill>
                  <a:srgbClr val="bbe0e3"/>
                </a:solidFill>
                <a:latin typeface="Arial"/>
              </a:rPr>
              <a:t>Кой е бъдещият пророк</a:t>
            </a:r>
            <a:r>
              <a:rPr b="1" lang="tr-TR" sz="2200" spc="-1" strike="noStrike">
                <a:solidFill>
                  <a:srgbClr val="bbe0e3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bbe0e3"/>
                </a:solidFill>
                <a:latin typeface="Arial"/>
              </a:rPr>
              <a:t>-  Йоан </a:t>
            </a:r>
            <a:r>
              <a:rPr b="1" lang="tr-TR" sz="2200" spc="-1" strike="noStrike">
                <a:solidFill>
                  <a:srgbClr val="bbe0e3"/>
                </a:solidFill>
                <a:latin typeface="Arial"/>
              </a:rPr>
              <a:t>14:16,17,26 </a:t>
            </a:r>
            <a:r>
              <a:rPr b="1" lang="bg-BG" sz="2200" spc="-1" strike="noStrike">
                <a:solidFill>
                  <a:srgbClr val="bbe0e3"/>
                </a:solidFill>
                <a:latin typeface="Arial"/>
              </a:rPr>
              <a:t>и</a:t>
            </a:r>
            <a:r>
              <a:rPr b="1" lang="tr-TR" sz="2200" spc="-1" strike="noStrike">
                <a:solidFill>
                  <a:srgbClr val="bbe0e3"/>
                </a:solidFill>
                <a:latin typeface="Arial"/>
              </a:rPr>
              <a:t> 16:7,8 - </a:t>
            </a:r>
            <a:r>
              <a:rPr b="1" lang="bg-BG" sz="2200" spc="-1" strike="noStrike">
                <a:solidFill>
                  <a:srgbClr val="bbe0e3"/>
                </a:solidFill>
                <a:latin typeface="Arial"/>
              </a:rPr>
              <a:t>кой е утешителят</a:t>
            </a:r>
            <a:r>
              <a:rPr b="1" lang="tr-TR" sz="2200" spc="-1" strike="noStrike">
                <a:solidFill>
                  <a:srgbClr val="bbe0e3"/>
                </a:solidFill>
                <a:latin typeface="Arial"/>
              </a:rPr>
              <a:t>?</a:t>
            </a:r>
            <a:r>
              <a:rPr b="1" lang="de-DE" sz="2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Псалом</a:t>
            </a: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 45;2-5,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Исая</a:t>
            </a: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 63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-  Битие</a:t>
            </a: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 49:8-10 (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Юда</a:t>
            </a: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Мохамед</a:t>
            </a: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Песен на Песните</a:t>
            </a: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 5:16 (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еврейската дума</a:t>
            </a: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Ахмад</a:t>
            </a: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Хагай</a:t>
            </a: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 2:7 (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Хемдах</a:t>
            </a: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Мохамед в Библия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0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52360" y="1450800"/>
            <a:ext cx="835200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185760">
              <a:spcAft>
                <a:spcPts val="8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Вие вярвате в три бо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185760">
              <a:spcAft>
                <a:spcPts val="8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Бог не може да има син – тогава ще му трябва и же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185760">
              <a:spcAft>
                <a:spcPts val="8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Библията беше променен от хората (хилияди грешк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185760">
              <a:spcAft>
                <a:spcPts val="8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Исус не беше разпът. Това не е удобно за един пророк на госп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185760">
              <a:spcAft>
                <a:spcPts val="8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Щом Исус е бог, към кого е се молил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185760">
              <a:spcAft>
                <a:spcPts val="8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Защо не приемате Мохамед като пророк, следкато ние приемаме Ису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185760">
              <a:spcAft>
                <a:spcPts val="8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Смъртта на Исус не може да плати за нашите грехове. Всеки човек ще плати за своите грехов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18576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Щом християнството е религията на мира, защо има толкова войни в християнските държав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Противоречията в Библия </a:t>
            </a:r>
            <a:br>
              <a:rPr sz="3200"/>
            </a:b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според мюслюма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0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00" y="1268280"/>
            <a:ext cx="143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И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вя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11280" y="6165720"/>
            <a:ext cx="6408720" cy="268560"/>
          </a:xfrm>
          <a:prstGeom prst="rect">
            <a:avLst/>
          </a:prstGeom>
          <a:solidFill>
            <a:srgbClr val="0a04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1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Аллах  (ВАХДЕТ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16200" y="5897520"/>
            <a:ext cx="5888160" cy="262080"/>
          </a:xfrm>
          <a:prstGeom prst="rect">
            <a:avLst/>
          </a:prstGeom>
          <a:solidFill>
            <a:srgbClr val="1d076f"/>
          </a:solidFill>
          <a:ln w="9360">
            <a:solidFill>
              <a:srgbClr val="1a07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2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ангелите  (МЕЛЕКЛЕ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5608800"/>
            <a:ext cx="5329440" cy="288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240985"/>
                </a:solidFill>
                <a:latin typeface="Arial"/>
              </a:rPr>
              <a:t>3. </a:t>
            </a:r>
            <a:r>
              <a:rPr b="1" lang="bg-BG" sz="1300" spc="-1" strike="noStrike">
                <a:solidFill>
                  <a:srgbClr val="240985"/>
                </a:solidFill>
                <a:latin typeface="Arial"/>
              </a:rPr>
              <a:t>Вяра в пророците  (ПЕЙГАМБЕРле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4680" y="5362560"/>
            <a:ext cx="4783320" cy="252360"/>
          </a:xfrm>
          <a:prstGeom prst="rect">
            <a:avLst/>
          </a:prstGeom>
          <a:solidFill>
            <a:srgbClr val="2a0b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4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свещените книги  (КИТАПла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41680" y="5105520"/>
            <a:ext cx="4199040" cy="261720"/>
          </a:xfrm>
          <a:prstGeom prst="rect">
            <a:avLst/>
          </a:prstGeom>
          <a:solidFill>
            <a:srgbClr val="340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5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страшния съд  (АХРЕТ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21040" y="4842000"/>
            <a:ext cx="3654360" cy="263520"/>
          </a:xfrm>
          <a:prstGeom prst="rect">
            <a:avLst/>
          </a:prstGeom>
          <a:solidFill>
            <a:srgbClr val="3d0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6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съдбата</a:t>
            </a:r>
            <a:r>
              <a:rPr b="1" lang="de-DE" sz="13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 (КАДЕ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03480" y="1289160"/>
            <a:ext cx="6572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6600"/>
                </a:solidFill>
                <a:latin typeface="Arial"/>
              </a:rPr>
              <a:t>Адем &amp; Хава  -  Нух  -  Ибрахим  -  Лут  -  Исхак  - Исмаил  -  Якуп  -  Йусуф  -  Муса  -  Ейуб  -  Давут  -  Сюлейман  - Йунус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Зекеря  -  Яхя  -  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66920" y="2276640"/>
            <a:ext cx="676908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Всичките пророци са мюсюлмани и носят едно и също послание от Аллах към човец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Мохамед е последния пророк и ‘печат на пророците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Всичките пророци съгрешавали в живота си, с изключение на Исус, за който няма нито един спомен че е съгреш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Няма развитие на откровението, както в хриситян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амо Аллах е във сила  да изпраща и да променя законите относно човешкия жив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ИМАН – </a:t>
            </a: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3.точка:  ПЕЙГАМБЕР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19288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1268280"/>
            <a:ext cx="143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И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вя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11280" y="6165720"/>
            <a:ext cx="6408720" cy="268560"/>
          </a:xfrm>
          <a:prstGeom prst="rect">
            <a:avLst/>
          </a:prstGeom>
          <a:solidFill>
            <a:srgbClr val="0a04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1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Аллах  (ВАХДЕТ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16200" y="5897520"/>
            <a:ext cx="5888160" cy="262080"/>
          </a:xfrm>
          <a:prstGeom prst="rect">
            <a:avLst/>
          </a:prstGeom>
          <a:solidFill>
            <a:srgbClr val="1d076f"/>
          </a:solidFill>
          <a:ln w="9360">
            <a:solidFill>
              <a:srgbClr val="1a07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2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ангелите  (МЕЛЕКЛЕ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87640" y="5608800"/>
            <a:ext cx="5329440" cy="288720"/>
          </a:xfrm>
          <a:prstGeom prst="rect">
            <a:avLst/>
          </a:prstGeom>
          <a:solidFill>
            <a:srgbClr val="2409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3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пророците  (ПЕЙГАМБЕРле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4680" y="5362560"/>
            <a:ext cx="4783320" cy="25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240985"/>
                </a:solidFill>
                <a:latin typeface="Arial"/>
              </a:rPr>
              <a:t>4. </a:t>
            </a:r>
            <a:r>
              <a:rPr b="1" lang="bg-BG" sz="1300" spc="-1" strike="noStrike">
                <a:solidFill>
                  <a:srgbClr val="240985"/>
                </a:solidFill>
                <a:latin typeface="Arial"/>
              </a:rPr>
              <a:t>Вяра в свещените книги  (КИТАПла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41680" y="5105520"/>
            <a:ext cx="4199040" cy="261720"/>
          </a:xfrm>
          <a:prstGeom prst="rect">
            <a:avLst/>
          </a:prstGeom>
          <a:solidFill>
            <a:srgbClr val="340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5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страшния съд  (АХРЕТ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21040" y="4842000"/>
            <a:ext cx="3654360" cy="263520"/>
          </a:xfrm>
          <a:prstGeom prst="rect">
            <a:avLst/>
          </a:prstGeom>
          <a:solidFill>
            <a:srgbClr val="3d0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6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съдбата</a:t>
            </a:r>
            <a:r>
              <a:rPr b="1" lang="de-DE" sz="13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 (КАДЕ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ИМАН – </a:t>
            </a: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4.точка:  КИТАПЛ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1846080" cy="230364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3767040" y="981000"/>
            <a:ext cx="1082880" cy="2073960"/>
            <a:chOff x="3767040" y="981000"/>
            <a:chExt cx="1082880" cy="2073960"/>
          </a:xfrm>
        </p:grpSpPr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3767040" y="981000"/>
              <a:ext cx="108108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768840" y="2565360"/>
              <a:ext cx="1081080" cy="489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240985"/>
                  </a:solidFill>
                  <a:latin typeface="Arial"/>
                </a:rPr>
                <a:t>ЗЕБУ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0000"/>
                  </a:solidFill>
                  <a:latin typeface="Arial"/>
                </a:rPr>
                <a:t>Псалмит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424480" y="981000"/>
            <a:ext cx="1081080" cy="2073960"/>
            <a:chOff x="5424480" y="981000"/>
            <a:chExt cx="1081080" cy="2073960"/>
          </a:xfrm>
        </p:grpSpPr>
        <p:pic>
          <p:nvPicPr>
            <p:cNvPr id="121" name="" descr=""/>
            <p:cNvPicPr/>
            <p:nvPr/>
          </p:nvPicPr>
          <p:blipFill>
            <a:blip r:embed="rId5"/>
            <a:stretch/>
          </p:blipFill>
          <p:spPr>
            <a:xfrm>
              <a:off x="5424480" y="981000"/>
              <a:ext cx="10796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424480" y="2565360"/>
              <a:ext cx="1081080" cy="489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240985"/>
                  </a:solidFill>
                  <a:latin typeface="Arial"/>
                </a:rPr>
                <a:t>ИНДЖИ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0000"/>
                  </a:solidFill>
                  <a:latin typeface="Arial"/>
                </a:rPr>
                <a:t>Н. Зав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080120" y="981000"/>
            <a:ext cx="1092240" cy="2073960"/>
            <a:chOff x="7080120" y="981000"/>
            <a:chExt cx="1092240" cy="2073960"/>
          </a:xfrm>
        </p:grpSpPr>
        <p:pic>
          <p:nvPicPr>
            <p:cNvPr id="124" name="" descr=""/>
            <p:cNvPicPr/>
            <p:nvPr/>
          </p:nvPicPr>
          <p:blipFill>
            <a:blip r:embed="rId6"/>
            <a:stretch/>
          </p:blipFill>
          <p:spPr>
            <a:xfrm>
              <a:off x="7080120" y="981000"/>
              <a:ext cx="10922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7080120" y="2565360"/>
              <a:ext cx="1081080" cy="489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240985"/>
                  </a:solidFill>
                  <a:latin typeface="Arial"/>
                </a:rPr>
                <a:t>КОР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0000"/>
                  </a:solidFill>
                  <a:latin typeface="Arial"/>
                </a:rPr>
                <a:t>последна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122560" y="981000"/>
            <a:ext cx="1081080" cy="2073960"/>
            <a:chOff x="2122560" y="981000"/>
            <a:chExt cx="1081080" cy="2073960"/>
          </a:xfrm>
        </p:grpSpPr>
        <p:pic>
          <p:nvPicPr>
            <p:cNvPr id="127" name="" descr=""/>
            <p:cNvPicPr/>
            <p:nvPr/>
          </p:nvPicPr>
          <p:blipFill>
            <a:blip r:embed="rId7"/>
            <a:stretch/>
          </p:blipFill>
          <p:spPr>
            <a:xfrm>
              <a:off x="2122560" y="981000"/>
              <a:ext cx="108108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122560" y="2565360"/>
              <a:ext cx="1081080" cy="489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240985"/>
                  </a:solidFill>
                  <a:latin typeface="Arial"/>
                </a:rPr>
                <a:t>ТЕВРА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0000"/>
                  </a:solidFill>
                  <a:latin typeface="Arial"/>
                </a:rPr>
                <a:t>Петокниг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868400" y="836640"/>
            <a:ext cx="1551240" cy="16556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25840" y="836640"/>
            <a:ext cx="1550880" cy="16556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836640"/>
            <a:ext cx="1551240" cy="16556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2565360"/>
            <a:ext cx="1079640" cy="50328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7080" y="2565360"/>
            <a:ext cx="1079640" cy="50328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2565360"/>
            <a:ext cx="1079280" cy="50328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21337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43640" y="21337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88000" y="213192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24000" y="3141720"/>
            <a:ext cx="66960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Коран представя пълно и завършено откровение, отменящо всичките предиш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Думата “Коран” означава “цитиране”. В период от 22 години Коранът се е предавал само наизу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Оригинален език на Корана е арабски,при превода губи се смисъ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4000" y="1268280"/>
            <a:ext cx="143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И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вя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6165720"/>
            <a:ext cx="6408720" cy="268560"/>
          </a:xfrm>
          <a:prstGeom prst="rect">
            <a:avLst/>
          </a:prstGeom>
          <a:solidFill>
            <a:srgbClr val="0a04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1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Аллах  (ВАХДЕТ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16200" y="5897520"/>
            <a:ext cx="5888160" cy="262080"/>
          </a:xfrm>
          <a:prstGeom prst="rect">
            <a:avLst/>
          </a:prstGeom>
          <a:solidFill>
            <a:srgbClr val="1d076f"/>
          </a:solidFill>
          <a:ln w="9360">
            <a:solidFill>
              <a:srgbClr val="1a07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2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ангелите  (МЕЛЕКЛЕ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5608800"/>
            <a:ext cx="5329440" cy="288720"/>
          </a:xfrm>
          <a:prstGeom prst="rect">
            <a:avLst/>
          </a:prstGeom>
          <a:solidFill>
            <a:srgbClr val="2409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3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пророците  (ПЕЙГАМБЕРле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4680" y="5362560"/>
            <a:ext cx="4783320" cy="252360"/>
          </a:xfrm>
          <a:prstGeom prst="rect">
            <a:avLst/>
          </a:prstGeom>
          <a:solidFill>
            <a:srgbClr val="2a0b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4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свещените книги  (КИТАПла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41680" y="5105520"/>
            <a:ext cx="4199040" cy="261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240985"/>
                </a:solidFill>
                <a:latin typeface="Arial"/>
              </a:rPr>
              <a:t>5. </a:t>
            </a:r>
            <a:r>
              <a:rPr b="1" lang="bg-BG" sz="1300" spc="-1" strike="noStrike">
                <a:solidFill>
                  <a:srgbClr val="240985"/>
                </a:solidFill>
                <a:latin typeface="Arial"/>
              </a:rPr>
              <a:t>Вяра в страшния съд  (АХРЕТ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21040" y="4842000"/>
            <a:ext cx="3654360" cy="263520"/>
          </a:xfrm>
          <a:prstGeom prst="rect">
            <a:avLst/>
          </a:prstGeom>
          <a:solidFill>
            <a:srgbClr val="3d0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6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съдбата</a:t>
            </a:r>
            <a:r>
              <a:rPr b="1" lang="de-DE" sz="13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 (КАДЕ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ИМАН – </a:t>
            </a: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5.точка:  АХ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050920" y="1343160"/>
            <a:ext cx="2305080" cy="1552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427640" y="1311120"/>
            <a:ext cx="2303280" cy="1613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6840360" y="1311120"/>
            <a:ext cx="2303640" cy="1611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347640" y="836640"/>
            <a:ext cx="43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Мухамед погледи жени в 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2911320"/>
            <a:ext cx="23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Arial"/>
              </a:rPr>
              <a:t>Жени които показваха косата си на други мъж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9080" y="2924280"/>
            <a:ext cx="23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Arial"/>
              </a:rPr>
              <a:t>Жени които подиграваха с съпругите 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32720" y="2924280"/>
            <a:ext cx="23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Arial"/>
              </a:rPr>
              <a:t>Жени които имат извънбрачни де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3429000"/>
            <a:ext cx="813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важна е не вярата на човека, а изпълнение на всичките закони и трад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й и ад нямат духовен смисъл, но плътски, чувств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1268280"/>
            <a:ext cx="143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И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вя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11280" y="6165720"/>
            <a:ext cx="6408720" cy="268560"/>
          </a:xfrm>
          <a:prstGeom prst="rect">
            <a:avLst/>
          </a:prstGeom>
          <a:solidFill>
            <a:srgbClr val="0a04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1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Аллах  (ВАХДЕТ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16200" y="5897520"/>
            <a:ext cx="5888160" cy="262080"/>
          </a:xfrm>
          <a:prstGeom prst="rect">
            <a:avLst/>
          </a:prstGeom>
          <a:solidFill>
            <a:srgbClr val="1d076f"/>
          </a:solidFill>
          <a:ln w="9360">
            <a:solidFill>
              <a:srgbClr val="1a07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2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ангелите  (МЕЛЕКЛЕ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7640" y="5608800"/>
            <a:ext cx="5329440" cy="288720"/>
          </a:xfrm>
          <a:prstGeom prst="rect">
            <a:avLst/>
          </a:prstGeom>
          <a:solidFill>
            <a:srgbClr val="2409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3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пророците  (ПЕЙГАМБЕРле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4680" y="5362560"/>
            <a:ext cx="4783320" cy="252360"/>
          </a:xfrm>
          <a:prstGeom prst="rect">
            <a:avLst/>
          </a:prstGeom>
          <a:solidFill>
            <a:srgbClr val="2a0b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4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свещените книги  (КИТАПла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41680" y="5105520"/>
            <a:ext cx="4199040" cy="261720"/>
          </a:xfrm>
          <a:prstGeom prst="rect">
            <a:avLst/>
          </a:prstGeom>
          <a:solidFill>
            <a:srgbClr val="340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99cc00"/>
                </a:solidFill>
                <a:latin typeface="Arial"/>
              </a:rPr>
              <a:t>5. </a:t>
            </a:r>
            <a:r>
              <a:rPr b="1" lang="bg-BG" sz="1300" spc="-1" strike="noStrike">
                <a:solidFill>
                  <a:srgbClr val="99cc00"/>
                </a:solidFill>
                <a:latin typeface="Arial"/>
              </a:rPr>
              <a:t>Вяра в страшния съд  (АХРЕТ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21040" y="4842000"/>
            <a:ext cx="3654360" cy="26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240985"/>
                </a:solidFill>
                <a:latin typeface="Arial"/>
              </a:rPr>
              <a:t>6. </a:t>
            </a:r>
            <a:r>
              <a:rPr b="1" lang="bg-BG" sz="1300" spc="-1" strike="noStrike">
                <a:solidFill>
                  <a:srgbClr val="240985"/>
                </a:solidFill>
                <a:latin typeface="Arial"/>
              </a:rPr>
              <a:t>Вяра в съдбата</a:t>
            </a:r>
            <a:r>
              <a:rPr b="1" lang="de-DE" sz="1300" spc="-1" strike="noStrike">
                <a:solidFill>
                  <a:srgbClr val="240985"/>
                </a:solidFill>
                <a:latin typeface="Arial"/>
              </a:rPr>
              <a:t> </a:t>
            </a:r>
            <a:r>
              <a:rPr b="1" lang="bg-BG" sz="1300" spc="-1" strike="noStrike">
                <a:solidFill>
                  <a:srgbClr val="240985"/>
                </a:solidFill>
                <a:latin typeface="Arial"/>
              </a:rPr>
              <a:t> (КАДЕ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ИМАН – </a:t>
            </a: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6.точка:  КАД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16360" y="1413000"/>
            <a:ext cx="59036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редопределението - всичките събития в живота на един човек са установени от Ал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Човек не може да промени съдбата 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оради това мюсюлманите не се чустват отговорни за живота си, положението си в обществото и обществото изцяло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79280" y="2781360"/>
            <a:ext cx="230832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1700280"/>
            <a:ext cx="273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КЕЛИМЕ-и-ШЕХА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(Шаха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Чрез рецитиране на Келиме-и Шехадет човек става мюсюлма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ДИН - </a:t>
            </a: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1. стълба:  ИЗПОВЯДВ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276720" y="1557360"/>
            <a:ext cx="5327640" cy="3672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276720" y="530064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ffff"/>
                </a:solidFill>
                <a:latin typeface="Arial"/>
              </a:rPr>
              <a:t>Две младежи от град Оберхаузен / Германия приемат исляма на 26.6.200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401"/>
                            </p:stCondLst>
                            <p:childTnLst>
                              <p:par>
                                <p:cTn id="426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7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43240" y="1484280"/>
            <a:ext cx="27061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АБД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(вуду и гус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Време: преди абде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851280" y="1511280"/>
            <a:ext cx="4489560" cy="4459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851280" y="1511280"/>
            <a:ext cx="4489560" cy="4459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851280" y="1515960"/>
            <a:ext cx="4489560" cy="4445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3851280" y="1504800"/>
            <a:ext cx="4489560" cy="4475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3851280" y="1511280"/>
            <a:ext cx="4489560" cy="4459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3851280" y="1528920"/>
            <a:ext cx="4489560" cy="4410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3851280" y="1500120"/>
            <a:ext cx="4489560" cy="4489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3851280" y="1500120"/>
            <a:ext cx="4489560" cy="4489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3851280" y="1488960"/>
            <a:ext cx="4489560" cy="4519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3851280" y="1484280"/>
            <a:ext cx="4489560" cy="4533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2"/>
          <a:stretch/>
        </p:blipFill>
        <p:spPr>
          <a:xfrm>
            <a:off x="3851280" y="1477800"/>
            <a:ext cx="4489560" cy="45500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3"/>
          <a:stretch/>
        </p:blipFill>
        <p:spPr>
          <a:xfrm>
            <a:off x="3851280" y="1484280"/>
            <a:ext cx="4489560" cy="4533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ДИН - </a:t>
            </a:r>
            <a:r>
              <a:rPr b="1" lang="bg-BG" sz="3200" spc="-1" strike="noStrike">
                <a:solidFill>
                  <a:srgbClr val="009999"/>
                </a:solidFill>
                <a:latin typeface="Arial"/>
              </a:rPr>
              <a:t>2. стълба:  ПО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3141720"/>
            <a:ext cx="35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итуално измиване, “да застанеш чист пред Аллах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6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70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80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9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1" dur="1" fill="hold"/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4:06:51Z</dcterms:created>
  <dc:creator>Windows XP</dc:creator>
  <dc:description/>
  <dc:language>en-US</dc:language>
  <cp:lastModifiedBy>asd</cp:lastModifiedBy>
  <dcterms:modified xsi:type="dcterms:W3CDTF">2009-06-20T13:50:34Z</dcterms:modified>
  <cp:revision>154</cp:revision>
  <dc:subject/>
  <dc:title>Схема на ислямската вяра </dc:title>
</cp:coreProperties>
</file>