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219-9F01-4593-B28A-F6DE2DE3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046-2917-4115-8E71-C573CC5B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569-F94C-4893-AB9C-6ACADCDA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4AC-4F8A-48DE-9004-B423AB44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96B-717D-4D27-919A-3E6FCA2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12B-C244-4CB7-AF64-5FD06C54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70C-D33B-4CFE-95BD-C1853DB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610-FA0E-4937-A050-0C4C2F2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FFA-15AE-4946-B38A-2770435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D2A-176D-4D22-84DC-1FA953B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674-EB5A-4DAC-82C1-F42C374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29C-293B-4942-B28B-2A75999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8F0-994A-4FD9-ADF0-97E0784B9B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–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ЕБА (ч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12536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Veba (Çuma)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1346- 1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Avrupa’nın 35% öldü; kimi yerde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5467320" cy="36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313380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18874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- ИСПАНЙОЛ ГРИ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932360" cy="3659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140360" cy="369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5157720"/>
            <a:ext cx="36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8080"/>
                </a:solidFill>
                <a:latin typeface="Arial"/>
              </a:rPr>
              <a:t>Биринджи Днюя Савашънда ьоленл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66ff"/>
                </a:solidFill>
                <a:latin typeface="Arial"/>
              </a:rPr>
              <a:t>15 милйон к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24560" y="5157720"/>
            <a:ext cx="44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99"/>
                </a:solidFill>
                <a:latin typeface="Arial"/>
              </a:rPr>
              <a:t>Айнъ анда Инфлуензадан  ьоленл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50-100 милйон киши</a:t>
            </a:r>
            <a:r>
              <a:rPr b="1" lang="bg-BG" sz="2400" spc="-1" strike="noStrike">
                <a:solidFill>
                  <a:srgbClr val="ff9999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8720" y="1292400"/>
            <a:ext cx="345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Sif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1490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cinsel ilişki ile geç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1292400"/>
            <a:ext cx="345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Ko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1817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Pis su ile geö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3080" y="3187800"/>
            <a:ext cx="2951280" cy="2762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6112" t="2682" r="6245" b="10580"/>
          <a:stretch/>
        </p:blipFill>
        <p:spPr>
          <a:xfrm>
            <a:off x="4932360" y="3187800"/>
            <a:ext cx="3672000" cy="2732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rial"/>
              </a:rPr>
              <a:t>Ен коркунч хасталъ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Ен коркунч хасталъ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1589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11149" r="0" b="0"/>
          <a:stretch/>
        </p:blipFill>
        <p:spPr>
          <a:xfrm>
            <a:off x="3271680" y="3889440"/>
            <a:ext cx="547704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905120" cy="23238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395280" y="3645000"/>
            <a:ext cx="1946160" cy="2836800"/>
            <a:chOff x="395280" y="3645000"/>
            <a:chExt cx="1946160" cy="283680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395280" y="3645000"/>
              <a:ext cx="194616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21640" y="61135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SPIN öksüzl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753080" y="981000"/>
            <a:ext cx="4427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AIDS (SPIN)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98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Cinsel ilişki ve kan yolu ile geç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Gittikçe yayılı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Kişinin imun sistemini yok ediyor; kişi en ufak hastalııklardan ölü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Afrikanın 30% o vırusu kapmı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Ен коркунч хасталъ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1428840" cy="10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168720" cy="200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1440000" cy="102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95640" y="5157720"/>
            <a:ext cx="1440000" cy="118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450864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42920" y="3789360"/>
            <a:ext cx="2082960" cy="299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4643280" y="4614840"/>
            <a:ext cx="2592720" cy="2243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28200" y="3132000"/>
            <a:ext cx="12870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1080" y="4941720"/>
            <a:ext cx="131148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S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9080" y="4437000"/>
            <a:ext cx="10173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B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440" y="83664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Yeni türeyen hastalık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5435640" y="1628640"/>
            <a:ext cx="3029040" cy="241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09440" y="3645000"/>
            <a:ext cx="180684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Mar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90560" y="1962000"/>
            <a:ext cx="3384720" cy="334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99cc00"/>
                </a:solidFill>
                <a:latin typeface="Arial"/>
              </a:rPr>
              <a:t>Инсанън япъс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6720" y="5137200"/>
            <a:ext cx="173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2689200"/>
            <a:ext cx="154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689200"/>
            <a:ext cx="1444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4" idx="2"/>
            <a:endCxn id="122" idx="1"/>
          </p:cNvCxnSpPr>
          <p:nvPr/>
        </p:nvCxnSpPr>
        <p:spPr>
          <a:xfrm flipH="1" rot="16200000">
            <a:off x="339480" y="3962880"/>
            <a:ext cx="2127960" cy="862920"/>
          </a:xfrm>
          <a:prstGeom prst="bentConnector2">
            <a:avLst/>
          </a:prstGeom>
          <a:ln w="50760">
            <a:solidFill>
              <a:srgbClr val="009900"/>
            </a:solidFill>
            <a:miter/>
            <a:tailEnd len="lg" type="triangle" w="lg"/>
          </a:ln>
        </p:spPr>
      </p:cxnSp>
      <p:cxnSp>
        <p:nvCxnSpPr>
          <p:cNvPr id="126" name=""/>
          <p:cNvCxnSpPr>
            <a:stCxn id="122" idx="3"/>
            <a:endCxn id="123" idx="2"/>
          </p:cNvCxnSpPr>
          <p:nvPr/>
        </p:nvCxnSpPr>
        <p:spPr>
          <a:xfrm flipV="1">
            <a:off x="3568680" y="3330000"/>
            <a:ext cx="843840" cy="2127960"/>
          </a:xfrm>
          <a:prstGeom prst="bentConnector2">
            <a:avLst/>
          </a:prstGeom>
          <a:ln w="50760">
            <a:solidFill>
              <a:srgbClr val="9966ff"/>
            </a:solidFill>
            <a:miter/>
            <a:tailEnd len="lg" type="triangle" w="lg"/>
          </a:ln>
        </p:spPr>
      </p:cxnSp>
      <p:cxnSp>
        <p:nvCxnSpPr>
          <p:cNvPr id="127" name=""/>
          <p:cNvCxnSpPr>
            <a:stCxn id="123" idx="0"/>
            <a:endCxn id="124" idx="0"/>
          </p:cNvCxnSpPr>
          <p:nvPr/>
        </p:nvCxnSpPr>
        <p:spPr>
          <a:xfrm rot="5400000">
            <a:off x="2691000" y="970560"/>
            <a:ext cx="2160" cy="3439440"/>
          </a:xfrm>
          <a:prstGeom prst="bentConnector3">
            <a:avLst>
              <a:gd name="adj1" fmla="val -38500000"/>
            </a:avLst>
          </a:prstGeom>
          <a:ln w="50760">
            <a:solidFill>
              <a:srgbClr val="cc0000"/>
            </a:solidFill>
            <a:miter/>
            <a:tailEnd len="lg" type="triangle" w="lg"/>
          </a:ln>
        </p:spPr>
      </p:cxnSp>
      <p:cxnSp>
        <p:nvCxnSpPr>
          <p:cNvPr id="128" name=""/>
          <p:cNvCxnSpPr>
            <a:stCxn id="124" idx="3"/>
            <a:endCxn id="123" idx="1"/>
          </p:cNvCxnSpPr>
          <p:nvPr/>
        </p:nvCxnSpPr>
        <p:spPr>
          <a:xfrm>
            <a:off x="1695600" y="3009600"/>
            <a:ext cx="1940400" cy="1080"/>
          </a:xfrm>
          <a:prstGeom prst="bentConnector2">
            <a:avLst/>
          </a:prstGeom>
          <a:ln w="50760">
            <a:solidFill>
              <a:srgbClr val="009900"/>
            </a:solidFill>
            <a:miter/>
            <a:tailEnd len="lg" type="triangle" w="lg"/>
          </a:ln>
        </p:spPr>
      </p:cxnSp>
      <p:cxnSp>
        <p:nvCxnSpPr>
          <p:cNvPr id="129" name=""/>
          <p:cNvCxnSpPr/>
          <p:nvPr/>
        </p:nvCxnSpPr>
        <p:spPr>
          <a:xfrm flipV="1" rot="16200000">
            <a:off x="1042560" y="3696480"/>
            <a:ext cx="1729440" cy="1008720"/>
          </a:xfrm>
          <a:prstGeom prst="bentConnector3">
            <a:avLst>
              <a:gd name="adj1" fmla="val 49947"/>
            </a:avLst>
          </a:prstGeom>
          <a:ln w="50760">
            <a:solidFill>
              <a:srgbClr val="9966ff"/>
            </a:solidFill>
            <a:miter/>
            <a:tailEnd len="lg" type="triangle" w="lg"/>
          </a:ln>
        </p:spPr>
      </p:cxnSp>
      <p:cxnSp>
        <p:nvCxnSpPr>
          <p:cNvPr id="130" name=""/>
          <p:cNvCxnSpPr/>
          <p:nvPr/>
        </p:nvCxnSpPr>
        <p:spPr>
          <a:xfrm rot="5400000">
            <a:off x="2518560" y="3804840"/>
            <a:ext cx="1801080" cy="864360"/>
          </a:xfrm>
          <a:prstGeom prst="bentConnector3">
            <a:avLst>
              <a:gd name="adj1" fmla="val 50000"/>
            </a:avLst>
          </a:prstGeom>
          <a:ln w="50760">
            <a:solidFill>
              <a:srgbClr val="cc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6589440" y="1989000"/>
            <a:ext cx="173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2852640"/>
            <a:ext cx="341964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ън гьорюнен тарф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беденле матерялно дюня-да яшъйоруз. (гьормек, ишитмек, кокламак, конушм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беден топрактан олдуу ичин бозулабилир ве яваш яаваш чюрю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бу беден Аллахтан бизе еманет верилди, сорумлу-луумуз в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1080" y="1989000"/>
            <a:ext cx="154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2852640"/>
            <a:ext cx="34196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ън яшама гюдж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дюшюнджелер, дуйгулар, карар вермек, ви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ън ичинде гьорнмез бир г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лар ве хайванлар айнъ гюдже сахипт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Раб инсаън джанънъ бир гюн гери ист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1989000"/>
            <a:ext cx="1444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2924280"/>
            <a:ext cx="341964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ъ Аллахла баалаян тараф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инсанън руху гьорюн-мез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саде инсанларда вар, хайванларда й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ким Иса Месихте яшамаз-са, онун руху ьолюдюр (“О аачтан йедииниз гюнде ьоледжексиниз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1413000"/>
            <a:ext cx="0" cy="49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440" y="601488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Хепси бирбирлерини еткилийор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"/>
                            </p:stCondLst>
                            <p:childTnLst>
                              <p:par>
                                <p:cTn id="56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81120" y="1844640"/>
            <a:ext cx="3384720" cy="3343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99cc00"/>
                </a:solidFill>
                <a:latin typeface="Arial"/>
              </a:rPr>
              <a:t>Инсанън япъс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5080" y="5019840"/>
            <a:ext cx="173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27280" y="2571840"/>
            <a:ext cx="154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1120" y="2571840"/>
            <a:ext cx="1444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2"/>
            <a:endCxn id="141" idx="1"/>
          </p:cNvCxnSpPr>
          <p:nvPr/>
        </p:nvCxnSpPr>
        <p:spPr>
          <a:xfrm flipH="1" rot="16200000">
            <a:off x="249840" y="3826080"/>
            <a:ext cx="2127960" cy="900720"/>
          </a:xfrm>
          <a:prstGeom prst="bentConnector2">
            <a:avLst/>
          </a:prstGeom>
          <a:ln w="50760">
            <a:solidFill>
              <a:srgbClr val="009900"/>
            </a:solidFill>
            <a:miter/>
            <a:tailEnd len="lg" type="triangle" w="lg"/>
          </a:ln>
        </p:spPr>
      </p:cxnSp>
      <p:cxnSp>
        <p:nvCxnSpPr>
          <p:cNvPr id="145" name=""/>
          <p:cNvCxnSpPr>
            <a:stCxn id="141" idx="3"/>
            <a:endCxn id="142" idx="2"/>
          </p:cNvCxnSpPr>
          <p:nvPr/>
        </p:nvCxnSpPr>
        <p:spPr>
          <a:xfrm flipV="1">
            <a:off x="3497040" y="3212280"/>
            <a:ext cx="805320" cy="2127960"/>
          </a:xfrm>
          <a:prstGeom prst="bentConnector2">
            <a:avLst/>
          </a:prstGeom>
          <a:ln w="50760">
            <a:solidFill>
              <a:srgbClr val="9966ff"/>
            </a:solidFill>
            <a:miter/>
            <a:tailEnd len="lg" type="triangle" w="lg"/>
          </a:ln>
        </p:spPr>
      </p:cxnSp>
      <p:cxnSp>
        <p:nvCxnSpPr>
          <p:cNvPr id="146" name=""/>
          <p:cNvCxnSpPr>
            <a:stCxn id="142" idx="0"/>
            <a:endCxn id="143" idx="0"/>
          </p:cNvCxnSpPr>
          <p:nvPr/>
        </p:nvCxnSpPr>
        <p:spPr>
          <a:xfrm rot="5400000">
            <a:off x="2581200" y="853200"/>
            <a:ext cx="2160" cy="3439080"/>
          </a:xfrm>
          <a:prstGeom prst="bentConnector3">
            <a:avLst>
              <a:gd name="adj1" fmla="val -38400000"/>
            </a:avLst>
          </a:prstGeom>
          <a:ln w="50760">
            <a:solidFill>
              <a:srgbClr val="cc0000"/>
            </a:solidFill>
            <a:miter/>
            <a:tailEnd len="lg" type="triangle" w="lg"/>
          </a:ln>
        </p:spPr>
      </p:cxnSp>
      <p:cxnSp>
        <p:nvCxnSpPr>
          <p:cNvPr id="147" name=""/>
          <p:cNvCxnSpPr>
            <a:stCxn id="143" idx="3"/>
            <a:endCxn id="142" idx="1"/>
          </p:cNvCxnSpPr>
          <p:nvPr/>
        </p:nvCxnSpPr>
        <p:spPr>
          <a:xfrm>
            <a:off x="1585440" y="2892240"/>
            <a:ext cx="1940760" cy="1080"/>
          </a:xfrm>
          <a:prstGeom prst="bentConnector2">
            <a:avLst/>
          </a:prstGeom>
          <a:ln w="50760">
            <a:solidFill>
              <a:srgbClr val="009900"/>
            </a:solidFill>
            <a:miter/>
            <a:tailEnd len="lg" type="triangle" w="lg"/>
          </a:ln>
        </p:spPr>
      </p:cxnSp>
      <p:cxnSp>
        <p:nvCxnSpPr>
          <p:cNvPr id="148" name=""/>
          <p:cNvCxnSpPr/>
          <p:nvPr/>
        </p:nvCxnSpPr>
        <p:spPr>
          <a:xfrm flipV="1" rot="16200000">
            <a:off x="933120" y="3579120"/>
            <a:ext cx="1729440" cy="1008720"/>
          </a:xfrm>
          <a:prstGeom prst="bentConnector3">
            <a:avLst>
              <a:gd name="adj1" fmla="val 49947"/>
            </a:avLst>
          </a:prstGeom>
          <a:ln w="50760">
            <a:solidFill>
              <a:srgbClr val="9966ff"/>
            </a:solidFill>
            <a:miter/>
            <a:tailEnd len="lg" type="triangle" w="lg"/>
          </a:ln>
        </p:spPr>
      </p:cxnSp>
      <p:cxnSp>
        <p:nvCxnSpPr>
          <p:cNvPr id="149" name=""/>
          <p:cNvCxnSpPr/>
          <p:nvPr/>
        </p:nvCxnSpPr>
        <p:spPr>
          <a:xfrm rot="5400000">
            <a:off x="2409120" y="3687480"/>
            <a:ext cx="1801080" cy="864360"/>
          </a:xfrm>
          <a:prstGeom prst="bentConnector3">
            <a:avLst>
              <a:gd name="adj1" fmla="val 50000"/>
            </a:avLst>
          </a:prstGeom>
          <a:ln w="50760">
            <a:solidFill>
              <a:srgbClr val="cc0000"/>
            </a:solidFill>
            <a:miter/>
            <a:tailEnd len="lg" type="triangle" w="lg"/>
          </a:ln>
        </p:spPr>
      </p:cxnSp>
      <p:sp>
        <p:nvSpPr>
          <p:cNvPr id="150" name=""/>
          <p:cNvSpPr/>
          <p:nvPr/>
        </p:nvSpPr>
        <p:spPr>
          <a:xfrm>
            <a:off x="468000" y="589752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Хепси бирбирлерини еткилийор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70200" y="1014480"/>
            <a:ext cx="1043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2800" y="1014480"/>
            <a:ext cx="9410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5280" y="1195560"/>
            <a:ext cx="1152360" cy="0"/>
          </a:xfrm>
          <a:prstGeom prst="line">
            <a:avLst/>
          </a:prstGeom>
          <a:ln w="31680">
            <a:solidFill>
              <a:srgbClr val="99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680" y="14112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- инфекция - истексиз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70200" y="1871640"/>
            <a:ext cx="1043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63840" y="1871640"/>
            <a:ext cx="6807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15280" y="2052720"/>
            <a:ext cx="1296720" cy="0"/>
          </a:xfrm>
          <a:prstGeom prst="line">
            <a:avLst/>
          </a:prstGeom>
          <a:ln w="31680">
            <a:solidFill>
              <a:srgbClr val="99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8160" y="226836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- гюнах – рух лекелен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83480" y="3030480"/>
            <a:ext cx="1043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3211560"/>
            <a:ext cx="1224000" cy="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9240" y="342756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- стрес, съкънтъ - яз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63840" y="3887640"/>
            <a:ext cx="6807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4068720"/>
            <a:ext cx="1439640" cy="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9600" y="428472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- тембеллик - имансъз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1280" y="5121360"/>
            <a:ext cx="6807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32800" y="5121360"/>
            <a:ext cx="9410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5302080"/>
            <a:ext cx="1511280" cy="0"/>
          </a:xfrm>
          <a:prstGeom prst="line">
            <a:avLst/>
          </a:prstGeom>
          <a:ln w="31680">
            <a:solidFill>
              <a:srgbClr val="00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9600" y="55180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00"/>
                </a:solidFill>
                <a:latin typeface="Arial"/>
              </a:rPr>
              <a:t>- тапънмак - севин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1280" y="5978520"/>
            <a:ext cx="6807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Р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83480" y="5978520"/>
            <a:ext cx="1043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БЕ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6159600"/>
            <a:ext cx="1440000" cy="0"/>
          </a:xfrm>
          <a:prstGeom prst="line">
            <a:avLst/>
          </a:prstGeom>
          <a:ln w="31680">
            <a:solidFill>
              <a:srgbClr val="00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9600" y="637524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00"/>
                </a:solidFill>
                <a:latin typeface="Arial"/>
              </a:rPr>
              <a:t>- итаат – узун ьомю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70560" y="3030480"/>
            <a:ext cx="9410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70560" y="3887640"/>
            <a:ext cx="9410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Arial"/>
              </a:rPr>
              <a:t>Д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99cc00"/>
                </a:solidFill>
                <a:latin typeface="Arial"/>
              </a:rPr>
              <a:t>Хасталъкларън себепл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264024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9280" y="119844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Етрафтан гелен хасталъклар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инфекция, казалар, оталанмак, хава дуру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258588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2.  Генетик хасталъклар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ана бабамъздан бизе гечийор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40258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3.  Диккатсъзлъктан гелен хасталъ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янлъш бесленме, ички, сигара, рискли яшам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64360" y="2008080"/>
            <a:ext cx="29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5.  Рабден дж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Ачък 2:22 - Изебел; Сайъ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1 -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йълан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307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6.  Рабден ден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Ейу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3862440"/>
            <a:ext cx="28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7.  Гюанахлъ дюшюнджелерден гелен хасталък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ьофке, гювенмемек, аф етмемезл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734080"/>
            <a:ext cx="9144000" cy="113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</a:rPr>
              <a:t>Хасталъън кьокюнде хеп гюнах 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- я </a:t>
            </a:r>
            <a:r>
              <a:rPr b="1" lang="bg-BG" sz="1800" spc="-1" strike="noStrike">
                <a:solidFill>
                  <a:srgbClr val="0099cc"/>
                </a:solidFill>
                <a:latin typeface="Arial"/>
              </a:rPr>
              <a:t>кендимиз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гюнах ишледик, я башкасъ </a:t>
            </a:r>
            <a:r>
              <a:rPr b="1" lang="bg-BG" sz="1800" spc="-1" strike="noStrike">
                <a:solidFill>
                  <a:srgbClr val="0099cc"/>
                </a:solidFill>
                <a:latin typeface="Arial"/>
              </a:rPr>
              <a:t>бизе каршъ гюнах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ишледи, я да </a:t>
            </a:r>
            <a:r>
              <a:rPr b="1" lang="bg-BG" sz="1800" spc="-1" strike="noStrike">
                <a:solidFill>
                  <a:srgbClr val="0099cc"/>
                </a:solidFill>
                <a:latin typeface="Arial"/>
              </a:rPr>
              <a:t>гюнахлъ бир дюняда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яшадъъмъз ичин хасталанъйор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2034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66ff"/>
                </a:solidFill>
                <a:latin typeface="Arial"/>
              </a:rPr>
              <a:t>4.  Яшланмактан гелен хасталък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(гьозлер, йюрек, кемикл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–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ЕБА (ч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981000"/>
            <a:ext cx="4427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Veba (Çuma)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346- 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Pirelerden geç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Avrupa’nın 35% öldü; kimi yerde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4273560" cy="597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809880" cy="268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19018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–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ЕВА (ч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268280"/>
            <a:ext cx="3095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Veba (Çuma)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346- 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Pirelerden geç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Avrupa’nın 35% öldü; kimi yerde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55576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–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ЕБА (ч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–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ВЕБА (ч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67164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4162320" cy="560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840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- ИСПАНЙОЛ ГРИБИ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521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İnfluenza (ispanyol gribi)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918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– Март айънда ве гене Октомври айъ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32360" y="1125360"/>
            <a:ext cx="3311640" cy="2030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4140000" cy="3643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720" y="2492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нфлуенза вирусу (микроскоп алтън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- ИСПАНЙОЛ ГРИ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3960" y="907920"/>
            <a:ext cx="5847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918 – ИНФЛУЕНЗА (Испанйол гриби) насъл яйъл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7336" t="8062" r="6933" b="215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64360" y="3068640"/>
            <a:ext cx="19796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24280"/>
            <a:ext cx="7556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63640" y="2491920"/>
            <a:ext cx="2448000" cy="505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2637000"/>
            <a:ext cx="1008000" cy="1944360"/>
          </a:xfrm>
          <a:custGeom>
            <a:avLst/>
            <a:gdLst/>
            <a:ahLst/>
            <a:rect l="l" t="t" r="r" b="b"/>
            <a:pathLst>
              <a:path w="710" h="1240">
                <a:moveTo>
                  <a:pt x="681" y="0"/>
                </a:moveTo>
                <a:cubicBezTo>
                  <a:pt x="431" y="109"/>
                  <a:pt x="182" y="219"/>
                  <a:pt x="91" y="408"/>
                </a:cubicBezTo>
                <a:cubicBezTo>
                  <a:pt x="0" y="597"/>
                  <a:pt x="46" y="1028"/>
                  <a:pt x="137" y="1134"/>
                </a:cubicBezTo>
                <a:cubicBezTo>
                  <a:pt x="228" y="1240"/>
                  <a:pt x="560" y="1066"/>
                  <a:pt x="635" y="1043"/>
                </a:cubicBezTo>
                <a:cubicBezTo>
                  <a:pt x="710" y="1020"/>
                  <a:pt x="650" y="1009"/>
                  <a:pt x="590" y="99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8840" y="4292640"/>
            <a:ext cx="1546200" cy="1994040"/>
          </a:xfrm>
          <a:custGeom>
            <a:avLst/>
            <a:gdLst/>
            <a:ahLst/>
            <a:rect l="l" t="t" r="r" b="b"/>
            <a:pathLst>
              <a:path w="974" h="1256">
                <a:moveTo>
                  <a:pt x="234" y="0"/>
                </a:moveTo>
                <a:cubicBezTo>
                  <a:pt x="117" y="196"/>
                  <a:pt x="0" y="393"/>
                  <a:pt x="7" y="590"/>
                </a:cubicBezTo>
                <a:cubicBezTo>
                  <a:pt x="14" y="787"/>
                  <a:pt x="181" y="1104"/>
                  <a:pt x="279" y="1180"/>
                </a:cubicBezTo>
                <a:cubicBezTo>
                  <a:pt x="377" y="1256"/>
                  <a:pt x="491" y="1052"/>
                  <a:pt x="597" y="1044"/>
                </a:cubicBezTo>
                <a:cubicBezTo>
                  <a:pt x="703" y="1036"/>
                  <a:pt x="854" y="1217"/>
                  <a:pt x="914" y="1134"/>
                </a:cubicBezTo>
                <a:cubicBezTo>
                  <a:pt x="974" y="1051"/>
                  <a:pt x="967" y="798"/>
                  <a:pt x="960" y="54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924280"/>
            <a:ext cx="1079280" cy="288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3213000"/>
            <a:ext cx="360360" cy="863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364000" y="3789360"/>
            <a:ext cx="1008360" cy="21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3789360"/>
            <a:ext cx="792360" cy="1008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4797360"/>
            <a:ext cx="936720" cy="1079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17080" y="5877000"/>
            <a:ext cx="574560" cy="217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56000" y="2060280"/>
            <a:ext cx="792360" cy="36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060640"/>
            <a:ext cx="1584360" cy="73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3355920"/>
            <a:ext cx="407880" cy="1225440"/>
          </a:xfrm>
          <a:custGeom>
            <a:avLst/>
            <a:gdLst/>
            <a:ahLst/>
            <a:rect l="l" t="t" r="r" b="b"/>
            <a:pathLst>
              <a:path w="257" h="772">
                <a:moveTo>
                  <a:pt x="0" y="772"/>
                </a:moveTo>
                <a:cubicBezTo>
                  <a:pt x="98" y="737"/>
                  <a:pt x="197" y="703"/>
                  <a:pt x="227" y="590"/>
                </a:cubicBezTo>
                <a:cubicBezTo>
                  <a:pt x="257" y="477"/>
                  <a:pt x="204" y="182"/>
                  <a:pt x="181" y="91"/>
                </a:cubicBezTo>
                <a:cubicBezTo>
                  <a:pt x="158" y="0"/>
                  <a:pt x="124" y="23"/>
                  <a:pt x="91" y="4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- ИСПАНЙОЛ ГРИ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4652" t="0" r="0" b="0"/>
          <a:stretch/>
        </p:blipFill>
        <p:spPr>
          <a:xfrm>
            <a:off x="0" y="83664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0" y="1144440"/>
            <a:ext cx="5847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918 – ИНФЛУЕНЗА (Испанйол гриби) насъл яйъл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Ен коркунч хасталък - ИСПАНЙОЛ ГРИ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564000" cy="6021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21329" b="0"/>
          <a:stretch/>
        </p:blipFill>
        <p:spPr>
          <a:xfrm>
            <a:off x="3564000" y="820800"/>
            <a:ext cx="5580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8-11-19T15:51:56Z</dcterms:modified>
  <cp:revision>148</cp:revision>
  <dc:subject/>
  <dc:title>Yedi Mühür açılıyor (bölüm 6)</dc:title>
</cp:coreProperties>
</file>