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C2E-883C-4406-9393-078640F4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08F-8386-4EBA-A146-C9F9A87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E9D-4237-4CFE-84A6-4612F8E5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99A-9757-4A94-AC28-50C3D771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A74-F961-4D38-A0C8-208BF9BC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9CE-02F7-4EA0-BC34-FB31023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153-7ADC-4756-8786-C73B58A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D90-AFE6-4E8A-93BA-144B334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193E-5B25-4A56-ADCD-883BB17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7ABE-87E4-4A61-AB9E-91EC15F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730-BAB0-42C8-839E-910D985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C3F-07EC-42FE-A43F-493FC3AA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8F8A-B56E-42DB-B997-A0A9D14F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406-C64B-4C89-A8B3-0561DEF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C51-1A93-4B35-B49B-DEBE5176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BF12-3B1A-447F-99EA-B9EBC72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4BC7-DCCF-4E79-ADCD-AA492576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6B6-3086-403F-832C-4820D33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1CD-A409-4789-95D5-E36EA72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C2C-FB1D-4683-A1BA-D0A318B1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A1B-F032-4227-8B71-48B837BF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7EE-0DA4-4955-A28D-3299FC5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934-3160-4D97-800F-346648B8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083-3EEA-4498-A714-8409B89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F60-B7AD-4BA8-B5F3-4A549E9028B7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3DF-0F55-4F38-9A76-27EC787650DE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932360" y="53006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ccff"/>
                </a:solidFill>
                <a:latin typeface="Tahoma"/>
              </a:rPr>
              <a:t>Новия Ерусал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: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052640"/>
            <a:ext cx="9144000" cy="283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0 И ме отведе В духа  на  една голяма  и висока планина и ми показа светия град, Ерусалим, слизащ от небето от Бога, 11 и имаше  славата на Бога, като блестеше, както блести някой  много скъпоценен камък,  като яспис, прозрачен като кристал. 12 Градът имаше голяма и висока стена с дванадесет порти и на портите- дванадесет ангела, и вътху портите- написани имена, които са имената на дванадесетте племена на израиливите синове: 13 на изток- три порти, на север- три порти,на юг- три порти и на запад- три порти. 14 И градската стена имаше дванадесет основни камъка и на тях- имената на дванадесетте апослтоли на Агенето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052640"/>
            <a:ext cx="914400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5 И този, който ми говореше, имаше за мярка златна тръстика, с която да измери града, портите и стената му. 16 Градът беше четвъртит, с дължина равна на на ширината му; и като измери града с тръстиката, той излезе дванадесет хиляди стадия.*. Дължината, ширината и височината му са еднакви. 17 Измери и стената му, която излезе сто четиридисет и четри лакти; а това беше човешка мярка, която е ангелск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Стената му беше изградена от яспис, градът- от чисто злато, подобно на чисто стъкло. 19 Основните камъни на гадската стена бяха украсени с всякъкви скъпоцени камъни: първият основен камък беше яспис, вторият- сапфир, третият- халкидон, четвъртият- смарагд, 20 петият- сардоникс, шестият- сард, седмият- хрисолит, осмият- вирил, деветия-топаз, десетия- яцинт, дванадесетият- амет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052640"/>
            <a:ext cx="914400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 дванадесете порти бяха дванадесет бисера, всяка една порта беше от един бисер; и улицата на града беше от чисто злато, като прозрачно стъкло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052640"/>
            <a:ext cx="9144000" cy="2562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не видях храм в него, защото неговия храм е Господ Бог Всемогъщ и Агнето. 23 И градът нямаше нужда от слунце, нито от луна, за да го осветлява, защото Божията слава го осветляваше и негово светило е Агнето. 24 И народите ще ходят в неговата светлина и земните царе ще донасят в него своята слава. 25 Портите му няма да се затваряр през деня, защото нощ няма да има там. 26 И ще донесят в него славата и почитта на нациите. 27 И в него няма да да влезе нищо нечисто, нито онзи, който върши мерзост или лъже, а само тези, които са записани в книжката на живота на Агнето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6000" y="21600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 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383b3"/>
            </a:gs>
            <a:gs pos="100000">
              <a:srgbClr val="433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e000f"/>
              </a:gs>
              <a:gs pos="50000">
                <a:srgbClr val="990033"/>
              </a:gs>
              <a:gs pos="100000">
                <a:srgbClr val="2e000f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серия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3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052640"/>
            <a:ext cx="9144000" cy="283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След това ми показа реката с водата на живота, блестяша като кристал, която извираше от престола на Бога и на Агенето. 2 И по средта на улицата му и на реката, оттук и оттам, имаше дърво на живота, което раждаше дванадесет пъти плодове, като даваше плод всеки месец. И листата на дървото бяха за изцеление на нациите 3 И вече няма да има никакво проклятие. И престолът на Бога и на Агнето  ще бъде в него и Неговите слуги ще Му служат . 4 Те ще гледат лицето Му и Неговото Име ще бъде на челата им. 5 Нощ няма да има вече и няма да имат нужда от светене на светило или от слънчева светлина, защотот Господ Бог ще свети  над тях. И те ще царуват за вечни веков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dmin</cp:lastModifiedBy>
  <dcterms:modified xsi:type="dcterms:W3CDTF">2009-06-07T11:35:34Z</dcterms:modified>
  <cp:revision>617</cp:revision>
  <dc:subject/>
  <dc:title>Yedi Mühür açılıyor (bölüm 6)</dc:title>
</cp:coreProperties>
</file>