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B09-A6EC-4FD6-9C35-73B8D958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482-D0AA-49D1-8A2F-9142C208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02D-A30F-4609-B843-832EE045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C69-9B5A-4446-AE8B-FE73E838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ACA-5918-42BB-92D7-F17CAE5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825-087C-4554-B4EA-3799E4A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33A-F206-4F10-AD1E-C6EAB42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0C7-19D2-4795-9C9E-0CEF7E62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BE7-78EB-4F28-844F-9D07DFE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9BB-8497-4FC4-8C35-7F54CCF3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1A8-04F4-469B-8826-3F28134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A7A-218E-4B37-B649-3A7D86F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D78-A8D1-494B-B0DB-5FD4DE72E01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1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Дюня тарихинде ен коркунч зелзел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530208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Перу’нун кузей тарафъ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 – 7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494172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Област Кансу – Китай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58784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Месина касабасъ, Сичилия – Италия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221000"/>
            <a:ext cx="7632720" cy="7038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6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Област Шемаха – Кафкас Балканларъ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- 80,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860640"/>
            <a:ext cx="763128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69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поли ве Катания – Италия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+ 9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50028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2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Област Шихли – Китай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’ден фазла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143160"/>
            <a:ext cx="7632720" cy="7038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Токйо/Йокохама– Жапоня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4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’ден фазла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78280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Област Кансу – Китай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’ден фазла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1776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97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– Област Тангшан – Китай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24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’ден фазла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052720"/>
            <a:ext cx="7632720" cy="3988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155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Област Сенши – Китай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83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’ден фазла ь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7:08:46Z</dcterms:created>
  <dc:creator>asd</dc:creator>
  <dc:description/>
  <dc:language>en-US</dc:language>
  <cp:lastModifiedBy>asd</cp:lastModifiedBy>
  <dcterms:modified xsi:type="dcterms:W3CDTF">2008-06-24T07:31:11Z</dcterms:modified>
  <cp:revision>7</cp:revision>
  <dc:subject/>
  <dc:title>Slide 1</dc:title>
</cp:coreProperties>
</file>