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EF8-0EEC-4C89-99C2-C1401FF6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3E3-C8CC-45D3-8306-69A6C530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474-9B4C-41A4-A49A-96CFBA79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BDA-C6F8-4D82-BFC2-24577BCA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21A-1309-4FA5-9250-8DE1930E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CC3-846B-425E-8792-B57346F1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A7A-F50A-4F83-98A5-37A12A28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412-74B3-4A84-9386-DC914729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5EC-C0FC-499B-AD66-A605B8FF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C03-0785-4C98-91DD-6A9DC727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488-FE4B-43D4-AAE8-B54A0A8A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0C2-1E0F-4292-9F91-A3D739AF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E634-65D4-428C-BCBD-D3BAAB6F7D19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02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КУТСАЛ РУХ </a:t>
            </a:r>
            <a:br>
              <a:rPr sz="4400"/>
            </a:b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иманлънън хаятънда </a:t>
            </a:r>
            <a:br>
              <a:rPr sz="4400"/>
            </a:b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насъл ишлийо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Ромалълар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6920" y="765000"/>
            <a:ext cx="8605800" cy="64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Arial"/>
              </a:rPr>
              <a:t>(а.1-4)</a:t>
            </a:r>
            <a:r>
              <a:rPr b="1" lang="bg-BG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гюнах ве ьолюмден</a:t>
            </a: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 куртаръй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557360"/>
            <a:ext cx="8605800" cy="647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Arial"/>
              </a:rPr>
              <a:t>(а.5-8)</a:t>
            </a:r>
            <a:r>
              <a:rPr b="1" lang="bg-BG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бизе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йени дюшюндже</a:t>
            </a: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 верий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349360"/>
            <a:ext cx="8605800" cy="64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Arial"/>
              </a:rPr>
              <a:t>(а.9-11)</a:t>
            </a:r>
            <a:r>
              <a:rPr b="1" lang="bg-BG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беденлеримизи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дирилтиредж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141720"/>
            <a:ext cx="8605800" cy="647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Arial"/>
              </a:rPr>
              <a:t>(а.12-17)</a:t>
            </a:r>
            <a:r>
              <a:rPr b="1" lang="bg-BG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бизи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евлат</a:t>
            </a: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 йерине гетирий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933720"/>
            <a:ext cx="8605800" cy="6476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(а.18-21)  бизи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шанлаядж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726080"/>
            <a:ext cx="8605800" cy="6476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(а.22-25)  бизе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илк йемишлер</a:t>
            </a: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 вер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518080"/>
            <a:ext cx="860580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(а.26-27)  бизе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дуа етмекте</a:t>
            </a: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 ярдъм едий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5:13:37Z</dcterms:created>
  <dc:creator>asd</dc:creator>
  <dc:description/>
  <dc:language>en-US</dc:language>
  <cp:lastModifiedBy>asd</cp:lastModifiedBy>
  <dcterms:modified xsi:type="dcterms:W3CDTF">2009-10-07T15:30:24Z</dcterms:modified>
  <cp:revision>4</cp:revision>
  <dc:subject/>
  <dc:title>Slide 1</dc:title>
</cp:coreProperties>
</file>