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B01-78CD-4F84-A67E-0BA63A29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41F-0643-4F93-989B-25BCB2F1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C1F-5407-4C2E-8F24-D32548D6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15E-DE8B-4B31-BAFD-9FBE52BD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D206-2E76-4C31-A8A7-552EC4A0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B1FE-FF9D-454C-9252-BF03EBD3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56CF-117C-471B-909F-02932B43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60D1-0E15-43C2-955E-B5373F74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2D80-591C-478B-9F21-D9B6EB3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FC63-3312-48A7-87A0-FB033ACB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E3A0-08AD-4951-AF00-66D14E4F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F00-AB03-43D9-9F16-4B1C0DB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6CFB-B703-4000-9303-7F9D81A3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11A1-7803-4200-8802-B21468F0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2CFA-E1F5-4AEA-9CC9-6AA882CE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D6F7-9861-438C-B382-269B40A0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D58A-E74F-4A83-975C-243F4DF6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581-E7FF-489E-A6E7-87628673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113-1AA8-4B7F-8875-42A58B84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6D1-8E71-4FC9-967B-F205AA4B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09E-D8C6-4933-B80B-4A94982E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53F-D4AD-4340-AF3E-D10E2026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9E1-1380-4909-A014-7AEB945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F4C-08FF-4BDC-9F7F-FD65CC0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D035-03A2-411A-8587-6B9FEA3C95C0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5B3B-1669-4930-A1A9-49B1B77359C2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Седемте тръби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8-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57680" y="1195560"/>
            <a:ext cx="777960" cy="9061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7162920" y="1341360"/>
            <a:ext cx="936360" cy="700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1905120" y="1195560"/>
            <a:ext cx="866520" cy="9061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403280" y="2173320"/>
            <a:ext cx="1800360" cy="977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демте печата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ffff00"/>
                </a:solidFill>
                <a:latin typeface="Arial"/>
              </a:rPr>
              <a:t>гл</a:t>
            </a: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. 6-7 + 8: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67280" y="2173320"/>
            <a:ext cx="2016000" cy="977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демте тръби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ffff00"/>
                </a:solidFill>
                <a:latin typeface="Arial"/>
              </a:rPr>
              <a:t>гл</a:t>
            </a: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.8-9  11:14-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46920" y="2163600"/>
            <a:ext cx="1368360" cy="977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демте язви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ffff00"/>
                </a:solidFill>
                <a:latin typeface="Arial"/>
              </a:rPr>
              <a:t>гл</a:t>
            </a: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. 1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92440" y="3357720"/>
            <a:ext cx="1266840" cy="368280"/>
          </a:xfrm>
          <a:prstGeom prst="rect">
            <a:avLst/>
          </a:prstGeom>
          <a:gradFill rotWithShape="0">
            <a:gsLst>
              <a:gs pos="0">
                <a:srgbClr val="334d54"/>
              </a:gs>
              <a:gs pos="50000">
                <a:srgbClr val="6fa9b7"/>
              </a:gs>
              <a:gs pos="100000">
                <a:srgbClr val="334d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ff66"/>
                </a:solidFill>
                <a:latin typeface="Arial"/>
              </a:rPr>
              <a:t>1. </a:t>
            </a: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92440" y="3718080"/>
            <a:ext cx="1266840" cy="368280"/>
          </a:xfrm>
          <a:prstGeom prst="rect">
            <a:avLst/>
          </a:prstGeom>
          <a:gradFill rotWithShape="0">
            <a:gsLst>
              <a:gs pos="0">
                <a:srgbClr val="334d54"/>
              </a:gs>
              <a:gs pos="50000">
                <a:srgbClr val="6fa9b7"/>
              </a:gs>
              <a:gs pos="100000">
                <a:srgbClr val="334d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ff66"/>
                </a:solidFill>
                <a:latin typeface="Arial"/>
              </a:rPr>
              <a:t>2. </a:t>
            </a: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440" y="4078440"/>
            <a:ext cx="1266840" cy="368280"/>
          </a:xfrm>
          <a:prstGeom prst="rect">
            <a:avLst/>
          </a:prstGeom>
          <a:gradFill rotWithShape="0">
            <a:gsLst>
              <a:gs pos="0">
                <a:srgbClr val="334d54"/>
              </a:gs>
              <a:gs pos="50000">
                <a:srgbClr val="6fa9b7"/>
              </a:gs>
              <a:gs pos="100000">
                <a:srgbClr val="334d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ff66"/>
                </a:solidFill>
                <a:latin typeface="Arial"/>
              </a:rPr>
              <a:t>3. </a:t>
            </a: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440" y="4438800"/>
            <a:ext cx="1266840" cy="368280"/>
          </a:xfrm>
          <a:prstGeom prst="rect">
            <a:avLst/>
          </a:prstGeom>
          <a:gradFill rotWithShape="0">
            <a:gsLst>
              <a:gs pos="0">
                <a:srgbClr val="334d54"/>
              </a:gs>
              <a:gs pos="50000">
                <a:srgbClr val="6fa9b7"/>
              </a:gs>
              <a:gs pos="100000">
                <a:srgbClr val="334d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ff66"/>
                </a:solidFill>
                <a:latin typeface="Arial"/>
              </a:rPr>
              <a:t>4. </a:t>
            </a: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4869000"/>
            <a:ext cx="1266840" cy="642600"/>
          </a:xfrm>
          <a:prstGeom prst="rect">
            <a:avLst/>
          </a:prstGeom>
          <a:gradFill rotWithShape="0">
            <a:gsLst>
              <a:gs pos="0">
                <a:srgbClr val="334d54"/>
              </a:gs>
              <a:gs pos="50000">
                <a:srgbClr val="6fa9b7"/>
              </a:gs>
              <a:gs pos="100000">
                <a:srgbClr val="334d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свиде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63640" y="5516640"/>
            <a:ext cx="1266840" cy="642600"/>
          </a:xfrm>
          <a:prstGeom prst="rect">
            <a:avLst/>
          </a:prstGeom>
          <a:gradFill rotWithShape="0">
            <a:gsLst>
              <a:gs pos="0">
                <a:srgbClr val="334d54"/>
              </a:gs>
              <a:gs pos="50000">
                <a:srgbClr val="6fa9b7"/>
              </a:gs>
              <a:gs pos="100000">
                <a:srgbClr val="334d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разтресван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63640" y="6237360"/>
            <a:ext cx="1266840" cy="368280"/>
          </a:xfrm>
          <a:prstGeom prst="rect">
            <a:avLst/>
          </a:prstGeom>
          <a:gradFill rotWithShape="0">
            <a:gsLst>
              <a:gs pos="0">
                <a:srgbClr val="334d54"/>
              </a:gs>
              <a:gs pos="50000">
                <a:srgbClr val="6fa9b7"/>
              </a:gs>
              <a:gs pos="100000">
                <a:srgbClr val="334d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ff66"/>
                </a:solidFill>
                <a:latin typeface="Arial"/>
              </a:rPr>
              <a:t>sessizl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27640" y="3357720"/>
            <a:ext cx="126684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земя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27640" y="3718080"/>
            <a:ext cx="126684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мор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7640" y="4078440"/>
            <a:ext cx="1266840" cy="64260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Сладката 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56000" y="4724280"/>
            <a:ext cx="126684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звезд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5078520"/>
            <a:ext cx="1266840" cy="64260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скакалц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27640" y="5438880"/>
            <a:ext cx="126684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кон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6029280"/>
            <a:ext cx="1266840" cy="91692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Arial"/>
              </a:rPr>
              <a:t>Хоп отвори 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48440" y="385452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2dae0"/>
                </a:solidFill>
                <a:latin typeface="Arial"/>
              </a:rPr>
              <a:t>мор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48440" y="4286160"/>
            <a:ext cx="1266840" cy="64260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2dae0"/>
                </a:solidFill>
                <a:latin typeface="Arial"/>
              </a:rPr>
              <a:t>Сладката 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20000" y="4869000"/>
            <a:ext cx="1266840" cy="64260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2dae0"/>
                </a:solidFill>
                <a:latin typeface="Arial"/>
              </a:rPr>
              <a:t>слънц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48440" y="514980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2dae0"/>
                </a:solidFill>
                <a:latin typeface="Arial"/>
              </a:rPr>
              <a:t>Звяръ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48440" y="558324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2dae0"/>
                </a:solidFill>
                <a:latin typeface="Arial"/>
              </a:rPr>
              <a:t>Р. еф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48440" y="601488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2dae0"/>
                </a:solidFill>
                <a:latin typeface="Arial"/>
              </a:rPr>
              <a:t>врем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4000" y="3349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4000" y="37101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43640" y="41418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I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43640" y="45021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IV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44360" y="50706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12320" y="54309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V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19880" y="6021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V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50920" y="5583240"/>
            <a:ext cx="986040" cy="509760"/>
            <a:chOff x="250920" y="5583240"/>
            <a:chExt cx="986040" cy="509760"/>
          </a:xfrm>
        </p:grpSpPr>
        <p:sp>
          <p:nvSpPr>
            <p:cNvPr id="418" name=""/>
            <p:cNvSpPr/>
            <p:nvPr/>
          </p:nvSpPr>
          <p:spPr>
            <a:xfrm>
              <a:off x="250920" y="5805360"/>
              <a:ext cx="934920" cy="287640"/>
            </a:xfrm>
            <a:custGeom>
              <a:avLst/>
              <a:gdLst>
                <a:gd name="textAreaLeft" fmla="*/ 145800 w 934920"/>
                <a:gd name="textAreaRight" fmla="*/ 858960 w 934920"/>
                <a:gd name="textAreaTop" fmla="*/ 58680 h 287640"/>
                <a:gd name="textAreaBottom" fmla="*/ 22896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415"/>
                  </a:moveTo>
                  <a:lnTo>
                    <a:pt x="18630" y="4415"/>
                  </a:lnTo>
                  <a:lnTo>
                    <a:pt x="18630" y="0"/>
                  </a:lnTo>
                  <a:lnTo>
                    <a:pt x="21600" y="10800"/>
                  </a:lnTo>
                  <a:lnTo>
                    <a:pt x="18630" y="21600"/>
                  </a:lnTo>
                  <a:lnTo>
                    <a:pt x="18630" y="17185"/>
                  </a:lnTo>
                  <a:lnTo>
                    <a:pt x="3375" y="17185"/>
                  </a:lnTo>
                  <a:close/>
                </a:path>
                <a:path w="21600" h="21600">
                  <a:moveTo>
                    <a:pt x="0" y="4415"/>
                  </a:moveTo>
                  <a:lnTo>
                    <a:pt x="675" y="4415"/>
                  </a:lnTo>
                  <a:lnTo>
                    <a:pt x="675" y="17185"/>
                  </a:lnTo>
                  <a:lnTo>
                    <a:pt x="0" y="17185"/>
                  </a:lnTo>
                  <a:close/>
                </a:path>
                <a:path w="21600" h="21600">
                  <a:moveTo>
                    <a:pt x="1350" y="4415"/>
                  </a:moveTo>
                  <a:lnTo>
                    <a:pt x="2700" y="4415"/>
                  </a:lnTo>
                  <a:lnTo>
                    <a:pt x="2700" y="17185"/>
                  </a:lnTo>
                  <a:lnTo>
                    <a:pt x="1350" y="17185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7800" y="558324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9999"/>
                  </a:solidFill>
                  <a:latin typeface="Arial"/>
                </a:rPr>
                <a:t>врем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419640" y="5589720"/>
            <a:ext cx="986040" cy="509040"/>
            <a:chOff x="3419640" y="5589720"/>
            <a:chExt cx="986040" cy="509040"/>
          </a:xfrm>
        </p:grpSpPr>
        <p:sp>
          <p:nvSpPr>
            <p:cNvPr id="421" name=""/>
            <p:cNvSpPr/>
            <p:nvPr/>
          </p:nvSpPr>
          <p:spPr>
            <a:xfrm>
              <a:off x="3419640" y="5811480"/>
              <a:ext cx="934920" cy="287280"/>
            </a:xfrm>
            <a:custGeom>
              <a:avLst/>
              <a:gdLst>
                <a:gd name="textAreaLeft" fmla="*/ 145800 w 934920"/>
                <a:gd name="textAreaRight" fmla="*/ 858960 w 934920"/>
                <a:gd name="textAreaTop" fmla="*/ 58680 h 287280"/>
                <a:gd name="textAreaBottom" fmla="*/ 228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415"/>
                  </a:moveTo>
                  <a:lnTo>
                    <a:pt x="18630" y="4415"/>
                  </a:lnTo>
                  <a:lnTo>
                    <a:pt x="18630" y="0"/>
                  </a:lnTo>
                  <a:lnTo>
                    <a:pt x="21600" y="10800"/>
                  </a:lnTo>
                  <a:lnTo>
                    <a:pt x="18630" y="21600"/>
                  </a:lnTo>
                  <a:lnTo>
                    <a:pt x="18630" y="17185"/>
                  </a:lnTo>
                  <a:lnTo>
                    <a:pt x="3375" y="17185"/>
                  </a:lnTo>
                  <a:close/>
                </a:path>
                <a:path w="21600" h="21600">
                  <a:moveTo>
                    <a:pt x="0" y="4415"/>
                  </a:moveTo>
                  <a:lnTo>
                    <a:pt x="675" y="4415"/>
                  </a:lnTo>
                  <a:lnTo>
                    <a:pt x="675" y="17185"/>
                  </a:lnTo>
                  <a:lnTo>
                    <a:pt x="0" y="17185"/>
                  </a:lnTo>
                  <a:close/>
                </a:path>
                <a:path w="21600" h="21600">
                  <a:moveTo>
                    <a:pt x="1350" y="4415"/>
                  </a:moveTo>
                  <a:lnTo>
                    <a:pt x="2700" y="4415"/>
                  </a:lnTo>
                  <a:lnTo>
                    <a:pt x="2700" y="17185"/>
                  </a:lnTo>
                  <a:lnTo>
                    <a:pt x="1350" y="17185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66520" y="558972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9999"/>
                  </a:solidFill>
                  <a:latin typeface="Arial"/>
                </a:rPr>
                <a:t>врем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8456760" y="3357720"/>
            <a:ext cx="578880" cy="2950920"/>
            <a:chOff x="8456760" y="3357720"/>
            <a:chExt cx="578880" cy="2950920"/>
          </a:xfrm>
        </p:grpSpPr>
        <p:sp>
          <p:nvSpPr>
            <p:cNvPr id="424" name=""/>
            <p:cNvSpPr/>
            <p:nvPr/>
          </p:nvSpPr>
          <p:spPr>
            <a:xfrm rot="5400000">
              <a:off x="7126200" y="4687920"/>
              <a:ext cx="2950920" cy="290160"/>
            </a:xfrm>
            <a:custGeom>
              <a:avLst/>
              <a:gdLst>
                <a:gd name="textAreaLeft" fmla="*/ 460800 w 2950920"/>
                <a:gd name="textAreaRight" fmla="*/ 2873880 w 2950920"/>
                <a:gd name="textAreaTop" fmla="*/ 95040 h 290160"/>
                <a:gd name="textAreaBottom" fmla="*/ 195120 h 29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7081"/>
                  </a:moveTo>
                  <a:lnTo>
                    <a:pt x="19961" y="7081"/>
                  </a:lnTo>
                  <a:lnTo>
                    <a:pt x="19961" y="0"/>
                  </a:lnTo>
                  <a:lnTo>
                    <a:pt x="21600" y="10800"/>
                  </a:lnTo>
                  <a:lnTo>
                    <a:pt x="19961" y="21600"/>
                  </a:lnTo>
                  <a:lnTo>
                    <a:pt x="19961" y="14519"/>
                  </a:lnTo>
                  <a:lnTo>
                    <a:pt x="3375" y="14519"/>
                  </a:lnTo>
                  <a:close/>
                </a:path>
                <a:path w="21600" h="21600">
                  <a:moveTo>
                    <a:pt x="0" y="7081"/>
                  </a:moveTo>
                  <a:lnTo>
                    <a:pt x="675" y="7081"/>
                  </a:lnTo>
                  <a:lnTo>
                    <a:pt x="675" y="14519"/>
                  </a:lnTo>
                  <a:lnTo>
                    <a:pt x="0" y="14519"/>
                  </a:lnTo>
                  <a:close/>
                </a:path>
                <a:path w="21600" h="21600">
                  <a:moveTo>
                    <a:pt x="1350" y="7081"/>
                  </a:moveTo>
                  <a:lnTo>
                    <a:pt x="2700" y="7081"/>
                  </a:lnTo>
                  <a:lnTo>
                    <a:pt x="2700" y="14519"/>
                  </a:lnTo>
                  <a:lnTo>
                    <a:pt x="1350" y="1451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7791840" y="502740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9999"/>
                  </a:solidFill>
                  <a:latin typeface="Arial"/>
                </a:rPr>
                <a:t>БЕЗ РАСТОЯ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794200" y="3789360"/>
            <a:ext cx="1152720" cy="2082600"/>
            <a:chOff x="5794200" y="3789360"/>
            <a:chExt cx="1152720" cy="2082600"/>
          </a:xfrm>
        </p:grpSpPr>
        <p:pic>
          <p:nvPicPr>
            <p:cNvPr id="427" name="" descr=""/>
            <p:cNvPicPr/>
            <p:nvPr/>
          </p:nvPicPr>
          <p:blipFill>
            <a:blip r:embed="rId4"/>
            <a:stretch/>
          </p:blipFill>
          <p:spPr>
            <a:xfrm>
              <a:off x="6011640" y="3789360"/>
              <a:ext cx="72396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5794200" y="522936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Arial"/>
                </a:rPr>
                <a:t>10</a:t>
              </a:r>
              <a:r>
                <a:rPr b="0" lang="tr-TR" sz="1800" spc="-1" strike="noStrike">
                  <a:solidFill>
                    <a:srgbClr val="ff9999"/>
                  </a:solidFill>
                  <a:latin typeface="Arial"/>
                </a:rPr>
                <a:t>:6-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7048440" y="342900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2dae0"/>
                </a:solidFill>
                <a:latin typeface="Arial"/>
              </a:rPr>
              <a:t>земя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Седемте тръби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8-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50920" y="981000"/>
            <a:ext cx="5410080" cy="21970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Молитвата на светиите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(8:2-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едемте тръби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глава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8-9  11:14-19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част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Глава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10-11 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Йоан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+ 2 şah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1.Ek: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Жената, змеят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(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гл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12-1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2.Ek: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гнето и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144.000 (14:1-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3.Ek: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времето на земята за жетва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14:6-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881080" cy="19083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4097160" y="3500280"/>
            <a:ext cx="479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Иисус Навиев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6:2</a:t>
            </a:r>
            <a:r>
              <a:rPr b="1" lang="tr-TR" sz="1800" spc="-1" strike="noStrike">
                <a:solidFill>
                  <a:srgbClr val="ffff00"/>
                </a:solidFill>
                <a:latin typeface="Tahoma"/>
              </a:rPr>
              <a:t>-4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ГОСПОД  каза на Иисус: Ето, Аз предадох Ерихон в ръката ти, с царя му и храбрите му воини. Вървете около града, всички мъже, годни за война, и обиколете града веднъж. Така да направиш шест дни. И седем свещеници да носят пред ковчега седем тръби овнешки рог. А на седмия ден обиколете града седем пъти и свещениците да надуят тръби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3168720" cy="28828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919440" y="623736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cc99ff"/>
                </a:solidFill>
                <a:latin typeface="Tahoma"/>
              </a:rPr>
              <a:t>(овнешки рог</a:t>
            </a:r>
            <a:r>
              <a:rPr b="1" lang="tr-TR" sz="1800" spc="-1" strike="noStrike">
                <a:solidFill>
                  <a:srgbClr val="cc99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Седемте тръб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- Giriş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8:2-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308520" y="907920"/>
            <a:ext cx="89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66"/>
                </a:solidFill>
                <a:latin typeface="Tahoma"/>
              </a:rPr>
              <a:t>Молитвата на светиите</a:t>
            </a:r>
            <a:r>
              <a:rPr b="1" lang="tr-TR" sz="2400" spc="-1" strike="noStrike">
                <a:solidFill>
                  <a:srgbClr val="ccff66"/>
                </a:solidFill>
                <a:latin typeface="Tahoma"/>
              </a:rPr>
              <a:t> </a:t>
            </a:r>
            <a:r>
              <a:rPr b="1" lang="bg-BG" sz="2400" spc="-1" strike="noStrike">
                <a:solidFill>
                  <a:srgbClr val="ccff66"/>
                </a:solidFill>
                <a:latin typeface="Tahoma"/>
              </a:rPr>
              <a:t>и отговорът, идващ от небе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5280" y="1413000"/>
            <a:ext cx="8408880" cy="20142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дойде друг ангел и застана пред олтара, държейки златна кадилница; и на него се даде  много тамян, за да го прибави към молитвите на всичките светии върху златния олтар, който беше пред престола. И димът от тамяна заедно с молитвите на светиите се издигна от ръката на ангела пред Бога. И ангелът взе кадилницата, напълния с огън от олтара и я хвърли на земята; и настанаха гръмове и гласове, светкавици, и земетресени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617400" y="335772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833400" y="6381720"/>
            <a:ext cx="68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а Аароон святото място където служи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моли се за на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2430720" cy="14810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6443640" y="4365720"/>
            <a:ext cx="2095560" cy="15620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631920" y="59500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там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11840" y="49482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Златна кадилница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Седемте тръби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- Giriş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8:2-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227640" y="1268280"/>
            <a:ext cx="2271960" cy="3362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rcRect l="21241" t="0" r="0" b="0"/>
          <a:stretch/>
        </p:blipFill>
        <p:spPr>
          <a:xfrm>
            <a:off x="5651640" y="4869000"/>
            <a:ext cx="2408040" cy="1663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663480" y="1571760"/>
            <a:ext cx="563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Две работи върши този ангел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ибавя сила към молитвите на вярващите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Рим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8:2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поред молитвите отговар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зпраща на земята наказания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2916360" y="3422520"/>
            <a:ext cx="1909800" cy="23036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rcRect l="0" t="2987" r="0" b="0"/>
          <a:stretch/>
        </p:blipFill>
        <p:spPr>
          <a:xfrm>
            <a:off x="684360" y="3422520"/>
            <a:ext cx="1873080" cy="23194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11280" y="587052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МОЙ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13240" y="5864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Ил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00280" y="6308640"/>
            <a:ext cx="21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Откровение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 11: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99160" y="907920"/>
            <a:ext cx="65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66"/>
                </a:solidFill>
                <a:latin typeface="Tahoma"/>
              </a:rPr>
              <a:t>Молитвата на светиите</a:t>
            </a:r>
            <a:r>
              <a:rPr b="1" lang="tr-TR" sz="1800" spc="-1" strike="noStrike">
                <a:solidFill>
                  <a:srgbClr val="ccff66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ccff66"/>
                </a:solidFill>
                <a:latin typeface="Tahoma"/>
              </a:rPr>
              <a:t>и отговора идващ от неб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Седемте тръби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bg-BG" sz="2400" spc="-1" strike="noStrike">
                <a:solidFill>
                  <a:srgbClr val="ffff00"/>
                </a:solidFill>
                <a:latin typeface="Tahoma"/>
              </a:rPr>
              <a:t>глава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8-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2637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dae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2dae0"/>
                </a:solidFill>
                <a:latin typeface="Verdana"/>
              </a:rPr>
              <a:t> </a:t>
            </a:r>
            <a:r>
              <a:rPr b="1" lang="bg-BG" sz="2000" spc="-1" strike="noStrike">
                <a:solidFill>
                  <a:srgbClr val="c2dae0"/>
                </a:solidFill>
                <a:latin typeface="Verdana"/>
              </a:rPr>
              <a:t>Причина за тези наказания</a:t>
            </a:r>
            <a:r>
              <a:rPr b="1" lang="tr-TR" sz="2000" spc="-1" strike="noStrike">
                <a:solidFill>
                  <a:srgbClr val="c2dae0"/>
                </a:solidFill>
                <a:latin typeface="Verdana"/>
              </a:rPr>
              <a:t>:</a:t>
            </a:r>
            <a:r>
              <a:rPr b="1" lang="tr-TR" sz="2000" spc="-1" strike="noStrike">
                <a:solidFill>
                  <a:srgbClr val="ff9900"/>
                </a:solidFill>
                <a:latin typeface="Verdana"/>
              </a:rPr>
              <a:t>  </a:t>
            </a:r>
            <a:r>
              <a:rPr b="1" lang="bg-BG" sz="2000" spc="-1" strike="noStrike">
                <a:solidFill>
                  <a:srgbClr val="ff9900"/>
                </a:solidFill>
                <a:latin typeface="Verdana"/>
              </a:rPr>
              <a:t>Агнето отваря печатите</a:t>
            </a:r>
            <a:r>
              <a:rPr b="1" lang="tr-TR" sz="20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cccc"/>
                </a:solidFill>
                <a:latin typeface="Verdana"/>
              </a:rPr>
              <a:t>= </a:t>
            </a:r>
            <a:r>
              <a:rPr b="1" lang="bg-BG" sz="2000" spc="-1" strike="noStrike">
                <a:solidFill>
                  <a:srgbClr val="33cccc"/>
                </a:solidFill>
                <a:latin typeface="Verdana"/>
              </a:rPr>
              <a:t>В небесата агнето отваря печатите</a:t>
            </a:r>
            <a:r>
              <a:rPr b="1" lang="tr-TR" sz="2000" spc="-1" strike="noStrike">
                <a:solidFill>
                  <a:srgbClr val="33cccc"/>
                </a:solidFill>
                <a:latin typeface="Verdana"/>
              </a:rPr>
              <a:t>, </a:t>
            </a:r>
            <a:r>
              <a:rPr b="1" lang="bg-BG" sz="2000" spc="-1" strike="noStrike">
                <a:solidFill>
                  <a:srgbClr val="33cccc"/>
                </a:solidFill>
                <a:latin typeface="Verdana"/>
              </a:rPr>
              <a:t>после</a:t>
            </a:r>
            <a:r>
              <a:rPr b="1" lang="tr-TR" sz="20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1" lang="bg-BG" sz="2000" spc="-1" strike="noStrike">
                <a:solidFill>
                  <a:srgbClr val="33cccc"/>
                </a:solidFill>
                <a:latin typeface="Verdana"/>
              </a:rPr>
              <a:t>хората на земята се наказват едни други</a:t>
            </a:r>
            <a:r>
              <a:rPr b="1" lang="tr-TR" sz="2000" spc="-1" strike="noStrike">
                <a:solidFill>
                  <a:srgbClr val="33cccc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187280" y="4941720"/>
            <a:ext cx="2387880" cy="17733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859280" y="2637000"/>
            <a:ext cx="42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dae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2dae0"/>
                </a:solidFill>
                <a:latin typeface="Verdana"/>
              </a:rPr>
              <a:t> </a:t>
            </a:r>
            <a:r>
              <a:rPr b="1" lang="bg-BG" sz="2000" spc="-1" strike="noStrike">
                <a:solidFill>
                  <a:srgbClr val="c2dae0"/>
                </a:solidFill>
                <a:latin typeface="Verdana"/>
              </a:rPr>
              <a:t>Причина за тези наказания</a:t>
            </a:r>
            <a:r>
              <a:rPr b="1" lang="tr-TR" sz="2000" spc="-1" strike="noStrike">
                <a:solidFill>
                  <a:srgbClr val="c2dae0"/>
                </a:solidFill>
                <a:latin typeface="Verdana"/>
              </a:rPr>
              <a:t>:</a:t>
            </a:r>
            <a:r>
              <a:rPr b="1" lang="tr-TR" sz="2000" spc="-1" strike="noStrike">
                <a:solidFill>
                  <a:srgbClr val="ff9900"/>
                </a:solidFill>
                <a:latin typeface="Verdana"/>
              </a:rPr>
              <a:t>  </a:t>
            </a:r>
            <a:r>
              <a:rPr b="1" lang="bg-BG" sz="2000" spc="-1" strike="noStrike">
                <a:solidFill>
                  <a:srgbClr val="ff9900"/>
                </a:solidFill>
                <a:latin typeface="Verdana"/>
              </a:rPr>
              <a:t>Молитвата на свети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cccc"/>
                </a:solidFill>
                <a:latin typeface="Verdana"/>
              </a:rPr>
              <a:t>= </a:t>
            </a:r>
            <a:r>
              <a:rPr b="1" lang="bg-BG" sz="2000" spc="-1" strike="noStrike">
                <a:solidFill>
                  <a:srgbClr val="33cccc"/>
                </a:solidFill>
                <a:latin typeface="Verdana"/>
              </a:rPr>
              <a:t>вярващите на земята се молят</a:t>
            </a:r>
            <a:r>
              <a:rPr b="1" lang="tr-TR" sz="2000" spc="-1" strike="noStrike">
                <a:solidFill>
                  <a:srgbClr val="33cccc"/>
                </a:solidFill>
                <a:latin typeface="Verdana"/>
              </a:rPr>
              <a:t>, </a:t>
            </a:r>
            <a:r>
              <a:rPr b="1" lang="bg-BG" sz="2000" spc="-1" strike="noStrike">
                <a:solidFill>
                  <a:srgbClr val="33cccc"/>
                </a:solidFill>
                <a:latin typeface="Verdana"/>
              </a:rPr>
              <a:t>после от небето към земята идват наказания</a:t>
            </a:r>
            <a:r>
              <a:rPr b="1" lang="tr-TR" sz="2000" spc="-1" strike="noStrike">
                <a:solidFill>
                  <a:srgbClr val="33cccc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6240" y="955800"/>
            <a:ext cx="75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66"/>
                </a:solidFill>
                <a:latin typeface="Tahoma"/>
              </a:rPr>
              <a:t>Седемте тръби и седемте печата</a:t>
            </a:r>
            <a:r>
              <a:rPr b="1" lang="tr-TR" sz="2400" spc="-1" strike="noStrike">
                <a:solidFill>
                  <a:srgbClr val="ccff66"/>
                </a:solidFill>
                <a:latin typeface="Tahoma"/>
              </a:rPr>
              <a:t> – </a:t>
            </a:r>
            <a:r>
              <a:rPr b="1" lang="bg-BG" sz="2400" spc="-1" strike="noStrike">
                <a:solidFill>
                  <a:srgbClr val="ccff66"/>
                </a:solidFill>
                <a:latin typeface="Tahoma"/>
              </a:rPr>
              <a:t>с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458040" y="1628640"/>
            <a:ext cx="777960" cy="9064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1760400" y="1628640"/>
            <a:ext cx="866880" cy="9064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659640" y="4724280"/>
            <a:ext cx="1944720" cy="1816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00520" y="632448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Tahoma"/>
              </a:rPr>
              <a:t>=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Двете серии по едни и също време стават действителност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Иусус от небето</a:t>
            </a: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молитвите отправени от земята стават прич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Първа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8:7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287280" y="982800"/>
            <a:ext cx="8532720" cy="1313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2000" spc="-1" strike="noStrike">
                <a:solidFill>
                  <a:srgbClr val="ffffff"/>
                </a:solidFill>
                <a:latin typeface="Tahoma"/>
              </a:rPr>
              <a:t>И затръби първият ангел; и дойде град и огън, размесени с кръв, и бяха хвърлени на земята, и третата част от земята изгоря и третата част от дърветата изгори, изгоря и всяка зелена трева</a:t>
            </a: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14760" cy="1671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1923840" cy="28954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097080" y="2349360"/>
            <a:ext cx="2376720" cy="1657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3095640" y="4294080"/>
            <a:ext cx="2341440" cy="15192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15240" y="530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Град и огъ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Размесени с кръ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40000" y="59500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В средна Европа 30% от горите изгоряха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 (asit yağmurunda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84720" y="450864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Orman yangınlar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gittikçe artıy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(fazla su kullanıldığı iç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Втора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8:8-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287280" y="982800"/>
            <a:ext cx="8532720" cy="12524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И затръби вторият ангел; и нещо като голяма планина, пламна в огън, беше хвърлена в морето; и третата част от морето стана кръв и и третата част от одушевените същества,  които бяха в морето измря,  и третата част от корабите беше унищожена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8960" y="423864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Голяма плани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Пламна в огъ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50920" y="5805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Затоплянето на света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ледовете се топят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морето се повиш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020000" y="4948200"/>
            <a:ext cx="15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Замърсяван-то на мор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663640" cy="19983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2323800" cy="20066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5281560" y="2349360"/>
            <a:ext cx="3862440" cy="25225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5292720" y="3573360"/>
            <a:ext cx="17524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Тра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8:10-1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358920" y="982800"/>
            <a:ext cx="8389800" cy="11912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затръби третия ангел; и падна от небето голяма звезда, която гореше като факла; и падна върху третата част от реките и върху водните извори. А името на звездата е Пелин, и третата част от водите стана пелин; о много хора измряха  от водите, защото те стана горчив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4520" y="4070520"/>
            <a:ext cx="40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Звездата която падна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 (=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метеорит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2376360" cy="14191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732720" y="2637000"/>
            <a:ext cx="1944720" cy="1555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4211640" y="2492280"/>
            <a:ext cx="2247840" cy="30355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732720" y="4581360"/>
            <a:ext cx="2014560" cy="201420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1986 – 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Избухването на Чернобил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(‘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Чернобил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’ ‘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Ациот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, 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означава пелин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50000">
                <a:srgbClr val="cc00cc"/>
              </a:gs>
              <a:gs pos="100000">
                <a:srgbClr val="000000">
                  <a:alpha val="14117"/>
                </a:srgbClr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Четвъртата тръба</a:t>
            </a: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8:1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430200" y="982800"/>
            <a:ext cx="8389800" cy="12524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И затръби четвъртият ангел;  и третата част от слънцето и третата част от луната, и третата част от звездите беше поразена, така че да потамнее третата част от тях; и третата част от деня да не свети, както и от ноща</a:t>
            </a: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3600" y="3854520"/>
            <a:ext cx="36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M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етеоритите и изчезването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динозавр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005440" y="4948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9900"/>
                </a:solidFill>
                <a:latin typeface="Tahoma"/>
              </a:rPr>
              <a:t>Krakat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1883</a:t>
            </a:r>
            <a:r>
              <a:rPr b="0" lang="de-DE" sz="1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128000" y="386064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9900"/>
                </a:solidFill>
                <a:latin typeface="Tahoma"/>
              </a:rPr>
              <a:t>Tamb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9900"/>
                </a:solidFill>
                <a:latin typeface="Tahoma"/>
              </a:rPr>
              <a:t>18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881440" cy="18050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227640" y="2205000"/>
            <a:ext cx="2583000" cy="1652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2509920" cy="1584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3564000" y="4354560"/>
            <a:ext cx="1685880" cy="25034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6659640" y="5099040"/>
            <a:ext cx="2160360" cy="16430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635280" y="4508640"/>
            <a:ext cx="1440000" cy="36828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ff9900"/>
                </a:solidFill>
                <a:latin typeface="Tahoma"/>
              </a:rPr>
              <a:t>Цунами</a:t>
            </a:r>
            <a:r>
              <a:rPr b="0" lang="tr-TR" sz="1800" spc="-1" strike="noStrike">
                <a:solidFill>
                  <a:srgbClr val="ff99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6"/>
          <a:stretch/>
        </p:blipFill>
        <p:spPr>
          <a:xfrm>
            <a:off x="684360" y="4599000"/>
            <a:ext cx="2139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sd</cp:lastModifiedBy>
  <dcterms:modified xsi:type="dcterms:W3CDTF">2009-06-16T20:43:07Z</dcterms:modified>
  <cp:revision>295</cp:revision>
  <dc:subject/>
  <dc:title>Yedi Mühür açılıyor (bölüm 6)</dc:title>
</cp:coreProperties>
</file>